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2E6-A8B4-43A5-B4AC-4A615C5A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C0F-059D-4360-BECE-0F48BD41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061-FAF7-4A3A-A1DC-80A1579F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2B4-A759-429F-A203-67F54330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ED4-8AC3-4D37-8217-B240CD3B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5BEB-3C52-40FA-9792-57C982B5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3648-FF0E-490E-8A84-886767F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30AE-2234-4756-8ED3-6502312D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AB6-FDF8-477D-9833-31671A91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B263-052E-4743-AAEE-3DA986A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12D0-CBD7-4A24-A6FA-AD30713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200-FB6D-4CD6-86FA-48AFD889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7A97-7152-4EE6-8F74-00231300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3CE3-3CF4-4F98-9E13-461C002E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D1E-978B-47C4-929D-51313CBE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CD91-EFB6-4AF0-9431-56DAA4C9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B21-5953-46AE-96D1-0804ABEB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5F9-14C8-46C9-9608-8C3B33BC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EFA-1822-441A-8985-EE7139EE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DAE-CAFE-4EA1-B6A0-2D7DC0F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D9C-C765-467D-8F0C-B33C75C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718-7C14-4A86-BEDF-FCAB0D0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B39-5C9A-4F59-95CE-07C86D9A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622-F8A0-4966-B8A0-3221689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C090-38FD-493F-9439-18C022C943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3CD0-1F2E-4895-834F-07975BACA1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vesti.ru/p/b_508722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8;&#1077;" TargetMode="External"/><Relationship Id="rId2" Type="http://schemas.openxmlformats.org/officeDocument/2006/relationships/hyperlink" Target="http://ru.wikipedia.org/wiki/&#1058;&#1080;&#1093;&#1080;&#1081;_&#1086;&#1082;&#1077;&#1072;&#1085;" TargetMode="External"/><Relationship Id="rId3" Type="http://schemas.openxmlformats.org/officeDocument/2006/relationships/hyperlink" Target="http://ru.wikipedia.org/wiki/&#1057;&#1087;&#1080;&#1089;&#1086;&#1082;_&#1086;&#1089;&#1090;&#1088;&#1086;&#1074;&#1086;&#1074;_&#1071;&#1087;&#1086;&#1085;&#1080;&#1080;" TargetMode="External"/><Relationship Id="rId4" Type="http://schemas.openxmlformats.org/officeDocument/2006/relationships/hyperlink" Target="http://ru.wikipedia.org/wiki/&#1057;&#1072;&#1093;&#1072;&#1083;&#1080;&#1085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0;&#1086;&#1088;&#1077;&#1103;" TargetMode="External"/><Relationship Id="rId7" Type="http://schemas.openxmlformats.org/officeDocument/2006/relationships/hyperlink" Target="http://ru.wikipedia.org/wiki/&#1071;&#1087;&#1086;&#1085;&#1080;&#1103;" TargetMode="External"/><Relationship Id="rId8" Type="http://schemas.openxmlformats.org/officeDocument/2006/relationships/hyperlink" Target="http://ru.wikipedia.org/wiki/&#1052;&#1086;&#1088;&#1077;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foto.primkray.ru/topfoto.php?fid=1180399973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wnews.ru/wp-content/uploads/2010/08/map-yaponsko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oimages.gsfc.nasa.gov/images/imagerecords/55000/55261/S2000310032700.L1A_HJMS.SeaOfJapan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pecialevents.in.ua/files/124012_125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photovladivostok.ru/files/gallery/8747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900igr.net/datas/morskie-zhiteli/Molljuski.files/0016-016-Rapana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g0.liveinternet.ru/images/attach/c/4/79/767/79767842_large_Morskaya_zvezda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g0.liveinternet.ru/images/foto/c/0/apps/3/848/3848738_rrrsrssrrer_rsrr_rrrrsrrrr_rrss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Японское мор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готовила Кускова Анастас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лавные по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дивосток, Находка, Восточный, Советская Гавань, Ванино, Александровск-Сахалинский, Холмск, Ниигата, Цуруга, Майдзуру, Вонсан, Хыннам, Чхонджин, Пусан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Картинка 126 из 155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184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ХОЗЯЙСТВЕННОЕ ИСПОЛЬЗОВА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ыболовство; добыча крабов, трепангов, водорос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ЫБОЛОВСТВО И МАРИ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КРЕАЦИЯ И ТУР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Картинка 207 из 155122"/>
          <p:cNvPicPr/>
          <p:nvPr/>
        </p:nvPicPr>
        <p:blipFill>
          <a:blip r:embed="rId1"/>
          <a:stretch/>
        </p:blipFill>
        <p:spPr>
          <a:xfrm>
            <a:off x="324000" y="189000"/>
            <a:ext cx="4464000" cy="3341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5076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ЕДОВАЯ ОБСТАНОВК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Японском море ледяной покров достигает максимального развития в середине февраля. В среднем льдом покрывается 52% площади Татарского пролива и 56% — залива Петра Вели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яние льда начинается в первой половине марта. В середине марта от льда очищаются открытые акватории залива Петра Великого и все приморское побережье до мыса Золотой. Граница ледяного покрова в Татарском проливе отступает на северо-запад, а в восточной части пролива в это время происходит очищение от ль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8000" y="1268280"/>
            <a:ext cx="5961240" cy="34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24000" y="277920"/>
            <a:ext cx="4762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0ee8"/>
                </a:solidFill>
                <a:latin typeface="Arial"/>
              </a:rPr>
              <a:t>Японское мор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24000" y="1196640"/>
            <a:ext cx="4916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по́нское мо́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мо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составе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хого оке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тделяется от него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Японскими остро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островом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Сахал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  Омывает берега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Коре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Япо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ая часть моря зимой замерз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08110003-web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8000" y="3645000"/>
            <a:ext cx="3960720" cy="2813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Уголок Находки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0920" y="3645000"/>
            <a:ext cx="4176720" cy="2774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jap1"/>
          <p:cNvPicPr/>
          <p:nvPr/>
        </p:nvPicPr>
        <p:blipFill>
          <a:blip r:embed="rId12"/>
          <a:stretch/>
        </p:blipFill>
        <p:spPr>
          <a:xfrm>
            <a:off x="755640" y="765000"/>
            <a:ext cx="2857680" cy="244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303378"/>
          <p:cNvPicPr/>
          <p:nvPr/>
        </p:nvPicPr>
        <p:blipFill>
          <a:blip r:embed="rId13"/>
          <a:stretch/>
        </p:blipFill>
        <p:spPr>
          <a:xfrm>
            <a:off x="2124000" y="1125360"/>
            <a:ext cx="5763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396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щадь — 1,062 млн. км.кв.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ьшая глубина — 3742 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верная часть моря зимой замерз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Картинка 1 из 1551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86320" y="2133720"/>
            <a:ext cx="46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 О ИМЕНОВАНИИ МОР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Южной Корее Японское море называют «Восточным морем» (кор.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동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а в Северной — Корейским Восточным морем (кор.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조선동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Корейская сторона утверждает, что название «Японское море» было навязано мировому сообществу Японской империей. Японская сторона, в свою очередь, показывает, что название «Японское море» встречается на большинстве карт и является общепринят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12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692280"/>
            <a:ext cx="52992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лора и фау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ерегов Дальнего Востока происходит смешение тепловодной и умеренной фауны. Здесь можно встретить осьминогов и кальмаров — типичных представителей теплых морей. В то же время вертикальные стены, поросшие актиниями, сады из бурых водорослей — ламинарий, — все это напоминает пейзажи Белого и Баренцева мор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понском море огромное изобилие морских звезд и морских ежей, различной окраски и разных размеров, встречаются офиуры, креветки, небольшие крабы (камчатские крабы здесь встречаются только в мае, а затем они уходят дальше в море). На скалах и камнях живут ярко-красные асцидии. Из моллюсков наиболее распространены гребешки. Из рыб часто встречаются морские собачки, морские ерш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Картинка 28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33840" cy="4287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53 из 15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Картинка 60 из 155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89000"/>
            <a:ext cx="5076720" cy="3800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Картинка 206 из 1551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60280"/>
            <a:ext cx="4321440" cy="3235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Картинка 61 из 15512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50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0:15:35Z</dcterms:created>
  <dc:creator>пк</dc:creator>
  <dc:description/>
  <dc:language>en-US</dc:language>
  <cp:lastModifiedBy>пк</cp:lastModifiedBy>
  <dcterms:modified xsi:type="dcterms:W3CDTF">2012-04-12T11:05:16Z</dcterms:modified>
  <cp:revision>2</cp:revision>
  <dc:subject/>
  <dc:title>Японск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90000000000010250300207f7000400038000</vt:lpwstr>
  </property>
</Properties>
</file>