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661-2BF0-49DA-B518-F7A996FE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C1E-048C-4BDE-B134-0E549072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E28-4069-4E81-8D93-28C4A366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5A9-7619-4147-B8F5-A5AC3F44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64C-54F4-4D65-A125-91DDDD9B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67AB-8E50-4495-8B5F-C3B1A1EF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F2E-885B-48FC-B738-51206FEF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A346-9970-4412-9A4F-343D726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C0A-1E38-4656-84F9-60C421BD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2F6A-BD5F-4D13-A74A-BBFE9B5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8BE-7963-4C56-9B1E-7EE38C3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0E1-97AE-45E1-9D58-7CB5CA3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7BB9-F911-4E04-BEEE-274BF4C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5FE-E723-4A22-9A3A-1C9F6D7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F13A-4862-47F6-97D8-947E9916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2E1-2212-4C39-9A29-5FDA1DD9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DF76-4CAF-4F81-ABA3-23DC95FF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2F7-881C-4B1D-B159-B099C87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01A-E7CD-44D0-BE43-22E9AB0C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F47-8B33-4789-8F42-0AA63416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E42-36B2-4CC0-842C-8B7CCFC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ADF-EBAB-4BE8-8799-20E8800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954-466D-44CA-8C07-FBB9D9E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E61-ADEF-41AB-8C45-5578B64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7FF-85C1-4918-8B7F-103B59863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D75E-8765-43D9-912C-51935F185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vesti.ru/p/b_508722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8;&#1077;" TargetMode="External"/><Relationship Id="rId2" Type="http://schemas.openxmlformats.org/officeDocument/2006/relationships/hyperlink" Target="http://ru.wikipedia.org/wiki/&#1058;&#1080;&#1093;&#1080;&#1081;_&#1086;&#1082;&#1077;&#1072;&#1085;" TargetMode="External"/><Relationship Id="rId3" Type="http://schemas.openxmlformats.org/officeDocument/2006/relationships/hyperlink" Target="http://ru.wikipedia.org/wiki/&#1057;&#1087;&#1080;&#1089;&#1086;&#1082;_&#1086;&#1089;&#1090;&#1088;&#1086;&#1074;&#1086;&#1074;_&#1071;&#1087;&#1086;&#1085;&#1080;&#1080;" TargetMode="External"/><Relationship Id="rId4" Type="http://schemas.openxmlformats.org/officeDocument/2006/relationships/hyperlink" Target="http://ru.wikipedia.org/wiki/&#1057;&#1072;&#1093;&#1072;&#1083;&#1080;&#1085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86;&#1088;&#1077;&#1103;" TargetMode="External"/><Relationship Id="rId7" Type="http://schemas.openxmlformats.org/officeDocument/2006/relationships/hyperlink" Target="http://ru.wikipedia.org/wiki/&#1071;&#1087;&#1086;&#1085;&#1080;&#1103;" TargetMode="External"/><Relationship Id="rId8" Type="http://schemas.openxmlformats.org/officeDocument/2006/relationships/hyperlink" Target="http://ru.wikipedia.org/wiki/&#1052;&#1086;&#1088;&#1077;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foto.primkray.ru/topfoto.php?fid=1180399973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wnews.ru/wp-content/uploads/2010/08/map-yaponsko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oimages.gsfc.nasa.gov/images/imagerecords/55000/55261/S2000310032700.L1A_HJMS.SeaOfJapan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pecialevents.in.ua/files/124012_12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photovladivostok.ru/files/gallery/8747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900igr.net/datas/morskie-zhiteli/Molljuski.files/0016-016-Rapana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g0.liveinternet.ru/images/attach/c/4/79/767/79767842_large_Morskaya_zvezda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g0.liveinternet.ru/images/foto/c/0/apps/3/848/3848738_rrrsrssrrer_rsrr_rrrrsrrrr_rrss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Японское мо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готовила Кускова Анаста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лавные по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ивосток, Находка, Восточный, Советская Гавань, Ванино, Александровск-Сахалинский, Холмск, Ниигата, Цуруга, Майдзуру, Вонсан, Хыннам, Чхонджин, Пуса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Картинка 126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84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ХОЗЯЙСТВЕННОЕ ИСПОЛЬЗОВА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боловство; добыча крабов, трепангов, водорос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ЫБОЛОВСТВО И МАРИ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КРЕАЦИЯ И ТУР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207 из 155122"/>
          <p:cNvPicPr/>
          <p:nvPr/>
        </p:nvPicPr>
        <p:blipFill>
          <a:blip r:embed="rId1"/>
          <a:stretch/>
        </p:blipFill>
        <p:spPr>
          <a:xfrm>
            <a:off x="324000" y="189000"/>
            <a:ext cx="4464000" cy="3341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5076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ЕДОВАЯ ОБСТАНОВК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Японском море ледяной покров достигает максимального развития в середине февраля. В среднем льдом покрывается 52% площади Татарского пролива и 56% — залива Петра Вел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яние льда начинается в первой половине марта. В середине марта от льда очищаются открытые акватории залива Петра Великого и все приморское побережье до мыса Золотой. Граница ледяного покрова в Татарском проливе отступает на северо-запад, а в восточной части пролива в это время происходит очищение от ль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8000" y="1268280"/>
            <a:ext cx="5961240" cy="34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24000" y="277920"/>
            <a:ext cx="4762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0ee8"/>
                </a:solidFill>
                <a:latin typeface="Arial"/>
              </a:rPr>
              <a:t>Японское мор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24000" y="1196640"/>
            <a:ext cx="4916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по́нское мо́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мо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составе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хого оке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деляется от него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Японскими остро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стровом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Саха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 Омывает берега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Коре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Япо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08110003-we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645000"/>
            <a:ext cx="3960720" cy="281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Уголок Находки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0920" y="3645000"/>
            <a:ext cx="4176720" cy="2774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ap1"/>
          <p:cNvPicPr/>
          <p:nvPr/>
        </p:nvPicPr>
        <p:blipFill>
          <a:blip r:embed="rId12"/>
          <a:stretch/>
        </p:blipFill>
        <p:spPr>
          <a:xfrm>
            <a:off x="755640" y="76500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303378"/>
          <p:cNvPicPr/>
          <p:nvPr/>
        </p:nvPicPr>
        <p:blipFill>
          <a:blip r:embed="rId13"/>
          <a:stretch/>
        </p:blipFill>
        <p:spPr>
          <a:xfrm>
            <a:off x="2124000" y="1125360"/>
            <a:ext cx="5763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96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— 1,062 млн. км.кв.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— 3742 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Картинка 1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86320" y="2133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 О ИМЕНОВАНИИ МОР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Южной Корее Японское море называют «Восточным морем»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а в Северной — Корейским Восточным морем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조선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Корейская сторона утверждает, что название «Японское море» было навязано мировому сообществу Японской империей. Японская сторона, в свою очередь, показывает, что название «Японское море» встречается на большинстве карт и является общепринят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2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692280"/>
            <a:ext cx="52992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лора и фау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регов Дальнего Востока происходит смешение тепловодной и умеренной фауны. Здесь можно встретить осьминогов и кальмаров — типичных представителей теплых морей. В то же время вертикальные стены, поросшие актиниями, сады из бурых водорослей — ламинарий, — все это напоминает пейзажи Белого и Баренцева мор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понском море огромное изобилие морских звезд и морских ежей, различной окраски и разных размеров, встречаются офиуры, креветки, небольшие крабы (камчатские крабы здесь встречаются только в мае, а затем они уходят дальше в море). На скалах и камнях живут ярко-красные асцидии. Из моллюсков наиболее распространены гребешки. Из рыб часто встречаются морские собачки, морские ер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Картинка 28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33840" cy="428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53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Картинка 60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89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Картинка 206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60280"/>
            <a:ext cx="4321440" cy="3235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Картинка 61 из 15512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50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0:15:35Z</dcterms:created>
  <dc:creator>пк</dc:creator>
  <dc:description/>
  <dc:language>en-US</dc:language>
  <cp:lastModifiedBy>пк</cp:lastModifiedBy>
  <dcterms:modified xsi:type="dcterms:W3CDTF">2012-04-12T11:05:16Z</dcterms:modified>
  <cp:revision>2</cp:revision>
  <dc:subject/>
  <dc:title>Японск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90000000000010250300207f7000400038000</vt:lpwstr>
  </property>
</Properties>
</file>