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AF31-9AED-49A3-908A-3F694EFB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2878-FF56-46AB-BAD7-00AC0258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A221-4F41-4882-B628-37E0E99D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60B1-64B4-4A29-ACAB-B219F82A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B472-A680-4EFF-AD7D-1908D0E9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A337-7714-480A-AD77-B2774338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47E8-7CEE-4BC7-B8EB-A9F94F76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1DBD-C962-4B61-A953-3DCC8B07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B40B-078C-4547-8173-4F041D28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E1C2-1B04-46AC-852F-61A76C5D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EFB7-6781-47F6-B4F1-73C2BD54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E924-B7A4-418E-9676-E402DCCE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48A0-D320-4446-A27E-9797395D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EFE1-1CBF-4DD2-AC9D-BD29D296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E821-6C7E-4316-8A5A-E3401E81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BC81-F546-4890-8753-06699B35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BCD6-E1E5-4A3D-8D7F-F74B5AC2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C31-F28B-4148-BBD5-C198A0AA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44D-61F1-4200-B996-209D96AE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F773-44D4-4191-B698-D936FE6A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5D3E-F372-4D83-ABEE-DB304E63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16BA-5911-46CE-AD96-FB7FA86A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C293-613B-4E97-B067-CCDF1101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F95-1C5D-4105-A359-88456109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E1D9-12C0-462C-BCBD-81D6CE56DA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1E72-4FE0-481C-8FC4-BBFD0F9BBA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vesti.ru/p/b_508722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8;&#1077;" TargetMode="External"/><Relationship Id="rId2" Type="http://schemas.openxmlformats.org/officeDocument/2006/relationships/hyperlink" Target="http://ru.wikipedia.org/wiki/&#1058;&#1080;&#1093;&#1080;&#1081;_&#1086;&#1082;&#1077;&#1072;&#1085;" TargetMode="External"/><Relationship Id="rId3" Type="http://schemas.openxmlformats.org/officeDocument/2006/relationships/hyperlink" Target="http://ru.wikipedia.org/wiki/&#1057;&#1087;&#1080;&#1089;&#1086;&#1082;_&#1086;&#1089;&#1090;&#1088;&#1086;&#1074;&#1086;&#1074;_&#1071;&#1087;&#1086;&#1085;&#1080;&#1080;" TargetMode="External"/><Relationship Id="rId4" Type="http://schemas.openxmlformats.org/officeDocument/2006/relationships/hyperlink" Target="http://ru.wikipedia.org/wiki/&#1057;&#1072;&#1093;&#1072;&#1083;&#1080;&#1085;" TargetMode="External"/><Relationship Id="rId5" Type="http://schemas.openxmlformats.org/officeDocument/2006/relationships/hyperlink" Target="http://ru.wikipedia.org/wiki/&#1056;&#1086;&#1089;&#1089;&#1080;&#1103;" TargetMode="External"/><Relationship Id="rId6" Type="http://schemas.openxmlformats.org/officeDocument/2006/relationships/hyperlink" Target="http://ru.wikipedia.org/wiki/&#1050;&#1086;&#1088;&#1077;&#1103;" TargetMode="External"/><Relationship Id="rId7" Type="http://schemas.openxmlformats.org/officeDocument/2006/relationships/hyperlink" Target="http://ru.wikipedia.org/wiki/&#1071;&#1087;&#1086;&#1085;&#1080;&#1103;" TargetMode="External"/><Relationship Id="rId8" Type="http://schemas.openxmlformats.org/officeDocument/2006/relationships/hyperlink" Target="http://ru.wikipedia.org/wiki/&#1052;&#1086;&#1088;&#1077;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foto.primkray.ru/topfoto.php?fid=1180399973" TargetMode="External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wnews.ru/wp-content/uploads/2010/08/map-yaponskoe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oimages.gsfc.nasa.gov/images/imagerecords/55000/55261/S2000310032700.L1A_HJMS.SeaOfJapan.pn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pecialevents.in.ua/files/124012_125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photovladivostok.ru/files/gallery/8747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900igr.net/datas/morskie-zhiteli/Molljuski.files/0016-016-Rapana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g0.liveinternet.ru/images/attach/c/4/79/767/79767842_large_Morskaya_zvezda.jp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g0.liveinternet.ru/images/foto/c/0/apps/3/848/3848738_rrrsrssrrer_rsrr_rrrrsrrrr_rrss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Японское мор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560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иготовила Кускова Анастас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Главные пор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98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адивосток, Находка, Восточный, Советская Гавань, Ванино, Александровск-Сахалинский, Холмск, Ниигата, Цуруга, Майдзуру, Вонсан, Хыннам, Чхонджин, Пусан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Картинка 126 из 1551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360" y="184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ХОЗЯЙСТВЕННОЕ ИСПОЛЬЗОВАНИ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ыболовство; добыча крабов, трепангов, водоросл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РСКОЙ ТРАН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ЫБОЛОВСТВО И МАРИКУЛЬ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КРЕАЦИЯ И ТУР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Картинка 207 из 155122"/>
          <p:cNvPicPr/>
          <p:nvPr/>
        </p:nvPicPr>
        <p:blipFill>
          <a:blip r:embed="rId1"/>
          <a:stretch/>
        </p:blipFill>
        <p:spPr>
          <a:xfrm>
            <a:off x="324000" y="189000"/>
            <a:ext cx="4464000" cy="3341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067280" y="3068640"/>
            <a:ext cx="5076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ЛЕДОВАЯ ОБСТАНОВКА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Японском море ледяной покров достигает максимального развития в середине февраля. В среднем льдом покрывается 52% площади Татарского пролива и 56% — залива Петра Велик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яние льда начинается в первой половине марта. В середине марта от льда очищаются открытые акватории залива Петра Великого и все приморское побережье до мыса Золотой. Граница ледяного покрова в Татарском проливе отступает на северо-запад, а в восточной части пролива в это время происходит очищение от ль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908000" y="1268280"/>
            <a:ext cx="5961240" cy="342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24000" y="277920"/>
            <a:ext cx="47624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0ee8"/>
                </a:solidFill>
                <a:latin typeface="Arial"/>
              </a:rPr>
              <a:t>Японское мор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24000" y="1196640"/>
            <a:ext cx="4916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по́нское мо́р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мор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составе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Тихого океа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отделяется от него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Японскими остров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островом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Сахали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  Омывает берега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5"/>
              </a:rPr>
              <a:t>Росс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Коре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7"/>
              </a:rPr>
              <a:t>Япон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верная часть моря зимой замерз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08110003-web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88000" y="3645000"/>
            <a:ext cx="3960720" cy="2813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Уголок Находки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0920" y="3645000"/>
            <a:ext cx="4176720" cy="2774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jap1"/>
          <p:cNvPicPr/>
          <p:nvPr/>
        </p:nvPicPr>
        <p:blipFill>
          <a:blip r:embed="rId12"/>
          <a:stretch/>
        </p:blipFill>
        <p:spPr>
          <a:xfrm>
            <a:off x="755640" y="765000"/>
            <a:ext cx="2857680" cy="244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j0303378"/>
          <p:cNvPicPr/>
          <p:nvPr/>
        </p:nvPicPr>
        <p:blipFill>
          <a:blip r:embed="rId13"/>
          <a:stretch/>
        </p:blipFill>
        <p:spPr>
          <a:xfrm>
            <a:off x="2124000" y="1125360"/>
            <a:ext cx="57636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396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щадь — 1,062 млн. км.кв.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ьшая глубина — 3742 м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верная часть моря зимой замерза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Картинка 1 из 1551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86320" y="2133720"/>
            <a:ext cx="46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ПРОС О ИМЕНОВАНИИ МОРЯ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Южной Корее Японское море называют «Восточным морем» (кор. 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</a:rPr>
              <a:t>동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а в Северной — Корейским Восточным морем (кор. 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</a:rPr>
              <a:t>조선동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. Корейская сторона утверждает, что название «Японское море» было навязано мировому сообществу Японской империей. Японская сторона, в свою очередь, показывает, что название «Японское море» встречается на большинстве карт и является общепринят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Картинка 12 из 155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692280"/>
            <a:ext cx="5299200" cy="57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лора и фаун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берегов Дальнего Востока происходит смешение тепловодной и умеренной фауны. Здесь можно встретить осьминогов и кальмаров — типичных представителей теплых морей. В то же время вертикальные стены, поросшие актиниями, сады из бурых водорослей — ламинарий, — все это напоминает пейзажи Белого и Баренцева моря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Японском море огромное изобилие морских звезд и морских ежей, различной окраски и разных размеров, встречаются офиуры, креветки, небольшие крабы (камчатские крабы здесь встречаются только в мае, а затем они уходят дальше в море). На скалах и камнях живут ярко-красные асцидии. Из моллюсков наиболее распространены гребешки. Из рыб часто встречаются морские собачки, морские ерш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Картинка 28 из 155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4533840" cy="4287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Картинка 53 из 15512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305748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Картинка 60 из 155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189000"/>
            <a:ext cx="5076720" cy="3800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Картинка 206 из 15512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260280"/>
            <a:ext cx="4321440" cy="32353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Картинка 61 из 15512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500280"/>
            <a:ext cx="5076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0:15:35Z</dcterms:created>
  <dc:creator>пк</dc:creator>
  <dc:description/>
  <dc:language>en-US</dc:language>
  <cp:lastModifiedBy>пк</cp:lastModifiedBy>
  <dcterms:modified xsi:type="dcterms:W3CDTF">2012-04-12T11:05:16Z</dcterms:modified>
  <cp:revision>2</cp:revision>
  <dc:subject/>
  <dc:title>Японское мо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90000000000010250300207f7000400038000</vt:lpwstr>
  </property>
</Properties>
</file>