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9C4-7392-44B7-AADF-A1AE135E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D83-3165-45C1-BE9D-E6F46DAF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C9E-63BD-4245-8B67-103E7679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5AD-14C3-4DD2-BAEC-197AEA93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86FF-07F4-4790-966B-8E9BA9C7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8301-76E8-4812-A76A-552B4949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590E-2A06-415D-ACFC-0F9A77EF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7AC3-8289-468A-B21A-A8DCDEC2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9630-816F-46DB-AF17-E019B3A1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1726-5360-4D28-9AD7-2B59B40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F2AD-D3A1-47D3-B48E-A9A2526F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F9C-1BDD-4556-BE10-1C8D09B7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CB59-AD4C-43E8-ABC8-9C075460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69FB-5B68-47FB-A296-5BC1C169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FB3F-AE43-4F36-B335-5245AF95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CEE3-68F8-4040-A489-6B6F9FD3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2CBC-6B2D-4B85-AAAD-3ED5AB7C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529-0C72-46E9-A7C8-F3326C06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ACA-97AA-47C4-9295-FFD5E58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5D3-2611-4FB8-B822-88028CC2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231-A909-4B3A-8802-DCEE4AF6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CB4-0669-4C8F-A857-0C6B752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363-C252-4E47-97AE-94F028CB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9F8-73A7-494A-8BBF-4490B26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1E27-B284-42EA-915F-465C0EC2E3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D579-716C-4960-B239-7C1BCEA9B4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осточный макрорегион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4391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лемы макрорегио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6932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8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представления об особенностях Восточной з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равнение Западной и Восточной зо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762120" y="762120"/>
          <a:ext cx="7924320" cy="5324040"/>
        </p:xfrm>
        <a:graphic>
          <a:graphicData uri="http://schemas.openxmlformats.org/drawingml/2006/table">
            <a:tbl>
              <a:tblPr/>
              <a:tblGrid>
                <a:gridCol w="2641680"/>
                <a:gridCol w="2640960"/>
                <a:gridCol w="2641680"/>
              </a:tblGrid>
              <a:tr h="177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знак макрорегион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падный макрорегион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сточный макрорегион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ГП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родные условия…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ГП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Центральн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ериферийн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щадь регио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ранспортная се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родные услов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лье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арактер земной ко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нутренние во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родные ресур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опливные, минера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уд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д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гроклимат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ес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ыб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еме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йка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32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селе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исленность насе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тность насе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ровень урбаниз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иг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ор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еспеченность трудовыми ресурс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Хозяй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пециализация макрорегио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мещение отрас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8:46:03Z</dcterms:created>
  <dc:creator>www.PHILka.RU</dc:creator>
  <dc:description/>
  <dc:language>en-US</dc:language>
  <cp:lastModifiedBy>www.PHILka.RU</cp:lastModifiedBy>
  <dcterms:modified xsi:type="dcterms:W3CDTF">2011-09-23T11:04:25Z</dcterms:modified>
  <cp:revision>3</cp:revision>
  <dc:subject/>
  <dc:title>Восточный макро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70000000000010250300207f7000400038000</vt:lpwstr>
  </property>
</Properties>
</file>