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E75-35F1-43B7-8352-40D5F684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3AA-3E29-4265-B3B9-6367C09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3DBD-EA7B-4845-A2AF-C88C6434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EBD-3C2F-408F-A2AC-CEEF4D24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6976-7E55-46EB-81FD-AC107D5A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FB31-A583-4795-8E70-0ADCA069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B192-FB00-4377-9730-0EDBE29E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B665-30DF-4F57-B3A5-8B7EA4EB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12D5-622C-44B8-A6AB-544D6113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50D4-D58A-45EA-97DE-760FCCF3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88EC-8AC7-46A1-B0E2-4DB95131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5DD-93ED-4AA7-9546-41E40A7F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863A-303F-471A-B9D9-813009B9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FC46-E417-43AF-BC02-657E24D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8FE0-EB6A-446C-B486-31077415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5CF6-F0E9-4E9A-BD3E-5E87A2C6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EBFA-5D0C-46B3-8C1F-6CC0556B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21E-FB10-48EB-8AFE-2F83B3CD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60C-E1E3-4B00-8751-B8D3B490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83A-8AFB-44CA-9DC9-18A59182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77D-4A06-4C71-89CC-BBDDFC27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E41-A71B-42D5-8180-3230543D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D7A-55EA-4814-AB2D-ECF2CA0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6CF-EEF5-42DE-8CA3-95243A0A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501D-6D53-4CF9-9D73-04EFE68FD93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24F7-843F-46A3-8C40-AC8AE00D96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осточный макрорегио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4391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лемы макрорегио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6932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8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представления об особенностях Восточной з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равнение Западной и Восточной зо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762120" y="762120"/>
          <a:ext cx="7924320" cy="5324040"/>
        </p:xfrm>
        <a:graphic>
          <a:graphicData uri="http://schemas.openxmlformats.org/drawingml/2006/table">
            <a:tbl>
              <a:tblPr/>
              <a:tblGrid>
                <a:gridCol w="2641680"/>
                <a:gridCol w="2640960"/>
                <a:gridCol w="2641680"/>
              </a:tblGrid>
              <a:tr h="177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знак макрорегион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падный макрорегион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сточный макрорегион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ГП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родные условия…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ГП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Центральн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ериферийн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щадь регио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ранспортная се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родные услов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лье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арактер земной кор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нутренние во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иродные ресур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опливные, минера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уд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д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гроклимат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ес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ыб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еме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йка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32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селе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исленность насе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тность насе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ровень урбаниз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г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ор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беспеченность трудовыми ресурс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Хозяй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пециализация макрорегио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мещение отрас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8:46:03Z</dcterms:created>
  <dc:creator>www.PHILka.RU</dc:creator>
  <dc:description/>
  <dc:language>en-US</dc:language>
  <cp:lastModifiedBy>www.PHILka.RU</cp:lastModifiedBy>
  <dcterms:modified xsi:type="dcterms:W3CDTF">2011-09-23T11:04:25Z</dcterms:modified>
  <cp:revision>3</cp:revision>
  <dc:subject/>
  <dc:title>Восточный макро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70000000000010250300207f7000400038000</vt:lpwstr>
  </property>
</Properties>
</file>