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72D-18B4-4E1C-BC39-7A43E00E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841-82C1-4DFA-AAD8-4A57FFC3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5D6-525E-4F87-8B79-E755D11B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657-A29D-43CB-8383-364BCDE5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133C-5973-4821-8B21-B53E9FD4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42A-6632-4315-AA89-F8A95AF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A762-D11F-4273-9480-D7951B6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693F-5BD0-4FA2-8E42-BCCB15E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438-99C5-429F-B73B-BCB85601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D02D-50C1-4FB6-96D9-0957525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6FA-6F10-4B04-A072-644AF74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624-3DA5-474D-9989-F448B55A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45FD-4DB4-4B26-A1BF-39E53DB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355-A70A-4261-A98A-ED5569C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7E6-5309-4FAC-89A1-AF38723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F0EA-0820-4D7C-BAC3-F1BC99F0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157-16F8-494F-B1A4-52BA9CDE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14C-32E3-47C2-9D90-5042FD4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0E5-6C26-4BD6-8522-F924D9F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E75-FA83-461D-8B27-5CEDFB7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63D-BF55-4AF7-A499-38782064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246-57BB-4DBC-8D56-A6F3699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D50-8CB3-4801-99D9-9C30590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161-F317-4AE2-A806-FAC60A3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4C0-4FDC-4919-8227-17E490C54B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2A05-B3CB-482D-9E8E-A30ACAB791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точный макрорегио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39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лемы макрореги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6932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представления об особенностях Восточной з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авнение Западной и Восточной з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762120"/>
          <a:ext cx="7924320" cy="532404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17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знак макрорегион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ад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точ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ГП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родные условия…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Г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Централь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иферий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щадь 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анспортная се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арактер земной к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нутренние в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пливные, минера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у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гроклима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ес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ыб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ем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йка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3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сел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ислен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вень урбаниз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г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еспеченность трудовыми ресурс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озяй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пециализация макро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мещение отрас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46:03Z</dcterms:created>
  <dc:creator>www.PHILka.RU</dc:creator>
  <dc:description/>
  <dc:language>en-US</dc:language>
  <cp:lastModifiedBy>www.PHILka.RU</cp:lastModifiedBy>
  <dcterms:modified xsi:type="dcterms:W3CDTF">2011-09-23T11:04:25Z</dcterms:modified>
  <cp:revision>3</cp:revision>
  <dc:subject/>
  <dc:title>Восточный макро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50300207f7000400038000</vt:lpwstr>
  </property>
</Properties>
</file>