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F94-7421-47F9-8795-6FE6CFC2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160-F3DA-4A83-99B0-56C737F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6B9-C34E-47BE-AE23-2EAE9DBE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073-A429-4549-A776-9A62268B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C027-C01C-400C-A0C0-97F3C890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6413-AED6-4A3C-9D67-4D65CAB0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EF0-8CF1-4FAA-AFA4-EAA234C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4A3E-3209-4B66-9075-FCBF7697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BB13-4A85-4D67-8E19-0CF34F8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270-1139-4030-8CBB-A2FFC9F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DAD-54EB-466F-9FD3-B824653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7D4-9731-4181-91F3-4326650A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F623-DBF7-42E2-B628-D0DE90D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EDA7-5E89-463A-9295-09D4E58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6BE-C198-4F9E-865A-87A4921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640-ACA7-42D3-AA9E-10BDF575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F254-AC98-473A-B98A-052DAFCA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FCE8-FE89-4DBF-AE56-71DC4B76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0193-79E9-4888-BDE6-7912131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59D2-2E19-45B0-B08E-B55F7EB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2A68-2627-4E80-A0E7-61022F88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3C2C-1B2B-4327-9803-46A1345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1BD-BEFF-45ED-8C7D-0129AF6F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2D11-4A94-4D76-81C8-F2337B14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780E-87D1-45FD-AF20-236CC70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AF22-1CCF-4A4B-B778-C22C17B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8E15-AE64-4C22-8EC6-6650BBD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7C07-ED68-400A-8B09-D4702D0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680E-6B5A-4D3E-ACAF-B6281523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63CA-0623-4D2D-BF65-1ED05556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2725-0C2D-4851-8D4D-18B050EC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E017-7163-48C8-901D-50168D9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7799-0EE8-4814-A466-DAA9B47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212-2A31-4AD9-884B-C115528E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BA67-B4F8-49E7-945A-1CDB30AB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5FFB-B47B-4AA6-944D-F9767D9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2DA6-3A09-4E0F-AD9A-44CF9689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0CF3-BD1F-4735-9A94-8D5112E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6DC4-DF52-4D12-BA90-7FE8B722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84CB-8701-4934-9B64-22A4E45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25B5-572B-454D-A474-9AB14013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85A0-56C4-4707-9BEB-BFEDAAE3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472C-A3A3-4B1F-8D0F-4B5EB46F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591D-6DFF-4481-A972-D1E0C404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56A-A6F3-441F-89EE-716DDEBE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498B-A43B-4D1B-B5A1-F6FE514E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D2EE-651E-4379-A607-20D088C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7C49-BF4B-49F5-9228-CC65BD42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ADDE-6E41-404A-B42E-809674C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3176-16C4-4B9F-B835-1DCCF67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803C-7968-406A-9166-3BEC95E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F272-4C9C-4F4C-9228-89974B3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BD01-FB8C-45FD-960C-169081A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24AF-AFC6-4076-8B95-2D22DC7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2A22-07C5-4438-92B1-77AE9F33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AD4-3FED-4089-B6E0-6C640342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BBB7-0206-4B9D-9E5A-3A594421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9D2-E811-4AAF-AEB3-3F8E78C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3B0-8EC6-451B-B03A-D2ABF04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78B-62C4-40D0-89E1-726758C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ED5-2316-4ED7-B818-5277364FC1E8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636-C18A-49F0-BC6D-83684D1073D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EA1-20F4-428C-A08E-797780A77EB6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73F9-37EC-4283-9AFA-CEFD133485B9}" type="slidenum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7DA6-AE44-4F21-8413-423798FAEF05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036880" y="-6480"/>
            <a:ext cx="7010280" cy="455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81072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2876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то совокупность отраслей и учреждений, разрабатывающих и производящих военную технику, боеприпасы и оруж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26960" y="4284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00" y="1000080"/>
            <a:ext cx="79722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ядерного оружи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и уничтожение химического оружия и взрывчатых вещест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енное судостроени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ронетанков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виационная, ракетно-космическ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икро- и радиоэлектро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оружи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1856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Безопасность размещения производства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укоемк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сокая квалификация кадров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екретн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ранспортны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79600" y="-291960"/>
            <a:ext cx="7931160" cy="1157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42920" y="999720"/>
            <a:ext cx="842976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Ядерное производство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Саратов (Арзамас-16), Снежинск (Челябинск -70), Воткинск, Красноярск, Самара, Омс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военно-космическими силами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г. Краснознаменск ( Голицино-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полетами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. Короле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виационная промышленность: </a:t>
            </a:r>
            <a:r>
              <a:rPr b="0" lang="ru-RU" sz="3200" spc="-1" strike="noStrike">
                <a:solidFill>
                  <a:srgbClr val="0d0d0d"/>
                </a:solidFill>
                <a:latin typeface="Trebuchet MS"/>
              </a:rPr>
              <a:t>Москва, Жуковский, Ступино, Ростов-на-Дону, Казань, Пермь, Омск, Тюмен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7418520" cy="1158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Судостроение :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Санкт-Петербург, Северодвинск, Нижний Новгород, Комсомольск-на-Амур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Бронетанковое производство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мск, Нижний Таги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ртиллерий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мь, Екатеринбург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Химиче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вочеркасс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вод военного производства на выпуск гражданской продук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105c"/>
                </a:solidFill>
                <a:latin typeface="Trebuchet MS"/>
              </a:rPr>
              <a:t>Дискуссия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а проблему конверсии существует несколько точек зрения. Одни считают конверсия необходима, другие считают, что следует придерживаться девиза оборонной промышленности США «Экспорт вооружения – лучше, чем конверсия». Как считаете вы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7418520" cy="1157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аше отношение к экспорту оружия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считаете, есть ли необходимость конверсии в России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казывает ли ВПК на окружающую среду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относитесь к утилизации отходов ядерного производства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214720"/>
            <a:ext cx="7238880" cy="42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метить на контурной карте основные центры военно-промышленного производств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06:39Z</dcterms:created>
  <dc:creator>Люда</dc:creator>
  <dc:description/>
  <dc:language>en-US</dc:language>
  <cp:lastModifiedBy>Катерина</cp:lastModifiedBy>
  <dcterms:modified xsi:type="dcterms:W3CDTF">2009-10-23T03:51:33Z</dcterms:modified>
  <cp:revision>5</cp:revision>
  <dc:subject/>
  <dc:title>Военно-промышленный комплекс (ВПК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70000000000010243100207f6000400038000</vt:lpwstr>
  </property>
</Properties>
</file>