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373-E9F9-4E4C-88EC-0D148270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8698-0AA4-4E86-B2D0-D871C035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1CD-0CC1-4393-ADCF-7EFC1E3E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7D4-00E3-41A5-922E-895D685E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6604-E554-4A35-A2A4-0F2ABC70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5C71-A573-464A-9516-20785C05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6DF9-581B-421C-91A0-9F37154C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1D0E-F398-4E2F-9BE5-7B63D555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EA95-971B-4B5F-8EA6-23808523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8157-068C-4048-8AC4-F7069507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5CF2-DA61-4460-9321-777BF70E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33C-3B43-4201-8DD8-95BA2E59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5B34-AFEB-47CA-B750-AF12CC80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4A20-C904-412D-90B1-C522563D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DC1B-4BA7-42D9-818F-0E82DDCE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DB2E-8459-4920-9710-4E759660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1477-9D5A-44BF-B789-55C17BCD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A5E31-993A-4175-8142-1B8A7F5B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3CDE4-46C6-4B8B-B4F6-7291601C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E78D9-119D-4F23-9AB3-DFB6A013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2E2D9-B451-450F-B887-D7828501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82FE1-4444-4C41-A082-D7440F94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DAC2-06F1-4535-BAD0-E56B0665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7E64A-707F-459F-817C-17E2B433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2102C-2ECC-4DA7-A326-E27BA253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EC9D3-DD51-4A1B-93B7-E9A9E966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4046B-7437-41E4-94F8-D1423895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A3B0B-99D5-4F68-B61B-B2535E81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FF477-E970-4A53-BD7A-9810C59D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D9A4B-F346-4297-A21A-E44CD7ED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27F60-2A5E-4809-B96C-F735EF16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0BB20-6025-420F-9C47-8A71FE96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2E949-D295-4F44-AE44-67CA04CB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1B17-B398-4BA7-AA2F-E1C00F90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0B7B7-7BDD-4A93-80B1-BB25341F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5E700-2587-4C33-BF0C-EDB516ED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CA436-9058-4E81-9D1B-0FDA2484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22B20-249B-42D5-8C58-9BECA308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29CDE-308D-49BF-87C0-7C415A06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54BC6-13CD-44D0-93A4-B4B6CB34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16498-51C3-4EA6-AC72-74C0081D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D9001-661E-4D6F-B59A-28C76A76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3F3D1-D2E6-487B-82C3-7A6114FA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BE86D-5E2C-4FB3-ABF6-A43787CC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DD43-B2C6-4720-A4C7-B4BAC9D1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96580-1EBC-4D7E-893D-3A860519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92854-7756-4FDA-A51F-57813805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2B80E-B7F6-4E05-85E4-4822D62D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C1545-79D0-4C9E-A756-06DB826A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A2169-E4FB-4FC2-86C8-87FF7548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41AA1-9B4D-4631-B225-325C4480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53B22-FF40-4222-9430-94553FB5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1DD10-E346-4E13-9B15-373F701C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37D4F-2DFE-47F8-9C5B-61C2E3C8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CF8B3-2112-45A9-85E7-5B731840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0849-55CD-43C4-B334-B078C0C6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B82C8-262B-47D6-AEE7-D460CCF0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2C64-F8EE-4FDC-810E-FA6CDA09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405-0B6E-4F54-8BFA-1E9303F3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ABE-D492-4889-A7F3-D32F197A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D2E1-F99F-4697-9F70-8AA00420C260}" type="slidenum"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3E10-43E8-4A2A-AFE8-6DD2F1B4C07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9F08-355D-4516-A2B1-73353CA69F19}" type="slidenum"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468D-219F-488D-A45B-FA8E1F44E6D2}" type="slidenum"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8854-6942-4ED2-ADE7-E42CE1FAFF1A}" type="slidenum">
              <a:rPr b="0" lang="ru-RU" sz="11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036880" y="-6480"/>
            <a:ext cx="7010280" cy="4554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810720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28760" y="2010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это совокупность отраслей и учреждений, разрабатывающих и производящих военную технику, боеприпасы и оружие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426960" y="4284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28400" y="1000080"/>
            <a:ext cx="79722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оизводство ядерного оружи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оизводство и уничтожение химического оружия и взрывчатых веществ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оенное судостроение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Бронетанковая техника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Авиационная, ракетно-космическая техника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Микро- и радиоэлектроника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оизводство оружия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28760" y="18568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Безопасность размещения производства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Наукоемкость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Высокая квалификация кадров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екретность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Транспортный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579600" y="-291960"/>
            <a:ext cx="7931160" cy="11570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42920" y="999720"/>
            <a:ext cx="842976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Ядерное производство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: Саратов (Арзамас-16), Снежинск (Челябинск -70), Воткинск, Красноярск, Самара, Омск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Центр управления военно-космическими силами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– г. Краснознаменск ( Голицино-2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Центр управления полетами-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г. Королев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Авиационная промышленность: </a:t>
            </a:r>
            <a:r>
              <a:rPr b="0" lang="ru-RU" sz="3200" spc="-1" strike="noStrike">
                <a:solidFill>
                  <a:srgbClr val="0d0d0d"/>
                </a:solidFill>
                <a:latin typeface="Trebuchet MS"/>
              </a:rPr>
              <a:t>Москва, Жуковский, Ступино, Ростов-на-Дону, Казань, Пермь, Омск, Тюмень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396720" y="-6480"/>
            <a:ext cx="7418520" cy="11588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Судостроение :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Санкт-Петербург, Северодвинск, Нижний Новгород, Комсомольск-на-Амуре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Бронетанковое производство: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мск, Нижний Тагил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Артиллерийское оружие: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ермь, Екатеринбург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eea"/>
                </a:solidFill>
                <a:latin typeface="Trebuchet MS"/>
              </a:rPr>
              <a:t>Химическое оружие: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Новочеркасск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еревод военного производства на выпуск гражданской продукц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0105c"/>
                </a:solidFill>
                <a:latin typeface="Trebuchet MS"/>
              </a:rPr>
              <a:t>Дискуссия: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На проблему конверсии существует несколько точек зрения. Одни считают конверсия необходима, другие считают, что следует придерживаться девиза оборонной промышленности США «Экспорт вооружения – лучше, чем конверсия». Как считаете вы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682560" y="208080"/>
            <a:ext cx="7418520" cy="1157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6867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аше отношение к экспорту оружия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ак вы считаете, есть ли необходимость конверсии в России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казывает ли ВПК на окружающую среду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ак вы относитесь к утилизации отходов ядерного производства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2214720"/>
            <a:ext cx="7238880" cy="42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тметить на контурной карте основные центры военно-промышленного производств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8:06:39Z</dcterms:created>
  <dc:creator>Люда</dc:creator>
  <dc:description/>
  <dc:language>en-US</dc:language>
  <cp:lastModifiedBy>Катерина</cp:lastModifiedBy>
  <dcterms:modified xsi:type="dcterms:W3CDTF">2009-10-23T03:51:33Z</dcterms:modified>
  <cp:revision>5</cp:revision>
  <dc:subject/>
  <dc:title>Военно-промышленный комплекс (ВПК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170000000000010243100207f6000400038000</vt:lpwstr>
  </property>
</Properties>
</file>