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9DE-9D24-495B-8BB5-8BEF6058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D67-5694-4E91-833C-5DF4A5C8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BD7-5FDC-42DE-8BED-2C219240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BB9-73C8-4D04-91F8-DDCF1C7F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AAC7-720A-4290-A634-1F133DB2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F791-69E7-400D-B631-2387A834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4AD0-D779-48A9-8DF1-D6764706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C065-B2FD-4644-9CF4-81052813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A3CF-6BB2-4F5B-B739-8D0FAF14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7877-4DCC-4A3C-88FB-9CD75174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0CD4-879D-4780-AF41-E111CC4C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91F-95FE-4EE9-928B-B14D829E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492A-98A8-4132-865C-39632F2C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F00C-5017-4464-A0FC-C0D0D091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5FDD-2B53-4EF3-8ABD-20F3F4C4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262A-8733-4819-987A-4FA7DDC0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DA41-9603-48F9-B274-1C5ABFA8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7D964-D0B5-4054-AE3A-18C5DEEB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8224F-5045-4EBC-8B3D-232A03C4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A9B2A-08C2-4878-95B4-7B850E2A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0720-BC32-4266-A6CC-2188F7A5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EFC9-C4BB-4AFB-AECF-B2DE6A70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9AA-7694-4EA8-878A-EC10A64B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9BFC-0B50-4093-AF7C-CB708A81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81F3-D0F9-4B40-B010-8316EBCA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79F2-AA35-481E-BB9E-7751C032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63B19-2420-48F5-A488-EE048A9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4AE48-08CF-4EF0-8E0F-E362785D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1099-3810-4B8C-B553-45DD55B6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4258B-BF1E-488C-8306-A67D53B2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02F7-2B18-43E5-856A-7C5D22F3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F021B-3810-4038-B26A-AD5D6859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C7E2D-74A3-4890-87B1-19772A42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3AB-DFC2-44C3-8E1C-4DBCFA47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1917A-942A-438F-B38E-8603069C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E0DA-C86A-4FBC-A9E7-57D1F794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0A50E-0E64-491F-A4BD-9480849D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38AE5-B8FB-429F-AFC9-70352AFC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78C66-8EFA-4082-9BE4-68C61B6A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2B38-F907-464A-8D47-B5E43440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51D0-D0B5-48F6-8C8F-D404419E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7135A-69FB-452C-B201-497F90CE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3DB4-B97F-4542-92C3-9A252123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1E41D-CF7A-49C0-91DD-CD1D1D35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7D5-196A-416D-AD5E-976D0180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9F23A-82AF-447B-AD2F-D5B41A9D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00054-A042-4D55-BA35-F175DE2A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6BCFC-4642-4507-840F-CC31B3BE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0364D-E214-4CC9-92AE-C60B8F0B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32053-1963-426E-96D5-08396BCF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6D5B9-20C1-4D0E-A11D-CB35D5A2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7F6F3-8648-419B-9D06-DE379A1A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23FBE-7AD2-4C5B-AC82-FEADCBE8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BB56C-D0B9-4A3B-A6F8-BE723989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59C5F-4C82-4687-9616-07A041F4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249-822B-415E-B868-77C73B00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A6F1E-35F9-4045-A4BF-CC2C5475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220-248B-4403-A3D3-02DA1518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BF8-D3BA-449A-8C6B-76EE10C9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5AD-DF50-48D8-993A-9E4880C3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DE9E-1B95-4398-93B1-140DE29215B7}" type="slidenum"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5893-7CDB-4BE0-927E-3FDBF9CF6AC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90C3-83FD-4612-9F63-D8B983B79EA0}" type="slidenum"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D365-938A-42D8-8F1B-F425C9734A55}" type="slidenum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0D12-CA4C-445A-90B8-80620F50871A}" type="slidenum"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036880" y="-6480"/>
            <a:ext cx="7010280" cy="4554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810720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2876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это совокупность отраслей и учреждений, разрабатывающих и производящих военную технику, боеприпасы и оружи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26960" y="4284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28400" y="1000080"/>
            <a:ext cx="79722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изводство ядерного оружи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изводство и уничтожение химического оружия и взрывчатых веществ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оенное судостроение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ронетанковая техника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виационная, ракетно-космическая техника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Микро- и радиоэлектроника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изводство оружи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28760" y="1856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Безопасность размещения производства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аукоемкость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ысокая квалификация кадров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екретность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Транспортный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579600" y="-291960"/>
            <a:ext cx="7931160" cy="1157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42920" y="999720"/>
            <a:ext cx="842976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Ядерное производство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: Саратов (Арзамас-16), Снежинск (Челябинск -70), Воткинск, Красноярск, Самара, Омск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Центр управления военно-космическими силами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– г. Краснознаменск ( Голицино-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Центр управления полетами-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г. Короле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Авиационная промышленность: </a:t>
            </a:r>
            <a:r>
              <a:rPr b="0" lang="ru-RU" sz="3200" spc="-1" strike="noStrike">
                <a:solidFill>
                  <a:srgbClr val="0d0d0d"/>
                </a:solidFill>
                <a:latin typeface="Trebuchet MS"/>
              </a:rPr>
              <a:t>Москва, Жуковский, Ступино, Ростов-на-Дону, Казань, Пермь, Омск, Тюмень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96720" y="-6480"/>
            <a:ext cx="7418520" cy="1158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Судостроение :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Санкт-Петербург, Северодвинск, Нижний Новгород, Комсомольск-на-Амуре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Бронетанковое производство: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мск, Нижний Таги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Артиллерийское оружие: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рмь, Екатеринбург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Химическое оружие: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овочеркасск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ревод военного производства на выпуск гражданской продук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0105c"/>
                </a:solidFill>
                <a:latin typeface="Trebuchet MS"/>
              </a:rPr>
              <a:t>Дискуссия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На проблему конверсии существует несколько точек зрения. Одни считают конверсия необходима, другие считают, что следует придерживаться девиза оборонной промышленности США «Экспорт вооружения – лучше, чем конверсия». Как считаете вы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682560" y="208080"/>
            <a:ext cx="7418520" cy="1157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6867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аше отношение к экспорту оружия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 вы считаете, есть ли необходимость конверсии в России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казывает ли ВПК на окружающую среду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 вы относитесь к утилизации отходов ядерного производства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2214720"/>
            <a:ext cx="7238880" cy="42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тметить на контурной карте основные центры военно-промышленного производств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8:06:39Z</dcterms:created>
  <dc:creator>Люда</dc:creator>
  <dc:description/>
  <dc:language>en-US</dc:language>
  <cp:lastModifiedBy>Катерина</cp:lastModifiedBy>
  <dcterms:modified xsi:type="dcterms:W3CDTF">2009-10-23T03:51:33Z</dcterms:modified>
  <cp:revision>5</cp:revision>
  <dc:subject/>
  <dc:title>Военно-промышленный комплекс (ВПК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70000000000010243100207f6000400038000</vt:lpwstr>
  </property>
</Properties>
</file>