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70B-E2CD-464B-A897-DE38E752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5A6-0430-4134-B4D1-77AD1712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32F-8C79-46F5-9B77-D04DC40A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073-FAE3-42E0-947E-75875FF6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270-9B5E-4FBC-8352-E69F4B9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B6F-6117-423D-B31E-6E01F45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E74-F159-4F33-A49B-443279D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7BD-60F0-4DB3-B228-5D39BAD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CED-DDB7-4A5D-AD70-F3499E71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546-718D-410E-A808-0EEE6BFF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449-B5B0-4FE9-9D2B-D06C912E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295-134A-44A6-9210-E4955791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3D61-D81E-4798-A0CC-5B9D3B6E1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kaim-travel.ru/tur/leto/full/28173423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rtavala.ucoz.ru/sher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izhi.karelia.ru/gallery/karelia/images/35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.auto.allsosnovo.ru/images/karti/fin002kannas04b.gif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40.radikal.ru/0908/88/a38c36d3303f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51/f08ea66c3048f2940c5ec0fbdd02a590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vin.aroundspb.ru/4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netolog.ru/maps/russia-oblast/big/Leningradskaya_Ob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cspb.ru/image.php?file=big%2F2806260926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2/La2-demis-gulf-of-finland.pn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formi.net/uploads/forum/images/1239515088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fish.ru/images/img/1999/011-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одные ресурсы Ленинградской области и Приозерского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артинка 46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4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Картинка 8 из 9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3516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4 из 166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404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4 из 78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60280"/>
            <a:ext cx="621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а Бурная (1818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24 из 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198440"/>
            <a:ext cx="75614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евские пороги (185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2 из 4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573200"/>
            <a:ext cx="8785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Картинка 12 из 17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86407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13 из 17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рельский переше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Файл:La2-demis-gulf-of-finland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89000"/>
            <a:ext cx="7619760" cy="30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32000" y="189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НСКИЙ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02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  29 500 км²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ибольшая глубина  100 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няя глубина  38 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ёность от 0,2 до 5,8 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 водосбора  420 000 к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аны на побережь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ссия,   Финляндия,  Эс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ина – 74 км  Глубина – 3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4 из 72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89000"/>
            <a:ext cx="7848360" cy="58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0" y="274680"/>
            <a:ext cx="2674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однения в 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9 из 2865"/>
          <p:cNvPicPr/>
          <p:nvPr/>
        </p:nvPicPr>
        <p:blipFill>
          <a:blip r:embed="rId2"/>
          <a:stretch/>
        </p:blipFill>
        <p:spPr>
          <a:xfrm>
            <a:off x="684360" y="1125360"/>
            <a:ext cx="7704000" cy="562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19640" y="21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ноября 1924 г – 4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однения в 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2 из 2865"/>
          <p:cNvPicPr/>
          <p:nvPr/>
        </p:nvPicPr>
        <p:blipFill>
          <a:blip r:embed="rId2"/>
          <a:stretch/>
        </p:blipFill>
        <p:spPr>
          <a:xfrm>
            <a:off x="971640" y="1052640"/>
            <a:ext cx="73436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5 из 333"/>
          <p:cNvPicPr/>
          <p:nvPr/>
        </p:nvPicPr>
        <p:blipFill>
          <a:blip r:embed="rId2"/>
          <a:stretch/>
        </p:blipFill>
        <p:spPr>
          <a:xfrm>
            <a:off x="611280" y="217440"/>
            <a:ext cx="8101080" cy="664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2602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м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Картинка 37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6192720" cy="595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08720" y="1052640"/>
            <a:ext cx="3635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1787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57 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838 куб.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берег  157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. глубина 47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. глубина 23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адожское 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6:04:34Z</dcterms:created>
  <dc:creator>Aleksey</dc:creator>
  <dc:description/>
  <dc:language>en-US</dc:language>
  <cp:lastModifiedBy>Aleksey</cp:lastModifiedBy>
  <dcterms:modified xsi:type="dcterms:W3CDTF">2010-10-08T17:18:17Z</dcterms:modified>
  <cp:revision>3</cp:revision>
  <dc:subject/>
  <dc:title>Ладожское озер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10000000000010250300207f7000400038000</vt:lpwstr>
  </property>
</Properties>
</file>