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ADE9-D991-44C6-A6CE-72253B8CB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96C6-35F9-493D-B42C-89C0CB67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342E-C2A0-4D32-9844-ECBD63D10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67D1-D4CD-4005-8C8C-B1A92F50D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F07C-8B1E-40EB-9A45-0D0BA2DC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B461-9D9A-4B7C-9C9B-9E56E477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A36A-FAA6-4439-B418-91D211DE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F5A6-2681-42EE-B6A9-78B82DA3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1C72-0F63-4B4F-8FC4-CFC94D02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9347-A0DF-4726-9351-FE723219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8A65-E668-414F-B5DA-6231B156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67F4-4A89-4DFE-A33D-CB5FA294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02A0-6475-403D-9D96-4DEB1F563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rkaim-travel.ru/tur/leto/full/28173423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ortavala.ucoz.ru/shera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izhi.karelia.ru/gallery/karelia/images/35.jpg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ll.auto.allsosnovo.ru/images/karti/fin002kannas04b.gif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040.radikal.ru/0908/88/a38c36d3303f.jpg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ic.academic.ru/pictures/wiki/files/51/f08ea66c3048f2940c5ec0fbdd02a590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evin.aroundspb.ru/4.jpg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lanetolog.ru/maps/russia-oblast/big/Leningradskaya_Obl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cspb.ru/image.php?file=big%2F2806260926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f/f2/La2-demis-gulf-of-finland.pn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oformi.net/uploads/forum/images/1239515088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fish.ru/images/img/1999/011-1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Водные ресурсы Ленинградской области и Приозерского райо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Картинка 46 из 1616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89000"/>
            <a:ext cx="9144000" cy="61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Картинка 44 из 1616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0"/>
            <a:ext cx="9361440" cy="70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Картинка 8 из 93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189000"/>
            <a:ext cx="8351640" cy="68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Картинка 14 из 1661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040436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Картинка 4 из 781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260280"/>
            <a:ext cx="6210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ка Бурная (1818г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Картинка 24 из 7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1198440"/>
            <a:ext cx="7561440" cy="56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осевские пороги (185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Картинка 2 из 49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1573200"/>
            <a:ext cx="878544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Картинка 12 из 1771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333360"/>
            <a:ext cx="8640720" cy="62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Картинка 13 из 1771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69228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26920" y="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рельский переше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Файл:La2-demis-gulf-of-finland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89000"/>
            <a:ext cx="7619760" cy="3038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1332000" y="189000"/>
            <a:ext cx="72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ИНСКИЙ ЗАЛИ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0028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лощадь  29 500 км²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ибольшая глубина  100 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редняя глубина  38 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лёность от 0,2 до 5,8 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лощадь водосбора  420 000 км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раны на побережье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Россия,   Финляндия,  Эсто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лина – 74 км  Глубина – 30 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Картинка 4 из 726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89000"/>
            <a:ext cx="7848360" cy="58896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12000" y="274680"/>
            <a:ext cx="267480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воднения в Петербург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Картинка 19 из 2865"/>
          <p:cNvPicPr/>
          <p:nvPr/>
        </p:nvPicPr>
        <p:blipFill>
          <a:blip r:embed="rId2"/>
          <a:stretch/>
        </p:blipFill>
        <p:spPr>
          <a:xfrm>
            <a:off x="684360" y="1125360"/>
            <a:ext cx="7704000" cy="5629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219640" y="21337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ноября 1924 г – 410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воднения в Петербург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Картинка 2 из 2865"/>
          <p:cNvPicPr/>
          <p:nvPr/>
        </p:nvPicPr>
        <p:blipFill>
          <a:blip r:embed="rId2"/>
          <a:stretch/>
        </p:blipFill>
        <p:spPr>
          <a:xfrm>
            <a:off x="971640" y="1052640"/>
            <a:ext cx="734364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Картинка 5 из 333"/>
          <p:cNvPicPr/>
          <p:nvPr/>
        </p:nvPicPr>
        <p:blipFill>
          <a:blip r:embed="rId2"/>
          <a:stretch/>
        </p:blipFill>
        <p:spPr>
          <a:xfrm>
            <a:off x="611280" y="217440"/>
            <a:ext cx="8101080" cy="6640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258920" y="260280"/>
            <a:ext cx="41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амб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Картинка 37 из 1616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692280"/>
            <a:ext cx="6192720" cy="5954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508720" y="1052640"/>
            <a:ext cx="36352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= 17870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в.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тров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457 кв.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838 куб.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ина берег  1570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. глубина 47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кс. глубина 230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92000" y="-36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Ладожское озер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16:04:34Z</dcterms:created>
  <dc:creator>Aleksey</dc:creator>
  <dc:description/>
  <dc:language>en-US</dc:language>
  <cp:lastModifiedBy>Aleksey</cp:lastModifiedBy>
  <dcterms:modified xsi:type="dcterms:W3CDTF">2010-10-08T17:18:17Z</dcterms:modified>
  <cp:revision>3</cp:revision>
  <dc:subject/>
  <dc:title>Ладожское озер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6110000000000010250300207f7000400038000</vt:lpwstr>
  </property>
</Properties>
</file>