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FFA-48AC-450A-9488-77A3C460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C76-FEE6-45E8-8709-44067B77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C7B-713E-48DB-8D2A-54879EC1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256-CF1F-40D0-8ED8-9968E333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959-D40D-43D4-8D4F-56B063D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6AA-C1DE-40E0-8B0C-E33E0FEC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59E-595C-4EC8-A582-91B8324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01F-29DB-4BFB-9DFD-AE3CFB5B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C45-3D08-44FA-88CB-FBDFA71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881-B2F9-478C-9102-6A0D628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6FF-7C83-4035-A8DD-6EFEB4A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27-5D2C-459A-BDE0-1F7AE9E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3691-D446-4903-9BFA-F0C8B1C1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kaim-travel.ru/tur/leto/full/28173423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ortavala.ucoz.ru/sher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izhi.karelia.ru/gallery/karelia/images/35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.auto.allsosnovo.ru/images/karti/fin002kannas04b.gif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40.radikal.ru/0908/88/a38c36d3303f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51/f08ea66c3048f2940c5ec0fbdd02a590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vin.aroundspb.ru/4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netolog.ru/maps/russia-oblast/big/Leningradskaya_Ob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cspb.ru/image.php?file=big%2F2806260926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2/La2-demis-gulf-of-finland.pn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formi.net/uploads/forum/images/1239515088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fish.ru/images/img/1999/011-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одные ресурсы Ленинградской области и Приозерского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46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9144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4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8 из 93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3516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4 из 16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404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4 из 7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60280"/>
            <a:ext cx="621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а Бурная (1818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24 из 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198440"/>
            <a:ext cx="756144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евские пороги (185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2 из 4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573200"/>
            <a:ext cx="8785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Картинка 12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864072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13 из 177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рельский переше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Файл:La2-demis-gulf-of-finland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619760" cy="303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32000" y="18900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НСКИЙ ЗАЛ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0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 29 500 км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ибольшая глубина  100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няя глубина  38 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ёность от 0,2 до 5,8 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 водосбора  420 000 к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ны на побережь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оссия,   Финляндия,  Эст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ина – 74 км  Глубина – 3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4 из 72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89000"/>
            <a:ext cx="7848360" cy="58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2000" y="274680"/>
            <a:ext cx="2674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9 из 2865"/>
          <p:cNvPicPr/>
          <p:nvPr/>
        </p:nvPicPr>
        <p:blipFill>
          <a:blip r:embed="rId2"/>
          <a:stretch/>
        </p:blipFill>
        <p:spPr>
          <a:xfrm>
            <a:off x="684360" y="1125360"/>
            <a:ext cx="7704000" cy="5629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19640" y="21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ноября 1924 г – 4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однения в 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2 из 2865"/>
          <p:cNvPicPr/>
          <p:nvPr/>
        </p:nvPicPr>
        <p:blipFill>
          <a:blip r:embed="rId2"/>
          <a:stretch/>
        </p:blipFill>
        <p:spPr>
          <a:xfrm>
            <a:off x="971640" y="1052640"/>
            <a:ext cx="734364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5 из 333"/>
          <p:cNvPicPr/>
          <p:nvPr/>
        </p:nvPicPr>
        <p:blipFill>
          <a:blip r:embed="rId2"/>
          <a:stretch/>
        </p:blipFill>
        <p:spPr>
          <a:xfrm>
            <a:off x="611280" y="217440"/>
            <a:ext cx="8101080" cy="664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2602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м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Картинка 37 из 16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92280"/>
            <a:ext cx="6192720" cy="595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08720" y="1052640"/>
            <a:ext cx="3635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1787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57 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838 куб.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на берег  157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. глубина 47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. глубина 23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92000" y="-36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адожское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6:04:34Z</dcterms:created>
  <dc:creator>Aleksey</dc:creator>
  <dc:description/>
  <dc:language>en-US</dc:language>
  <cp:lastModifiedBy>Aleksey</cp:lastModifiedBy>
  <dcterms:modified xsi:type="dcterms:W3CDTF">2010-10-08T17:18:17Z</dcterms:modified>
  <cp:revision>3</cp:revision>
  <dc:subject/>
  <dc:title>Ладожское озер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50300207f7000400038000</vt:lpwstr>
  </property>
</Properties>
</file>