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E55-42FA-40F2-98FD-EB485491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F5B-0E89-4D5A-8EF5-6377E568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8A8-5B37-40D0-8296-2F6EC110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E07-32C9-4AAA-9E32-AFE7D9E1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E5C5-7B63-481C-8ECC-A136E382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D41F-6074-4951-B1F0-FB4FFA5E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2D07-349F-4A7D-BC53-38006BCB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CB43-D100-4551-93F9-3E30E01B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82E2-7E24-45DD-8387-C99977A5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A971-DB4A-490A-9EE2-8A6A2CD2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5206-8231-41E3-9611-1DA87BFF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285-ED8D-4DF5-BDFA-F160796B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8798-2984-45F8-AC7C-1C4239C7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4AF1-E37A-4A19-AD8C-33436AD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9EFF-B9B0-4D0A-928C-4E1AFA93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C7F5-76D7-43E6-B31B-51D67277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9EE0-5CF9-4D1B-9BD3-C5120AD0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AEA-E0EE-481D-BC66-36012394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2BC-1DD2-40DD-9970-2A437683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941-E0AA-42B2-8AC1-B546F63B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73C-8F95-4A92-9D02-89FD60AD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189-5203-472C-AC01-CBAFB89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9E3-F8D2-4BAE-A0FE-DB3D874C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FAD-A2ED-4934-8D6A-B1423E85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BA3A-4FF8-4867-B90C-E87F1A0818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845C-BCA3-42B1-B98E-8AC237A6F8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Виртуальная экскурсия по Байкалу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Байкал  зимой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80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Байкал  в  туман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1480" y="1846440"/>
            <a:ext cx="86425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кат  на  озер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962000"/>
            <a:ext cx="835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1430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В  преданьях  и  легендах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Байкал – старик  суровый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А  он  на  самом  деле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 Black"/>
              </a:rPr>
              <a:t>  Задорный,  молодой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2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Байкал  зовут  Байкюлем,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  Байгюлем  и  Бэйхаем: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Ему  дано  немало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Arial Black"/>
              </a:rPr>
              <a:t>Таинственных  имён.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9930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Прозрачные  воды  Байкала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2952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Жители  Байкал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И  не  рыба,  и  не  кит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Рыбу  ловит  и  молчит.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 Black"/>
              </a:rPr>
              <a:t>(байкальская  нерпа)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746360"/>
            <a:ext cx="8785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Black"/>
              </a:rPr>
              <a:t>Байкальский  омуль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 Black"/>
              </a:rPr>
              <a:t>музей – заповедник  Листвянка</a:t>
            </a:r>
            <a:endParaRPr b="1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746360"/>
            <a:ext cx="8640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50800" y="108900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50800" y="108900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льбатрос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3065400"/>
            <a:ext cx="800748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195560"/>
            <a:ext cx="82818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Маяк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ид  на  Шаман  камень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8000" y="1673280"/>
            <a:ext cx="90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Закаляло,  исцеляло  море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Крепкий  дед  мой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От  любой  бед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В  туеске,  как  заговор  от хвор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Мне  байкальской  привозил  воды</a:t>
            </a:r>
            <a:endParaRPr b="1" lang="en-US" sz="1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0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йкал – тюркоязычное  слово  от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айкюль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  означает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огатое  озеро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" y="1528920"/>
            <a:ext cx="91249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 неспроста  шумливый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ывистый,  весёлый –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дь  он  живой  наполнен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 не  простой  водой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!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03364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-204840"/>
            <a:ext cx="9753840" cy="72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оры  Саяны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2808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37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Байкал  в  июн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2:40:43Z</dcterms:created>
  <dc:creator>Елена</dc:creator>
  <dc:description/>
  <dc:language>en-US</dc:language>
  <cp:lastModifiedBy>Admin</cp:lastModifiedBy>
  <dcterms:modified xsi:type="dcterms:W3CDTF">2011-09-20T21:57:58Z</dcterms:modified>
  <cp:revision>5</cp:revision>
  <dc:subject/>
  <dc:title>Байка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80000000000010250300207f7000400038000</vt:lpwstr>
  </property>
</Properties>
</file>