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460-5E1D-4688-B720-F1B55AF9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8A6-FC4B-461B-BBB7-A11CEF2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800-8BB6-4CB2-BF14-D37F925A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6E3-D96B-4539-9D8B-5DA953E4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DC25-7260-4C1E-A2D8-84325AB1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5E1-5D98-4AFC-9BAD-B8EBF13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CB9-2E4E-4190-AD7F-3E8FC25B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4B6F-40D3-4488-A2F9-B72B35D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4F6-10B2-4CD8-AF60-3903488E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6255-BC74-44B1-9F55-B057B8CC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81B-B082-4F3C-AE3F-19277B3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032-59E6-4F3E-A350-159AD118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AED-99D0-4101-AD22-6E01780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EA0D-52D8-4A49-A4A5-36AF969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E04-3ECE-4C36-BD7B-DE5B4193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30BC-05C0-4297-BE08-33863747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8AE-EFC5-492B-BB47-BC3FDBCF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0CA-11C9-40A0-B39D-05D8868A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C44-53BB-483D-B7BC-3046B18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510-92F2-474D-A262-4C1188C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E8E-0496-469F-9DB0-B6CE80C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D20-D299-4EB6-A6A7-CB35BE2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F90-564B-4D8F-80FA-5BCEDCD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D6B-0B23-43A7-B7E7-7A181EE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D9C-1245-449F-8A29-BFBF5F76C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995-1A05-4617-830C-6BC6F5BCC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Виртуальная экскурсия по Байкалу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Байкал  зимо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йкал  в  туман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1480" y="1846440"/>
            <a:ext cx="86425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кат  на  озер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962000"/>
            <a:ext cx="835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1430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В  преданьях  и  легендах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Байкал – старик  суровый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А  он  на  самом  деле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  Задорный,  молодой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2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Байкал  зовут  Байкюлем,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  Байгюлем  и  Бэйхаем: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Ему  дано  немало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Таинственных  имён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9930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Прозрачные  воды  Байкала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295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Жители  Байкал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И  не  рыба,  и  не  ки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Рыбу  ловит  и  молчи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(байкальская  нерпа)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46360"/>
            <a:ext cx="8785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Black"/>
              </a:rPr>
              <a:t>Байкальский  омуль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 Black"/>
              </a:rPr>
              <a:t>музей – заповедник  Листвянка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46360"/>
            <a:ext cx="864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льбатрос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3065400"/>
            <a:ext cx="800748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2818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Маяк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ид  на  Шаман  камень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1673280"/>
            <a:ext cx="90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Закаляло,  исцеляло  море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Крепкий  дед  мой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От  любой  бед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В  туеске,  как  заговор  от хвор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Мне  байкальской  привозил  воды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йкал – тюркоязычное  слово  от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йкюль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 означает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гатое  озеро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" y="1528920"/>
            <a:ext cx="9124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 неспроста  шумливы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ывистый,  весёлый –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дь  он  живой  наполнен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 не  простой  водой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03364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оры  Саяны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2808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37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йкал  в  июн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2:40:43Z</dcterms:created>
  <dc:creator>Елена</dc:creator>
  <dc:description/>
  <dc:language>en-US</dc:language>
  <cp:lastModifiedBy>Admin</cp:lastModifiedBy>
  <dcterms:modified xsi:type="dcterms:W3CDTF">2011-09-20T21:57:58Z</dcterms:modified>
  <cp:revision>5</cp:revision>
  <dc:subject/>
  <dc:title>Байка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80000000000010250300207f7000400038000</vt:lpwstr>
  </property>
</Properties>
</file>