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9FF0-3ABF-4970-AC8C-789080D6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27C1-52AD-45C3-BBEF-B3B78E73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E336-C59F-49C5-93AD-3BA8758E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32B0-60EC-4EA7-846D-0C1CCAE3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0F31-6E49-436E-8418-4692E49D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2D4F-58CB-4D2D-A7B3-0CB0E73B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353C-6DCF-4B28-9B17-EF2DAE1A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DF48-A0EC-4A39-8217-3D0A2819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4B82-5734-483B-87DB-046FDE1E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AA48-742F-4993-96AA-660E876F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A9EE-E4F3-43B9-8931-4D78D6FD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751-4C06-4264-B22E-C7154024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2F08-B0E1-4352-9E1E-16BCE728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1C08-0D79-499E-B26B-E48CDDC9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2969-AC75-4FEE-BBEC-6C32FB65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A17E-750C-4124-904A-0CBC3239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7728-C835-44E0-91D0-6FFA5570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EE41-B206-4C9F-9E7E-5E1D6287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AB3E-CA18-4CF2-A41B-784527C1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D2E-EB50-4476-A2BA-9FA6C847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BEB-8B61-4E7D-A07E-9A6D45DF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6769-4DEE-4820-8371-77C55960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338-0544-4E20-AC49-C4F8C2E6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7FA4-9201-409B-A34F-70C430AF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7930-959B-4D40-A7DC-F4E0F265D3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3805-F048-4A61-A391-BEDA6D4027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Виртуальная экскурсия по Байкалу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813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Байкал  зимой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80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Байкал  в  туман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1480" y="1846440"/>
            <a:ext cx="864252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Закат  на  озер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962000"/>
            <a:ext cx="8353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116000" y="0"/>
            <a:ext cx="114300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Black"/>
              </a:rPr>
              <a:t>В  преданьях  и  легендах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 Black"/>
              </a:rPr>
              <a:t>Байкал – старик  суровый.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 Black"/>
              </a:rPr>
              <a:t>А  он  на  самом  деле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 Black"/>
              </a:rPr>
              <a:t>  Задорный,  молодой.</a:t>
            </a:r>
            <a:endParaRPr b="1" lang="en-US" sz="1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352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Black"/>
              </a:rPr>
              <a:t>Байкал  зовут  Байкюлем,</a:t>
            </a:r>
            <a:br>
              <a:rPr sz="1800"/>
            </a:br>
            <a:r>
              <a:rPr b="1" lang="ru-RU" sz="1800" spc="-1" strike="noStrike">
                <a:solidFill>
                  <a:srgbClr val="ffffcc"/>
                </a:solidFill>
                <a:latin typeface="Arial Black"/>
              </a:rPr>
              <a:t>  Байгюлем  и  Бэйхаем:</a:t>
            </a:r>
            <a:br>
              <a:rPr sz="1800"/>
            </a:br>
            <a:r>
              <a:rPr b="1" lang="ru-RU" sz="1800" spc="-1" strike="noStrike">
                <a:solidFill>
                  <a:srgbClr val="ffffcc"/>
                </a:solidFill>
                <a:latin typeface="Arial Black"/>
              </a:rPr>
              <a:t>Ему  дано  немало</a:t>
            </a:r>
            <a:br>
              <a:rPr sz="1800"/>
            </a:br>
            <a:r>
              <a:rPr b="1" lang="ru-RU" sz="1800" spc="-1" strike="noStrike">
                <a:solidFill>
                  <a:srgbClr val="ffffcc"/>
                </a:solidFill>
                <a:latin typeface="Arial Black"/>
              </a:rPr>
              <a:t>Таинственных  имён.</a:t>
            </a:r>
            <a:endParaRPr b="1" lang="en-US" sz="1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9930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Прозрачные  воды  Байкала</a:t>
            </a:r>
            <a:endParaRPr b="1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129520" cy="62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Жители  Байкала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064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И  не  рыба,  и  не  кит.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Рыбу  ловит  и  молчит.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(байкальская  нерпа)</a:t>
            </a:r>
            <a:endParaRPr b="1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746360"/>
            <a:ext cx="8785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Black"/>
              </a:rPr>
              <a:t>Байкальский  омуль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 Black"/>
              </a:rPr>
              <a:t>музей – заповедник  Листвянка</a:t>
            </a:r>
            <a:endParaRPr b="1" lang="en-US" sz="2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1746360"/>
            <a:ext cx="8640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50800" y="1089000"/>
            <a:ext cx="62424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50800" y="1089000"/>
            <a:ext cx="62424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альбатрос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3065400"/>
            <a:ext cx="800748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1195560"/>
            <a:ext cx="828180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Маяк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Вид  на  Шаман  камень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8000" y="1673280"/>
            <a:ext cx="903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Закаляло,  исцеляло  море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Крепкий  дед  мой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От  любой  беды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В  туеске,  как  заговор  от хвори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Мне  байкальской  привозил  воды</a:t>
            </a:r>
            <a:endParaRPr b="1" lang="en-US" sz="1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207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йкал – тюркоязычное  слово  от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айкюль,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то  означает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огатое  озеро</a:t>
            </a:r>
            <a:endParaRPr b="1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80" y="1528920"/>
            <a:ext cx="91249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н  неспроста  шумливый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рывистый,  весёлый –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дь  он  живой  наполнен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 не  простой  водой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!</a:t>
            </a:r>
            <a:endParaRPr b="1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203364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304920" y="-204840"/>
            <a:ext cx="9753840" cy="72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Горы  Саяны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2808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371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Байкал  в  июн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2:40:43Z</dcterms:created>
  <dc:creator>Елена</dc:creator>
  <dc:description/>
  <dc:language>en-US</dc:language>
  <cp:lastModifiedBy>Admin</cp:lastModifiedBy>
  <dcterms:modified xsi:type="dcterms:W3CDTF">2011-09-20T21:57:58Z</dcterms:modified>
  <cp:revision>5</cp:revision>
  <dc:subject/>
  <dc:title>Байка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180000000000010250300207f7000400038000</vt:lpwstr>
  </property>
</Properties>
</file>