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B01-82BD-4315-ABE2-F53BF390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095-3470-4CB1-8BAD-5558DDE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3A1-1DE3-4043-AE08-49292D07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F83-560E-472E-8F74-8DAE59C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81C-A734-48CC-B62A-F52EEEE2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EF5-018E-4753-8A57-2ED46AF2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DBC1-3FFF-4043-A226-7B62399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1121-3908-4AF4-A23F-CCA771B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112A-83A3-4BA6-B964-A197442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0DDC-488B-4F68-9847-4C0FCCF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C758-C7A8-4DBA-ABE8-131F416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A36-59E5-4DF0-95FF-4746CD5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7CCB-74B2-44E4-B9DD-66B9EC3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3DA6-61EC-4B80-8A14-338F272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7F91-FB91-4E45-9205-4D37387E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1C20-E95D-4437-8B08-B1A91ED1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E8E0-2DAE-47BE-979A-C2C3594E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3E46-125D-405C-BCC4-88164045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1ACE-43B8-4A4B-93FE-9055F30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E973-BCD9-4BF5-9421-BBF52A8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5C17-AC83-4C8E-B020-D8C55342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B3D3-9FB4-44BD-99FD-5B4F2137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ECA-FD25-4307-9166-B405FAC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D821-4199-4734-B5E3-EB3BC19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1226-A0B3-40DA-AD06-CAA359C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2241-CC62-4D48-B955-A23CC94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240E-A70E-498C-94CE-5AECEBC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04FB-C626-41C0-BFB2-A0D37C0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FA49-431E-4257-B01F-DDA24B55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769B-DB0D-4B66-B462-72D1C47A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C73-F3B8-496A-9623-C8668FB8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565-89D9-4716-8C5A-B85DF5B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89D-DCBC-447A-917A-D0233CC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E1F-25C8-42B3-B1DC-6C95E1B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F78-2DDA-416C-BE08-6F819BB1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923-C8FB-4E23-87A6-722FB00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C62-029E-420A-8EC3-E34608FD69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E28-6950-431E-9ED6-312A9520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3FC8-99EB-4502-8FB8-D9AF4398E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116000" y="1052640"/>
            <a:ext cx="7056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635280" y="2492280"/>
            <a:ext cx="2286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468360" y="1557360"/>
            <a:ext cx="82803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тер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берите лишн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ждь, град, бриз, иней, сне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ометр, осадкометр, муссон, григро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из, дождь, муссон, ве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иней, дождь, тум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дождь, снег, лив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ьте правильную пар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981080"/>
          <a:ext cx="7772400" cy="2352960"/>
        </p:xfrm>
        <a:graphic>
          <a:graphicData uri="http://schemas.openxmlformats.org/drawingml/2006/table">
            <a:tbl>
              <a:tblPr/>
              <a:tblGrid>
                <a:gridCol w="457200"/>
                <a:gridCol w="3429000"/>
                <a:gridCol w="571680"/>
                <a:gridCol w="331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и сила в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адк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мосферное д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юг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295280" y="434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дует ве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28600" y="3276720"/>
            <a:ext cx="2819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04920" y="5334120"/>
            <a:ext cx="281916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295280" y="2286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1295280"/>
            <a:ext cx="289548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ном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рхности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505320" y="2819520"/>
            <a:ext cx="251460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429000" y="5638680"/>
            <a:ext cx="25146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4419720" y="38862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876920" y="44956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6781680" y="2819520"/>
            <a:ext cx="20574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81680" y="5715000"/>
            <a:ext cx="20574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0"/>
          <p:cNvSpPr/>
          <p:nvPr/>
        </p:nvSpPr>
        <p:spPr>
          <a:xfrm>
            <a:off x="7543800" y="3886200"/>
            <a:ext cx="485640" cy="1828800"/>
          </a:xfrm>
          <a:prstGeom prst="downArrow">
            <a:avLst>
              <a:gd name="adj1" fmla="val 50000"/>
              <a:gd name="adj2" fmla="val 941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3505320" y="13716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553080" y="137160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357800" y="5716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95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1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13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8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9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3995640" y="4005360"/>
            <a:ext cx="3456000" cy="1368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4365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216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6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7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0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1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33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5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32-2"/>
          <p:cNvPicPr/>
          <p:nvPr/>
        </p:nvPicPr>
        <p:blipFill>
          <a:blip r:embed="rId1"/>
          <a:srcRect l="0" t="0" r="-54" b="0"/>
          <a:stretch/>
        </p:blipFill>
        <p:spPr>
          <a:xfrm>
            <a:off x="0" y="231840"/>
            <a:ext cx="8578800" cy="66261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4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04000" y="292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хий оке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бразуется муссо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500720" y="1557360"/>
            <a:ext cx="761760" cy="71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64328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7308720" y="2205000"/>
            <a:ext cx="76212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52472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580000" y="2565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5364000" y="1341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92720" y="1773360"/>
            <a:ext cx="2303640" cy="215640"/>
          </a:xfrm>
          <a:prstGeom prst="rightArrow">
            <a:avLst>
              <a:gd name="adj1" fmla="val 50000"/>
              <a:gd name="adj2" fmla="val 2670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5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7"/>
          <p:cNvSpPr/>
          <p:nvPr/>
        </p:nvSpPr>
        <p:spPr>
          <a:xfrm>
            <a:off x="4859280" y="2421000"/>
            <a:ext cx="2376720" cy="360360"/>
          </a:xfrm>
          <a:prstGeom prst="leftArrow">
            <a:avLst>
              <a:gd name="adj1" fmla="val 50000"/>
              <a:gd name="adj2" fmla="val 1648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3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9" descr="anem2"/>
          <p:cNvPicPr/>
          <p:nvPr/>
        </p:nvPicPr>
        <p:blipFill>
          <a:blip r:embed="rId1"/>
          <a:stretch/>
        </p:blipFill>
        <p:spPr>
          <a:xfrm>
            <a:off x="357120" y="428760"/>
            <a:ext cx="194004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anem5"/>
          <p:cNvPicPr/>
          <p:nvPr/>
        </p:nvPicPr>
        <p:blipFill>
          <a:blip r:embed="rId2"/>
          <a:stretch/>
        </p:blipFill>
        <p:spPr>
          <a:xfrm>
            <a:off x="4500720" y="3573360"/>
            <a:ext cx="1671480" cy="3284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6156360" y="60357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пликатор Бурд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6011640" y="63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714680" y="27147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овой анемометр Робин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150012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17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litn-andr.narod.ru/data/Glossary/images/p68_shkalaboforta.jpg"/>
          <p:cNvPicPr/>
          <p:nvPr/>
        </p:nvPicPr>
        <p:blipFill>
          <a:blip r:embed="rId1"/>
          <a:stretch/>
        </p:blipFill>
        <p:spPr>
          <a:xfrm>
            <a:off x="31680" y="272880"/>
            <a:ext cx="90774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8:03:59Z</dcterms:created>
  <dc:creator>Сухинские</dc:creator>
  <dc:description/>
  <dc:language>en-US</dc:language>
  <cp:lastModifiedBy>user</cp:lastModifiedBy>
  <dcterms:modified xsi:type="dcterms:W3CDTF">2014-06-16T16:24:43Z</dcterms:modified>
  <cp:revision>17</cp:revision>
  <dc:subject/>
  <dc:title>Тема урок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c0000000000010250300207f7000400038000</vt:lpwstr>
  </property>
</Properties>
</file>