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8CC-1921-4C9E-BEA4-5A42E46A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DAD-D666-4A82-A845-EA90AF8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35D-E5B4-4A5E-99F6-09272054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980-5770-40EF-A647-917C8862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97B8-A771-4FCF-82C7-F3ADF18B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D0D6-5E37-4C28-B8A9-D4B3A495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290F-FC9A-4670-8EF3-C2913D0F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379-7079-4BE6-A690-3492AF05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1EE6-71B3-43D3-BC48-991DE4CB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C112-AA4E-4EE5-B098-CFCB666F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DC05-A4FE-4DA8-BC32-901FF82E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1E0-BA2D-4E59-AE9A-81B4BD1B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78E4-C55F-4CEC-9F29-613A71BC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D3A7-CDA3-4128-BD36-B7BCBE4B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F69D-648D-4B7A-8235-8025A6A7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F9F7-A5B1-49DC-9FA5-65B1E880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3349-5A24-47BA-BC57-641E2AC5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1040-BF2E-441A-BC9F-10B792F2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80C6-1506-4E6D-A8BF-CA2386F8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759B-E94F-489B-AEF8-1CA1FFE3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8783-2BEC-4020-B497-CA4D0F35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68EB-E8B2-41F4-A7A9-2C756575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882-709F-47D0-B0C1-21452577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66CA-95D8-46AC-86FE-A3F81E1A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AEBC4-99C7-4DEA-8D8A-2FFEB3D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805F-9688-4659-93A4-84C1256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D2AC-3208-4B61-B690-24CB97D5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3D42-2E32-4806-8FA7-394A94D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287B-EA7B-4A08-88AE-2EF20623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578C7-8654-426E-AD3C-F7B4F652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061-47E7-4402-9299-C1D3923F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B5D-147C-44F8-B929-AF724B4D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607-036C-43FB-8F25-069D090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BC4-3697-40B6-8C0E-AB9BC0AB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0C2-3300-4C81-8E64-5BB884EE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DB8-8B81-4184-8272-7EC4391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B23E-FD15-43D7-90F8-29EA8A861D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7791-5888-4559-A2DD-FB0E810AA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9E4-1B16-4FBA-83CE-868E584D2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1116000" y="1052640"/>
            <a:ext cx="7056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3635280" y="2492280"/>
            <a:ext cx="2286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468360" y="1557360"/>
            <a:ext cx="82803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тер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берите лишне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ждь, град, бриз, иней, сне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ометр, осадкометр, муссон, григромет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из, дождь, муссон, ве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а, иней, дождь, тума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а, дождь, снег, лив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ставьте правильную пар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5800" y="1981080"/>
          <a:ext cx="7772400" cy="2352960"/>
        </p:xfrm>
        <a:graphic>
          <a:graphicData uri="http://schemas.openxmlformats.org/drawingml/2006/table">
            <a:tbl>
              <a:tblPr/>
              <a:tblGrid>
                <a:gridCol w="457200"/>
                <a:gridCol w="3429000"/>
                <a:gridCol w="571680"/>
                <a:gridCol w="331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осад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р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р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и сила в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адк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мосферное д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юг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жность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2"/>
          <p:cNvSpPr/>
          <p:nvPr/>
        </p:nvSpPr>
        <p:spPr>
          <a:xfrm>
            <a:off x="1295280" y="43434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ему дует вете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28600" y="3276720"/>
            <a:ext cx="28195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04920" y="5334120"/>
            <a:ext cx="281916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1295280" y="2286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1295280"/>
            <a:ext cx="289548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вномер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рхности 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505320" y="2819520"/>
            <a:ext cx="2514600" cy="10666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429000" y="5638680"/>
            <a:ext cx="25146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зк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4419720" y="3886200"/>
            <a:ext cx="485640" cy="1752480"/>
          </a:xfrm>
          <a:prstGeom prst="downArrow">
            <a:avLst>
              <a:gd name="adj1" fmla="val 50000"/>
              <a:gd name="adj2" fmla="val 902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876920" y="44956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6781680" y="2819520"/>
            <a:ext cx="20574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6781680" y="5715000"/>
            <a:ext cx="20574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0"/>
          <p:cNvSpPr/>
          <p:nvPr/>
        </p:nvSpPr>
        <p:spPr>
          <a:xfrm>
            <a:off x="7543800" y="3886200"/>
            <a:ext cx="485640" cy="1828800"/>
          </a:xfrm>
          <a:prstGeom prst="downArrow">
            <a:avLst>
              <a:gd name="adj1" fmla="val 50000"/>
              <a:gd name="adj2" fmla="val 941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3505320" y="1371600"/>
            <a:ext cx="2514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чего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6553080" y="137160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чего зави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о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4357800" y="5716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95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12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13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14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16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16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1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8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9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9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4"/>
          <p:cNvSpPr/>
          <p:nvPr/>
        </p:nvSpPr>
        <p:spPr>
          <a:xfrm>
            <a:off x="3995640" y="4005360"/>
            <a:ext cx="3456000" cy="136836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003640" y="4365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о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216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5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6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7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9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30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31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33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34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35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32-2"/>
          <p:cNvPicPr/>
          <p:nvPr/>
        </p:nvPicPr>
        <p:blipFill>
          <a:blip r:embed="rId1"/>
          <a:srcRect l="0" t="0" r="-54" b="0"/>
          <a:stretch/>
        </p:blipFill>
        <p:spPr>
          <a:xfrm>
            <a:off x="0" y="231840"/>
            <a:ext cx="8578800" cy="66261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4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804000" y="292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хий оке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бразуется муссо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4500720" y="1557360"/>
            <a:ext cx="761760" cy="719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643280" y="170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7308720" y="2205000"/>
            <a:ext cx="76212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7524720" y="242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580000" y="2565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ле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5364000" y="1341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3"/>
          <p:cNvSpPr/>
          <p:nvPr/>
        </p:nvSpPr>
        <p:spPr>
          <a:xfrm>
            <a:off x="5292720" y="17002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4"/>
          <p:cNvSpPr/>
          <p:nvPr/>
        </p:nvSpPr>
        <p:spPr>
          <a:xfrm>
            <a:off x="5292720" y="1773360"/>
            <a:ext cx="2303640" cy="215640"/>
          </a:xfrm>
          <a:prstGeom prst="rightArrow">
            <a:avLst>
              <a:gd name="adj1" fmla="val 50000"/>
              <a:gd name="adj2" fmla="val 2670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5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6"/>
          <p:cNvSpPr/>
          <p:nvPr/>
        </p:nvSpPr>
        <p:spPr>
          <a:xfrm>
            <a:off x="6948360" y="2421000"/>
            <a:ext cx="31284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7"/>
          <p:cNvSpPr/>
          <p:nvPr/>
        </p:nvSpPr>
        <p:spPr>
          <a:xfrm>
            <a:off x="4859280" y="2421000"/>
            <a:ext cx="2376720" cy="360360"/>
          </a:xfrm>
          <a:prstGeom prst="leftArrow">
            <a:avLst>
              <a:gd name="adj1" fmla="val 50000"/>
              <a:gd name="adj2" fmla="val 1648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9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3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9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3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9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9" descr="anem2"/>
          <p:cNvPicPr/>
          <p:nvPr/>
        </p:nvPicPr>
        <p:blipFill>
          <a:blip r:embed="rId1"/>
          <a:stretch/>
        </p:blipFill>
        <p:spPr>
          <a:xfrm>
            <a:off x="357120" y="428760"/>
            <a:ext cx="1940040" cy="3429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anem5"/>
          <p:cNvPicPr/>
          <p:nvPr/>
        </p:nvPicPr>
        <p:blipFill>
          <a:blip r:embed="rId2"/>
          <a:stretch/>
        </p:blipFill>
        <p:spPr>
          <a:xfrm>
            <a:off x="4500720" y="3573360"/>
            <a:ext cx="1671480" cy="3284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2"/>
          <p:cNvSpPr/>
          <p:nvPr/>
        </p:nvSpPr>
        <p:spPr>
          <a:xfrm>
            <a:off x="6156360" y="60357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пликатор Бурд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3"/>
          <p:cNvSpPr/>
          <p:nvPr/>
        </p:nvSpPr>
        <p:spPr>
          <a:xfrm flipH="1">
            <a:off x="6011640" y="63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714680" y="27147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овой анемометр Робин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150012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500120" y="0"/>
            <a:ext cx="617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litn-andr.narod.ru/data/Glossary/images/p68_shkalaboforta.jpg"/>
          <p:cNvPicPr/>
          <p:nvPr/>
        </p:nvPicPr>
        <p:blipFill>
          <a:blip r:embed="rId1"/>
          <a:stretch/>
        </p:blipFill>
        <p:spPr>
          <a:xfrm>
            <a:off x="31680" y="272880"/>
            <a:ext cx="90774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8:03:59Z</dcterms:created>
  <dc:creator>Сухинские</dc:creator>
  <dc:description/>
  <dc:language>en-US</dc:language>
  <cp:lastModifiedBy>user</cp:lastModifiedBy>
  <dcterms:modified xsi:type="dcterms:W3CDTF">2014-06-16T16:24:43Z</dcterms:modified>
  <cp:revision>17</cp:revision>
  <dc:subject/>
  <dc:title>Тема урок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c0000000000010250300207f7000400038000</vt:lpwstr>
  </property>
</Properties>
</file>