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DA8-72C8-4BCE-9D1E-77A23AD5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A04-5E9E-4EEE-9E6B-6E959017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969-EDC3-4065-87DE-0E54FA67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DE2-1642-49D7-95D6-7E05AB6A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51F2-944F-4FCA-B101-23984239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FD69-CC4E-429E-8E0B-938D501C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514D-50B8-4376-9EF6-4E38EAAE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328F-A5F1-468E-8FF8-517784B8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FD54-EAAB-4AF6-98D8-D7AD4C52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354D-75F3-4708-9092-3E2E20DC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FA4E-F0D2-4641-80F0-2648570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622-2E53-4C50-A42B-62E90B75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DC0D-679E-4C68-9DBB-4725A9B7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DDD7-5C32-45E3-8234-2501D7EF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9961-072E-4CAB-BDBC-8015FCDC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A9AB-F731-48F9-81C5-5859C4E4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96F8-D01E-497A-A422-4FE2D0D7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354C-9BAD-413B-BF9D-353ADFC4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230A-E05F-4B6C-BFB0-9576C8A6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8351-A872-47EF-A78D-DBF64714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3440-C28B-47EF-8397-931A76E9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63C4-28B2-49C5-8A32-F7F2B580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C01-F35C-43F7-8023-96A17B24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30CA-6CB7-4844-BB67-0709BA25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FF09-4286-405B-A1B6-F02619B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500C-8B7B-4D3F-B71F-EAACE9B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B774-0C31-4617-B3F8-C2583576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267F-FE38-4072-84F1-2CF285EA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C3E9-5E15-42FD-A286-55B46F1C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7F20-3BA9-4ABC-88D8-BA6768A7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BB9-FB06-4BD7-B824-C11067DA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0E6-AF89-44FA-A280-4AAB2666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6CE-4FA0-4048-BAD8-2194C2EB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061-9DA6-4082-9563-8358C15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D14-CEBF-49C7-B4DF-1B5D210B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E03-14B2-4F09-BE05-ED81E4D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9830-28DB-4340-BA9C-2FBD179624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E0C8-4F52-4DC4-ACD4-28107097B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47C4-2FD5-4AE6-9A39-74DE852FA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1116000" y="1052640"/>
            <a:ext cx="7056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3635280" y="2492280"/>
            <a:ext cx="2286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468360" y="1557360"/>
            <a:ext cx="82803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тер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берите лишне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ждь, град, бриз, иней, сне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ометр, осадкометр, муссон, григромет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из, дождь, муссон, ве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а, иней, дождь, тума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а, дождь, снег, ливе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ставьте правильную пар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1981080"/>
          <a:ext cx="7772400" cy="2352960"/>
        </p:xfrm>
        <a:graphic>
          <a:graphicData uri="http://schemas.openxmlformats.org/drawingml/2006/table">
            <a:tbl>
              <a:tblPr/>
              <a:tblGrid>
                <a:gridCol w="457200"/>
                <a:gridCol w="3429000"/>
                <a:gridCol w="571680"/>
                <a:gridCol w="331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осад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р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р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и сила ве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адк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мосферное д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юг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жность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2"/>
          <p:cNvSpPr/>
          <p:nvPr/>
        </p:nvSpPr>
        <p:spPr>
          <a:xfrm>
            <a:off x="1295280" y="43434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ему дует вете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28600" y="3276720"/>
            <a:ext cx="28195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04920" y="5334120"/>
            <a:ext cx="281916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1295280" y="2286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1295280"/>
            <a:ext cx="289548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вномер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рхности Зем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505320" y="2819520"/>
            <a:ext cx="251460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429000" y="5638680"/>
            <a:ext cx="25146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з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4419720" y="3886200"/>
            <a:ext cx="485640" cy="1752480"/>
          </a:xfrm>
          <a:prstGeom prst="downArrow">
            <a:avLst>
              <a:gd name="adj1" fmla="val 50000"/>
              <a:gd name="adj2" fmla="val 902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876920" y="44956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6781680" y="2819520"/>
            <a:ext cx="20574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6781680" y="5715000"/>
            <a:ext cx="20574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0"/>
          <p:cNvSpPr/>
          <p:nvPr/>
        </p:nvSpPr>
        <p:spPr>
          <a:xfrm>
            <a:off x="7543800" y="3886200"/>
            <a:ext cx="485640" cy="1828800"/>
          </a:xfrm>
          <a:prstGeom prst="downArrow">
            <a:avLst>
              <a:gd name="adj1" fmla="val 50000"/>
              <a:gd name="adj2" fmla="val 941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3505320" y="1371600"/>
            <a:ext cx="2514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чего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6553080" y="137160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чего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о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4357800" y="5716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95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12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13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14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16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16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1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8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9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9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4"/>
          <p:cNvSpPr/>
          <p:nvPr/>
        </p:nvSpPr>
        <p:spPr>
          <a:xfrm>
            <a:off x="3995640" y="4005360"/>
            <a:ext cx="3456000" cy="136836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003640" y="4365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о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216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5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6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7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9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30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31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33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34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35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32-2"/>
          <p:cNvPicPr/>
          <p:nvPr/>
        </p:nvPicPr>
        <p:blipFill>
          <a:blip r:embed="rId1"/>
          <a:srcRect l="0" t="0" r="-54" b="0"/>
          <a:stretch/>
        </p:blipFill>
        <p:spPr>
          <a:xfrm>
            <a:off x="0" y="231840"/>
            <a:ext cx="8578800" cy="66261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4"/>
          <p:cNvSpPr/>
          <p:nvPr/>
        </p:nvSpPr>
        <p:spPr>
          <a:xfrm>
            <a:off x="6948360" y="2421000"/>
            <a:ext cx="3128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804000" y="292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хий оке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47920" y="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бразуется муссо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4500720" y="1557360"/>
            <a:ext cx="761760" cy="719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643280" y="170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7308720" y="2205000"/>
            <a:ext cx="76212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7524720" y="242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580000" y="2565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ле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5364000" y="1341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5292720" y="17002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292720" y="17002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3"/>
          <p:cNvSpPr/>
          <p:nvPr/>
        </p:nvSpPr>
        <p:spPr>
          <a:xfrm>
            <a:off x="5292720" y="17002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4"/>
          <p:cNvSpPr/>
          <p:nvPr/>
        </p:nvSpPr>
        <p:spPr>
          <a:xfrm>
            <a:off x="5292720" y="1773360"/>
            <a:ext cx="2303640" cy="215640"/>
          </a:xfrm>
          <a:prstGeom prst="rightArrow">
            <a:avLst>
              <a:gd name="adj1" fmla="val 50000"/>
              <a:gd name="adj2" fmla="val 2670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5"/>
          <p:cNvSpPr/>
          <p:nvPr/>
        </p:nvSpPr>
        <p:spPr>
          <a:xfrm>
            <a:off x="6948360" y="2421000"/>
            <a:ext cx="3128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6"/>
          <p:cNvSpPr/>
          <p:nvPr/>
        </p:nvSpPr>
        <p:spPr>
          <a:xfrm>
            <a:off x="6948360" y="2421000"/>
            <a:ext cx="3128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7"/>
          <p:cNvSpPr/>
          <p:nvPr/>
        </p:nvSpPr>
        <p:spPr>
          <a:xfrm>
            <a:off x="4859280" y="2421000"/>
            <a:ext cx="2376720" cy="360360"/>
          </a:xfrm>
          <a:prstGeom prst="leftArrow">
            <a:avLst>
              <a:gd name="adj1" fmla="val 50000"/>
              <a:gd name="adj2" fmla="val 1648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9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3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9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3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9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9" descr="anem2"/>
          <p:cNvPicPr/>
          <p:nvPr/>
        </p:nvPicPr>
        <p:blipFill>
          <a:blip r:embed="rId1"/>
          <a:stretch/>
        </p:blipFill>
        <p:spPr>
          <a:xfrm>
            <a:off x="357120" y="428760"/>
            <a:ext cx="1940040" cy="3429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anem5"/>
          <p:cNvPicPr/>
          <p:nvPr/>
        </p:nvPicPr>
        <p:blipFill>
          <a:blip r:embed="rId2"/>
          <a:stretch/>
        </p:blipFill>
        <p:spPr>
          <a:xfrm>
            <a:off x="4500720" y="3573360"/>
            <a:ext cx="1671480" cy="3284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2"/>
          <p:cNvSpPr/>
          <p:nvPr/>
        </p:nvSpPr>
        <p:spPr>
          <a:xfrm>
            <a:off x="6156360" y="60357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пликатор Бурд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3"/>
          <p:cNvSpPr/>
          <p:nvPr/>
        </p:nvSpPr>
        <p:spPr>
          <a:xfrm flipH="1">
            <a:off x="6011640" y="63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714680" y="27147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овой анемометр Робин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150012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500120" y="0"/>
            <a:ext cx="617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litn-andr.narod.ru/data/Glossary/images/p68_shkalaboforta.jpg"/>
          <p:cNvPicPr/>
          <p:nvPr/>
        </p:nvPicPr>
        <p:blipFill>
          <a:blip r:embed="rId1"/>
          <a:stretch/>
        </p:blipFill>
        <p:spPr>
          <a:xfrm>
            <a:off x="31680" y="272880"/>
            <a:ext cx="90774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8:03:59Z</dcterms:created>
  <dc:creator>Сухинские</dc:creator>
  <dc:description/>
  <dc:language>en-US</dc:language>
  <cp:lastModifiedBy>user</cp:lastModifiedBy>
  <dcterms:modified xsi:type="dcterms:W3CDTF">2014-06-16T16:24:43Z</dcterms:modified>
  <cp:revision>17</cp:revision>
  <dc:subject/>
  <dc:title>Тема урок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c0000000000010250300207f7000400038000</vt:lpwstr>
  </property>
</Properties>
</file>