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F83-8922-4C77-8876-DE3695C3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BDF-4999-465F-AC11-87A9565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272-57BE-4591-99DE-9CA04565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656-3A28-47A3-AECA-783007F1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0475-A027-457C-A119-44EF496F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2B29-E409-4F24-91A4-2194018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EF9-4CDF-4E7B-91FC-44FBAC0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C604-D1EE-49CD-9C45-F8972F6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5F72-ED93-4444-BFFB-6D16D7CE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FB7-A39C-428D-847B-DE1EFA65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719-DBC3-45AF-A3B2-6E6EE69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8BE-B260-45C8-A214-EA7855C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27F4-4F94-4C7C-A37E-DC4C585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CDE4-B7FA-40FF-B8B0-39400F9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9562-307D-440C-8596-8680BF85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8A82-04E7-4289-9AC5-E65D32E9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6077-53D5-4588-B8F9-B3B3D04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557-17AE-4C01-A08D-9408CB7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6FB-2219-4043-B565-8C6FF95E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F32-9FAB-4F56-8B73-DD6E544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873-FBD4-4FF4-AA3A-B0F3CDA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DA7-E78E-4162-B6F7-60FB52A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6CB-6B5D-439D-9C1B-FAA9082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13B-8451-483B-8B7C-21B21AB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17E-7420-4371-B456-1F436AC1787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E39-C623-470C-B3E9-1018ADFE8E8B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Васко да Г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92320"/>
            <a:ext cx="54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аско да Гама вышел из Лиссабона 8 июля 1497, от островов Зеленого Мыса взял курс на запад, затем повернул на восток и, описав большую дугу, достиг африканского побережья близ мыса Доброй Надежды. На восточном побережье Африки вступил в конфликт с местными арабскими правителями. Васко да Гама нанял опытного лоцмана, под руководством которого флотилия пересекла Индийский океан и 20 мая 1498 достигла Каликута на Малабарском берегу Инд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я Васко да Гамы и Фернана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Путешествия Васко да Гама"/>
          <p:cNvPicPr/>
          <p:nvPr/>
        </p:nvPicPr>
        <p:blipFill>
          <a:blip r:embed="rId1"/>
          <a:stretch/>
        </p:blipFill>
        <p:spPr>
          <a:xfrm>
            <a:off x="1042920" y="170028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672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2707200"/>
            <a:ext cx="54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Ма́рко По́л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около 1254, Венеция  — 8 января 1324, Венеция — итальянски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купец и путешественник, представивший историю своего путешествия по Азии в своей знаменитой истории «Книга о разнообразии мира»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203560"/>
            <a:ext cx="55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о Святой Земли Марко Поло доплыл на корабле, а далее отправился пешком. На протяжение 3000 лет китайцы хранили секрет по выращиванию коконов и производству натурального шёлка, пока один из купцов не сумел вывести оттуда несколько живых коконов. Но даже после этого коммерсанты ещё очень долго продолжали ездить за китайскими изделиями из-за их красивых расцветок и рисунков. Основные торговые пути были: Самарканд, Багдад и Рим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а путешествий Марко 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349000"/>
            <a:ext cx="4608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еографические открытия принесли весомый вклад в развитие человечества. Они способствовали открытию новых торговых путей, исследованию новых земель, получению новых сведений о Земле, составлению новых карт. На новых открытых землях были новые растения, новые виды животных. Сделав эти открытия человечество совершило большой рывок вперед в своем развитии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10040"/>
            <a:ext cx="59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ели́кие географи́ческие откры́т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— период в истории человечества, начавшийся в XV веке и продолжавшийся до XVII века, в ходе которого европейцы открывали новые земли и морские пути в поисках новых торговых партнеров и источников товаров, пользовавшихся большим спросом в 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вропе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2767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Портрет"/>
          <p:cNvPicPr/>
          <p:nvPr/>
        </p:nvPicPr>
        <p:blipFill>
          <a:blip r:embed="rId2"/>
          <a:stretch/>
        </p:blipFill>
        <p:spPr>
          <a:xfrm>
            <a:off x="5867280" y="1844640"/>
            <a:ext cx="3021120" cy="38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3345480"/>
            <a:ext cx="54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Христофо́р Колу́мб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; осень 1451 года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[1]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остров Корсика,  — испанский мореплаватель и открыватель новых земель. Наиболее известен своим открытием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мерики (1492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вание Колумба и открытие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2 октября 1492 года Христофор Колумб открыл остров Сан-Сальвадор, свою первую землю в Америке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Это был небольшой остров с пышной тропической растительностью, который Колумб назвал Сан-Сальводор и объявил владением Испании. Колумб был уверен, что достиг Азии, но именно этот момент и принято считать открытием Америки. Однако название "Америка" континент получил благодаря другому путешественнику и торговцу Америго Веспуччи. Уже в XVI веке, побывав у берегов Южной Америки, он пришел к мысли, что земля, которую открыл Колумб, не Азия, а неизвестная обширная территория. Автор карт назвал эту часть Нового Света землей Америго. Картографы последующих лет распространили это название на Центральную и Северную Америку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рнан Магелл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ортрет"/>
          <p:cNvPicPr/>
          <p:nvPr/>
        </p:nvPicPr>
        <p:blipFill>
          <a:blip r:embed="rId2"/>
          <a:stretch/>
        </p:blipFill>
        <p:spPr>
          <a:xfrm>
            <a:off x="5867280" y="1989000"/>
            <a:ext cx="3130560" cy="360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240840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Ферна́н Магелла́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около 1480, область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з-уш-Монтиш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ртугалия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— 27 апреля 1521, остров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кта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Филлипины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) — португальский и испанский мореплаватель. Принято считать, что он совершил первое кругосветное путешествие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84360" cy="39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00" y="1990800"/>
            <a:ext cx="421164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чало экспедиции. Атлантический океан. Бразил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0 сентября 1519 года флотилия из пяти судов с командой в 265 человек во главе с Магелланом вышла из порта Санлукар-де-Баррамеда (устье реки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Гвадалквивир) на поиски юго-западного пролива из Атлантического океана в открытое в 1513 году конкистадором Васко Нуньес де Бальбоа 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«Южное море»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ткрытие Магелланова проли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 сентябре 1520 года экспедиция на четырёх кораблях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тьяг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погиб в разведке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22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ышла в океан и взяла курс на юг. В конце октября 1520 года достигли пролива, которому впоследствии было присвоено имя его первооткрывателя —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гелланов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пролив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Переход по проливу с незнакомым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фарватером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был очень тяжёлым; кроме того, 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-Антони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шедший передовым, выйдя из пролива, повернул на юг и, обогнув южную оконечность Америки, самовольно вернулся в Испан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ге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иллипинские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строва. Гибель Магелла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есной 1521 года Магеллан достиг островов у восточного побережья Азии, позже названных Филиппинскими. Преследуя цель подчинения местного населения испанской короне, Магеллан вмешался в спор двух местных правителей и был убит в сражении 27 апреля. Раджа острова Себу, только что присягнувший на верность королю Испании, воспользовался этим и заманил испанцев на торжественный обед, где устроил резню и убил несколько десятков человек... Находясь почти у цели, флотилия потратила несколько месяцев, чтобы достичь Молуккских остров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Портрет"/>
          <p:cNvPicPr/>
          <p:nvPr/>
        </p:nvPicPr>
        <p:blipFill>
          <a:blip r:embed="rId2"/>
          <a:stretch/>
        </p:blipFill>
        <p:spPr>
          <a:xfrm>
            <a:off x="6300720" y="1989000"/>
            <a:ext cx="2465280" cy="360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227664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а́ско да Га́м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 1460 или 1469—1524 — португальский исследователь, известен как первый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европеец, совершивший морское путешествие в Индию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43:52Z</dcterms:created>
  <dc:creator>Jora</dc:creator>
  <dc:description/>
  <dc:language>en-US</dc:language>
  <cp:lastModifiedBy>Lussia</cp:lastModifiedBy>
  <dcterms:modified xsi:type="dcterms:W3CDTF">2009-09-29T08:28:07Z</dcterms:modified>
  <cp:revision>5</cp:revision>
  <dc:subject/>
  <dc:title>Великие географические откры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6000000000001024140</vt:lpwstr>
  </property>
  <property fmtid="{D5CDD505-2E9C-101B-9397-08002B2CF9AE}" pid="3" name="Version">
    <vt:r8>7</vt:r8>
  </property>
</Properties>
</file>