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632-1C45-4734-BCD9-83CF4B8A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7E9-53CF-4988-BF1A-45041BDC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9DF-A935-45CC-A3B3-E3299CF5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5CA-66C6-43F4-A246-169BD97D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F378-34B0-437A-9D45-AF4EAE51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0B37-805F-4D68-A9CE-CB6EEC7D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3122-CD06-4A85-8781-65244ADD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D645-3D2E-4B20-AE39-C9A9F1A6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297D-CBE5-45A9-91AA-6048BFE2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DB8D-AE3D-4DA7-979C-A960A089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0314-0BB7-42E9-8BAD-716E3A7E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0D4F-364C-4DD1-9435-F08C9911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06C7-840F-4099-87B9-D20DA37E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F0EB-3C7F-4209-8722-D7E16AB0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2B8B-DFB2-4EF6-891C-8B9E22DF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383F-E3D8-48E0-80F1-FDC5FAD9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BE79-7550-4114-BC48-A9F734C6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2C4-EC9A-494F-8A6A-BEAAA893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E94-36CF-47D0-8D4C-5F74FB1E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8538-35A2-469C-A250-656032E1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35B-EDEF-477B-AAB5-071C06AA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3A1-D160-41C1-A058-B946ED60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3F0-94C6-4644-A069-52BB8153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8DE-393E-4A0C-B185-6CAA199D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A9A6-26A7-4B15-8A94-DCD41EF8386F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102E-7FBA-485D-9E60-E428FC1B485C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ликие географические откры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е Васко да Га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2092320"/>
            <a:ext cx="5400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аско да Гама вышел из Лиссабона 8 июля 1497, от островов Зеленого Мыса взял курс на запад, затем повернул на восток и, описав большую дугу, достиг африканского побережья близ мыса Доброй Надежды. На восточном побережье Африки вступил в конфликт с местными арабскими правителями. Васко да Гама нанял опытного лоцмана, под руководством которого флотилия пересекла Индийский океан и 20 мая 1498 достигла Каликута на Малабарском берегу Инди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я Васко да Гамы и Фернана Магел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Путешествия Васко да Гама"/>
          <p:cNvPicPr/>
          <p:nvPr/>
        </p:nvPicPr>
        <p:blipFill>
          <a:blip r:embed="rId1"/>
          <a:stretch/>
        </p:blipFill>
        <p:spPr>
          <a:xfrm>
            <a:off x="1042920" y="1700280"/>
            <a:ext cx="6840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рко По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227640" y="2133720"/>
            <a:ext cx="2667240" cy="3600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2707200"/>
            <a:ext cx="54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Ма́рко По́ло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 около 1254, Венеция  — 8 января 1324, Венеция — итальянский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купец и путешественник, представивший историю своего путешествия по Азии в своей знаменитой истории «Книга о разнообразии мира»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е Марко По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2203560"/>
            <a:ext cx="554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о Святой Земли Марко Поло доплыл на корабле, а далее отправился пешком. На протяжение 3000 лет китайцы хранили секрет по выращиванию коконов и производству натурального шёлка, пока один из купцов не сумел вывести оттуда несколько живых коконов. Но даже после этого коммерсанты ещё очень долго продолжали ездить за китайскими изделиями из-за их красивых расцветок и рисунков. Основные торговые пути были: Самарканд, Багдад и Рим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та путешествий Марко  По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тоги великих географических откры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2349000"/>
            <a:ext cx="46083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Географические открытия принесли весомый вклад в развитие человечества. Они способствовали открытию новых торговых путей, исследованию новых земель, получению новых сведений о Земле, составлению новых карт. На новых открытых землях были новые растения, новые виды животных. Сделав эти открытия человечество совершило большой рывок вперед в своем развитии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2670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ликие географические откры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10040"/>
            <a:ext cx="59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Вели́кие географи́ческие откры́тия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 — период в истории человечества, начавшийся в XV веке и продолжавшийся до XVII века, в ходе которого европейцы открывали новые земли и морские пути в поисках новых торговых партнеров и источников товаров, пользовавшихся большим спросом в 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Европе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32767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-316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ристофор Колум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Портрет"/>
          <p:cNvPicPr/>
          <p:nvPr/>
        </p:nvPicPr>
        <p:blipFill>
          <a:blip r:embed="rId2"/>
          <a:stretch/>
        </p:blipFill>
        <p:spPr>
          <a:xfrm>
            <a:off x="5867280" y="1844640"/>
            <a:ext cx="3021120" cy="386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3345480"/>
            <a:ext cx="54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Христофо́р Колу́мб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 ; осень 1451 года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[1]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 остров Корсика,  — испанский мореплаватель и открыватель новых земель. Наиболее известен своим открытием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Америки (1492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вание Колумба и открытие Аме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2 октября 1492 года Христофор Колумб открыл остров Сан-Сальвадор, свою первую землю в Америке. </a:t>
            </a:r>
            <a:br>
              <a:rPr sz="2000"/>
            </a:b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Это был небольшой остров с пышной тропической растительностью, который Колумб назвал Сан-Сальводор и объявил владением Испании. Колумб был уверен, что достиг Азии, но именно этот момент и принято считать открытием Америки. Однако название "Америка" континент получил благодаря другому путешественнику и торговцу Америго Веспуччи. Уже в XVI веке, побывав у берегов Южной Америки, он пришел к мысли, что земля, которую открыл Колумб, не Азия, а неизвестная обширная территория. Автор карт назвал эту часть Нового Света землей Америго. Картографы последующих лет распространили это название на Центральную и Северную Америку. </a:t>
            </a:r>
            <a:br>
              <a:rPr sz="2000"/>
            </a:b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рнан Магелл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Портрет"/>
          <p:cNvPicPr/>
          <p:nvPr/>
        </p:nvPicPr>
        <p:blipFill>
          <a:blip r:embed="rId2"/>
          <a:stretch/>
        </p:blipFill>
        <p:spPr>
          <a:xfrm>
            <a:off x="5867280" y="1989000"/>
            <a:ext cx="3130560" cy="3600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2408400"/>
            <a:ext cx="45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Ферна́н Магелла́н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 около 1480, область 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Траз-уш-Монтиш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, 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ортугалия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— 27 апреля 1521, остров 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актан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, 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Филлипины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) — португальский и испанский мореплаватель. Принято считать, что он совершил первое кругосветное путешествие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е Магел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284360" cy="3960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8000" y="1990800"/>
            <a:ext cx="421164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7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Начало экспедиции. Атлантический океан. Бразил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0 сентября 1519 года флотилия из пяти судов с командой в 265 человек во главе с Магелланом вышла из порта Санлукар-де-Баррамеда (устье реки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Гвадалквивир) на поиски юго-западного пролива из Атлантического океана в открытое в 1513 году конкистадором Васко Нуньес де Бальбоа 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«Южное море»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е Магел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Открытие Магелланова проли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 сентябре 1520 года экспедиция на четырёх кораблях (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«Сантьяго»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 погиб в разведке 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22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мая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 вышла в океан и взяла курс на юг. В конце октября 1520 года достигли пролива, которому впоследствии было присвоено имя его первооткрывателя — 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Магелланов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пролив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 Переход по проливу с незнакомым 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фарватером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 был очень тяжёлым; кроме того, 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«Сан-Антонио»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 шедший передовым, выйдя из пролива, повернул на юг и, обогнув южную оконечность Америки, самовольно вернулся в Испанию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е Магге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Филлипинские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острова. Гибель Магеллан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есной 1521 года Магеллан достиг островов у восточного побережья Азии, позже названных Филиппинскими. Преследуя цель подчинения местного населения испанской короне, Магеллан вмешался в спор двух местных правителей и был убит в сражении 27 апреля. Раджа острова Себу, только что присягнувший на верность королю Испании, воспользовался этим и заманил испанцев на торжественный обед, где устроил резню и убил несколько десятков человек... Находясь почти у цели, флотилия потратила несколько месяцев, чтобы достичь Молуккских острово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ско да Г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Портрет"/>
          <p:cNvPicPr/>
          <p:nvPr/>
        </p:nvPicPr>
        <p:blipFill>
          <a:blip r:embed="rId2"/>
          <a:stretch/>
        </p:blipFill>
        <p:spPr>
          <a:xfrm>
            <a:off x="6300720" y="1989000"/>
            <a:ext cx="2465280" cy="3600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227664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Ва́ско да Га́ма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  1460 или 1469—1524 — португальский исследователь, известен как первый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европеец, совершивший морское путешествие в Индию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43:52Z</dcterms:created>
  <dc:creator>Jora</dc:creator>
  <dc:description/>
  <dc:language>en-US</dc:language>
  <cp:lastModifiedBy>Lussia</cp:lastModifiedBy>
  <dcterms:modified xsi:type="dcterms:W3CDTF">2009-09-29T08:28:07Z</dcterms:modified>
  <cp:revision>5</cp:revision>
  <dc:subject/>
  <dc:title>Великие географические откры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06000000000001024140</vt:lpwstr>
  </property>
  <property fmtid="{D5CDD505-2E9C-101B-9397-08002B2CF9AE}" pid="3" name="Version">
    <vt:r8>7</vt:r8>
  </property>
</Properties>
</file>