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F02-5A16-47BA-B033-B4C30286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11D-0EB0-4A73-91A3-8D503D99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71A-0E2B-4B55-B77E-297DDE96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2C1-420A-4360-8DBF-062D8A74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F49E-1B34-4CDC-A080-4F3DED86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FF88-6868-43F0-86B9-61849B5F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0193-611C-47DF-8BA0-E071B0D1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69B4-6D18-4902-B541-D9C13885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868C-DF6E-4926-87FB-0FE31C60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80BD-6830-4A8C-9164-DECED1EA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5769-3A07-409A-90E2-14F0215C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507-B0DD-405E-8697-4CC0D454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EB05-9E3E-4269-A648-37F4AAFC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F314-3493-4420-B46B-572F3DCF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7510-83C6-4EF5-9CAC-F51F1CF0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57B9-4F43-4D52-B243-52242C54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D34D-2AEC-4D3F-B19C-0A1609CD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A01C-9D31-452C-9116-8FCBC801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3F4-1A5E-4A68-AE61-7A3D1223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F32-452F-4278-9F39-90812825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631-D8E3-4E3B-978B-E7251B5F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640-4512-4481-BC69-60154DC9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87F-3875-439C-B268-B6CD7ACF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A96-CA60-4A96-AB13-95FEE338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2593-FD1F-4865-A585-328C89EF4287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F613-CAA4-4BF7-88B5-C570FA061E96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ликие географические откры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е Васко да Га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2092320"/>
            <a:ext cx="5400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аско да Гама вышел из Лиссабона 8 июля 1497, от островов Зеленого Мыса взял курс на запад, затем повернул на восток и, описав большую дугу, достиг африканского побережья близ мыса Доброй Надежды. На восточном побережье Африки вступил в конфликт с местными арабскими правителями. Васко да Гама нанял опытного лоцмана, под руководством которого флотилия пересекла Индийский океан и 20 мая 1498 достигла Каликута на Малабарском берегу Инди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я Васко да Гамы и Фернана Магел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Путешествия Васко да Гама"/>
          <p:cNvPicPr/>
          <p:nvPr/>
        </p:nvPicPr>
        <p:blipFill>
          <a:blip r:embed="rId1"/>
          <a:stretch/>
        </p:blipFill>
        <p:spPr>
          <a:xfrm>
            <a:off x="1042920" y="1700280"/>
            <a:ext cx="6840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рко По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227640" y="2133720"/>
            <a:ext cx="2667240" cy="3600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2707200"/>
            <a:ext cx="54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Ма́рко По́ло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 около 1254, Венеция  — 8 января 1324, Венеция — итальянский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купец и путешественник, представивший историю своего путешествия по Азии в своей знаменитой истории «Книга о разнообразии мира»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е Марко По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2203560"/>
            <a:ext cx="554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о Святой Земли Марко Поло доплыл на корабле, а далее отправился пешком. На протяжение 3000 лет китайцы хранили секрет по выращиванию коконов и производству натурального шёлка, пока один из купцов не сумел вывести оттуда несколько живых коконов. Но даже после этого коммерсанты ещё очень долго продолжали ездить за китайскими изделиями из-за их красивых расцветок и рисунков. Основные торговые пути были: Самарканд, Багдад и Рим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та путешествий Марко  По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тоги великих географических откры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2349000"/>
            <a:ext cx="460836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Географические открытия принесли весомый вклад в развитие человечества. Они способствовали открытию новых торговых путей, исследованию новых земель, получению новых сведений о Земле, составлению новых карт. На новых открытых землях были новые растения, новые виды животных. Сделав эти открытия человечество совершило большой рывок вперед в своем развитии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2670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ликие географические откры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10040"/>
            <a:ext cx="597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Вели́кие географи́ческие откры́тия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 — период в истории человечества, начавшийся в XV веке и продолжавшийся до XVII века, в ходе которого европейцы открывали новые земли и морские пути в поисках новых торговых партнеров и источников товаров, пользовавшихся большим спросом в 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Европе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32767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-316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ристофор Колум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Портрет"/>
          <p:cNvPicPr/>
          <p:nvPr/>
        </p:nvPicPr>
        <p:blipFill>
          <a:blip r:embed="rId2"/>
          <a:stretch/>
        </p:blipFill>
        <p:spPr>
          <a:xfrm>
            <a:off x="5867280" y="1844640"/>
            <a:ext cx="3021120" cy="386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3345480"/>
            <a:ext cx="54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Христофо́р Колу́мб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 ; осень 1451 года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[1]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 остров Корсика,  — испанский мореплаватель и открыватель новых земель. Наиболее известен своим открытием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Америки (1492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вание Колумба и открытие Аме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2 октября 1492 года Христофор Колумб открыл остров Сан-Сальвадор, свою первую землю в Америке. </a:t>
            </a:r>
            <a:br>
              <a:rPr sz="2000"/>
            </a:b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Это был небольшой остров с пышной тропической растительностью, который Колумб назвал Сан-Сальводор и объявил владением Испании. Колумб был уверен, что достиг Азии, но именно этот момент и принято считать открытием Америки. Однако название "Америка" континент получил благодаря другому путешественнику и торговцу Америго Веспуччи. Уже в XVI веке, побывав у берегов Южной Америки, он пришел к мысли, что земля, которую открыл Колумб, не Азия, а неизвестная обширная территория. Автор карт назвал эту часть Нового Света землей Америго. Картографы последующих лет распространили это название на Центральную и Северную Америку. </a:t>
            </a:r>
            <a:br>
              <a:rPr sz="2000"/>
            </a:b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рнан Магелл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Портрет"/>
          <p:cNvPicPr/>
          <p:nvPr/>
        </p:nvPicPr>
        <p:blipFill>
          <a:blip r:embed="rId2"/>
          <a:stretch/>
        </p:blipFill>
        <p:spPr>
          <a:xfrm>
            <a:off x="5867280" y="1989000"/>
            <a:ext cx="3130560" cy="3600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2408400"/>
            <a:ext cx="453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Ферна́н Магелла́н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 около 1480, область 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Траз-уш-Монтиш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, 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ортугалия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— 27 апреля 1521, остров 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актан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, 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Филлипины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) — португальский и испанский мореплаватель. Принято считать, что он совершил первое кругосветное путешествие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е Магел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284360" cy="3960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8000" y="1990800"/>
            <a:ext cx="421164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7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Начало экспедиции. Атлантический океан. Бразил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0 сентября 1519 года флотилия из пяти судов с командой в 265 человек во главе с Магелланом вышла из порта Санлукар-де-Баррамеда (устье реки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Гвадалквивир) на поиски юго-западного пролива из Атлантического океана в открытое в 1513 году конкистадором Васко Нуньес де Бальбоа 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«Южное море»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е Магел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Открытие Магелланова пролив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 сентябре 1520 года экспедиция на четырёх кораблях (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«Сантьяго»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 погиб в разведке 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22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мая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 вышла в океан и взяла курс на юг. В конце октября 1520 года достигли пролива, которому впоследствии было присвоено имя его первооткрывателя — 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Магелланов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пролив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 Переход по проливу с незнакомым 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</a:rPr>
              <a:t>фарватером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 был очень тяжёлым; кроме того, 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«Сан-Антонио»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 шедший передовым, выйдя из пролива, повернул на юг и, обогнув южную оконечность Америки, самовольно вернулся в Испанию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тешествие Магге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Филлипинские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острова. Гибель Магеллан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есной 1521 года Магеллан достиг островов у восточного побережья Азии, позже названных Филиппинскими. Преследуя цель подчинения местного населения испанской короне, Магеллан вмешался в спор двух местных правителей и был убит в сражении 27 апреля. Раджа острова Себу, только что присягнувший на верность королю Испании, воспользовался этим и заманил испанцев на торжественный обед, где устроил резню и убил несколько десятков человек... Находясь почти у цели, флотилия потратила несколько месяцев, чтобы достичь Молуккских острово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ско да Г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Портрет"/>
          <p:cNvPicPr/>
          <p:nvPr/>
        </p:nvPicPr>
        <p:blipFill>
          <a:blip r:embed="rId2"/>
          <a:stretch/>
        </p:blipFill>
        <p:spPr>
          <a:xfrm>
            <a:off x="6300720" y="1989000"/>
            <a:ext cx="2465280" cy="3600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227664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Ва́ско да Га́ма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  1460 или 1469—1524 — португальский исследователь, известен как первый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европеец, совершивший морское путешествие в Индию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5:43:52Z</dcterms:created>
  <dc:creator>Jora</dc:creator>
  <dc:description/>
  <dc:language>en-US</dc:language>
  <cp:lastModifiedBy>Lussia</cp:lastModifiedBy>
  <dcterms:modified xsi:type="dcterms:W3CDTF">2009-09-29T08:28:07Z</dcterms:modified>
  <cp:revision>5</cp:revision>
  <dc:subject/>
  <dc:title>Великие географические откры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06000000000001024140</vt:lpwstr>
  </property>
  <property fmtid="{D5CDD505-2E9C-101B-9397-08002B2CF9AE}" pid="3" name="Version">
    <vt:r8>7</vt:r8>
  </property>
</Properties>
</file>