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D2F-6274-4430-8BA1-FB388AA8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DC6-C216-444C-9CD3-806488DA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E6C-13C9-4E1A-B15D-21C78A46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38D-02DE-4E61-8184-8A81B1D9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9757-3826-458A-9BA0-E8CEA31B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4063-073C-4C53-A81F-9E340632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0F51-AB98-4766-949D-27DB7F20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84D8-C1F2-40EC-BE61-4A0D8C38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FCDD-9EE6-4914-9CBD-EBF4D056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E691-F6B4-4381-A486-0C0DA8CF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223C-36F8-4373-A96C-9411F979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199-3A00-4F26-8D4A-09B97708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7123-0F1A-45E4-9F5C-F96DC517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076B-87FD-446E-B008-B9A71838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65B0-620A-467D-BC8F-041AABF7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2A24-363D-48A4-89E4-AAC4B45E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58CD-AFBA-4384-BAF3-5A72C6A3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A09D-BFF1-4773-91AA-4CB02636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CD4B-1229-4AA8-B249-E3DAFF4D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CB40-B041-4137-9F59-6FAA8BDB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A4689-78F1-4DE2-B274-8702DAD3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91672-019F-4CF8-AEB8-509BA8CD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6B9-2393-4410-87D9-2F0F5E84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A119-478E-464A-BEEE-ED142E23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F6924-321F-4D4A-9DA3-AF836425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7DDCB-6247-4900-81A2-5F200202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A12F8-77E9-4FAF-B83A-8390D895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CA216-4F60-47ED-89BD-83AD3B1C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1A4CC-185C-4FD9-A39F-2A2646C7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95F4B-5407-4CC7-ADE6-F1A3D2F8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2D91F-A4AB-46F8-8CA9-5B383454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D4169-662A-4C6E-BB8B-AA673FA4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684AD-3D60-4A51-888A-E1EB214C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52B-A174-47D6-84E7-1B62348C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9BB6C-162A-4DCB-825B-E399107E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03019-431C-423A-AF24-6F7D1EFB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EE143-EF3A-47BA-8809-829724DA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E16C2-448D-4A4C-AA64-29F5CB5E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028E6-524B-4A41-B426-B1D6B5B4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B3F69-F091-4564-BF4F-B3FCFC97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EB58-D5F5-4B2A-A9C7-E3C1DDE1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C3EA0-EA99-4989-A6B2-377C620D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7FA4E-6BEE-4372-96FC-7E3CF394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45A87-B7DE-4C63-9980-CEF279FB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CBC-89CD-44AB-8A87-B716037F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61408-D824-492F-AFD0-E603F9DF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77EB2-32E7-421F-B948-1D148A3D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B4A5C-635C-4D49-81B8-B24E51E6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4284E-C872-41AD-95F8-BE3163A6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2F2C5-3FD7-49A7-879E-34A91AC9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FCE25-DD32-4224-A44A-12B9C866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DEDB9-A08B-41DB-A1DE-C13A1A8C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67D61-FFC2-4F13-96A6-8B329527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E0196-25A5-47A5-A19E-E05F0F32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4381E-C2A8-4A0F-BCA9-38951EAA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F40-E50E-4443-9CF9-6729AE76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95809-5692-482F-81BF-18905EA7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C2AF8-3DB2-4791-B938-A14F0E50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B7CA4-BB12-4ED8-B0BA-04A3CCEA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F3BF9-F790-4D20-85E1-13B6A1A9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AAD87-9156-43F0-B595-60A7BA2D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7436C-A3F2-400A-85DF-90761860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F840B-2C07-449E-B800-C55BA058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E5AEA-8720-4756-A51B-0A2F96FC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89B33-E3C5-4A30-9467-38F7D342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253CD-9127-4DE8-98CC-3AFA73E3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F71-FC87-4499-8D75-0B189200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533E2-8EA6-4AA3-A02F-63CF18E1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3AD97-110D-4F01-BEA7-136442EF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F2333-612C-454C-87BC-81DB30CE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9B6-FD48-4D5F-9B73-26D554A7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948-FC29-4E5F-941C-54A02EF8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000000">
                  <a:alpha val="11372"/>
                </a:srgbClr>
              </a:gs>
              <a:gs pos="100000">
                <a:srgbClr val="674616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1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ece9c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AEB37A-A2E4-4843-96E1-E95CC8EED8C6}" type="slidenum">
              <a:rPr b="0" lang="ru-RU" sz="1200" spc="-1" strike="noStrike">
                <a:solidFill>
                  <a:srgbClr val="ece9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193760" y="2887560"/>
            <a:ext cx="6779160" cy="912600"/>
            <a:chOff x="1193760" y="2887560"/>
            <a:chExt cx="6779160" cy="912600"/>
          </a:xfrm>
        </p:grpSpPr>
        <p:sp>
          <p:nvSpPr>
            <p:cNvPr id="6" name="TextBox 8"/>
            <p:cNvSpPr/>
            <p:nvPr/>
          </p:nvSpPr>
          <p:spPr>
            <a:xfrm>
              <a:off x="4310640" y="288756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e1dca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" name="Straight Connector 9"/>
            <p:cNvCxnSpPr/>
            <p:nvPr/>
          </p:nvCxnSpPr>
          <p:spPr>
            <a:xfrm flipH="1" flipV="1">
              <a:off x="1193760" y="3431520"/>
              <a:ext cx="3120120" cy="1800"/>
            </a:xfrm>
            <a:prstGeom prst="straightConnector1">
              <a:avLst/>
            </a:prstGeom>
            <a:ln>
              <a:solidFill>
                <a:srgbClr val="ece9c6">
                  <a:lumMod val="90000"/>
                </a:srgbClr>
              </a:solidFill>
              <a:round/>
            </a:ln>
          </p:spPr>
        </p:cxnSp>
        <p:cxnSp>
          <p:nvCxnSpPr>
            <p:cNvPr id="8" name="Straight Connector 10"/>
            <p:cNvCxnSpPr/>
            <p:nvPr/>
          </p:nvCxnSpPr>
          <p:spPr>
            <a:xfrm flipH="1" flipV="1">
              <a:off x="4853160" y="3429000"/>
              <a:ext cx="3120120" cy="1800"/>
            </a:xfrm>
            <a:prstGeom prst="straightConnector1">
              <a:avLst/>
            </a:prstGeom>
            <a:ln>
              <a:solidFill>
                <a:srgbClr val="ece9c6">
                  <a:lumMod val="90000"/>
                </a:srgbClr>
              </a:solidFill>
              <a:round/>
            </a:ln>
          </p:spPr>
        </p:cxnSp>
      </p:grp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1183320" y="1387800"/>
            <a:ext cx="6777000" cy="17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ln>
                  <a:solidFill>
                    <a:srgbClr val="ffffff">
                      <a:alpha val="65000"/>
                    </a:srgbClr>
                  </a:solidFill>
                </a:ln>
                <a:solidFill>
                  <a:srgbClr val="ffffff"/>
                </a:solidFill>
                <a:latin typeface="Book Antiqua"/>
              </a:rPr>
              <a:t>Образец заголовка</a:t>
            </a:r>
            <a:endParaRPr b="0" lang="ru-RU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9964" sy="59964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EC9972-F7EC-4E9A-8B58-86099FDC326A}" type="slidenum">
              <a:rPr b="0" lang="ru-RU" sz="1200" spc="-1" strike="noStrike">
                <a:solidFill>
                  <a:srgbClr val="895d1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ru-RU" sz="1800" spc="-1" strike="noStrike">
              <a:solidFill>
                <a:srgbClr val="262626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9964" sy="59964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7880" y="4668840"/>
            <a:ext cx="776664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895d1d"/>
                </a:solidFill>
                <a:latin typeface="Book Antiqua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 rot="21480000">
            <a:off x="2183760" y="666720"/>
            <a:ext cx="4771800" cy="3597480"/>
          </a:xfrm>
          <a:prstGeom prst="rect">
            <a:avLst/>
          </a:prstGeom>
          <a:solidFill>
            <a:srgbClr val="ededed"/>
          </a:solidFill>
          <a:ln cap="sq" w="190440">
            <a:solidFill>
              <a:srgbClr val="ffffff"/>
            </a:solidFill>
            <a:miter/>
          </a:ln>
          <a:effectLst>
            <a:outerShdw dist="50432" dir="12889470" blurRad="65160" rotWithShape="0">
              <a:srgbClr val="000000">
                <a:alpha val="24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вка рисунка</a:t>
            </a:r>
            <a:endParaRPr b="0" lang="ru-RU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688320" y="5324400"/>
            <a:ext cx="775584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Образец текста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CFD20C-0D5A-4912-867A-FCD4A23B4552}" type="slidenum">
              <a:rPr b="0" lang="ru-RU" sz="1200" spc="-1" strike="noStrike">
                <a:solidFill>
                  <a:srgbClr val="895d1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9964" sy="59964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133" name="Picture 11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1172520" y="2887560"/>
            <a:ext cx="6779160" cy="912600"/>
            <a:chOff x="1172520" y="2887560"/>
            <a:chExt cx="6779160" cy="912600"/>
          </a:xfrm>
        </p:grpSpPr>
        <p:sp>
          <p:nvSpPr>
            <p:cNvPr id="135" name="TextBox 8"/>
            <p:cNvSpPr/>
            <p:nvPr/>
          </p:nvSpPr>
          <p:spPr>
            <a:xfrm>
              <a:off x="4289400" y="288756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Straight Connector 9"/>
            <p:cNvCxnSpPr/>
            <p:nvPr/>
          </p:nvCxnSpPr>
          <p:spPr>
            <a:xfrm flipH="1" flipV="1">
              <a:off x="1172520" y="3431520"/>
              <a:ext cx="3120120" cy="216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137" name="Straight Connector 10"/>
            <p:cNvCxnSpPr/>
            <p:nvPr/>
          </p:nvCxnSpPr>
          <p:spPr>
            <a:xfrm flipH="1" flipV="1">
              <a:off x="4831920" y="3433320"/>
              <a:ext cx="3120120" cy="216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90120" y="1204920"/>
            <a:ext cx="7754400" cy="191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9120" y="3767400"/>
            <a:ext cx="773424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95d1d"/>
                </a:solidFill>
                <a:latin typeface="Book Antiqua"/>
              </a:rPr>
              <a:t>Образец текста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5E81A7-3205-4BA6-AAEE-B399FC0AAA44}" type="slidenum">
              <a:rPr b="0" lang="ru-RU" sz="1200" spc="-1" strike="noStrike">
                <a:solidFill>
                  <a:srgbClr val="895d1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9964" sy="59964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13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4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5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0C4A9C-270A-451C-8009-AF60BC640E5A}" type="slidenum">
              <a:rPr b="0" lang="ru-RU" sz="1200" spc="-1" strike="noStrike">
                <a:solidFill>
                  <a:srgbClr val="895d1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2"/>
          <p:cNvGrpSpPr/>
          <p:nvPr/>
        </p:nvGrpSpPr>
        <p:grpSpPr>
          <a:xfrm>
            <a:off x="1172520" y="1392120"/>
            <a:ext cx="6779160" cy="912600"/>
            <a:chOff x="1172520" y="1392120"/>
            <a:chExt cx="6779160" cy="912600"/>
          </a:xfrm>
        </p:grpSpPr>
        <p:sp>
          <p:nvSpPr>
            <p:cNvPr id="185" name="TextBox 13"/>
            <p:cNvSpPr/>
            <p:nvPr/>
          </p:nvSpPr>
          <p:spPr>
            <a:xfrm>
              <a:off x="4289400" y="139212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6" name="Straight Connector 14"/>
            <p:cNvCxnSpPr/>
            <p:nvPr/>
          </p:nvCxnSpPr>
          <p:spPr>
            <a:xfrm flipH="1" flipV="1">
              <a:off x="1172520" y="1936080"/>
              <a:ext cx="3120120" cy="216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187" name="Straight Connector 15"/>
            <p:cNvCxnSpPr/>
            <p:nvPr/>
          </p:nvCxnSpPr>
          <p:spPr>
            <a:xfrm flipH="1" flipV="1">
              <a:off x="4831920" y="1933200"/>
              <a:ext cx="3120120" cy="180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</p:grpSp>
      <p:sp>
        <p:nvSpPr>
          <p:cNvPr id="188" name="PlaceHolder 5"/>
          <p:cNvSpPr>
            <a:spLocks noGrp="1"/>
          </p:cNvSpPr>
          <p:nvPr>
            <p:ph type="body"/>
          </p:nvPr>
        </p:nvSpPr>
        <p:spPr>
          <a:xfrm>
            <a:off x="685800" y="2240280"/>
            <a:ext cx="38034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760" indent="-365760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400" spc="-1" strike="noStrike">
                <a:solidFill>
                  <a:srgbClr val="262626"/>
                </a:solidFill>
                <a:latin typeface="Book Antiqua"/>
              </a:rPr>
              <a:t>Образец текста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7240" indent="-365760">
              <a:lnSpc>
                <a:spcPct val="100000"/>
              </a:lnSpc>
              <a:spcBef>
                <a:spcPts val="439"/>
              </a:spcBef>
              <a:buClr>
                <a:srgbClr val="873624"/>
              </a:buClr>
              <a:buFont typeface="Wingdings" charset="2"/>
              <a:buChar char=""/>
            </a:pPr>
            <a:r>
              <a:rPr b="0" lang="ru-RU" sz="2200" spc="-1" strike="noStrike">
                <a:solidFill>
                  <a:srgbClr val="262626"/>
                </a:solidFill>
                <a:latin typeface="Book Antiqua"/>
              </a:rPr>
              <a:t>Второй уровень</a:t>
            </a:r>
            <a:endParaRPr b="0" lang="ru-RU" sz="2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76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Третий уровень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3" marL="1508760" indent="-320040">
              <a:lnSpc>
                <a:spcPct val="100000"/>
              </a:lnSpc>
              <a:spcBef>
                <a:spcPts val="36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800" spc="-1" strike="noStrike">
                <a:solidFill>
                  <a:srgbClr val="262626"/>
                </a:solidFill>
                <a:latin typeface="Book Antiqua"/>
              </a:rPr>
              <a:t>Четвертый уровень</a:t>
            </a:r>
            <a:endParaRPr b="0" lang="ru-RU" sz="18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20040">
              <a:lnSpc>
                <a:spcPct val="100000"/>
              </a:lnSpc>
              <a:spcBef>
                <a:spcPts val="32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Пятый уровень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body"/>
          </p:nvPr>
        </p:nvSpPr>
        <p:spPr>
          <a:xfrm>
            <a:off x="4645080" y="2240280"/>
            <a:ext cx="38034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760" indent="-365760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400" spc="-1" strike="noStrike">
                <a:solidFill>
                  <a:srgbClr val="262626"/>
                </a:solidFill>
                <a:latin typeface="Book Antiqua"/>
              </a:rPr>
              <a:t>Образец текста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7240" indent="-365760">
              <a:lnSpc>
                <a:spcPct val="100000"/>
              </a:lnSpc>
              <a:spcBef>
                <a:spcPts val="439"/>
              </a:spcBef>
              <a:buClr>
                <a:srgbClr val="873624"/>
              </a:buClr>
              <a:buFont typeface="Wingdings" charset="2"/>
              <a:buChar char=""/>
            </a:pPr>
            <a:r>
              <a:rPr b="0" lang="ru-RU" sz="2200" spc="-1" strike="noStrike">
                <a:solidFill>
                  <a:srgbClr val="262626"/>
                </a:solidFill>
                <a:latin typeface="Book Antiqua"/>
              </a:rPr>
              <a:t>Второй уровень</a:t>
            </a:r>
            <a:endParaRPr b="0" lang="ru-RU" sz="2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76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Третий уровень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3" marL="1508760" indent="-320040">
              <a:lnSpc>
                <a:spcPct val="100000"/>
              </a:lnSpc>
              <a:spcBef>
                <a:spcPts val="36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800" spc="-1" strike="noStrike">
                <a:solidFill>
                  <a:srgbClr val="262626"/>
                </a:solidFill>
                <a:latin typeface="Book Antiqua"/>
              </a:rPr>
              <a:t>Четвертый уровень</a:t>
            </a:r>
            <a:endParaRPr b="0" lang="ru-RU" sz="18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20040">
              <a:lnSpc>
                <a:spcPct val="100000"/>
              </a:lnSpc>
              <a:spcBef>
                <a:spcPts val="32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Пятый уровень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9964" sy="59964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760" indent="-365760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400" spc="-1" strike="noStrike">
                <a:solidFill>
                  <a:srgbClr val="262626"/>
                </a:solidFill>
                <a:latin typeface="Book Antiqua"/>
              </a:rPr>
              <a:t>Образец текста</a:t>
            </a: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7240" indent="-365760">
              <a:lnSpc>
                <a:spcPct val="100000"/>
              </a:lnSpc>
              <a:spcBef>
                <a:spcPts val="439"/>
              </a:spcBef>
              <a:buClr>
                <a:srgbClr val="873624"/>
              </a:buClr>
              <a:buFont typeface="Wingdings" charset="2"/>
              <a:buChar char=""/>
            </a:pPr>
            <a:r>
              <a:rPr b="0" lang="ru-RU" sz="2200" spc="-1" strike="noStrike">
                <a:solidFill>
                  <a:srgbClr val="262626"/>
                </a:solidFill>
                <a:latin typeface="Book Antiqua"/>
              </a:rPr>
              <a:t>Второй уровень</a:t>
            </a:r>
            <a:endParaRPr b="0" lang="ru-RU" sz="2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76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Третий уровень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lvl="3" marL="1508760" indent="-320040">
              <a:lnSpc>
                <a:spcPct val="100000"/>
              </a:lnSpc>
              <a:spcBef>
                <a:spcPts val="36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800" spc="-1" strike="noStrike">
                <a:solidFill>
                  <a:srgbClr val="262626"/>
                </a:solidFill>
                <a:latin typeface="Book Antiqua"/>
              </a:rPr>
              <a:t>Четвертый уровень</a:t>
            </a:r>
            <a:endParaRPr b="0" lang="ru-RU" sz="18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20040">
              <a:lnSpc>
                <a:spcPct val="100000"/>
              </a:lnSpc>
              <a:spcBef>
                <a:spcPts val="32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Пятый уровень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5d1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7A8761-E87E-40A5-BED2-51AE7D98E197}" type="slidenum">
              <a:rPr b="0" lang="ru-RU" sz="1200" spc="-1" strike="noStrike">
                <a:solidFill>
                  <a:srgbClr val="895d1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1"/>
          <p:cNvGrpSpPr/>
          <p:nvPr/>
        </p:nvGrpSpPr>
        <p:grpSpPr>
          <a:xfrm>
            <a:off x="1172520" y="1392120"/>
            <a:ext cx="6779160" cy="912600"/>
            <a:chOff x="1172520" y="1392120"/>
            <a:chExt cx="6779160" cy="912600"/>
          </a:xfrm>
        </p:grpSpPr>
        <p:sp>
          <p:nvSpPr>
            <p:cNvPr id="233" name="TextBox 12"/>
            <p:cNvSpPr/>
            <p:nvPr/>
          </p:nvSpPr>
          <p:spPr>
            <a:xfrm>
              <a:off x="4289400" y="139212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Straight Connector 13"/>
            <p:cNvCxnSpPr/>
            <p:nvPr/>
          </p:nvCxnSpPr>
          <p:spPr>
            <a:xfrm flipH="1" flipV="1">
              <a:off x="1172520" y="1936080"/>
              <a:ext cx="3120120" cy="216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235" name="Straight Connector 14"/>
            <p:cNvCxnSpPr/>
            <p:nvPr/>
          </p:nvCxnSpPr>
          <p:spPr>
            <a:xfrm flipH="1" flipV="1">
              <a:off x="4831920" y="1933200"/>
              <a:ext cx="3120120" cy="180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3320" y="1387800"/>
            <a:ext cx="6777000" cy="17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ln>
                  <a:solidFill>
                    <a:srgbClr val="ffffff">
                      <a:alpha val="65000"/>
                    </a:srgbClr>
                  </a:solidFill>
                </a:ln>
                <a:solidFill>
                  <a:srgbClr val="ffffff"/>
                </a:solidFill>
                <a:latin typeface="Book Antiqua"/>
              </a:rPr>
              <a:t>Ватикан</a:t>
            </a:r>
            <a:endParaRPr b="0" lang="ru-RU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7677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ое маленькое государство в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5076000" y="5157360"/>
            <a:ext cx="3672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 ученица 7 «А» класса Селифанова Мария, руководитель: Сбитнева Еле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1"/>
          <p:cNvSpPr/>
          <p:nvPr/>
        </p:nvSpPr>
        <p:spPr>
          <a:xfrm>
            <a:off x="42480" y="2853000"/>
            <a:ext cx="915264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300" spc="-1" strike="noStrike">
                <a:solidFill>
                  <a:srgbClr val="deaba8"/>
                </a:solidFill>
                <a:latin typeface="Arial"/>
              </a:rPr>
              <a:t>Спасибо за Внимание!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1"/>
          <p:cNvSpPr/>
          <p:nvPr/>
        </p:nvSpPr>
        <p:spPr>
          <a:xfrm>
            <a:off x="78840" y="3645000"/>
            <a:ext cx="90360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 название Ватикан получил от названия холма Mons Vaticanus, с латинского vaticinia - "место гаданий". Это церковное государство - самое маленькое в мире. В Ватикане нет постоянного населения. Расположенный в западной части Рима Ватикан является резиденцией папы римского, высших органов управления римско-католической церкви и служащих ватиканских учреждений. Ватиканское подданство имеют около тысячи человек. Ватикан не имеет никакой налоговой системы и импортирует все товары, предоставляя торговцам соответствующие разрешения. Все граждане Ватикана, высшие должностные лица римской курии, все духовные и светские сотрудники папской администрации, а также члены семей последних, имеют право покупать товары по более низким, чем в Риме, це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Рисунок 2"/>
          <p:cNvSpPr/>
          <p:nvPr/>
        </p:nvSpPr>
        <p:spPr>
          <a:xfrm>
            <a:off x="2195640" y="88200"/>
            <a:ext cx="4680000" cy="3510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7640" y="3933000"/>
            <a:ext cx="776664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895d1d"/>
                </a:solidFill>
                <a:latin typeface="Book Antiqua"/>
              </a:rPr>
              <a:t>Глава Ватикана – Папа Римский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Рисунок 4" descr=""/>
          <p:cNvPicPr/>
          <p:nvPr/>
        </p:nvPicPr>
        <p:blipFill>
          <a:blip r:embed="rId1"/>
          <a:srcRect l="0" t="1732" r="0" b="1732"/>
          <a:stretch/>
        </p:blipFill>
        <p:spPr>
          <a:xfrm rot="240000">
            <a:off x="1741680" y="110880"/>
            <a:ext cx="4875840" cy="3676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24000"/>
              </a:srgbClr>
            </a:outerShdw>
          </a:effectLst>
        </p:spPr>
      </p:pic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9640" y="4797000"/>
            <a:ext cx="856872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Глава Ватикана - Папа Римский - избирается пожизненно тайным голосованием на коллегии кардиналов (конклаве), обладает верховной законодательной, исполнительной и судебной властью. Высший законодательный орган Ватикана - однопалатный Папский совет. 16 октября 1978 года на папский престол был избран поляк Кароль Войтыла - первый в истории папа-славянин и первый за 455 лет папа неитальянец (Иоанн Павел II). После его кончины в 2005 году на папский престол вступил кардинал Йозеф Ратцингер, принявший имя Бенедикт XVI.</a:t>
            </a:r>
            <a:endParaRPr b="0" lang="ru-RU" sz="16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54400" cy="4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895d1d"/>
                </a:solidFill>
                <a:latin typeface="Book Antiqua"/>
              </a:rPr>
              <a:t>Географическое положение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99120" y="3422160"/>
            <a:ext cx="7976880" cy="310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95d1d"/>
                </a:solidFill>
                <a:latin typeface="Book Antiqua"/>
              </a:rPr>
              <a:t>Миниатюрное государство Ватикан расположено в западной части столицы Италии - Рима, на холме Монте-Ватикана. Территория Ватикана, почти по всему периметру окруженная средневековыми стенами, включает культовый и дворцовый комплексы, сады, музеи, картинные галереи и административные здания. Формально итальянско-ватиканская граница проходит через площадь Св. Петра, но она никак не обозначена на местности. На принципах экстерриториальности Ватикану принадлежит ряд объектов и учреждений, расположенных вне его границ, в т.ч. базилика Сан-Джованни-ин-Латерано в Риме другие знаменитые церкви Рима, радиостанция в Санта-Мария-ди-Галерея, летняя резиденция папы в Кастель-Гандольфо. Такой же статус имеют учебные заведения: Папский григорианский университет "Григорианум" (основан в 1553 году), Университет папы Урбана (основан в 1627 году), Папский латеранский университет (основан в 1824 году), Папский университет св. Фомы Аквинского "Ангеликум" (основан в 1909 году) и Папский салезианский университет (основан в 1940 году). Кроме того, Ватикан имеет земельные владения в Италии и Испании.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</p:txBody>
      </p:sp>
      <p:pic>
        <p:nvPicPr>
          <p:cNvPr id="282" name="Рисунок 3" descr=""/>
          <p:cNvPicPr/>
          <p:nvPr/>
        </p:nvPicPr>
        <p:blipFill>
          <a:blip r:embed="rId1"/>
          <a:stretch/>
        </p:blipFill>
        <p:spPr>
          <a:xfrm>
            <a:off x="899640" y="906840"/>
            <a:ext cx="3047760" cy="24076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4" descr=""/>
          <p:cNvPicPr/>
          <p:nvPr/>
        </p:nvPicPr>
        <p:blipFill>
          <a:blip r:embed="rId2"/>
          <a:stretch/>
        </p:blipFill>
        <p:spPr>
          <a:xfrm>
            <a:off x="5108040" y="902160"/>
            <a:ext cx="2952000" cy="240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3640" y="1886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Особенности жизненного устройства Ватикан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845000"/>
            <a:ext cx="3960000" cy="41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262626"/>
              </a:solidFill>
              <a:latin typeface="Book Antiqua"/>
            </a:endParaRPr>
          </a:p>
          <a:p>
            <a:pPr marL="365760" indent="-365760">
              <a:lnSpc>
                <a:spcPct val="100000"/>
              </a:lnSpc>
              <a:spcBef>
                <a:spcPts val="281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400" spc="-1" strike="noStrike">
                <a:solidFill>
                  <a:srgbClr val="262626"/>
                </a:solidFill>
                <a:latin typeface="Book Antiqua"/>
              </a:rPr>
              <a:t>Транспортное движение на узких улочках Ватикана не значительно. Ватиканские номера имеют только автомобили самого папы, кардиналов, высших светских сановников римской курии, а также личный транспорт граждан Ватикана. Частные автомашины духовных и светских сотрудников ездят с римскими номерами. </a:t>
            </a:r>
            <a:endParaRPr b="0" lang="ru-RU" sz="1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88000" y="2133000"/>
            <a:ext cx="4427640" cy="41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760" indent="-365760">
              <a:lnSpc>
                <a:spcPct val="100000"/>
              </a:lnSpc>
              <a:spcBef>
                <a:spcPts val="281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400" spc="-1" strike="noStrike">
                <a:solidFill>
                  <a:srgbClr val="262626"/>
                </a:solidFill>
                <a:latin typeface="Book Antiqua"/>
              </a:rPr>
              <a:t>Бюджет государства ежегодно пополняется за счет доходов от туризма, церковных пожертвований со всего мира, доходов от размещения капиталов в иностранных банках, земельной аренды и продажи почтовых марок. Дополнительные доходы приносит чеканска собственной монеты и памятных медалей. В Ватикане есть свой вокзал. Кроме того, Ватикан имеет собственную радиостанцию, а с 1929 года издает газету "L'Osservatore Romano". Ватиканская аптека знаменита тем, что в ней есть все лекарства, какие только изготавливаются в мире. </a:t>
            </a:r>
            <a:endParaRPr b="0" lang="ru-RU" sz="1400" spc="-1" strike="noStrike">
              <a:solidFill>
                <a:srgbClr val="262626"/>
              </a:solidFill>
              <a:latin typeface="Book Antiqua"/>
            </a:endParaRPr>
          </a:p>
        </p:txBody>
      </p:sp>
      <p:pic>
        <p:nvPicPr>
          <p:cNvPr id="287" name="Рисунок 4" descr=""/>
          <p:cNvPicPr/>
          <p:nvPr/>
        </p:nvPicPr>
        <p:blipFill>
          <a:blip r:embed="rId1"/>
          <a:stretch/>
        </p:blipFill>
        <p:spPr>
          <a:xfrm>
            <a:off x="5580000" y="4997520"/>
            <a:ext cx="2642760" cy="173592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5" descr=""/>
          <p:cNvPicPr/>
          <p:nvPr/>
        </p:nvPicPr>
        <p:blipFill>
          <a:blip r:embed="rId2"/>
          <a:stretch/>
        </p:blipFill>
        <p:spPr>
          <a:xfrm>
            <a:off x="395640" y="4208760"/>
            <a:ext cx="32990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0" y="2008800"/>
            <a:ext cx="4752000" cy="46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indent="0">
              <a:lnSpc>
                <a:spcPct val="100000"/>
              </a:lnSpc>
              <a:spcBef>
                <a:spcPts val="1120"/>
              </a:spcBef>
              <a:buNone/>
            </a:pPr>
            <a:endParaRPr b="0" lang="ru-RU" sz="5600" spc="-1" strike="noStrike">
              <a:solidFill>
                <a:srgbClr val="262626"/>
              </a:solidFill>
              <a:latin typeface="Book Antiqua"/>
            </a:endParaRPr>
          </a:p>
          <a:p>
            <a:pPr marL="307080" indent="-307080">
              <a:lnSpc>
                <a:spcPct val="100000"/>
              </a:lnSpc>
              <a:spcBef>
                <a:spcPts val="961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4800" spc="-1" strike="noStrike">
                <a:solidFill>
                  <a:srgbClr val="262626"/>
                </a:solidFill>
                <a:latin typeface="Book Antiqua"/>
              </a:rPr>
              <a:t>Достопримечательности Ватикана настолько известны и притягательны с познавательной точки зрения, что ежегодно со всего света в Ватикан съезжаются паломники и туристы, желающие полюбоваться уникальными памятниками. В центре самой большой римской площади Св. Петра (340 x 240 м) возвышается египетский обелиск высотой 25 м. Ценнейшим памятником итальянского Возрождения и эпохи барокко является собор Св. Петра. Храм возведен по проекту Донато Браманте, а обрамляющая площадь колоннада из 284 колонн - творение Лоренцо Бернини. Монументальный фасад спроектировал Карло Мадерно, а над его колоннами выбито латинскими буквами имя заказчика - папы Павла V Боргезе. Громаду собора венчает огромный купол - творение Микеланджело. Собор Св. Петра по праву признан одним из величайших шедевров мировой архитектуры. Дворцы и музеи Ватикана представляют собой один из крупнейших комплексов мира. В из бесчисленных залах, галереях, библиотеках, вестибюлях, внутренних двориках и садах хранятся драгоценные произведения искусства, собранные римскими понтификами на протяжении веков. Библиотека Ватикана располагает одним из богатейших в мире собраний книг и старинных манускриптов. В просторном Сикстинском зале выставлена на обозрение рукописная Библия IV века. Сикстинская капелла была построена в 1471-81 гг. архитектором Джованни Дольчи по заказу папы Сикста IV. В 1535-41 гг. ее стены и плафон расписал своими фресками знаменитый Микеланджело - сегодня это одна из главных достопримечательностей Ватикана.</a:t>
            </a:r>
            <a:endParaRPr b="0" lang="ru-RU" sz="48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670320" y="39816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Достопримечательности Ватикан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Рисунок 3" descr=""/>
          <p:cNvPicPr/>
          <p:nvPr/>
        </p:nvPicPr>
        <p:blipFill>
          <a:blip r:embed="rId1"/>
          <a:stretch/>
        </p:blipFill>
        <p:spPr>
          <a:xfrm>
            <a:off x="5049000" y="4293000"/>
            <a:ext cx="3642840" cy="240948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4" descr=""/>
          <p:cNvPicPr/>
          <p:nvPr/>
        </p:nvPicPr>
        <p:blipFill>
          <a:blip r:embed="rId2"/>
          <a:stretch/>
        </p:blipFill>
        <p:spPr>
          <a:xfrm>
            <a:off x="5049000" y="1989000"/>
            <a:ext cx="2876040" cy="21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3640" y="4077000"/>
            <a:ext cx="776664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7f3c6"/>
                </a:solidFill>
                <a:latin typeface="Book Antiqua"/>
              </a:rPr>
              <a:t>Белый дым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4" descr=""/>
          <p:cNvPicPr/>
          <p:nvPr/>
        </p:nvPicPr>
        <p:blipFill>
          <a:blip r:embed="rId1"/>
          <a:srcRect l="2703" t="0" r="2703" b="0"/>
          <a:stretch/>
        </p:blipFill>
        <p:spPr>
          <a:xfrm rot="246600">
            <a:off x="287280" y="626760"/>
            <a:ext cx="4200840" cy="3166560"/>
          </a:xfrm>
          <a:prstGeom prst="rect">
            <a:avLst/>
          </a:prstGeom>
          <a:ln w="190500">
            <a:noFill/>
          </a:ln>
          <a:effectLst>
            <a:softEdge rad="112680"/>
          </a:effectLst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7640" y="4365000"/>
            <a:ext cx="8208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Сикстинская капелла обычно открыта для туристов и закрывается только в то время, когда в Ватикане идет процедура избрания нового папы римского коллегией кардиналов. По традиции, о результатах голосования извещает столб дыма от сжигаемых бюллетеней. Если решение не принято, то над капеллой вздымается черный дым, если же папа избран - белый. Цвет дыму придают особые вещества, добавляемые в жаровню. </a:t>
            </a:r>
            <a:endParaRPr b="0" lang="ru-RU" sz="2000" spc="-1" strike="noStrike">
              <a:solidFill>
                <a:srgbClr val="262626"/>
              </a:solidFill>
              <a:latin typeface="Book Antiqua"/>
            </a:endParaRPr>
          </a:p>
        </p:txBody>
      </p:sp>
      <p:pic>
        <p:nvPicPr>
          <p:cNvPr id="296" name="Рисунок 2" descr=""/>
          <p:cNvPicPr/>
          <p:nvPr/>
        </p:nvPicPr>
        <p:blipFill>
          <a:blip r:embed="rId2"/>
          <a:stretch/>
        </p:blipFill>
        <p:spPr>
          <a:xfrm rot="310200">
            <a:off x="4932000" y="720720"/>
            <a:ext cx="3962880" cy="3179520"/>
          </a:xfrm>
          <a:prstGeom prst="rect">
            <a:avLst/>
          </a:prstGeom>
          <a:ln w="0">
            <a:noFill/>
          </a:ln>
          <a:effectLst>
            <a:softEdge rad="63504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1"/>
          <p:cNvSpPr/>
          <p:nvPr/>
        </p:nvSpPr>
        <p:spPr>
          <a:xfrm>
            <a:off x="467640" y="1340640"/>
            <a:ext cx="84247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ане преобладает субтропическая растительность. Здесь располагается большое количество чудесных садов, а также на территории произрастают кедры, сосны, кипарисы, самшит, пальмы, оливы, магнолии, плю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"/>
          <p:cNvSpPr/>
          <p:nvPr/>
        </p:nvSpPr>
        <p:spPr>
          <a:xfrm>
            <a:off x="1575360" y="260640"/>
            <a:ext cx="5742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deaba8"/>
                </a:solidFill>
                <a:latin typeface="Arial"/>
              </a:rPr>
              <a:t>Флора Ватик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Рисунок 3" descr=""/>
          <p:cNvPicPr/>
          <p:nvPr/>
        </p:nvPicPr>
        <p:blipFill>
          <a:blip r:embed="rId1"/>
          <a:stretch/>
        </p:blipFill>
        <p:spPr>
          <a:xfrm>
            <a:off x="251640" y="2664360"/>
            <a:ext cx="3164760" cy="2373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0" name="Рисунок 4" descr=""/>
          <p:cNvPicPr/>
          <p:nvPr/>
        </p:nvPicPr>
        <p:blipFill>
          <a:blip r:embed="rId2"/>
          <a:stretch/>
        </p:blipFill>
        <p:spPr>
          <a:xfrm>
            <a:off x="251640" y="5013000"/>
            <a:ext cx="2729520" cy="1819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1" name="Рисунок 5" descr=""/>
          <p:cNvPicPr/>
          <p:nvPr/>
        </p:nvPicPr>
        <p:blipFill>
          <a:blip r:embed="rId3"/>
          <a:stretch/>
        </p:blipFill>
        <p:spPr>
          <a:xfrm>
            <a:off x="3636000" y="2744640"/>
            <a:ext cx="2975760" cy="2212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2" name="Рисунок 6" descr=""/>
          <p:cNvPicPr/>
          <p:nvPr/>
        </p:nvPicPr>
        <p:blipFill>
          <a:blip r:embed="rId4"/>
          <a:stretch/>
        </p:blipFill>
        <p:spPr>
          <a:xfrm>
            <a:off x="3179160" y="5050800"/>
            <a:ext cx="2374200" cy="1781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3" name="Рисунок 7" descr=""/>
          <p:cNvPicPr/>
          <p:nvPr/>
        </p:nvPicPr>
        <p:blipFill>
          <a:blip r:embed="rId5"/>
          <a:stretch/>
        </p:blipFill>
        <p:spPr>
          <a:xfrm>
            <a:off x="6948360" y="2752920"/>
            <a:ext cx="1470960" cy="2195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4" name="Рисунок 8" descr=""/>
          <p:cNvPicPr/>
          <p:nvPr/>
        </p:nvPicPr>
        <p:blipFill>
          <a:blip r:embed="rId6"/>
          <a:stretch/>
        </p:blipFill>
        <p:spPr>
          <a:xfrm flipH="1">
            <a:off x="5796720" y="5060520"/>
            <a:ext cx="3000960" cy="1747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"/>
          <p:cNvSpPr/>
          <p:nvPr/>
        </p:nvSpPr>
        <p:spPr>
          <a:xfrm>
            <a:off x="395640" y="1412640"/>
            <a:ext cx="84967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ане распространены мелкие хищники, такие, как ласка, куница и грызуны, местами встречаются кабаны и волки. Среди пернатых водятся орлы, стервятники, куропатки, перепел. Много ядовитых змей и скорпионов, а также бабочек и ж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"/>
          <p:cNvSpPr/>
          <p:nvPr/>
        </p:nvSpPr>
        <p:spPr>
          <a:xfrm>
            <a:off x="1575360" y="332640"/>
            <a:ext cx="56703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deaba8"/>
                </a:solidFill>
                <a:latin typeface="Arial"/>
              </a:rPr>
              <a:t>Фауна Ватик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Рисунок 3" descr=""/>
          <p:cNvPicPr/>
          <p:nvPr/>
        </p:nvPicPr>
        <p:blipFill>
          <a:blip r:embed="rId1"/>
          <a:stretch/>
        </p:blipFill>
        <p:spPr>
          <a:xfrm>
            <a:off x="395640" y="2736360"/>
            <a:ext cx="2411280" cy="2059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8" name="Рисунок 4" descr=""/>
          <p:cNvPicPr/>
          <p:nvPr/>
        </p:nvPicPr>
        <p:blipFill>
          <a:blip r:embed="rId2"/>
          <a:stretch/>
        </p:blipFill>
        <p:spPr>
          <a:xfrm>
            <a:off x="370080" y="4869000"/>
            <a:ext cx="2462400" cy="1846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9" name="Рисунок 5" descr=""/>
          <p:cNvPicPr/>
          <p:nvPr/>
        </p:nvPicPr>
        <p:blipFill>
          <a:blip r:embed="rId3"/>
          <a:stretch/>
        </p:blipFill>
        <p:spPr>
          <a:xfrm>
            <a:off x="3060000" y="2792880"/>
            <a:ext cx="2850840" cy="1946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10" name="Рисунок 6" descr=""/>
          <p:cNvPicPr/>
          <p:nvPr/>
        </p:nvPicPr>
        <p:blipFill>
          <a:blip r:embed="rId4"/>
          <a:stretch/>
        </p:blipFill>
        <p:spPr>
          <a:xfrm>
            <a:off x="3113640" y="4871880"/>
            <a:ext cx="2543760" cy="1812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11" name="Рисунок 8" descr=""/>
          <p:cNvPicPr/>
          <p:nvPr/>
        </p:nvPicPr>
        <p:blipFill>
          <a:blip r:embed="rId5"/>
          <a:stretch/>
        </p:blipFill>
        <p:spPr>
          <a:xfrm>
            <a:off x="5975640" y="2792880"/>
            <a:ext cx="3082320" cy="1926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12" name="Рисунок 9" descr=""/>
          <p:cNvPicPr/>
          <p:nvPr/>
        </p:nvPicPr>
        <p:blipFill>
          <a:blip r:embed="rId6"/>
          <a:stretch/>
        </p:blipFill>
        <p:spPr>
          <a:xfrm>
            <a:off x="5975640" y="4861800"/>
            <a:ext cx="2794320" cy="1861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вердый переплет">
  <a:themeElements>
    <a:clrScheme name="Твердый переплет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Hardcover</Template>
  <TotalTime>95</TotalTime>
  <Application>LibreOffice/7.4.7.2$Linux_X86_64 LibreOffice_project/40$Build-2</Application>
  <AppVersion>15.0000</AppVersion>
  <Words>916</Words>
  <Paragraphs>24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3:12:05Z</dcterms:created>
  <dc:creator>HOME</dc:creator>
  <dc:description/>
  <dc:language>en-US</dc:language>
  <cp:lastModifiedBy>HOME</cp:lastModifiedBy>
  <dcterms:modified xsi:type="dcterms:W3CDTF">2012-05-21T16:50:34Z</dcterms:modified>
  <cp:revision>9</cp:revision>
  <dc:subject/>
  <dc:title>Ватика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