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FB6-3D7D-48A2-9A63-8128771E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B86-BB48-4C1C-B538-711046B8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75A-7179-4971-9C87-5EA500CC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C70-2A3D-4BC3-9294-112CFEA4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E819-F9FF-42A1-82B9-AAD5974E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24D3-C625-4902-AA88-39726AF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0441-6B38-4B3A-AD69-B7625232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A7D7-69D0-4E33-9D5D-DA8CE69C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005C-4867-4531-971B-66F97CF7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44A5-228A-40D9-99C9-BB5A825F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5823-BDF4-456A-8715-543790B0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82A-DCFF-4BBA-8392-0A03D02E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C2E0-ACB8-4985-818E-D28AB9FE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1C26-B261-4CB3-B8BC-CF80ADA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8D28-145F-4C48-8696-A47C4DC8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3138-3A95-4502-B7B5-D51F5A5D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6E79-97E4-42ED-B3D6-47D0DB66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D7AF-BF62-4848-9428-B4FC5926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E7C6-D44D-4F0D-B8E4-A7AF774A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32B7-0D7D-483C-9D44-9C362D4A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F5C7-2AC2-4AC8-BD5D-425DE5DD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327E-07BB-4BFC-BD01-C9FDDC10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274-9A53-45ED-8C57-0C951368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45E0-4846-4A84-A765-C38321CE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39E7-25C5-4AEE-BA37-D78C0C0F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647E-BAE4-4688-A2C0-9DFCB132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BC20-ADCA-4A2B-9083-787B454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50B9-201C-4D8F-A445-D5284747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9ECB-9A6C-46B7-84FC-3108751C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83A1-A67E-4F43-94F7-D5D6A580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ED97-0681-4004-8BEF-D8D12838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1BD3-BB9F-4EE2-B14F-504154C4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FB3E-9106-47C4-8F89-A0BC70E4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AA5-22D6-4E8A-8B1A-9178C49E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236D-3EE3-4386-AD34-B96EECEE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B35D6-A298-470B-9623-1328648F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84A8-FB0C-4070-809C-DD50D45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7908-AF07-42EE-B12A-5EFB459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22DD-AE88-43F4-ADE7-F9907204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18D3-89E4-4878-B1D5-66A9A19A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DEEA-B040-4640-ADC9-C1AC5040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C4DBA-85E8-43C4-8DAE-5C498D1C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4951-520A-4530-B0C3-7FEA5E74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080C7-602C-479F-887C-04CFF101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57D-D860-49CC-81DD-013BF2D6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86C7-9E0E-4AF0-8717-05326BC5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39339-513D-4BA0-88C0-74C7EABC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FFA69-E004-4B10-9AF6-222354FF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B3BEB-0814-43C8-A73D-0D654A9B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B5E3-DBA9-4278-9625-E97D4EA3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1141-12FD-4F38-9E7E-D8C93B21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73A4F-4E67-4A49-9B4D-79A1E98B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674FF-7737-476A-A00B-99004968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5D394-E469-4B00-814E-AC51E44A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F140-288E-43EA-A06B-91932B88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50E-E158-478D-BD1A-E7DE15B3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25D9D-1C9C-4909-88D7-6485E97D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521A-D4B6-4256-A06D-7AC297F8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A6390-874A-44ED-B2B3-E3449A3B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F3815-A5D0-4F2C-9DA1-78D266E2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823E3-6D11-4A6D-88E8-7E021277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5E99C-2533-4730-A127-91EFFDFD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8B517-6EB5-4469-B7B5-EFAA8E6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83D95-CB37-476E-9F22-4D99563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8510-8BC7-4091-9448-61CD83E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9255D-AC97-4E48-ABF7-A84E0453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CA2-B50D-4679-9C31-7A777206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90C9-E420-4A07-9C12-C92D4F91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BAD3B-A49F-49B8-9706-1728E28B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B8520-C8A4-47AA-B90A-C49CCECC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CC7-52DB-4B53-BBBC-1703586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5C0-8929-41EE-A740-F4A10825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11372"/>
                </a:srgbClr>
              </a:gs>
              <a:gs pos="100000">
                <a:srgbClr val="674616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ce9c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90B156-2A09-45A6-81D9-E8A25348E6DA}" type="slidenum">
              <a:rPr b="0" lang="ru-RU" sz="1200" spc="-1" strike="noStrike">
                <a:solidFill>
                  <a:srgbClr val="ece9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193760" y="2887560"/>
            <a:ext cx="6779160" cy="912600"/>
            <a:chOff x="1193760" y="2887560"/>
            <a:chExt cx="6779160" cy="912600"/>
          </a:xfrm>
        </p:grpSpPr>
        <p:sp>
          <p:nvSpPr>
            <p:cNvPr id="6" name="TextBox 8"/>
            <p:cNvSpPr/>
            <p:nvPr/>
          </p:nvSpPr>
          <p:spPr>
            <a:xfrm>
              <a:off x="4310640" y="288756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e1dca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" name="Straight Connector 9"/>
            <p:cNvCxnSpPr/>
            <p:nvPr/>
          </p:nvCxnSpPr>
          <p:spPr>
            <a:xfrm flipH="1" flipV="1">
              <a:off x="1193760" y="3431520"/>
              <a:ext cx="312012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  <p:cxnSp>
          <p:nvCxnSpPr>
            <p:cNvPr id="8" name="Straight Connector 10"/>
            <p:cNvCxnSpPr/>
            <p:nvPr/>
          </p:nvCxnSpPr>
          <p:spPr>
            <a:xfrm flipH="1" flipV="1">
              <a:off x="4853160" y="3429000"/>
              <a:ext cx="312012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183320" y="1387800"/>
            <a:ext cx="6777000" cy="17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ln>
                  <a:solidFill>
                    <a:srgbClr val="ffffff">
                      <a:alpha val="65000"/>
                    </a:srgbClr>
                  </a:solidFill>
                </a:ln>
                <a:solidFill>
                  <a:srgbClr val="ffffff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C6D3C8-D68C-4E55-BBA4-1F8F4745BD34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7880" y="4668840"/>
            <a:ext cx="776664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 rot="21480000">
            <a:off x="2183760" y="666720"/>
            <a:ext cx="4771800" cy="3597480"/>
          </a:xfrm>
          <a:prstGeom prst="rect">
            <a:avLst/>
          </a:prstGeom>
          <a:solidFill>
            <a:srgbClr val="ededed"/>
          </a:solidFill>
          <a:ln cap="sq" w="190440">
            <a:solidFill>
              <a:srgbClr val="ffffff"/>
            </a:solidFill>
            <a:miter/>
          </a:ln>
          <a:effectLst>
            <a:outerShdw dist="50432" dir="12889470" blurRad="65160" rotWithShape="0">
              <a:srgbClr val="000000">
                <a:alpha val="24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88320" y="5324400"/>
            <a:ext cx="77558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6C0BFD-3694-4890-AF95-F741B3938169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33" name="Picture 11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1172520" y="2887560"/>
            <a:ext cx="6779160" cy="912600"/>
            <a:chOff x="1172520" y="2887560"/>
            <a:chExt cx="6779160" cy="912600"/>
          </a:xfrm>
        </p:grpSpPr>
        <p:sp>
          <p:nvSpPr>
            <p:cNvPr id="135" name="TextBox 8"/>
            <p:cNvSpPr/>
            <p:nvPr/>
          </p:nvSpPr>
          <p:spPr>
            <a:xfrm>
              <a:off x="4289400" y="288756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Straight Connector 9"/>
            <p:cNvCxnSpPr/>
            <p:nvPr/>
          </p:nvCxnSpPr>
          <p:spPr>
            <a:xfrm flipH="1" flipV="1">
              <a:off x="1172520" y="343152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137" name="Straight Connector 10"/>
            <p:cNvCxnSpPr/>
            <p:nvPr/>
          </p:nvCxnSpPr>
          <p:spPr>
            <a:xfrm flipH="1" flipV="1">
              <a:off x="4831920" y="343332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0120" y="1204920"/>
            <a:ext cx="7754400" cy="191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9120" y="3767400"/>
            <a:ext cx="77342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95d1d"/>
                </a:solidFill>
                <a:latin typeface="Book Antiqua"/>
              </a:rPr>
              <a:t>Образец текста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FF7184-21DC-475E-BA42-069886706241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13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4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5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E53B33-0044-42E9-8771-C6EB0F9E17CE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2"/>
          <p:cNvGrpSpPr/>
          <p:nvPr/>
        </p:nvGrpSpPr>
        <p:grpSpPr>
          <a:xfrm>
            <a:off x="1172520" y="1392120"/>
            <a:ext cx="6779160" cy="912600"/>
            <a:chOff x="1172520" y="1392120"/>
            <a:chExt cx="6779160" cy="912600"/>
          </a:xfrm>
        </p:grpSpPr>
        <p:sp>
          <p:nvSpPr>
            <p:cNvPr id="185" name="TextBox 13"/>
            <p:cNvSpPr/>
            <p:nvPr/>
          </p:nvSpPr>
          <p:spPr>
            <a:xfrm>
              <a:off x="42894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Straight Connector 14"/>
            <p:cNvCxnSpPr/>
            <p:nvPr/>
          </p:nvCxnSpPr>
          <p:spPr>
            <a:xfrm flipH="1" flipV="1">
              <a:off x="1172520" y="193608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187" name="Straight Connector 15"/>
            <p:cNvCxnSpPr/>
            <p:nvPr/>
          </p:nvCxnSpPr>
          <p:spPr>
            <a:xfrm flipH="1" flipV="1">
              <a:off x="4831920" y="1933200"/>
              <a:ext cx="3120120" cy="180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685800" y="2240280"/>
            <a:ext cx="3803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body"/>
          </p:nvPr>
        </p:nvSpPr>
        <p:spPr>
          <a:xfrm>
            <a:off x="4645080" y="2240280"/>
            <a:ext cx="3803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D7EBE2-8675-4FC2-B5BC-CC46BD5E0AFA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1"/>
          <p:cNvGrpSpPr/>
          <p:nvPr/>
        </p:nvGrpSpPr>
        <p:grpSpPr>
          <a:xfrm>
            <a:off x="1172520" y="1392120"/>
            <a:ext cx="6779160" cy="912600"/>
            <a:chOff x="1172520" y="1392120"/>
            <a:chExt cx="6779160" cy="912600"/>
          </a:xfrm>
        </p:grpSpPr>
        <p:sp>
          <p:nvSpPr>
            <p:cNvPr id="233" name="TextBox 12"/>
            <p:cNvSpPr/>
            <p:nvPr/>
          </p:nvSpPr>
          <p:spPr>
            <a:xfrm>
              <a:off x="42894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Straight Connector 13"/>
            <p:cNvCxnSpPr/>
            <p:nvPr/>
          </p:nvCxnSpPr>
          <p:spPr>
            <a:xfrm flipH="1" flipV="1">
              <a:off x="1172520" y="193608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235" name="Straight Connector 14"/>
            <p:cNvCxnSpPr/>
            <p:nvPr/>
          </p:nvCxnSpPr>
          <p:spPr>
            <a:xfrm flipH="1" flipV="1">
              <a:off x="4831920" y="1933200"/>
              <a:ext cx="3120120" cy="180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3320" y="1387800"/>
            <a:ext cx="6777000" cy="17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ln>
                  <a:solidFill>
                    <a:srgbClr val="ffffff">
                      <a:alpha val="65000"/>
                    </a:srgbClr>
                  </a:solidFill>
                </a:ln>
                <a:solidFill>
                  <a:srgbClr val="ffffff"/>
                </a:solidFill>
                <a:latin typeface="Book Antiqua"/>
              </a:rPr>
              <a:t>Ватикан</a:t>
            </a:r>
            <a:endParaRPr b="0" lang="ru-RU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7677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е маленькое государство 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5076000" y="5157360"/>
            <a:ext cx="3672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ученица 7 «А» класса Селифанова Мария, руководитель: Сбитнева Еле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42480" y="2853000"/>
            <a:ext cx="9152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300" spc="-1" strike="noStrike">
                <a:solidFill>
                  <a:srgbClr val="deaba8"/>
                </a:solidFill>
                <a:latin typeface="Arial"/>
              </a:rPr>
              <a:t>Спасибо за Внимание!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78840" y="3645000"/>
            <a:ext cx="90360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Ватикан получил от названия холма Mons Vaticanus, с латинского vaticinia - "место гаданий". Это церковное государство - самое маленькое в мире. В Ватикане нет постоянного населения. Расположенный в западной части Рима Ватикан является резиденцией папы римского, высших органов управления римско-католической церкви и служащих ватиканских учреждений. Ватиканское подданство имеют около тысячи человек. Ватикан не имеет никакой налоговой системы и импортирует все товары, предоставляя торговцам соответствующие разрешения. Все граждане Ватикана, высшие должностные лица римской курии, все духовные и светские сотрудники папской администрации, а также члены семей последних, имеют право покупать товары по более низким, чем в Риме, це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Рисунок 2"/>
          <p:cNvSpPr/>
          <p:nvPr/>
        </p:nvSpPr>
        <p:spPr>
          <a:xfrm>
            <a:off x="2195640" y="88200"/>
            <a:ext cx="4680000" cy="3510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640" y="3933000"/>
            <a:ext cx="776664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895d1d"/>
                </a:solidFill>
                <a:latin typeface="Book Antiqua"/>
              </a:rPr>
              <a:t>Глава Ватикана – Папа Римский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4" descr=""/>
          <p:cNvPicPr/>
          <p:nvPr/>
        </p:nvPicPr>
        <p:blipFill>
          <a:blip r:embed="rId1"/>
          <a:srcRect l="0" t="1732" r="0" b="1732"/>
          <a:stretch/>
        </p:blipFill>
        <p:spPr>
          <a:xfrm rot="240000">
            <a:off x="1741680" y="110880"/>
            <a:ext cx="4875840" cy="3676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24000"/>
              </a:srgbClr>
            </a:outerShdw>
          </a:effectLst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640" y="4797000"/>
            <a:ext cx="856872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Глава Ватикана - Папа Римский - избирается пожизненно тайным голосованием на коллегии кардиналов (конклаве), обладает верховной законодательной, исполнительной и судебной властью. Высший законодательный орган Ватикана - однопалатный Папский совет. 16 октября 1978 года на папский престол был избран поляк Кароль Войтыла - первый в истории папа-славянин и первый за 455 лет папа неитальянец (Иоанн Павел II). После его кончины в 2005 году на папский престол вступил кардинал Йозеф Ратцингер, принявший имя Бенедикт XVI.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5440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895d1d"/>
                </a:solidFill>
                <a:latin typeface="Book Antiqua"/>
              </a:rPr>
              <a:t>Географическое полож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9120" y="3422160"/>
            <a:ext cx="7976880" cy="310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95d1d"/>
                </a:solidFill>
                <a:latin typeface="Book Antiqua"/>
              </a:rPr>
              <a:t>Миниатюрное государство Ватикан расположено в западной части столицы Италии - Рима, на холме Монте-Ватикана. Территория Ватикана, почти по всему периметру окруженная средневековыми стенами, включает культовый и дворцовый комплексы, сады, музеи, картинные галереи и административные здания. Формально итальянско-ватиканская граница проходит через площадь Св. Петра, но она никак не обозначена на местности. На принципах экстерриториальности Ватикану принадлежит ряд объектов и учреждений, расположенных вне его границ, в т.ч. базилика Сан-Джованни-ин-Латерано в Риме другие знаменитые церкви Рима, радиостанция в Санта-Мария-ди-Галерея, летняя резиденция папы в Кастель-Гандольфо. Такой же статус имеют учебные заведения: Папский григорианский университет "Григорианум" (основан в 1553 году), Университет папы Урбана (основан в 1627 году), Папский латеранский университет (основан в 1824 году), Папский университет св. Фомы Аквинского "Ангеликум" (основан в 1909 году) и Папский салезианский университет (основан в 1940 году). Кроме того, Ватикан имеет земельные владения в Италии и Испании.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282" name="Рисунок 3" descr=""/>
          <p:cNvPicPr/>
          <p:nvPr/>
        </p:nvPicPr>
        <p:blipFill>
          <a:blip r:embed="rId1"/>
          <a:stretch/>
        </p:blipFill>
        <p:spPr>
          <a:xfrm>
            <a:off x="899640" y="906840"/>
            <a:ext cx="3047760" cy="24076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"/>
          <p:cNvPicPr/>
          <p:nvPr/>
        </p:nvPicPr>
        <p:blipFill>
          <a:blip r:embed="rId2"/>
          <a:stretch/>
        </p:blipFill>
        <p:spPr>
          <a:xfrm>
            <a:off x="5108040" y="902160"/>
            <a:ext cx="2952000" cy="24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собенности жизненного устройства Ватикан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845000"/>
            <a:ext cx="396000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>
              <a:lnSpc>
                <a:spcPct val="100000"/>
              </a:lnSpc>
              <a:spcBef>
                <a:spcPts val="28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400" spc="-1" strike="noStrike">
                <a:solidFill>
                  <a:srgbClr val="262626"/>
                </a:solidFill>
                <a:latin typeface="Book Antiqua"/>
              </a:rPr>
              <a:t>Транспортное движение на узких улочках Ватикана не значительно. Ватиканские номера имеют только автомобили самого папы, кардиналов, высших светских сановников римской курии, а также личный транспорт граждан Ватикана. Частные автомашины духовных и светских сотрудников ездят с римскими номерами. </a:t>
            </a:r>
            <a:endParaRPr b="0" lang="ru-RU" sz="1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88000" y="2133000"/>
            <a:ext cx="442764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" indent="-365760">
              <a:lnSpc>
                <a:spcPct val="100000"/>
              </a:lnSpc>
              <a:spcBef>
                <a:spcPts val="28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400" spc="-1" strike="noStrike">
                <a:solidFill>
                  <a:srgbClr val="262626"/>
                </a:solidFill>
                <a:latin typeface="Book Antiqua"/>
              </a:rPr>
              <a:t>Бюджет государства ежегодно пополняется за счет доходов от туризма, церковных пожертвований со всего мира, доходов от размещения капиталов в иностранных банках, земельной аренды и продажи почтовых марок. Дополнительные доходы приносит чеканска собственной монеты и памятных медалей. В Ватикане есть свой вокзал. Кроме того, Ватикан имеет собственную радиостанцию, а с 1929 года издает газету "L'Osservatore Romano". Ватиканская аптека знаменита тем, что в ней есть все лекарства, какие только изготавливаются в мире. </a:t>
            </a:r>
            <a:endParaRPr b="0" lang="ru-RU" sz="14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287" name="Рисунок 4" descr=""/>
          <p:cNvPicPr/>
          <p:nvPr/>
        </p:nvPicPr>
        <p:blipFill>
          <a:blip r:embed="rId1"/>
          <a:stretch/>
        </p:blipFill>
        <p:spPr>
          <a:xfrm>
            <a:off x="5580000" y="4997520"/>
            <a:ext cx="2642760" cy="173592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"/>
          <p:cNvPicPr/>
          <p:nvPr/>
        </p:nvPicPr>
        <p:blipFill>
          <a:blip r:embed="rId2"/>
          <a:stretch/>
        </p:blipFill>
        <p:spPr>
          <a:xfrm>
            <a:off x="395640" y="4208760"/>
            <a:ext cx="3299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2008800"/>
            <a:ext cx="4752000" cy="46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>
              <a:lnSpc>
                <a:spcPct val="100000"/>
              </a:lnSpc>
              <a:spcBef>
                <a:spcPts val="1120"/>
              </a:spcBef>
              <a:buNone/>
            </a:pPr>
            <a:endParaRPr b="0" lang="ru-RU" sz="5600" spc="-1" strike="noStrike">
              <a:solidFill>
                <a:srgbClr val="262626"/>
              </a:solidFill>
              <a:latin typeface="Book Antiqua"/>
            </a:endParaRPr>
          </a:p>
          <a:p>
            <a:pPr marL="307080" indent="-307080">
              <a:lnSpc>
                <a:spcPct val="100000"/>
              </a:lnSpc>
              <a:spcBef>
                <a:spcPts val="96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4800" spc="-1" strike="noStrike">
                <a:solidFill>
                  <a:srgbClr val="262626"/>
                </a:solidFill>
                <a:latin typeface="Book Antiqua"/>
              </a:rPr>
              <a:t>Достопримечательности Ватикана настолько известны и притягательны с познавательной точки зрения, что ежегодно со всего света в Ватикан съезжаются паломники и туристы, желающие полюбоваться уникальными памятниками. В центре самой большой римской площади Св. Петра (340 x 240 м) возвышается египетский обелиск высотой 25 м. Ценнейшим памятником итальянского Возрождения и эпохи барокко является собор Св. Петра. Храм возведен по проекту Донато Браманте, а обрамляющая площадь колоннада из 284 колонн - творение Лоренцо Бернини. Монументальный фасад спроектировал Карло Мадерно, а над его колоннами выбито латинскими буквами имя заказчика - папы Павла V Боргезе. Громаду собора венчает огромный купол - творение Микеланджело. Собор Св. Петра по праву признан одним из величайших шедевров мировой архитектуры. Дворцы и музеи Ватикана представляют собой один из крупнейших комплексов мира. В из бесчисленных залах, галереях, библиотеках, вестибюлях, внутренних двориках и садах хранятся драгоценные произведения искусства, собранные римскими понтификами на протяжении веков. Библиотека Ватикана располагает одним из богатейших в мире собраний книг и старинных манускриптов. В просторном Сикстинском зале выставлена на обозрение рукописная Библия IV века. Сикстинская капелла была построена в 1471-81 гг. архитектором Джованни Дольчи по заказу папы Сикста IV. В 1535-41 гг. ее стены и плафон расписал своими фресками знаменитый Микеланджело - сегодня это одна из главных достопримечательностей Ватикана.</a:t>
            </a:r>
            <a:endParaRPr b="0" lang="ru-RU" sz="48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70320" y="39816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Достопримечательности Ватикан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3" descr=""/>
          <p:cNvPicPr/>
          <p:nvPr/>
        </p:nvPicPr>
        <p:blipFill>
          <a:blip r:embed="rId1"/>
          <a:stretch/>
        </p:blipFill>
        <p:spPr>
          <a:xfrm>
            <a:off x="5049000" y="4293000"/>
            <a:ext cx="3642840" cy="240948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"/>
          <p:cNvPicPr/>
          <p:nvPr/>
        </p:nvPicPr>
        <p:blipFill>
          <a:blip r:embed="rId2"/>
          <a:stretch/>
        </p:blipFill>
        <p:spPr>
          <a:xfrm>
            <a:off x="5049000" y="1989000"/>
            <a:ext cx="287604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3640" y="4077000"/>
            <a:ext cx="776664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7f3c6"/>
                </a:solidFill>
                <a:latin typeface="Book Antiqua"/>
              </a:rPr>
              <a:t>Белый дым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4" descr=""/>
          <p:cNvPicPr/>
          <p:nvPr/>
        </p:nvPicPr>
        <p:blipFill>
          <a:blip r:embed="rId1"/>
          <a:srcRect l="2703" t="0" r="2703" b="0"/>
          <a:stretch/>
        </p:blipFill>
        <p:spPr>
          <a:xfrm rot="246600">
            <a:off x="287280" y="626760"/>
            <a:ext cx="4200840" cy="3166560"/>
          </a:xfrm>
          <a:prstGeom prst="rect">
            <a:avLst/>
          </a:prstGeom>
          <a:ln w="190500">
            <a:noFill/>
          </a:ln>
          <a:effectLst>
            <a:softEdge rad="112680"/>
          </a:effectLst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7640" y="4365000"/>
            <a:ext cx="8208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Сикстинская капелла обычно открыта для туристов и закрывается только в то время, когда в Ватикане идет процедура избрания нового папы римского коллегией кардиналов. По традиции, о результатах голосования извещает столб дыма от сжигаемых бюллетеней. Если решение не принято, то над капеллой вздымается черный дым, если же папа избран - белый. Цвет дыму придают особые вещества, добавляемые в жаровню. 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296" name="Рисунок 2" descr=""/>
          <p:cNvPicPr/>
          <p:nvPr/>
        </p:nvPicPr>
        <p:blipFill>
          <a:blip r:embed="rId2"/>
          <a:stretch/>
        </p:blipFill>
        <p:spPr>
          <a:xfrm rot="310200">
            <a:off x="4932000" y="720720"/>
            <a:ext cx="3962880" cy="317952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467640" y="1340640"/>
            <a:ext cx="8424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ане преобладает субтропическая растительность. Здесь располагается большое количество чудесных садов, а также на территории произрастают кедры, сосны, кипарисы, самшит, пальмы, оливы, магнолии, плю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"/>
          <p:cNvSpPr/>
          <p:nvPr/>
        </p:nvSpPr>
        <p:spPr>
          <a:xfrm>
            <a:off x="1575360" y="260640"/>
            <a:ext cx="5742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deaba8"/>
                </a:solidFill>
                <a:latin typeface="Arial"/>
              </a:rPr>
              <a:t>Флора Ватик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3" descr=""/>
          <p:cNvPicPr/>
          <p:nvPr/>
        </p:nvPicPr>
        <p:blipFill>
          <a:blip r:embed="rId1"/>
          <a:stretch/>
        </p:blipFill>
        <p:spPr>
          <a:xfrm>
            <a:off x="251640" y="2664360"/>
            <a:ext cx="3164760" cy="237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0" name="Рисунок 4" descr=""/>
          <p:cNvPicPr/>
          <p:nvPr/>
        </p:nvPicPr>
        <p:blipFill>
          <a:blip r:embed="rId2"/>
          <a:stretch/>
        </p:blipFill>
        <p:spPr>
          <a:xfrm>
            <a:off x="251640" y="5013000"/>
            <a:ext cx="2729520" cy="1819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1" name="Рисунок 5" descr=""/>
          <p:cNvPicPr/>
          <p:nvPr/>
        </p:nvPicPr>
        <p:blipFill>
          <a:blip r:embed="rId3"/>
          <a:stretch/>
        </p:blipFill>
        <p:spPr>
          <a:xfrm>
            <a:off x="3636000" y="2744640"/>
            <a:ext cx="2975760" cy="2212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2" name="Рисунок 6" descr=""/>
          <p:cNvPicPr/>
          <p:nvPr/>
        </p:nvPicPr>
        <p:blipFill>
          <a:blip r:embed="rId4"/>
          <a:stretch/>
        </p:blipFill>
        <p:spPr>
          <a:xfrm>
            <a:off x="3179160" y="5050800"/>
            <a:ext cx="2374200" cy="1781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3" name="Рисунок 7" descr=""/>
          <p:cNvPicPr/>
          <p:nvPr/>
        </p:nvPicPr>
        <p:blipFill>
          <a:blip r:embed="rId5"/>
          <a:stretch/>
        </p:blipFill>
        <p:spPr>
          <a:xfrm>
            <a:off x="6948360" y="2752920"/>
            <a:ext cx="1470960" cy="219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4" name="Рисунок 8" descr=""/>
          <p:cNvPicPr/>
          <p:nvPr/>
        </p:nvPicPr>
        <p:blipFill>
          <a:blip r:embed="rId6"/>
          <a:stretch/>
        </p:blipFill>
        <p:spPr>
          <a:xfrm flipH="1">
            <a:off x="5796720" y="5060520"/>
            <a:ext cx="3000960" cy="1747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395640" y="1412640"/>
            <a:ext cx="8496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ане распространены мелкие хищники, такие, как ласка, куница и грызуны, местами встречаются кабаны и волки. Среди пернатых водятся орлы, стервятники, куропатки, перепел. Много ядовитых змей и скорпионов, а также бабочек и ж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1575360" y="332640"/>
            <a:ext cx="5670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deaba8"/>
                </a:solidFill>
                <a:latin typeface="Arial"/>
              </a:rPr>
              <a:t>Фауна Ватик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1"/>
          <a:stretch/>
        </p:blipFill>
        <p:spPr>
          <a:xfrm>
            <a:off x="395640" y="2736360"/>
            <a:ext cx="2411280" cy="2059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8" name="Рисунок 4" descr=""/>
          <p:cNvPicPr/>
          <p:nvPr/>
        </p:nvPicPr>
        <p:blipFill>
          <a:blip r:embed="rId2"/>
          <a:stretch/>
        </p:blipFill>
        <p:spPr>
          <a:xfrm>
            <a:off x="370080" y="4869000"/>
            <a:ext cx="2462400" cy="1846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9" name="Рисунок 5" descr=""/>
          <p:cNvPicPr/>
          <p:nvPr/>
        </p:nvPicPr>
        <p:blipFill>
          <a:blip r:embed="rId3"/>
          <a:stretch/>
        </p:blipFill>
        <p:spPr>
          <a:xfrm>
            <a:off x="3060000" y="2792880"/>
            <a:ext cx="2850840" cy="1946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10" name="Рисунок 6" descr=""/>
          <p:cNvPicPr/>
          <p:nvPr/>
        </p:nvPicPr>
        <p:blipFill>
          <a:blip r:embed="rId4"/>
          <a:stretch/>
        </p:blipFill>
        <p:spPr>
          <a:xfrm>
            <a:off x="3113640" y="4871880"/>
            <a:ext cx="2543760" cy="1812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11" name="Рисунок 8" descr=""/>
          <p:cNvPicPr/>
          <p:nvPr/>
        </p:nvPicPr>
        <p:blipFill>
          <a:blip r:embed="rId5"/>
          <a:stretch/>
        </p:blipFill>
        <p:spPr>
          <a:xfrm>
            <a:off x="5975640" y="2792880"/>
            <a:ext cx="3082320" cy="1926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12" name="Рисунок 9" descr=""/>
          <p:cNvPicPr/>
          <p:nvPr/>
        </p:nvPicPr>
        <p:blipFill>
          <a:blip r:embed="rId6"/>
          <a:stretch/>
        </p:blipFill>
        <p:spPr>
          <a:xfrm>
            <a:off x="5975640" y="4861800"/>
            <a:ext cx="2794320" cy="1861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Hardcover</Template>
  <TotalTime>95</TotalTime>
  <Application>LibreOffice/7.4.7.2$Linux_X86_64 LibreOffice_project/40$Build-2</Application>
  <AppVersion>15.0000</AppVersion>
  <Words>916</Words>
  <Paragraphs>24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12:05Z</dcterms:created>
  <dc:creator>HOME</dc:creator>
  <dc:description/>
  <dc:language>en-US</dc:language>
  <cp:lastModifiedBy>HOME</cp:lastModifiedBy>
  <dcterms:modified xsi:type="dcterms:W3CDTF">2012-05-21T16:50:34Z</dcterms:modified>
  <cp:revision>9</cp:revision>
  <dc:subject/>
  <dc:title>Ватик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