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F2E-D96E-433D-B049-8D178A32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B77-1EB1-4E67-998E-21A0A9B2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736-A8D9-4AA8-A396-9C51D9CA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3DF-507C-4F4E-944B-7585BC3C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BC44-B077-446F-A08B-247D4B8F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7F80-67FA-4721-A7BF-E0C0297B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C38-169B-490A-BAD9-F9106C72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1FD8-6AAD-483D-B48A-766424D2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A6FC-D625-4BD2-B222-BD4FB91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F833-34AF-411C-B074-638DD52F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2393-B802-4F2A-921B-01B82327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4E0-87DB-428A-A021-A39BBA1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E493-9FF5-421F-ADEA-6D4755D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BB9C-E57A-4FE7-9655-5B06ABE8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066B-47F2-4096-BD09-A8B99627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7F07-90B5-4425-BC2E-A2B7D828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C82A-5973-4507-BBAC-63F1A6CA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3515-560C-4A4D-A9A5-B9D81DE1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2A26-0EC8-4B41-A763-AF7286AE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B359-A775-46AB-9722-5E492EFE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3034-654D-408A-B951-5F160F9F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FE88B-6F8D-40ED-A5EC-4293DA27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AEB-C8B6-4088-B395-DAF04899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F7139-4333-4691-87C4-39245B5A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4149-D9C0-4502-BBB4-31E9D4D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BDB6-4060-437B-9E3B-C7656D55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104C-74CD-4437-964A-A101625D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9182F-5899-4ACC-8B9F-5E5CFAC5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7C6B-32AB-4F62-B9F1-1283764F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4C75-7DDB-460F-9D39-23CFE819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E450-19C0-4F12-B77D-97089A63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0BD6-9160-4D8F-AEC0-F6A14BD6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AD44-3645-4917-A93A-C35945E1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F22-3E4D-4B4B-8F4C-952729FA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22CA-9F9C-44EF-AF32-0756365C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08A52-5F0D-47A6-A881-1F27D15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415F-33B5-4241-8B4F-F9635352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B3D3-AD0C-4ECF-84E3-DD0DAB9D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3EC81-521C-4D66-BA31-EEB4C0E5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8FF02-929F-4AC5-821C-CC39FDF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F0EEA-B782-47A4-9A3F-0918A90F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0B34B-AD4E-4411-9934-06A31B9C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33AB-CBA0-47B6-8CB7-0A3197B8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A207E-1AF8-4CCD-8EF3-75B30C50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BCE-4C92-4C9C-B62B-544B1EF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E88E7-12CD-4DEE-92BE-BB90F09B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8279E-9076-4858-8C44-D88A4520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FFD9-2B6E-4FEA-A6C4-40582890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C257D-96B1-43CF-A4F4-CBFE2379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6114E-8544-48C7-BA91-96BC34B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CA1A-FC50-49DB-990B-7C187A48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046F-73F3-4E0F-8C52-739FBC0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D1D41-7661-4E7B-B783-D04FFA0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F896A-88B0-47E6-BC6C-3222A659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8B20-4984-4E76-B114-61C11929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139-BC85-42DE-B035-C78F13B6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83C3F-C783-46CA-AA20-32053DBB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E359A-F5C7-4B79-8202-D3319744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3BCF-40B3-47AD-8883-002A61DF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89984-BD7E-4F61-8FDE-CBE095AC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5E90A-1BB8-4436-8FCB-ABC6444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DAE37-9B9E-4F95-90E2-A26843A8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29D6B-1DAD-4006-AC21-93AF0094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7B904-EA27-4C2C-B33D-112FAF6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2EED2-45FC-4527-AA6F-4DAE30C1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EFCD-7372-409A-A5BE-C116A60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F5D-AC72-45BC-A6FF-CC71990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3A7CA-64F0-4B1B-909B-14D3755B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92FBC-90D9-4531-85FD-C64B7DBA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A5762-CC88-459D-8B34-F6700D8C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A1C-8F5B-4318-8F06-FC45BAE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900-CFB9-4CF2-80FD-4D5E6AF4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11372"/>
                </a:srgbClr>
              </a:gs>
              <a:gs pos="100000">
                <a:srgbClr val="674616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ce9c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A80144-6901-4501-ABEA-B7409887149C}" type="slidenum">
              <a:rPr b="0" lang="ru-RU" sz="1200" spc="-1" strike="noStrike">
                <a:solidFill>
                  <a:srgbClr val="ece9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193760" y="2887560"/>
            <a:ext cx="6779160" cy="912600"/>
            <a:chOff x="1193760" y="2887560"/>
            <a:chExt cx="6779160" cy="912600"/>
          </a:xfrm>
        </p:grpSpPr>
        <p:sp>
          <p:nvSpPr>
            <p:cNvPr id="6" name="TextBox 8"/>
            <p:cNvSpPr/>
            <p:nvPr/>
          </p:nvSpPr>
          <p:spPr>
            <a:xfrm>
              <a:off x="4310640" y="288756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e1dca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" name="Straight Connector 9"/>
            <p:cNvCxnSpPr/>
            <p:nvPr/>
          </p:nvCxnSpPr>
          <p:spPr>
            <a:xfrm flipH="1" flipV="1">
              <a:off x="1193760" y="3431520"/>
              <a:ext cx="312012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  <p:cxnSp>
          <p:nvCxnSpPr>
            <p:cNvPr id="8" name="Straight Connector 10"/>
            <p:cNvCxnSpPr/>
            <p:nvPr/>
          </p:nvCxnSpPr>
          <p:spPr>
            <a:xfrm flipH="1" flipV="1">
              <a:off x="4853160" y="3429000"/>
              <a:ext cx="312012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183320" y="1387800"/>
            <a:ext cx="6777000" cy="17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ln>
                  <a:solidFill>
                    <a:srgbClr val="ffffff">
                      <a:alpha val="65000"/>
                    </a:srgbClr>
                  </a:solidFill>
                </a:ln>
                <a:solidFill>
                  <a:srgbClr val="ffffff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4CD719-D526-4D16-87CF-CC6DBEC5832A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7880" y="4668840"/>
            <a:ext cx="776664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 rot="21480000">
            <a:off x="2183760" y="666720"/>
            <a:ext cx="4771800" cy="3597480"/>
          </a:xfrm>
          <a:prstGeom prst="rect">
            <a:avLst/>
          </a:prstGeom>
          <a:solidFill>
            <a:srgbClr val="ededed"/>
          </a:solidFill>
          <a:ln cap="sq" w="190440">
            <a:solidFill>
              <a:srgbClr val="ffffff"/>
            </a:solidFill>
            <a:miter/>
          </a:ln>
          <a:effectLst>
            <a:outerShdw dist="50432" dir="12889470" blurRad="65160" rotWithShape="0">
              <a:srgbClr val="000000">
                <a:alpha val="24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88320" y="5324400"/>
            <a:ext cx="77558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C017C8-9B68-4304-92AD-3FEE30C30EA0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33" name="Picture 11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1172520" y="2887560"/>
            <a:ext cx="6779160" cy="912600"/>
            <a:chOff x="1172520" y="2887560"/>
            <a:chExt cx="6779160" cy="912600"/>
          </a:xfrm>
        </p:grpSpPr>
        <p:sp>
          <p:nvSpPr>
            <p:cNvPr id="135" name="TextBox 8"/>
            <p:cNvSpPr/>
            <p:nvPr/>
          </p:nvSpPr>
          <p:spPr>
            <a:xfrm>
              <a:off x="4289400" y="288756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Straight Connector 9"/>
            <p:cNvCxnSpPr/>
            <p:nvPr/>
          </p:nvCxnSpPr>
          <p:spPr>
            <a:xfrm flipH="1" flipV="1">
              <a:off x="1172520" y="343152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137" name="Straight Connector 10"/>
            <p:cNvCxnSpPr/>
            <p:nvPr/>
          </p:nvCxnSpPr>
          <p:spPr>
            <a:xfrm flipH="1" flipV="1">
              <a:off x="4831920" y="343332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0120" y="1204920"/>
            <a:ext cx="7754400" cy="191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9120" y="3767400"/>
            <a:ext cx="77342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95d1d"/>
                </a:solidFill>
                <a:latin typeface="Book Antiqua"/>
              </a:rPr>
              <a:t>Образец текста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EBA1B5-98FF-4C1D-9878-51D38E0E9EC7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13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4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5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891DCC-7E33-47E1-9EA4-5D8D90A1FBE2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2"/>
          <p:cNvGrpSpPr/>
          <p:nvPr/>
        </p:nvGrpSpPr>
        <p:grpSpPr>
          <a:xfrm>
            <a:off x="1172520" y="1392120"/>
            <a:ext cx="6779160" cy="912600"/>
            <a:chOff x="1172520" y="1392120"/>
            <a:chExt cx="6779160" cy="912600"/>
          </a:xfrm>
        </p:grpSpPr>
        <p:sp>
          <p:nvSpPr>
            <p:cNvPr id="185" name="TextBox 13"/>
            <p:cNvSpPr/>
            <p:nvPr/>
          </p:nvSpPr>
          <p:spPr>
            <a:xfrm>
              <a:off x="42894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Straight Connector 14"/>
            <p:cNvCxnSpPr/>
            <p:nvPr/>
          </p:nvCxnSpPr>
          <p:spPr>
            <a:xfrm flipH="1" flipV="1">
              <a:off x="1172520" y="193608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187" name="Straight Connector 15"/>
            <p:cNvCxnSpPr/>
            <p:nvPr/>
          </p:nvCxnSpPr>
          <p:spPr>
            <a:xfrm flipH="1" flipV="1">
              <a:off x="4831920" y="1933200"/>
              <a:ext cx="3120120" cy="180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685800" y="2240280"/>
            <a:ext cx="3803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body"/>
          </p:nvPr>
        </p:nvSpPr>
        <p:spPr>
          <a:xfrm>
            <a:off x="4645080" y="2240280"/>
            <a:ext cx="3803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C76B44-75CA-4DF3-B9D7-C20CF8337962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1"/>
          <p:cNvGrpSpPr/>
          <p:nvPr/>
        </p:nvGrpSpPr>
        <p:grpSpPr>
          <a:xfrm>
            <a:off x="1172520" y="1392120"/>
            <a:ext cx="6779160" cy="912600"/>
            <a:chOff x="1172520" y="1392120"/>
            <a:chExt cx="6779160" cy="912600"/>
          </a:xfrm>
        </p:grpSpPr>
        <p:sp>
          <p:nvSpPr>
            <p:cNvPr id="233" name="TextBox 12"/>
            <p:cNvSpPr/>
            <p:nvPr/>
          </p:nvSpPr>
          <p:spPr>
            <a:xfrm>
              <a:off x="42894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Straight Connector 13"/>
            <p:cNvCxnSpPr/>
            <p:nvPr/>
          </p:nvCxnSpPr>
          <p:spPr>
            <a:xfrm flipH="1" flipV="1">
              <a:off x="1172520" y="193608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235" name="Straight Connector 14"/>
            <p:cNvCxnSpPr/>
            <p:nvPr/>
          </p:nvCxnSpPr>
          <p:spPr>
            <a:xfrm flipH="1" flipV="1">
              <a:off x="4831920" y="1933200"/>
              <a:ext cx="3120120" cy="180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3320" y="1387800"/>
            <a:ext cx="6777000" cy="17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ln>
                  <a:solidFill>
                    <a:srgbClr val="ffffff">
                      <a:alpha val="65000"/>
                    </a:srgbClr>
                  </a:solidFill>
                </a:ln>
                <a:solidFill>
                  <a:srgbClr val="ffffff"/>
                </a:solidFill>
                <a:latin typeface="Book Antiqua"/>
              </a:rPr>
              <a:t>Ватикан</a:t>
            </a:r>
            <a:endParaRPr b="0" lang="ru-RU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7677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е маленькое государство 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5076000" y="5157360"/>
            <a:ext cx="3672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ученица 7 «А» класса Селифанова Мария, руководитель: Сбитнева Еле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42480" y="2853000"/>
            <a:ext cx="9152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300" spc="-1" strike="noStrike">
                <a:solidFill>
                  <a:srgbClr val="deaba8"/>
                </a:solidFill>
                <a:latin typeface="Arial"/>
              </a:rPr>
              <a:t>Спасибо за Внимание!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78840" y="3645000"/>
            <a:ext cx="90360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Ватикан получил от названия холма Mons Vaticanus, с латинского vaticinia - "место гаданий". Это церковное государство - самое маленькое в мире. В Ватикане нет постоянного населения. Расположенный в западной части Рима Ватикан является резиденцией папы римского, высших органов управления римско-католической церкви и служащих ватиканских учреждений. Ватиканское подданство имеют около тысячи человек. Ватикан не имеет никакой налоговой системы и импортирует все товары, предоставляя торговцам соответствующие разрешения. Все граждане Ватикана, высшие должностные лица римской курии, все духовные и светские сотрудники папской администрации, а также члены семей последних, имеют право покупать товары по более низким, чем в Риме, це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Рисунок 2"/>
          <p:cNvSpPr/>
          <p:nvPr/>
        </p:nvSpPr>
        <p:spPr>
          <a:xfrm>
            <a:off x="2195640" y="88200"/>
            <a:ext cx="4680000" cy="3510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640" y="3933000"/>
            <a:ext cx="776664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895d1d"/>
                </a:solidFill>
                <a:latin typeface="Book Antiqua"/>
              </a:rPr>
              <a:t>Глава Ватикана – Папа Римский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4" descr=""/>
          <p:cNvPicPr/>
          <p:nvPr/>
        </p:nvPicPr>
        <p:blipFill>
          <a:blip r:embed="rId1"/>
          <a:srcRect l="0" t="1732" r="0" b="1732"/>
          <a:stretch/>
        </p:blipFill>
        <p:spPr>
          <a:xfrm rot="240000">
            <a:off x="1741680" y="110880"/>
            <a:ext cx="4875840" cy="3676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24000"/>
              </a:srgbClr>
            </a:outerShdw>
          </a:effectLst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640" y="4797000"/>
            <a:ext cx="856872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Глава Ватикана - Папа Римский - избирается пожизненно тайным голосованием на коллегии кардиналов (конклаве), обладает верховной законодательной, исполнительной и судебной властью. Высший законодательный орган Ватикана - однопалатный Папский совет. 16 октября 1978 года на папский престол был избран поляк Кароль Войтыла - первый в истории папа-славянин и первый за 455 лет папа неитальянец (Иоанн Павел II). После его кончины в 2005 году на папский престол вступил кардинал Йозеф Ратцингер, принявший имя Бенедикт XVI.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5440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895d1d"/>
                </a:solidFill>
                <a:latin typeface="Book Antiqua"/>
              </a:rPr>
              <a:t>Географическое полож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9120" y="3422160"/>
            <a:ext cx="7976880" cy="310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95d1d"/>
                </a:solidFill>
                <a:latin typeface="Book Antiqua"/>
              </a:rPr>
              <a:t>Миниатюрное государство Ватикан расположено в западной части столицы Италии - Рима, на холме Монте-Ватикана. Территория Ватикана, почти по всему периметру окруженная средневековыми стенами, включает культовый и дворцовый комплексы, сады, музеи, картинные галереи и административные здания. Формально итальянско-ватиканская граница проходит через площадь Св. Петра, но она никак не обозначена на местности. На принципах экстерриториальности Ватикану принадлежит ряд объектов и учреждений, расположенных вне его границ, в т.ч. базилика Сан-Джованни-ин-Латерано в Риме другие знаменитые церкви Рима, радиостанция в Санта-Мария-ди-Галерея, летняя резиденция папы в Кастель-Гандольфо. Такой же статус имеют учебные заведения: Папский григорианский университет "Григорианум" (основан в 1553 году), Университет папы Урбана (основан в 1627 году), Папский латеранский университет (основан в 1824 году), Папский университет св. Фомы Аквинского "Ангеликум" (основан в 1909 году) и Папский салезианский университет (основан в 1940 году). Кроме того, Ватикан имеет земельные владения в Италии и Испании.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282" name="Рисунок 3" descr=""/>
          <p:cNvPicPr/>
          <p:nvPr/>
        </p:nvPicPr>
        <p:blipFill>
          <a:blip r:embed="rId1"/>
          <a:stretch/>
        </p:blipFill>
        <p:spPr>
          <a:xfrm>
            <a:off x="899640" y="906840"/>
            <a:ext cx="3047760" cy="24076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"/>
          <p:cNvPicPr/>
          <p:nvPr/>
        </p:nvPicPr>
        <p:blipFill>
          <a:blip r:embed="rId2"/>
          <a:stretch/>
        </p:blipFill>
        <p:spPr>
          <a:xfrm>
            <a:off x="5108040" y="902160"/>
            <a:ext cx="2952000" cy="24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собенности жизненного устройства Ватикан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845000"/>
            <a:ext cx="396000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>
              <a:lnSpc>
                <a:spcPct val="100000"/>
              </a:lnSpc>
              <a:spcBef>
                <a:spcPts val="28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400" spc="-1" strike="noStrike">
                <a:solidFill>
                  <a:srgbClr val="262626"/>
                </a:solidFill>
                <a:latin typeface="Book Antiqua"/>
              </a:rPr>
              <a:t>Транспортное движение на узких улочках Ватикана не значительно. Ватиканские номера имеют только автомобили самого папы, кардиналов, высших светских сановников римской курии, а также личный транспорт граждан Ватикана. Частные автомашины духовных и светских сотрудников ездят с римскими номерами. </a:t>
            </a:r>
            <a:endParaRPr b="0" lang="ru-RU" sz="1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88000" y="2133000"/>
            <a:ext cx="442764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" indent="-365760">
              <a:lnSpc>
                <a:spcPct val="100000"/>
              </a:lnSpc>
              <a:spcBef>
                <a:spcPts val="28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400" spc="-1" strike="noStrike">
                <a:solidFill>
                  <a:srgbClr val="262626"/>
                </a:solidFill>
                <a:latin typeface="Book Antiqua"/>
              </a:rPr>
              <a:t>Бюджет государства ежегодно пополняется за счет доходов от туризма, церковных пожертвований со всего мира, доходов от размещения капиталов в иностранных банках, земельной аренды и продажи почтовых марок. Дополнительные доходы приносит чеканска собственной монеты и памятных медалей. В Ватикане есть свой вокзал. Кроме того, Ватикан имеет собственную радиостанцию, а с 1929 года издает газету "L'Osservatore Romano". Ватиканская аптека знаменита тем, что в ней есть все лекарства, какие только изготавливаются в мире. </a:t>
            </a:r>
            <a:endParaRPr b="0" lang="ru-RU" sz="14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287" name="Рисунок 4" descr=""/>
          <p:cNvPicPr/>
          <p:nvPr/>
        </p:nvPicPr>
        <p:blipFill>
          <a:blip r:embed="rId1"/>
          <a:stretch/>
        </p:blipFill>
        <p:spPr>
          <a:xfrm>
            <a:off x="5580000" y="4997520"/>
            <a:ext cx="2642760" cy="173592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"/>
          <p:cNvPicPr/>
          <p:nvPr/>
        </p:nvPicPr>
        <p:blipFill>
          <a:blip r:embed="rId2"/>
          <a:stretch/>
        </p:blipFill>
        <p:spPr>
          <a:xfrm>
            <a:off x="395640" y="4208760"/>
            <a:ext cx="3299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2008800"/>
            <a:ext cx="4752000" cy="46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>
              <a:lnSpc>
                <a:spcPct val="100000"/>
              </a:lnSpc>
              <a:spcBef>
                <a:spcPts val="1120"/>
              </a:spcBef>
              <a:buNone/>
            </a:pPr>
            <a:endParaRPr b="0" lang="ru-RU" sz="5600" spc="-1" strike="noStrike">
              <a:solidFill>
                <a:srgbClr val="262626"/>
              </a:solidFill>
              <a:latin typeface="Book Antiqua"/>
            </a:endParaRPr>
          </a:p>
          <a:p>
            <a:pPr marL="307080" indent="-307080">
              <a:lnSpc>
                <a:spcPct val="100000"/>
              </a:lnSpc>
              <a:spcBef>
                <a:spcPts val="96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4800" spc="-1" strike="noStrike">
                <a:solidFill>
                  <a:srgbClr val="262626"/>
                </a:solidFill>
                <a:latin typeface="Book Antiqua"/>
              </a:rPr>
              <a:t>Достопримечательности Ватикана настолько известны и притягательны с познавательной точки зрения, что ежегодно со всего света в Ватикан съезжаются паломники и туристы, желающие полюбоваться уникальными памятниками. В центре самой большой римской площади Св. Петра (340 x 240 м) возвышается египетский обелиск высотой 25 м. Ценнейшим памятником итальянского Возрождения и эпохи барокко является собор Св. Петра. Храм возведен по проекту Донато Браманте, а обрамляющая площадь колоннада из 284 колонн - творение Лоренцо Бернини. Монументальный фасад спроектировал Карло Мадерно, а над его колоннами выбито латинскими буквами имя заказчика - папы Павла V Боргезе. Громаду собора венчает огромный купол - творение Микеланджело. Собор Св. Петра по праву признан одним из величайших шедевров мировой архитектуры. Дворцы и музеи Ватикана представляют собой один из крупнейших комплексов мира. В из бесчисленных залах, галереях, библиотеках, вестибюлях, внутренних двориках и садах хранятся драгоценные произведения искусства, собранные римскими понтификами на протяжении веков. Библиотека Ватикана располагает одним из богатейших в мире собраний книг и старинных манускриптов. В просторном Сикстинском зале выставлена на обозрение рукописная Библия IV века. Сикстинская капелла была построена в 1471-81 гг. архитектором Джованни Дольчи по заказу папы Сикста IV. В 1535-41 гг. ее стены и плафон расписал своими фресками знаменитый Микеланджело - сегодня это одна из главных достопримечательностей Ватикана.</a:t>
            </a:r>
            <a:endParaRPr b="0" lang="ru-RU" sz="48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70320" y="39816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Достопримечательности Ватикан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3" descr=""/>
          <p:cNvPicPr/>
          <p:nvPr/>
        </p:nvPicPr>
        <p:blipFill>
          <a:blip r:embed="rId1"/>
          <a:stretch/>
        </p:blipFill>
        <p:spPr>
          <a:xfrm>
            <a:off x="5049000" y="4293000"/>
            <a:ext cx="3642840" cy="240948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"/>
          <p:cNvPicPr/>
          <p:nvPr/>
        </p:nvPicPr>
        <p:blipFill>
          <a:blip r:embed="rId2"/>
          <a:stretch/>
        </p:blipFill>
        <p:spPr>
          <a:xfrm>
            <a:off x="5049000" y="1989000"/>
            <a:ext cx="287604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3640" y="4077000"/>
            <a:ext cx="776664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7f3c6"/>
                </a:solidFill>
                <a:latin typeface="Book Antiqua"/>
              </a:rPr>
              <a:t>Белый дым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4" descr=""/>
          <p:cNvPicPr/>
          <p:nvPr/>
        </p:nvPicPr>
        <p:blipFill>
          <a:blip r:embed="rId1"/>
          <a:srcRect l="2703" t="0" r="2703" b="0"/>
          <a:stretch/>
        </p:blipFill>
        <p:spPr>
          <a:xfrm rot="246600">
            <a:off x="287280" y="626760"/>
            <a:ext cx="4200840" cy="3166560"/>
          </a:xfrm>
          <a:prstGeom prst="rect">
            <a:avLst/>
          </a:prstGeom>
          <a:ln w="190500">
            <a:noFill/>
          </a:ln>
          <a:effectLst>
            <a:softEdge rad="112680"/>
          </a:effectLst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7640" y="4365000"/>
            <a:ext cx="8208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Сикстинская капелла обычно открыта для туристов и закрывается только в то время, когда в Ватикане идет процедура избрания нового папы римского коллегией кардиналов. По традиции, о результатах голосования извещает столб дыма от сжигаемых бюллетеней. Если решение не принято, то над капеллой вздымается черный дым, если же папа избран - белый. Цвет дыму придают особые вещества, добавляемые в жаровню. 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296" name="Рисунок 2" descr=""/>
          <p:cNvPicPr/>
          <p:nvPr/>
        </p:nvPicPr>
        <p:blipFill>
          <a:blip r:embed="rId2"/>
          <a:stretch/>
        </p:blipFill>
        <p:spPr>
          <a:xfrm rot="310200">
            <a:off x="4932000" y="720720"/>
            <a:ext cx="3962880" cy="317952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467640" y="1340640"/>
            <a:ext cx="8424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ане преобладает субтропическая растительность. Здесь располагается большое количество чудесных садов, а также на территории произрастают кедры, сосны, кипарисы, самшит, пальмы, оливы, магнолии, плю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"/>
          <p:cNvSpPr/>
          <p:nvPr/>
        </p:nvSpPr>
        <p:spPr>
          <a:xfrm>
            <a:off x="1575360" y="260640"/>
            <a:ext cx="5742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deaba8"/>
                </a:solidFill>
                <a:latin typeface="Arial"/>
              </a:rPr>
              <a:t>Флора Ватик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3" descr=""/>
          <p:cNvPicPr/>
          <p:nvPr/>
        </p:nvPicPr>
        <p:blipFill>
          <a:blip r:embed="rId1"/>
          <a:stretch/>
        </p:blipFill>
        <p:spPr>
          <a:xfrm>
            <a:off x="251640" y="2664360"/>
            <a:ext cx="3164760" cy="237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0" name="Рисунок 4" descr=""/>
          <p:cNvPicPr/>
          <p:nvPr/>
        </p:nvPicPr>
        <p:blipFill>
          <a:blip r:embed="rId2"/>
          <a:stretch/>
        </p:blipFill>
        <p:spPr>
          <a:xfrm>
            <a:off x="251640" y="5013000"/>
            <a:ext cx="2729520" cy="1819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1" name="Рисунок 5" descr=""/>
          <p:cNvPicPr/>
          <p:nvPr/>
        </p:nvPicPr>
        <p:blipFill>
          <a:blip r:embed="rId3"/>
          <a:stretch/>
        </p:blipFill>
        <p:spPr>
          <a:xfrm>
            <a:off x="3636000" y="2744640"/>
            <a:ext cx="2975760" cy="2212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2" name="Рисунок 6" descr=""/>
          <p:cNvPicPr/>
          <p:nvPr/>
        </p:nvPicPr>
        <p:blipFill>
          <a:blip r:embed="rId4"/>
          <a:stretch/>
        </p:blipFill>
        <p:spPr>
          <a:xfrm>
            <a:off x="3179160" y="5050800"/>
            <a:ext cx="2374200" cy="1781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3" name="Рисунок 7" descr=""/>
          <p:cNvPicPr/>
          <p:nvPr/>
        </p:nvPicPr>
        <p:blipFill>
          <a:blip r:embed="rId5"/>
          <a:stretch/>
        </p:blipFill>
        <p:spPr>
          <a:xfrm>
            <a:off x="6948360" y="2752920"/>
            <a:ext cx="1470960" cy="219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4" name="Рисунок 8" descr=""/>
          <p:cNvPicPr/>
          <p:nvPr/>
        </p:nvPicPr>
        <p:blipFill>
          <a:blip r:embed="rId6"/>
          <a:stretch/>
        </p:blipFill>
        <p:spPr>
          <a:xfrm flipH="1">
            <a:off x="5796720" y="5060520"/>
            <a:ext cx="3000960" cy="1747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395640" y="1412640"/>
            <a:ext cx="8496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ане распространены мелкие хищники, такие, как ласка, куница и грызуны, местами встречаются кабаны и волки. Среди пернатых водятся орлы, стервятники, куропатки, перепел. Много ядовитых змей и скорпионов, а также бабочек и ж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1575360" y="332640"/>
            <a:ext cx="5670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deaba8"/>
                </a:solidFill>
                <a:latin typeface="Arial"/>
              </a:rPr>
              <a:t>Фауна Ватик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1"/>
          <a:stretch/>
        </p:blipFill>
        <p:spPr>
          <a:xfrm>
            <a:off x="395640" y="2736360"/>
            <a:ext cx="2411280" cy="2059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8" name="Рисунок 4" descr=""/>
          <p:cNvPicPr/>
          <p:nvPr/>
        </p:nvPicPr>
        <p:blipFill>
          <a:blip r:embed="rId2"/>
          <a:stretch/>
        </p:blipFill>
        <p:spPr>
          <a:xfrm>
            <a:off x="370080" y="4869000"/>
            <a:ext cx="2462400" cy="1846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9" name="Рисунок 5" descr=""/>
          <p:cNvPicPr/>
          <p:nvPr/>
        </p:nvPicPr>
        <p:blipFill>
          <a:blip r:embed="rId3"/>
          <a:stretch/>
        </p:blipFill>
        <p:spPr>
          <a:xfrm>
            <a:off x="3060000" y="2792880"/>
            <a:ext cx="2850840" cy="1946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10" name="Рисунок 6" descr=""/>
          <p:cNvPicPr/>
          <p:nvPr/>
        </p:nvPicPr>
        <p:blipFill>
          <a:blip r:embed="rId4"/>
          <a:stretch/>
        </p:blipFill>
        <p:spPr>
          <a:xfrm>
            <a:off x="3113640" y="4871880"/>
            <a:ext cx="2543760" cy="1812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11" name="Рисунок 8" descr=""/>
          <p:cNvPicPr/>
          <p:nvPr/>
        </p:nvPicPr>
        <p:blipFill>
          <a:blip r:embed="rId5"/>
          <a:stretch/>
        </p:blipFill>
        <p:spPr>
          <a:xfrm>
            <a:off x="5975640" y="2792880"/>
            <a:ext cx="3082320" cy="1926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12" name="Рисунок 9" descr=""/>
          <p:cNvPicPr/>
          <p:nvPr/>
        </p:nvPicPr>
        <p:blipFill>
          <a:blip r:embed="rId6"/>
          <a:stretch/>
        </p:blipFill>
        <p:spPr>
          <a:xfrm>
            <a:off x="5975640" y="4861800"/>
            <a:ext cx="2794320" cy="1861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Hardcover</Template>
  <TotalTime>95</TotalTime>
  <Application>LibreOffice/7.4.7.2$Linux_X86_64 LibreOffice_project/40$Build-2</Application>
  <AppVersion>15.0000</AppVersion>
  <Words>916</Words>
  <Paragraphs>24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12:05Z</dcterms:created>
  <dc:creator>HOME</dc:creator>
  <dc:description/>
  <dc:language>en-US</dc:language>
  <cp:lastModifiedBy>HOME</cp:lastModifiedBy>
  <dcterms:modified xsi:type="dcterms:W3CDTF">2012-05-21T16:50:34Z</dcterms:modified>
  <cp:revision>9</cp:revision>
  <dc:subject/>
  <dc:title>Ватик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