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27.jpeg" ContentType="image/jpeg"/>
  <Override PartName="/ppt/media/image50.jpeg" ContentType="image/jpeg"/>
  <Override PartName="/ppt/media/image34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49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35.png" ContentType="image/png"/>
  <Override PartName="/ppt/media/image26.jpeg" ContentType="image/jpeg"/>
  <Override PartName="/ppt/media/image42.png" ContentType="image/png"/>
  <Override PartName="/ppt/media/image29.jpeg" ContentType="image/jpeg"/>
  <Override PartName="/ppt/media/image65.png" ContentType="image/png"/>
  <Override PartName="/ppt/media/image17.jpeg" ContentType="image/jpeg"/>
  <Override PartName="/ppt/media/image61.jpeg" ContentType="image/jpeg"/>
  <Override PartName="/ppt/media/image23.png" ContentType="image/png"/>
  <Override PartName="/ppt/media/image60.jpeg" ContentType="image/jpeg"/>
  <Override PartName="/ppt/media/image6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2.jpeg" ContentType="image/jpeg"/>
  <Override PartName="/ppt/media/image47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28.jpeg" ContentType="image/jpeg"/>
  <Override PartName="/ppt/media/image51.jpeg" ContentType="image/jpeg"/>
  <Override PartName="/ppt/media/image10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3945-3F0F-418D-B9D6-6D37F7739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9C6-9439-4076-A641-99B3CD7B5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A40-CD1D-40C6-85BD-51FB7189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BCE-D446-4E6F-9FA7-A02558E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994-FF80-41EC-81B4-E9881947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3AD-8454-4C61-9DCA-6CCFCA6C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6A9-3B39-408B-88B6-03A74820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C052-128E-48D8-A3E9-FC5379E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3BE6-2FA2-48C5-A906-0A0981F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AE6-0B59-4673-8959-27419E8A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BE25-D411-4119-8C22-259B61C4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51E1-88BB-4A8C-B673-8FBF0D7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CA8B-5CEF-4AD2-A9E1-A13A24F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C95-CA41-49C0-A1B5-99EC8C69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43B-EF34-40BF-B697-BF05CF5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55E2-6BBB-47AB-9C89-4D8A9DA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CB3-0CB6-4BA3-8ABB-3303E06D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A330-2D31-4EFD-91AA-25E2BCDA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8256-CA9A-4D4A-8091-994B74ED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5EC-7B2B-4EB4-8505-69C44809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06C-1B7A-454B-9494-E0F05FD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F49-20E1-4B92-A60F-51FBC0C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962-21B8-4DB3-9764-BF6C25E5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BD3-7953-41E2-9274-36A26BC9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25C-80E1-456D-9E6E-F97BD3E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3CF-57B1-4F8A-875D-0426B93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17C-9239-4422-9AB5-8EEED75BC9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F6E-3D3F-4C05-93E4-52F2C9FDE1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24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В СЕМЬЕ ДРУЗЕЙ ПЕРНАТЫХ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рограмме «Гармония» в 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 учитель начальных классов Пинтера Ири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228600"/>
            <a:ext cx="7634520" cy="9144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ПЕВЧ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0920" y="1700280"/>
            <a:ext cx="3655800" cy="4852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о видов превышает 4000. Все они общаются друг с другом с помощью звуков. Певчие птицы невелики и не вооружены сильными когтями или острыми клювами. Зато их лапки приспособлены для того, чтобы удержаться на ветке, поэтому эти птички могут даже</a:t>
            </a: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 спать на деревьях, не боясь свалиться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16" descr=""/>
          <p:cNvPicPr/>
          <p:nvPr/>
        </p:nvPicPr>
        <p:blipFill>
          <a:blip r:embed="rId1"/>
          <a:srcRect l="25047" t="25007" r="25318" b="4700"/>
          <a:stretch/>
        </p:blipFill>
        <p:spPr>
          <a:xfrm>
            <a:off x="6095880" y="1295280"/>
            <a:ext cx="279108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57" name="Рисунок 17" descr=""/>
          <p:cNvPicPr/>
          <p:nvPr/>
        </p:nvPicPr>
        <p:blipFill>
          <a:blip r:embed="rId2"/>
          <a:srcRect l="24756" t="21122" r="24607" b="4384"/>
          <a:stretch/>
        </p:blipFill>
        <p:spPr>
          <a:xfrm>
            <a:off x="4419720" y="3733920"/>
            <a:ext cx="259056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НЕЛЕТАЮЩ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1484280"/>
            <a:ext cx="3657600" cy="50292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летающие птицы спасаются от преследования и добывают пищу другими способами. Например, страусы способны обогнать любого хищника благодаря своим сильным ногам. А пингвины плавают не хуже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D:\Мои документы\Галина\Баленко\пинг.bmp"/>
          <p:cNvPicPr/>
          <p:nvPr/>
        </p:nvPicPr>
        <p:blipFill>
          <a:blip r:embed="rId1"/>
          <a:stretch/>
        </p:blipFill>
        <p:spPr>
          <a:xfrm>
            <a:off x="6248520" y="1219320"/>
            <a:ext cx="2743200" cy="2819160"/>
          </a:xfrm>
          <a:prstGeom prst="rect">
            <a:avLst/>
          </a:prstGeom>
          <a:ln w="9360">
            <a:solidFill>
              <a:srgbClr val="012e91"/>
            </a:solidFill>
            <a:miter/>
          </a:ln>
        </p:spPr>
      </p:pic>
      <p:pic>
        <p:nvPicPr>
          <p:cNvPr id="161" name="Picture 6" descr="D:\Мои документы\Галина\страус.bmp"/>
          <p:cNvPicPr/>
          <p:nvPr/>
        </p:nvPicPr>
        <p:blipFill>
          <a:blip r:embed="rId2"/>
          <a:stretch/>
        </p:blipFill>
        <p:spPr>
          <a:xfrm>
            <a:off x="3962520" y="3657600"/>
            <a:ext cx="3124080" cy="2905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33840" y="18900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Околоводные и водные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409080" cy="5127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6880" y="623736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056720" cy="5406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55640" y="260280"/>
            <a:ext cx="79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Угадай по клюву, чем и кем питаются эти пти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0040" y="589608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А теперь проверим. Угадали ли  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39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Каждую группу птиц объединяет одинаковая п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36480"/>
            <a:ext cx="84596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1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группа птиц  называется                                                </a:t>
            </a:r>
            <a:r>
              <a:rPr b="1" i="1" lang="ru-RU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РАСТИТЕЛЬНОЯДНЫМИ</a:t>
            </a:r>
            <a:r>
              <a:rPr b="1" i="1" lang="ru-RU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астительноядные птицы имеют короткий, широкий клюв. Питаются плодами, семенами, моло-дыми побегам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7650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По характеру питания птицы подразделяются на  5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51280" y="3243240"/>
            <a:ext cx="4900680" cy="361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566100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4653000"/>
            <a:ext cx="1800360" cy="162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708360" y="515772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199280" y="4869000"/>
            <a:ext cx="194472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692360" y="4292640"/>
            <a:ext cx="2448000" cy="15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52252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274140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9360"/>
            <a:ext cx="237636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3357720"/>
            <a:ext cx="201780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ё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5734080"/>
            <a:ext cx="2736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лух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2421000"/>
            <a:ext cx="2736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5796000" y="3645000"/>
            <a:ext cx="3097080" cy="206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12000" y="5805360"/>
            <a:ext cx="273672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167760"/>
            <a:ext cx="7993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группа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тиц питается насекомыми  и получила названи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НАСЕКОМОЯДНЫЕ</a:t>
            </a:r>
            <a:r>
              <a:rPr b="1" i="1" lang="en-US" sz="24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Насекомоядные птицы отличаются тонким, удлиненным клювом, которым захватывают насекомых. Поедают они самых различных насекомых, отыскивая их на деревьях и других раст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476600" cy="3840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8360" y="5165640"/>
            <a:ext cx="1511280" cy="1320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68360" y="5527800"/>
            <a:ext cx="1727280" cy="1131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284720" y="5157720"/>
            <a:ext cx="1501560" cy="1505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3564000" y="4508640"/>
            <a:ext cx="1114200" cy="133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130464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735280" cy="2170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9178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266544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203640" y="620640"/>
            <a:ext cx="2469960" cy="3600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796000" y="189000"/>
            <a:ext cx="3084480" cy="216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1280" y="2492280"/>
            <a:ext cx="2160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566100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56536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5516640"/>
            <a:ext cx="2376360" cy="576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о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365720"/>
            <a:ext cx="2376360" cy="576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3200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63360"/>
            <a:ext cx="8331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тицы 3 группы питаются насекомыми,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и их плодами и называетс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НАСЕКОМО - РАСТИТЕЛЬНОЯДНЫЕ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2376720" cy="2333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743200" cy="24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758960" cy="203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2122560" cy="2379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2987640" y="4521240"/>
            <a:ext cx="3657600" cy="2336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2956800">
            <a:off x="3458160" y="2886480"/>
            <a:ext cx="1800000" cy="868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2556000" y="2781360"/>
            <a:ext cx="2233440" cy="1998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516720" y="4581360"/>
            <a:ext cx="1066680" cy="2017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4788000" y="3284640"/>
            <a:ext cx="25192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3500280"/>
            <a:ext cx="2952720" cy="215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867280" y="189000"/>
            <a:ext cx="2959200" cy="2219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2880000" cy="2327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11280" y="2637000"/>
            <a:ext cx="223200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яб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5734080"/>
            <a:ext cx="259236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полз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05360"/>
            <a:ext cx="2592360" cy="648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4149720"/>
            <a:ext cx="201636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я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2565360"/>
            <a:ext cx="2592720" cy="647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о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Какие животные изображены?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Чем они отличаются от млекопитающих?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9" descr="D:\Мои документы\Галина\Баленко\пингвины.bmp"/>
          <p:cNvPicPr/>
          <p:nvPr/>
        </p:nvPicPr>
        <p:blipFill>
          <a:blip r:embed="rId1"/>
          <a:stretch/>
        </p:blipFill>
        <p:spPr>
          <a:xfrm>
            <a:off x="395280" y="1557360"/>
            <a:ext cx="2592360" cy="2359080"/>
          </a:xfrm>
          <a:prstGeom prst="rect">
            <a:avLst/>
          </a:prstGeom>
          <a:ln w="3240">
            <a:solidFill>
              <a:srgbClr val="0000cc"/>
            </a:solidFill>
            <a:miter/>
          </a:ln>
        </p:spPr>
      </p:pic>
      <p:pic>
        <p:nvPicPr>
          <p:cNvPr id="108" name="Рисунок 16" descr=""/>
          <p:cNvPicPr/>
          <p:nvPr/>
        </p:nvPicPr>
        <p:blipFill>
          <a:blip r:embed="rId2"/>
          <a:srcRect l="38221" t="-1688" r="12260" b="13266"/>
          <a:stretch/>
        </p:blipFill>
        <p:spPr>
          <a:xfrm>
            <a:off x="395280" y="4076640"/>
            <a:ext cx="2592360" cy="225288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109" name="Picture 10" descr="D:\Мои документы\Галина\Баленко\фламинго.bm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65560" y="2462040"/>
            <a:ext cx="2452680" cy="2981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0" name="Picture 6" descr="D:\Мои документы\Галина\Баленко\большая синица.bmp"/>
          <p:cNvPicPr/>
          <p:nvPr/>
        </p:nvPicPr>
        <p:blipFill>
          <a:blip r:embed="rId5"/>
          <a:stretch/>
        </p:blipFill>
        <p:spPr>
          <a:xfrm>
            <a:off x="6012000" y="4365720"/>
            <a:ext cx="2714400" cy="20271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11" name="Picture 7" descr="D:\Мои документы\Галина\Баленко\лебедь.bmp"/>
          <p:cNvPicPr/>
          <p:nvPr/>
        </p:nvPicPr>
        <p:blipFill>
          <a:blip r:embed="rId6"/>
          <a:stretch/>
        </p:blipFill>
        <p:spPr>
          <a:xfrm>
            <a:off x="6012000" y="1700280"/>
            <a:ext cx="2743200" cy="2514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5640" y="297360"/>
            <a:ext cx="81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4 группа –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хищные птицы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Хищные птицы имеют особое строение клюва, который заканчивается мощным крючком, и пальцы ног, которые заканчиваются мощными когтями. Все это помогает им схватывать и удерживать добычу. Питаются они грызунами, другими птицами, зайц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103640" cy="330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2762280"/>
            <a:ext cx="313848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76440" cy="3097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93832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492360" y="692280"/>
            <a:ext cx="2621160" cy="2663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2436840" cy="331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4360" y="3573360"/>
            <a:ext cx="2374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Чёрный корш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3500280"/>
            <a:ext cx="2158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аню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3357720"/>
            <a:ext cx="237492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Ястре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6165720"/>
            <a:ext cx="237492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6237360"/>
            <a:ext cx="237492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Белая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55640" y="2160"/>
            <a:ext cx="8209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5 группа очень своеобразная: в пищу могут употреблять всё. Они так и наз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  <a:ea typeface="Arial"/>
              </a:rPr>
              <a:t>ВСЕЯ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5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421800" y="623736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4604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тицы-санитары питаются на свалках и помойках, способствуют оздоровлению мест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2520" y="51577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16360" y="2868480"/>
            <a:ext cx="4103640" cy="3191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30520" y="6093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Г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ТИЦЫ РОДНОГО КРА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7" name="Рисунок 5" descr="">
            <a:hlinkClick r:id="rId1" action="ppaction://hlinksldjump"/>
          </p:cNvPr>
          <p:cNvPicPr/>
          <p:nvPr/>
        </p:nvPicPr>
        <p:blipFill>
          <a:blip r:embed="rId2"/>
          <a:srcRect l="28292" t="0" r="29646" b="15770"/>
          <a:stretch/>
        </p:blipFill>
        <p:spPr>
          <a:xfrm>
            <a:off x="6553080" y="1600200"/>
            <a:ext cx="2286000" cy="2362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8" name="Рисунок 7" descr=""/>
          <p:cNvPicPr/>
          <p:nvPr/>
        </p:nvPicPr>
        <p:blipFill>
          <a:blip r:embed="rId3"/>
          <a:srcRect l="18830" t="31952" r="20083" b="5324"/>
          <a:stretch/>
        </p:blipFill>
        <p:spPr>
          <a:xfrm>
            <a:off x="304920" y="4038480"/>
            <a:ext cx="3047760" cy="25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49" name="Рисунок 8" descr=""/>
          <p:cNvPicPr/>
          <p:nvPr/>
        </p:nvPicPr>
        <p:blipFill>
          <a:blip r:embed="rId4"/>
          <a:srcRect l="3956" t="54935" r="60830" b="16269"/>
          <a:stretch/>
        </p:blipFill>
        <p:spPr>
          <a:xfrm>
            <a:off x="304920" y="1600200"/>
            <a:ext cx="3047760" cy="22096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250" name="Picture 3" descr="D:\Мои документы\Галина\Баленко\синица.bmp"/>
          <p:cNvPicPr/>
          <p:nvPr/>
        </p:nvPicPr>
        <p:blipFill>
          <a:blip r:embed="rId5"/>
          <a:stretch/>
        </p:blipFill>
        <p:spPr>
          <a:xfrm>
            <a:off x="3581280" y="1600200"/>
            <a:ext cx="2713320" cy="2209680"/>
          </a:xfrm>
          <a:prstGeom prst="rect">
            <a:avLst/>
          </a:prstGeom>
          <a:ln w="9360">
            <a:solidFill>
              <a:srgbClr val="2d2d8a"/>
            </a:solidFill>
            <a:miter/>
          </a:ln>
        </p:spPr>
      </p:pic>
      <p:pic>
        <p:nvPicPr>
          <p:cNvPr id="251" name="Рисунок 12" descr=""/>
          <p:cNvPicPr/>
          <p:nvPr/>
        </p:nvPicPr>
        <p:blipFill>
          <a:blip r:embed="rId6"/>
          <a:srcRect l="22623" t="2811" r="25528" b="5621"/>
          <a:stretch/>
        </p:blipFill>
        <p:spPr>
          <a:xfrm>
            <a:off x="6553080" y="4191120"/>
            <a:ext cx="2362320" cy="2452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TextBox 13"/>
          <p:cNvSpPr/>
          <p:nvPr/>
        </p:nvSpPr>
        <p:spPr>
          <a:xfrm>
            <a:off x="2057400" y="3505320"/>
            <a:ext cx="137160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5029200" y="3429000"/>
            <a:ext cx="12952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С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7924680" y="3657600"/>
            <a:ext cx="9604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304920" y="4038480"/>
            <a:ext cx="121896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2286000" y="6303960"/>
            <a:ext cx="106668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СО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7467480" y="6324480"/>
            <a:ext cx="1479600" cy="368280"/>
          </a:xfrm>
          <a:prstGeom prst="rect">
            <a:avLst/>
          </a:prstGeom>
          <a:solidFill>
            <a:srgbClr val="004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ЛА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" descr="D:\Мои документы\Галина\воробей.bmp"/>
          <p:cNvPicPr/>
          <p:nvPr/>
        </p:nvPicPr>
        <p:blipFill>
          <a:blip r:embed="rId7"/>
          <a:stretch/>
        </p:blipFill>
        <p:spPr>
          <a:xfrm>
            <a:off x="3581280" y="4038480"/>
            <a:ext cx="2743200" cy="2590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9" name="TextBox 19"/>
          <p:cNvSpPr/>
          <p:nvPr/>
        </p:nvSpPr>
        <p:spPr>
          <a:xfrm>
            <a:off x="4952880" y="6324480"/>
            <a:ext cx="1371600" cy="368280"/>
          </a:xfrm>
          <a:prstGeom prst="rect">
            <a:avLst/>
          </a:prstGeom>
          <a:solidFill>
            <a:srgbClr val="012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щественные признаки птиц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ног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 покры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 -                   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628640"/>
            <a:ext cx="107964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637000"/>
            <a:ext cx="2376360" cy="4316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3645000"/>
            <a:ext cx="1656000" cy="576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716280"/>
            <a:ext cx="1584360" cy="43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лю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422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443448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Перь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- сложнейшие роговые образования кожи птиц. Они защищают птиц от всевозможных вредных воздействий окружающей среды — перегрева, холода, сырости и ветра, и препятствуют потере тепла, делают поверхность тела птицы глад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77640" y="1350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Строение пер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241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СИСТЕМАТИЗАЦИЯ ПТИЦ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3429000" y="1981080"/>
            <a:ext cx="2209680" cy="762120"/>
          </a:xfrm>
          <a:prstGeom prst="rect">
            <a:avLst/>
          </a:prstGeom>
          <a:solidFill>
            <a:srgbClr val="012e91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304920" y="2057400"/>
            <a:ext cx="2057400" cy="685800"/>
          </a:xfrm>
          <a:prstGeom prst="rect">
            <a:avLst/>
          </a:prstGeom>
          <a:solidFill>
            <a:srgbClr val="012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6629400" y="2057400"/>
            <a:ext cx="2133720" cy="609480"/>
          </a:xfrm>
          <a:prstGeom prst="rect">
            <a:avLst/>
          </a:prstGeom>
          <a:solidFill>
            <a:srgbClr val="012e9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МА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304920" y="3657600"/>
            <a:ext cx="274320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МОР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304920" y="4648320"/>
            <a:ext cx="2895480" cy="53316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БО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304920" y="5638680"/>
            <a:ext cx="320040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ПРЕСНО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8"/>
          <p:cNvSpPr/>
          <p:nvPr/>
        </p:nvSpPr>
        <p:spPr>
          <a:xfrm>
            <a:off x="6477120" y="3581280"/>
            <a:ext cx="236196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ХИЩ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9"/>
          <p:cNvSpPr/>
          <p:nvPr/>
        </p:nvSpPr>
        <p:spPr>
          <a:xfrm>
            <a:off x="6248520" y="4572000"/>
            <a:ext cx="2590560" cy="53352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ПЕВ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0"/>
          <p:cNvSpPr/>
          <p:nvPr/>
        </p:nvSpPr>
        <p:spPr>
          <a:xfrm>
            <a:off x="5867280" y="5562720"/>
            <a:ext cx="2971800" cy="533160"/>
          </a:xfrm>
          <a:prstGeom prst="rect">
            <a:avLst/>
          </a:prstGeom>
          <a:solidFill>
            <a:srgbClr val="ffffe1"/>
          </a:solidFill>
          <a:ln w="19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НЕЛЕТ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23"/>
          <p:cNvCxnSpPr>
            <a:stCxn id="123" idx="3"/>
            <a:endCxn id="125" idx="1"/>
          </p:cNvCxnSpPr>
          <p:nvPr/>
        </p:nvCxnSpPr>
        <p:spPr>
          <a:xfrm>
            <a:off x="5638680" y="2362320"/>
            <a:ext cx="9914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0"/>
          <p:cNvCxnSpPr>
            <a:stCxn id="123" idx="1"/>
            <a:endCxn id="124" idx="3"/>
          </p:cNvCxnSpPr>
          <p:nvPr/>
        </p:nvCxnSpPr>
        <p:spPr>
          <a:xfrm flipH="1">
            <a:off x="2361600" y="2362320"/>
            <a:ext cx="1058040" cy="38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Прямая со стрелкой 42"/>
          <p:cNvCxnSpPr>
            <a:endCxn id="126" idx="3"/>
          </p:cNvCxnSpPr>
          <p:nvPr/>
        </p:nvCxnSpPr>
        <p:spPr>
          <a:xfrm flipH="1">
            <a:off x="3047400" y="2742840"/>
            <a:ext cx="610200" cy="11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Прямая со стрелкой 44"/>
          <p:cNvCxnSpPr>
            <a:endCxn id="127" idx="3"/>
          </p:cNvCxnSpPr>
          <p:nvPr/>
        </p:nvCxnSpPr>
        <p:spPr>
          <a:xfrm flipH="1">
            <a:off x="3200040" y="2742840"/>
            <a:ext cx="838800" cy="2172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6" name="Прямая со стрелкой 46"/>
          <p:cNvCxnSpPr>
            <a:endCxn id="128" idx="3"/>
          </p:cNvCxnSpPr>
          <p:nvPr/>
        </p:nvCxnSpPr>
        <p:spPr>
          <a:xfrm flipH="1">
            <a:off x="3504960" y="2743200"/>
            <a:ext cx="838800" cy="316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Прямая со стрелкой 48"/>
          <p:cNvCxnSpPr>
            <a:endCxn id="129" idx="1"/>
          </p:cNvCxnSpPr>
          <p:nvPr/>
        </p:nvCxnSpPr>
        <p:spPr>
          <a:xfrm>
            <a:off x="5410080" y="2742840"/>
            <a:ext cx="1067760" cy="1105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52"/>
          <p:cNvCxnSpPr>
            <a:endCxn id="130" idx="1"/>
          </p:cNvCxnSpPr>
          <p:nvPr/>
        </p:nvCxnSpPr>
        <p:spPr>
          <a:xfrm>
            <a:off x="5028120" y="2742840"/>
            <a:ext cx="1220040" cy="2096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Прямая со стрелкой 56"/>
          <p:cNvCxnSpPr>
            <a:endCxn id="131" idx="1"/>
          </p:cNvCxnSpPr>
          <p:nvPr/>
        </p:nvCxnSpPr>
        <p:spPr>
          <a:xfrm>
            <a:off x="4648320" y="2742840"/>
            <a:ext cx="1219680" cy="3087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МОРСКИ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1294920"/>
            <a:ext cx="3659040" cy="53341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режных водах почти на поверхности моря плавают косяки рыб, кальмары, креветки и другая живность, которой питаются 300 видов морских птиц. Они добывают еду двумя путями: ныряя под воду или летая над поверхностью моря и отлавливая неосторожных рыбешек.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гарки, бакланы, альбат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rcRect l="18870" t="34772" r="20753" b="6436"/>
          <a:stretch/>
        </p:blipFill>
        <p:spPr>
          <a:xfrm>
            <a:off x="5638680" y="1371600"/>
            <a:ext cx="3200400" cy="23572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3" name="Рисунок 5" descr=""/>
          <p:cNvPicPr/>
          <p:nvPr/>
        </p:nvPicPr>
        <p:blipFill>
          <a:blip r:embed="rId2"/>
          <a:srcRect l="20191" t="33573" r="18775" b="6523"/>
          <a:stretch/>
        </p:blipFill>
        <p:spPr>
          <a:xfrm>
            <a:off x="4572000" y="3581280"/>
            <a:ext cx="304812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БОЛОТ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2060280"/>
            <a:ext cx="3587760" cy="44924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олотным птицам относятся более 200 видов пернатых. Все они имеют длинные тонкие   ноги, помогающие передвигаться по дну, и обитают в болотистых местах. Длинные острые клювы идеально подходят для того, чтобы доставать животных из их у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2" descr="">
            <a:hlinkClick r:id="rId1" action="ppaction://hlinksldjump"/>
          </p:cNvPr>
          <p:cNvPicPr/>
          <p:nvPr/>
        </p:nvPicPr>
        <p:blipFill>
          <a:blip r:embed="rId2"/>
          <a:srcRect l="25562" t="24633" r="27018" b="4460"/>
          <a:stretch/>
        </p:blipFill>
        <p:spPr>
          <a:xfrm>
            <a:off x="4724280" y="1600200"/>
            <a:ext cx="3970440" cy="4786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97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ПРЕСНОВОД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11280" y="1371240"/>
            <a:ext cx="3884400" cy="52578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уды, озера и реки могут обеспечить птиц всем необходимым для жизни. Пресноводные птицы питаются растениями и водными животными. Некоторые из них, например утки, плавают, как рыбы, отталкиваясь от воды перепончатыми лапами, а другие, такие как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цапл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бродят по мелководью на своих длинных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2"/>
          <a:srcRect l="4030" t="46647" r="33175" b="5036"/>
          <a:stretch/>
        </p:blipFill>
        <p:spPr>
          <a:xfrm>
            <a:off x="5562720" y="1371600"/>
            <a:ext cx="3336840" cy="23623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50" name="Picture 2" descr="D:\Мои документы\Галина\Баленко\лебедь.bmp"/>
          <p:cNvPicPr/>
          <p:nvPr/>
        </p:nvPicPr>
        <p:blipFill>
          <a:blip r:embed="rId3"/>
          <a:stretch/>
        </p:blipFill>
        <p:spPr>
          <a:xfrm>
            <a:off x="4800600" y="3657600"/>
            <a:ext cx="2971800" cy="2971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ХИЩ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1773000"/>
            <a:ext cx="4392720" cy="48560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птицы питаются насекомыми, но настоящие хищники употребляют в пищу рептилий, млекопитающих, рыб и других птиц. Они ловят свою жертву когтями и либо заглатывают ее целиком, либо разрывают на части. Всего на планете насчитывается около 280</a:t>
            </a: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 видов хищны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rcRect l="41906" t="0" r="18044" b="0"/>
          <a:stretch/>
        </p:blipFill>
        <p:spPr>
          <a:xfrm>
            <a:off x="5160960" y="1600200"/>
            <a:ext cx="3309840" cy="4424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49:27Z</dcterms:created>
  <dc:creator>XTreme</dc:creator>
  <dc:description/>
  <dc:language>en-US</dc:language>
  <cp:lastModifiedBy>XTreme</cp:lastModifiedBy>
  <dcterms:modified xsi:type="dcterms:W3CDTF">2009-02-24T18:04:59Z</dcterms:modified>
  <cp:revision>2</cp:revision>
  <dc:subject/>
  <dc:title>В СЕМЬЕ ДРУЗЕЙ ПЕРНАТ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80000000000010250300207f7000400038000</vt:lpwstr>
  </property>
</Properties>
</file>