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6FA-DDA5-48BB-BF2E-E8C29E61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5A5-5489-4F82-A153-B28B0CD2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36D-2F01-4B7D-9F0E-87C29303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1A6-4982-46AB-9A72-7D5512ED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38BC-3BE4-4EC6-8290-E27338AE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B814-AD43-4F96-A72F-A1454FD6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8692-4A3B-47D6-89A2-8301E55B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9CE6-2DE0-463C-AE91-C81C4868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18DE-1008-4DF4-BF09-26EAA70D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77F5-F38B-48F2-8A65-3E7FF589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AE11-E984-40C2-8736-EE8547B4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134-EEBC-41F9-AA00-A4CAA1BB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3AA8-DEB3-4743-9B51-FD8794C5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A105-EF61-40C9-9E3F-760EBD3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D035-3280-4EA5-8623-EC0E92B5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158D-3D8C-4256-9047-23D709C5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797E-8981-4833-A2B6-5700262E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D8B-CCBF-4FD0-ACE4-7735ED0A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980-D90C-465C-A142-05362C5A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F08-64FE-440A-971B-5DF2B4E4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A62-B4AA-4096-9227-7BF41031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51F-2AA7-4CAF-80C1-0EAAB4D5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E4D-E0F2-47B5-B0BB-E902372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B31-FCF2-47B2-A509-84A926F1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7F6B-D9D8-437F-B412-16E21BB0F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BE1C-D53E-4682-80EC-6A1AFB2E6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0&amp;text=&#1073;&#1077;&#1089;&#1087;&#1083;&#1072;&#1090;&#1085;&#1086;%20&#1082;&#1072;&#1088;&#1090;&#1080;&#1085;&#1082;&#1080;%20&#1084;&#1083;&#1077;&#1082;&#1086;&#1087;&#1080;&#1090;&#1072;&#1102;&#1097;&#1080;&#1093;&amp;spsite=www.sunhome.ru&amp;img_url=img.sunhome.ru%2FUsersGallery%2F042006%2F30221044.jpg&amp;rpt=simage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images.yandex.ru/yandsearch?p=313&amp;text=&#1073;&#1077;&#1089;&#1087;&#1083;&#1072;&#1090;&#1085;&#1086;%20&#1082;&#1072;&#1088;&#1090;&#1080;&#1085;&#1082;&#1080;%20&#1084;&#1083;&#1077;&#1082;&#1086;&#1087;&#1080;&#1090;&#1072;&#1102;&#1097;&#1080;&#1093;&amp;spsite=www.foto.ck.ua&amp;img_url=www.foto.ck.ua%2Ffiles%2Fthumbs%2Ffoto%2F36%2F222062781%2F640x480.jpg&amp;rpt=simage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images.yandex.ru/yandsearch?p=43&amp;text=&#1073;&#1077;&#1089;&#1087;&#1083;&#1072;&#1090;&#1085;&#1086;%20&#1082;&#1072;&#1088;&#1090;&#1080;&#1085;&#1082;&#1080;%20&#1084;&#1083;&#1077;&#1082;&#1086;&#1087;&#1080;&#1090;&#1072;&#1102;&#1097;&#1080;&#1093;&amp;spsite=www.naturelight.ru&amp;img_url=tycovka.net%2Fuploads%2Fposts%2F2008-11%2Fthumbs%2F1226240982_1223397735b11bncw.jpg&amp;rpt=simage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70&amp;text=&#1073;&#1077;&#1089;&#1087;&#1083;&#1072;&#1090;&#1085;&#1086;%20&#1082;&#1072;&#1088;&#1090;&#1080;&#1085;&#1082;&#1080;%20&#1084;&#1083;&#1077;&#1082;&#1086;&#1087;&#1080;&#1090;&#1072;&#1102;&#1097;&#1080;&#1093;&amp;spsite=www.spbtalk.ru&amp;img_url=portal.lanpolis.ru%2Fboard%2Fjournal%2Fuploads%2Fj2325_1168977856.jpg&amp;rpt=simage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7&amp;text=&#1073;&#1077;&#1089;&#1087;&#1083;&#1072;&#1090;&#1085;&#1086;%20&#1082;&#1072;&#1088;&#1090;&#1080;&#1085;&#1082;&#1080;%20&#1084;&#1083;&#1077;&#1082;&#1086;&#1087;&#1080;&#1090;&#1072;&#1102;&#1097;&#1080;&#1093;&amp;spsite=www.vk-smi.ru&amp;img_url=tattoogari.ru%2F_ph%2F21%2F220239292.jpg&amp;rpt=s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4&amp;bf=1&amp;ed=1&amp;text=&#1073;&#1077;&#1089;&#1087;&#1083;&#1072;&#1090;&#1085;&#1086;%20&#1092;&#1086;&#1090;&#1086;%20&#1080;%20&#1082;&#1072;&#1088;&#1090;&#1080;&#1085;&#1082;&#1080;%20&#1079;&#1072;&#1081;&#1094;&#1072;&amp;spsite=sourceforce.clan.su&amp;img_url=namonitore.ru%2Fuploads%2Fcatalog%2Fanimals%2Fzayatsbelyak_600.jpg&amp;rpt=simage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3&amp;bf=1&amp;text=&#1073;&#1077;&#1089;&#1087;&#1083;&#1072;&#1090;&#1085;&#1086;%20&#1092;&#1086;&#1090;&#1086;%20&#1080;%20&#1082;&#1072;&#1088;&#1090;&#1080;&#1085;&#1082;&#1080;%20&#1086;&#1073;&#1077;&#1079;&#1100;&#1103;&#1085;&#1099;&amp;spsite=www.picmobi.com&amp;img_url=thttpd.seclub.org%2Fpic%2Fe%2F9%2Fd%2Fe9dc312d93660fd43684db9319c4d625.jpg&amp;rpt=simage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7&amp;text=&#1073;&#1077;&#1089;&#1087;&#1083;&#1072;&#1090;&#1085;&#1086;%20&#1082;&#1072;&#1088;&#1090;&#1080;&#1085;&#1082;&#1080;%20&#1084;&#1083;&#1077;&#1082;&#1086;&#1087;&#1080;&#1090;&#1072;&#1102;&#1097;&#1080;&#1093;&amp;spsite=www.vk-smi.ru&amp;img_url=tattoogari.ru%2F_ph%2F21%2F220239292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p=72&amp;text=&#1073;&#1077;&#1089;&#1087;&#1083;&#1072;&#1090;&#1085;&#1086;%20&#1082;&#1072;&#1088;&#1090;&#1080;&#1085;&#1082;&#1080;%20&#1084;&#1083;&#1077;&#1082;&#1086;&#1087;&#1080;&#1090;&#1072;&#1102;&#1097;&#1080;&#1093;&amp;spsite=www.sevin.ru&amp;img_url=wild-animals2007.narod.ru%2Fnormal_069.jpg&amp;rpt=simage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yandex.ru/yandsearch?p=28&amp;text=&#1073;&#1077;&#1089;&#1087;&#1083;&#1072;&#1090;&#1085;&#1086;%20&#1082;&#1072;&#1088;&#1090;&#1080;&#1085;&#1082;&#1080;%20&#1084;&#1083;&#1077;&#1082;&#1086;&#1087;&#1080;&#1090;&#1072;&#1102;&#1097;&#1080;&#1093;&amp;spsite=www.traveltours.ru&amp;img_url=papa-vlad.narod.ru%2FDetskie_prezentatsii%2FBiologija.Morskie_zhiteli%2FMlekopitajuschie.files%2Fslide0001_image001.jpg&amp;rpt=simage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images.yandex.ru/yandsearch?p=17&amp;text=&#1073;&#1077;&#1089;&#1087;&#1083;&#1072;&#1090;&#1085;&#1086;%20&#1082;&#1072;&#1088;&#1090;&#1080;&#1085;&#1082;&#1080;%20&#1084;&#1083;&#1077;&#1082;&#1086;&#1087;&#1080;&#1090;&#1072;&#1102;&#1097;&#1080;&#1093;&amp;spsite=podrostky.clan.su&amp;img_url=www.top-pic.com%2Fw%2F24d6a63c18c91b67fb529b0fd86b7ddf%2F8109_1.jpg&amp;rpt=simage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0&amp;text=&#1073;&#1077;&#1089;&#1087;&#1083;&#1072;&#1090;&#1085;&#1086;%20&#1082;&#1072;&#1088;&#1090;&#1080;&#1085;&#1082;&#1080;%20&#1084;&#1083;&#1077;&#1082;&#1086;&#1087;&#1080;&#1090;&#1072;&#1102;&#1097;&#1080;&#1093;&amp;spsite=www.sunhome.ru&amp;img_url=img.sunhome.ru%2FUsersGallery%2F042006%2F30221044.jpg&amp;rpt=simage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7&amp;text=&#1073;&#1077;&#1089;&#1087;&#1083;&#1072;&#1090;&#1085;&#1086;%20&#1082;&#1072;&#1088;&#1090;&#1080;&#1085;&#1082;&#1080;%20&#1084;&#1083;&#1077;&#1082;&#1086;&#1087;&#1080;&#1090;&#1072;&#1102;&#1097;&#1080;&#1093;&amp;spsite=www.vk-smi.ru&amp;img_url=tattoogari.ru%2F_ph%2F21%2F220239292.jpg&amp;rpt=s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4&amp;bf=1&amp;ed=1&amp;text=&#1073;&#1077;&#1089;&#1087;&#1083;&#1072;&#1090;&#1085;&#1086;%20&#1092;&#1086;&#1090;&#1086;%20&#1080;%20&#1082;&#1072;&#1088;&#1090;&#1080;&#1085;&#1082;&#1080;%20&#1095;&#1077;&#1088;&#1077;&#1087;&#1072;&#1093;&#1080;&amp;spsite=c17.clan.su&amp;img_url=img-fotki.yandex.ru%2Fget%2F19%2Favganess1.0%2F0_10187_945e3413_XL&amp;rpt=simag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6&amp;bf=1&amp;text=&#1073;&#1077;&#1089;&#1087;&#1083;&#1072;&#1090;&#1085;&#1086;%20&#1092;&#1086;&#1090;&#1086;%20&#1080;%20&#1082;&#1072;&#1088;&#1090;&#1080;&#1085;&#1082;&#1080;%20&#1079;&#1077;&#1073;&#1088;&#1099;&amp;spsite=papa-vlad.narod.ru&amp;img_url=papa-vlad.narod.ru%2FDetskie_prezentatsii%2Fbiologiya%2FNeparnokopytnye.files%2Fslide0006_image006.jpg&amp;rpt=simag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9&amp;bf=1&amp;ed=1&amp;text=&#1073;&#1077;&#1089;&#1087;&#1083;&#1072;&#1090;&#1085;&#1086;%20&#1092;&#1086;&#1090;&#1086;%20&#1080;%20&#1082;&#1072;&#1088;&#1090;&#1080;&#1085;&#1082;&#1080;%20&#1073;&#1077;&#1083;&#1082;&#1080;&amp;spsite=www.igolki.net&amp;img_url=www.behappy.arh-p.ru%2FBear%2Fbeloch18.jpg&amp;rpt=sima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2&amp;text=&#1073;&#1077;&#1089;&#1087;&#1083;&#1072;&#1090;&#1085;&#1086;%20&#1092;&#1086;&#1090;&#1086;%20&#1080;%20&#1082;&#1072;&#1088;&#1090;&#1080;&#1085;&#1082;&#1080;%20&#1086;&#1083;&#1077;&#1085;&#1103;&amp;spsite=crazywalls.narod.ru&amp;img_url=flynx13.narod.ru%2FGAL%2F200%2F1%2FA%2F21a0012.jpg&amp;rpt=simag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bf=1&amp;text=&#1073;&#1077;&#1089;&#1087;&#1083;&#1072;&#1090;&#1085;&#1086;%20&#1092;&#1086;&#1090;&#1086;%20&#1080;%20&#1082;&#1072;&#1088;&#1090;&#1080;&#1085;&#1082;&#1080;%20&#1084;&#1086;&#1088;&#1078;&#1072;&amp;spsite=peresvet-gorod.ru&amp;img_url=static.apteka.uz%2Fnews%2Fodobenus_rosmarus-500.jpg&amp;rpt=simage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В гости к млекопитающим.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рок окружающего мира по программе «Гармо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итель Пинтера Ирина Ивано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Как по другому называют млекопитающих?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565360"/>
            <a:ext cx="576360" cy="57636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56536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256536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98900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198900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198900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198900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98900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3141720"/>
            <a:ext cx="648000" cy="64764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71628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256536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256536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56536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429264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314172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14172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314172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371628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371628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429264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4292640"/>
            <a:ext cx="576360" cy="576360"/>
          </a:xfrm>
          <a:prstGeom prst="rect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429264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256536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429264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3716280"/>
            <a:ext cx="57636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141720"/>
            <a:ext cx="576000" cy="576360"/>
          </a:xfrm>
          <a:prstGeom prst="rect">
            <a:avLst/>
          </a:prstGeom>
          <a:solidFill>
            <a:srgbClr val="dbda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4508640"/>
            <a:ext cx="1805040" cy="194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2924280"/>
            <a:ext cx="1970280" cy="177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1197000"/>
            <a:ext cx="2447640" cy="1631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179280" y="836640"/>
            <a:ext cx="201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0" y="5013360"/>
            <a:ext cx="2376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Хитрый как 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628640"/>
            <a:ext cx="6912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Неуклюжий, как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700280"/>
            <a:ext cx="63356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Трусливый, как 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628640"/>
            <a:ext cx="56545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Смешной, как …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557360"/>
            <a:ext cx="3960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           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Сравните животных.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Чем они похожи, чем отличаются?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2205000"/>
            <a:ext cx="2089080" cy="1563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4581360"/>
            <a:ext cx="2089080" cy="1611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76360" y="2205000"/>
            <a:ext cx="2087640" cy="1506600"/>
          </a:xfrm>
          <a:prstGeom prst="rect">
            <a:avLst/>
          </a:prstGeom>
          <a:ln w="0">
            <a:noFill/>
          </a:ln>
        </p:spPr>
      </p:pic>
      <p:pic>
        <p:nvPicPr>
          <p:cNvPr id="147" name="i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35640" y="4581360"/>
            <a:ext cx="208908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Я заглядываю без труда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В окна третьего этажа.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557360"/>
            <a:ext cx="46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Лакомлюсь малиной 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И медком пчелиным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916280"/>
            <a:ext cx="633744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а земле и под водой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Меня спасает панцирь мой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1773360"/>
            <a:ext cx="576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ебольшая я лошадка,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Вся в линейку, как тетрадка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916280"/>
            <a:ext cx="691380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Словно рыжий огонёк,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Я по деревьям скок, да скок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844640"/>
            <a:ext cx="3581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Живу и в тундре, и в лесу.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а голове ношу красу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1773360"/>
            <a:ext cx="63374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На льдину вылезаю,</a:t>
            </a:r>
            <a:br>
              <a:rPr sz="4000"/>
            </a:b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Клыками устрашаю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844640"/>
            <a:ext cx="61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Главные признак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сло н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ло покры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рмят детёныш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1916280"/>
            <a:ext cx="1584360" cy="72072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997360"/>
            <a:ext cx="3456000" cy="72072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шер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4221000"/>
            <a:ext cx="3456000" cy="720720"/>
          </a:xfrm>
          <a:prstGeom prst="rect">
            <a:avLst/>
          </a:prstGeom>
          <a:solidFill>
            <a:srgbClr val="dbda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оло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26:45Z</dcterms:created>
  <dc:creator>XTreme</dc:creator>
  <dc:description/>
  <dc:language>en-US</dc:language>
  <cp:lastModifiedBy>XTreme</cp:lastModifiedBy>
  <dcterms:modified xsi:type="dcterms:W3CDTF">2009-02-03T19:07:44Z</dcterms:modified>
  <cp:revision>2</cp:revision>
  <dc:subject/>
  <dc:title>В гости к млекопитающи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30000000000010250300207f7000400038000</vt:lpwstr>
  </property>
</Properties>
</file>