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DF0-9400-46AF-B6EF-5AE789E4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FD0-08EF-445A-B18A-A42EDBAF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0AE-8F55-4078-95CA-8FB3CBE5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8F3-FE9E-4D18-A20B-82779D44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CEB2-9FFF-4A66-AE6C-843BCDE9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C726-77B3-46B6-9BA6-947B956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840-699D-43C2-A18B-C95F536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3C67-7C55-4EF3-AF98-32E491A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814-1816-4610-89C3-08A25B3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87A-E712-44C1-9C1E-C99BFCE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91C-9B22-467D-AD14-DB4C286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232-3E83-4420-A161-A66191C9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A8C-37C7-4BE6-8154-352DFD5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4633-5372-4823-8542-1EBBAEA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2A5E-CA2E-4CE6-BC00-188C070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2D76-4C5A-4355-A0F7-84AD9834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920F-AF84-4483-81A5-0348C9DE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DEB-2167-4A44-9A8C-3AB8298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541-67B9-4941-BE53-0DFA0041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8A9-6FAC-41ED-901B-FF5DDAB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B8C-FDF4-4D4C-8E8D-27B2191A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372-5A78-41AD-AA9B-89DCEA1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E46-E847-47F8-88E2-868707D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9CF-DE36-4235-8F30-5EEAAA0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0C52-65EA-4E56-BC15-79A6072EE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03A9-B3B6-4954-B664-DEE1410B1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images.yandex.ru/yandsearch?p=313&amp;text=&#1073;&#1077;&#1089;&#1087;&#1083;&#1072;&#1090;&#1085;&#1086;%20&#1082;&#1072;&#1088;&#1090;&#1080;&#1085;&#1082;&#1080;%20&#1084;&#1083;&#1077;&#1082;&#1086;&#1087;&#1080;&#1090;&#1072;&#1102;&#1097;&#1080;&#1093;&amp;spsite=www.foto.ck.ua&amp;img_url=www.foto.ck.ua%2Ffiles%2Fthumbs%2Ffoto%2F36%2F222062781%2F640x480.jpg&amp;rpt=simage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yandex.ru/yandsearch?p=43&amp;text=&#1073;&#1077;&#1089;&#1087;&#1083;&#1072;&#1090;&#1085;&#1086;%20&#1082;&#1072;&#1088;&#1090;&#1080;&#1085;&#1082;&#1080;%20&#1084;&#1083;&#1077;&#1082;&#1086;&#1087;&#1080;&#1090;&#1072;&#1102;&#1097;&#1080;&#1093;&amp;spsite=www.naturelight.ru&amp;img_url=tycovka.net%2Fuploads%2Fposts%2F2008-11%2Fthumbs%2F1226240982_1223397735b11bncw.jpg&amp;rpt=simage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70&amp;text=&#1073;&#1077;&#1089;&#1087;&#1083;&#1072;&#1090;&#1085;&#1086;%20&#1082;&#1072;&#1088;&#1090;&#1080;&#1085;&#1082;&#1080;%20&#1084;&#1083;&#1077;&#1082;&#1086;&#1087;&#1080;&#1090;&#1072;&#1102;&#1097;&#1080;&#1093;&amp;spsite=www.spbtalk.ru&amp;img_url=portal.lanpolis.ru%2Fboard%2Fjournal%2Fuploads%2Fj2325_1168977856.jpg&amp;rpt=simage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4&amp;bf=1&amp;ed=1&amp;text=&#1073;&#1077;&#1089;&#1087;&#1083;&#1072;&#1090;&#1085;&#1086;%20&#1092;&#1086;&#1090;&#1086;%20&#1080;%20&#1082;&#1072;&#1088;&#1090;&#1080;&#1085;&#1082;&#1080;%20&#1079;&#1072;&#1081;&#1094;&#1072;&amp;spsite=sourceforce.clan.su&amp;img_url=namonitore.ru%2Fuploads%2Fcatalog%2Fanimals%2Fzayatsbelyak_600.jpg&amp;rpt=simage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3&amp;bf=1&amp;text=&#1073;&#1077;&#1089;&#1087;&#1083;&#1072;&#1090;&#1085;&#1086;%20&#1092;&#1086;&#1090;&#1086;%20&#1080;%20&#1082;&#1072;&#1088;&#1090;&#1080;&#1085;&#1082;&#1080;%20&#1086;&#1073;&#1077;&#1079;&#1100;&#1103;&#1085;&#1099;&amp;spsite=www.picmobi.com&amp;img_url=thttpd.seclub.org%2Fpic%2Fe%2F9%2Fd%2Fe9dc312d93660fd43684db9319c4d625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p=72&amp;text=&#1073;&#1077;&#1089;&#1087;&#1083;&#1072;&#1090;&#1085;&#1086;%20&#1082;&#1072;&#1088;&#1090;&#1080;&#1085;&#1082;&#1080;%20&#1084;&#1083;&#1077;&#1082;&#1086;&#1087;&#1080;&#1090;&#1072;&#1102;&#1097;&#1080;&#1093;&amp;spsite=www.sevin.ru&amp;img_url=wild-animals2007.narod.ru%2Fnormal_069.jpg&amp;rpt=simage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yandex.ru/yandsearch?p=28&amp;text=&#1073;&#1077;&#1089;&#1087;&#1083;&#1072;&#1090;&#1085;&#1086;%20&#1082;&#1072;&#1088;&#1090;&#1080;&#1085;&#1082;&#1080;%20&#1084;&#1083;&#1077;&#1082;&#1086;&#1087;&#1080;&#1090;&#1072;&#1102;&#1097;&#1080;&#1093;&amp;spsite=www.traveltours.ru&amp;img_url=papa-vlad.narod.ru%2FDetskie_prezentatsii%2FBiologija.Morskie_zhiteli%2FMlekopitajuschie.files%2Fslide0001_image001.jpg&amp;rpt=simage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images.yandex.ru/yandsearch?p=17&amp;text=&#1073;&#1077;&#1089;&#1087;&#1083;&#1072;&#1090;&#1085;&#1086;%20&#1082;&#1072;&#1088;&#1090;&#1080;&#1085;&#1082;&#1080;%20&#1084;&#1083;&#1077;&#1082;&#1086;&#1087;&#1080;&#1090;&#1072;&#1102;&#1097;&#1080;&#1093;&amp;spsite=podrostky.clan.su&amp;img_url=www.top-pic.com%2Fw%2F24d6a63c18c91b67fb529b0fd86b7ddf%2F8109_1.jpg&amp;rpt=simage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4&amp;bf=1&amp;ed=1&amp;text=&#1073;&#1077;&#1089;&#1087;&#1083;&#1072;&#1090;&#1085;&#1086;%20&#1092;&#1086;&#1090;&#1086;%20&#1080;%20&#1082;&#1072;&#1088;&#1090;&#1080;&#1085;&#1082;&#1080;%20&#1095;&#1077;&#1088;&#1077;&#1087;&#1072;&#1093;&#1080;&amp;spsite=c17.clan.su&amp;img_url=img-fotki.yandex.ru%2Fget%2F19%2Favganess1.0%2F0_10187_945e3413_XL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6&amp;bf=1&amp;text=&#1073;&#1077;&#1089;&#1087;&#1083;&#1072;&#1090;&#1085;&#1086;%20&#1092;&#1086;&#1090;&#1086;%20&#1080;%20&#1082;&#1072;&#1088;&#1090;&#1080;&#1085;&#1082;&#1080;%20&#1079;&#1077;&#1073;&#1088;&#1099;&amp;spsite=papa-vlad.narod.ru&amp;img_url=papa-vlad.narod.ru%2FDetskie_prezentatsii%2Fbiologiya%2FNeparnokopytnye.files%2Fslide0006_image006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9&amp;bf=1&amp;ed=1&amp;text=&#1073;&#1077;&#1089;&#1087;&#1083;&#1072;&#1090;&#1085;&#1086;%20&#1092;&#1086;&#1090;&#1086;%20&#1080;%20&#1082;&#1072;&#1088;&#1090;&#1080;&#1085;&#1082;&#1080;%20&#1073;&#1077;&#1083;&#1082;&#1080;&amp;spsite=www.igolki.net&amp;img_url=www.behappy.arh-p.ru%2FBear%2Fbeloch18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2&amp;text=&#1073;&#1077;&#1089;&#1087;&#1083;&#1072;&#1090;&#1085;&#1086;%20&#1092;&#1086;&#1090;&#1086;%20&#1080;%20&#1082;&#1072;&#1088;&#1090;&#1080;&#1085;&#1082;&#1080;%20&#1086;&#1083;&#1077;&#1085;&#1103;&amp;spsite=crazywalls.narod.ru&amp;img_url=flynx13.narod.ru%2FGAL%2F200%2F1%2FA%2F21a0012.jpg&amp;rpt=simag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bf=1&amp;text=&#1073;&#1077;&#1089;&#1087;&#1083;&#1072;&#1090;&#1085;&#1086;%20&#1092;&#1086;&#1090;&#1086;%20&#1080;%20&#1082;&#1072;&#1088;&#1090;&#1080;&#1085;&#1082;&#1080;%20&#1084;&#1086;&#1088;&#1078;&#1072;&amp;spsite=peresvet-gorod.ru&amp;img_url=static.apteka.uz%2Fnews%2Fodobenus_rosmarus-500.jpg&amp;rpt=simag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В гости к млекопитающим.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рок окружающего мира по программе «Гармо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ак по другому называют млекопитающих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565360"/>
            <a:ext cx="576360" cy="57636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198900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98900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141720"/>
            <a:ext cx="648000" cy="6476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256536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371628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71628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29264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50864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924280"/>
            <a:ext cx="197028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119700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179280" y="83664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5013360"/>
            <a:ext cx="23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Хитрый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6912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Неуклюжий, как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700280"/>
            <a:ext cx="6335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Трусливы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628640"/>
            <a:ext cx="56545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Смешно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равните животных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Чем они похожи, чем отличаются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205000"/>
            <a:ext cx="2089080" cy="156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4581360"/>
            <a:ext cx="2089080" cy="16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2205000"/>
            <a:ext cx="2087640" cy="1506600"/>
          </a:xfrm>
          <a:prstGeom prst="rect">
            <a:avLst/>
          </a:prstGeom>
          <a:ln w="0">
            <a:noFill/>
          </a:ln>
        </p:spPr>
      </p:pic>
      <p:pic>
        <p:nvPicPr>
          <p:cNvPr id="147" name="i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35640" y="4581360"/>
            <a:ext cx="20890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заглядываю без труда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 окна третьего этажа.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46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Лакомлюсь малиной 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И медком пчелиным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916280"/>
            <a:ext cx="633744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земле и под водой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Меня спасает панцирь мой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73360"/>
            <a:ext cx="57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ебольшая я лошадка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ся в линейку, как тетрадка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16280"/>
            <a:ext cx="6913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ловно рыжий огонёк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по деревьям скок, да скок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844640"/>
            <a:ext cx="358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Живу и в тундре, и в лесу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голове ношу красу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1773360"/>
            <a:ext cx="63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льдину вылезаю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лыками устрашаю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844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Главные признак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ло н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ло покры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рмят детёныш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916280"/>
            <a:ext cx="158436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99736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шер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22100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л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26:45Z</dcterms:created>
  <dc:creator>XTreme</dc:creator>
  <dc:description/>
  <dc:language>en-US</dc:language>
  <cp:lastModifiedBy>XTreme</cp:lastModifiedBy>
  <dcterms:modified xsi:type="dcterms:W3CDTF">2009-02-03T19:07:44Z</dcterms:modified>
  <cp:revision>2</cp:revision>
  <dc:subject/>
  <dc:title>В гости к млекопитающи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30000000000010250300207f7000400038000</vt:lpwstr>
  </property>
</Properties>
</file>