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83E-8DEC-431D-BD34-2DF63B26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410-2023-46A3-AFB7-EFA787F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583-08A4-4148-BEEA-706D08CA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EE0-579F-4EB5-90C4-70DA8E20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562C-3ABB-44F5-89E0-AC2381ED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3B4E-2B66-423C-9622-827332E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21FE-29B6-49ED-9254-A45DC24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124-E7F7-43CB-9E49-DAD57E8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0994-CD0B-4CD9-BC50-24FA136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DD06-00CF-4330-B308-A01B681A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FB1-6D0B-4B65-9DE9-44EAECB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078-557A-44A0-8F7B-D292C1A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370B-B4FA-49D0-ACC2-B38863B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F4DA-56F0-4203-A5DD-EC987B3C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DB4-E2CC-4C84-A00B-64A487F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680-2D0F-4899-A01E-8AA3677E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4B3E-C53A-45E6-A4DB-2DD3500A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D52-7FAD-4CDD-8C4D-10A36B0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EB0-612F-4028-81B2-F69D881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E4-3B12-44B0-BB79-6EE412B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5D1-2FEA-4F0F-BB83-1B96A385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DD6-0233-4918-AEBA-E38F8B1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922-A6B6-463C-AC77-8119943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E8A-11B4-41B8-95B1-BAD4418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D23-9512-469E-BF47-E7B9FF748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336-9252-49E5-B84F-38674624F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0&amp;text=&#1073;&#1077;&#1089;&#1087;&#1083;&#1072;&#1090;&#1085;&#1086;%20&#1082;&#1072;&#1088;&#1090;&#1080;&#1085;&#1082;&#1080;%20&#1084;&#1083;&#1077;&#1082;&#1086;&#1087;&#1080;&#1090;&#1072;&#1102;&#1097;&#1080;&#1093;&amp;spsite=www.sunhome.ru&amp;img_url=img.sunhome.ru%2FUsersGallery%2F042006%2F30221044.jpg&amp;rpt=simage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images.yandex.ru/yandsearch?p=313&amp;text=&#1073;&#1077;&#1089;&#1087;&#1083;&#1072;&#1090;&#1085;&#1086;%20&#1082;&#1072;&#1088;&#1090;&#1080;&#1085;&#1082;&#1080;%20&#1084;&#1083;&#1077;&#1082;&#1086;&#1087;&#1080;&#1090;&#1072;&#1102;&#1097;&#1080;&#1093;&amp;spsite=www.foto.ck.ua&amp;img_url=www.foto.ck.ua%2Ffiles%2Fthumbs%2Ffoto%2F36%2F222062781%2F640x480.jpg&amp;rpt=simage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yandex.ru/yandsearch?p=43&amp;text=&#1073;&#1077;&#1089;&#1087;&#1083;&#1072;&#1090;&#1085;&#1086;%20&#1082;&#1072;&#1088;&#1090;&#1080;&#1085;&#1082;&#1080;%20&#1084;&#1083;&#1077;&#1082;&#1086;&#1087;&#1080;&#1090;&#1072;&#1102;&#1097;&#1080;&#1093;&amp;spsite=www.naturelight.ru&amp;img_url=tycovka.net%2Fuploads%2Fposts%2F2008-11%2Fthumbs%2F1226240982_1223397735b11bncw.jpg&amp;rpt=simage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70&amp;text=&#1073;&#1077;&#1089;&#1087;&#1083;&#1072;&#1090;&#1085;&#1086;%20&#1082;&#1072;&#1088;&#1090;&#1080;&#1085;&#1082;&#1080;%20&#1084;&#1083;&#1077;&#1082;&#1086;&#1087;&#1080;&#1090;&#1072;&#1102;&#1097;&#1080;&#1093;&amp;spsite=www.spbtalk.ru&amp;img_url=portal.lanpolis.ru%2Fboard%2Fjournal%2Fuploads%2Fj2325_1168977856.jpg&amp;rpt=simage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4&amp;bf=1&amp;ed=1&amp;text=&#1073;&#1077;&#1089;&#1087;&#1083;&#1072;&#1090;&#1085;&#1086;%20&#1092;&#1086;&#1090;&#1086;%20&#1080;%20&#1082;&#1072;&#1088;&#1090;&#1080;&#1085;&#1082;&#1080;%20&#1079;&#1072;&#1081;&#1094;&#1072;&amp;spsite=sourceforce.clan.su&amp;img_url=namonitore.ru%2Fuploads%2Fcatalog%2Fanimals%2Fzayatsbelyak_600.jpg&amp;rpt=simage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3&amp;bf=1&amp;text=&#1073;&#1077;&#1089;&#1087;&#1083;&#1072;&#1090;&#1085;&#1086;%20&#1092;&#1086;&#1090;&#1086;%20&#1080;%20&#1082;&#1072;&#1088;&#1090;&#1080;&#1085;&#1082;&#1080;%20&#1086;&#1073;&#1077;&#1079;&#1100;&#1103;&#1085;&#1099;&amp;spsite=www.picmobi.com&amp;img_url=thttpd.seclub.org%2Fpic%2Fe%2F9%2Fd%2Fe9dc312d93660fd43684db9319c4d625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p=72&amp;text=&#1073;&#1077;&#1089;&#1087;&#1083;&#1072;&#1090;&#1085;&#1086;%20&#1082;&#1072;&#1088;&#1090;&#1080;&#1085;&#1082;&#1080;%20&#1084;&#1083;&#1077;&#1082;&#1086;&#1087;&#1080;&#1090;&#1072;&#1102;&#1097;&#1080;&#1093;&amp;spsite=www.sevin.ru&amp;img_url=wild-animals2007.narod.ru%2Fnormal_069.jpg&amp;rpt=simage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yandex.ru/yandsearch?p=28&amp;text=&#1073;&#1077;&#1089;&#1087;&#1083;&#1072;&#1090;&#1085;&#1086;%20&#1082;&#1072;&#1088;&#1090;&#1080;&#1085;&#1082;&#1080;%20&#1084;&#1083;&#1077;&#1082;&#1086;&#1087;&#1080;&#1090;&#1072;&#1102;&#1097;&#1080;&#1093;&amp;spsite=www.traveltours.ru&amp;img_url=papa-vlad.narod.ru%2FDetskie_prezentatsii%2FBiologija.Morskie_zhiteli%2FMlekopitajuschie.files%2Fslide0001_image001.jpg&amp;rpt=simage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images.yandex.ru/yandsearch?p=17&amp;text=&#1073;&#1077;&#1089;&#1087;&#1083;&#1072;&#1090;&#1085;&#1086;%20&#1082;&#1072;&#1088;&#1090;&#1080;&#1085;&#1082;&#1080;%20&#1084;&#1083;&#1077;&#1082;&#1086;&#1087;&#1080;&#1090;&#1072;&#1102;&#1097;&#1080;&#1093;&amp;spsite=podrostky.clan.su&amp;img_url=www.top-pic.com%2Fw%2F24d6a63c18c91b67fb529b0fd86b7ddf%2F8109_1.jpg&amp;rpt=simage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0&amp;text=&#1073;&#1077;&#1089;&#1087;&#1083;&#1072;&#1090;&#1085;&#1086;%20&#1082;&#1072;&#1088;&#1090;&#1080;&#1085;&#1082;&#1080;%20&#1084;&#1083;&#1077;&#1082;&#1086;&#1087;&#1080;&#1090;&#1072;&#1102;&#1097;&#1080;&#1093;&amp;spsite=www.sunhome.ru&amp;img_url=img.sunhome.ru%2FUsersGallery%2F042006%2F30221044.jpg&amp;rpt=simage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4&amp;bf=1&amp;ed=1&amp;text=&#1073;&#1077;&#1089;&#1087;&#1083;&#1072;&#1090;&#1085;&#1086;%20&#1092;&#1086;&#1090;&#1086;%20&#1080;%20&#1082;&#1072;&#1088;&#1090;&#1080;&#1085;&#1082;&#1080;%20&#1095;&#1077;&#1088;&#1077;&#1087;&#1072;&#1093;&#1080;&amp;spsite=c17.clan.su&amp;img_url=img-fotki.yandex.ru%2Fget%2F19%2Favganess1.0%2F0_10187_945e3413_XL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6&amp;bf=1&amp;text=&#1073;&#1077;&#1089;&#1087;&#1083;&#1072;&#1090;&#1085;&#1086;%20&#1092;&#1086;&#1090;&#1086;%20&#1080;%20&#1082;&#1072;&#1088;&#1090;&#1080;&#1085;&#1082;&#1080;%20&#1079;&#1077;&#1073;&#1088;&#1099;&amp;spsite=papa-vlad.narod.ru&amp;img_url=papa-vlad.narod.ru%2FDetskie_prezentatsii%2Fbiologiya%2FNeparnokopytnye.files%2Fslide0006_image006.jpg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9&amp;bf=1&amp;ed=1&amp;text=&#1073;&#1077;&#1089;&#1087;&#1083;&#1072;&#1090;&#1085;&#1086;%20&#1092;&#1086;&#1090;&#1086;%20&#1080;%20&#1082;&#1072;&#1088;&#1090;&#1080;&#1085;&#1082;&#1080;%20&#1073;&#1077;&#1083;&#1082;&#1080;&amp;spsite=www.igolki.net&amp;img_url=www.behappy.arh-p.ru%2FBear%2Fbeloch18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2&amp;text=&#1073;&#1077;&#1089;&#1087;&#1083;&#1072;&#1090;&#1085;&#1086;%20&#1092;&#1086;&#1090;&#1086;%20&#1080;%20&#1082;&#1072;&#1088;&#1090;&#1080;&#1085;&#1082;&#1080;%20&#1086;&#1083;&#1077;&#1085;&#1103;&amp;spsite=crazywalls.narod.ru&amp;img_url=flynx13.narod.ru%2FGAL%2F200%2F1%2FA%2F21a0012.jpg&amp;rpt=simag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bf=1&amp;text=&#1073;&#1077;&#1089;&#1087;&#1083;&#1072;&#1090;&#1085;&#1086;%20&#1092;&#1086;&#1090;&#1086;%20&#1080;%20&#1082;&#1072;&#1088;&#1090;&#1080;&#1085;&#1082;&#1080;%20&#1084;&#1086;&#1088;&#1078;&#1072;&amp;spsite=peresvet-gorod.ru&amp;img_url=static.apteka.uz%2Fnews%2Fodobenus_rosmarus-500.jpg&amp;rpt=simag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В гости к млекопитающим.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рок окружающего мира по программе «Гармо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ель Пинтера Ирина Иван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Как по другому называют млекопитающих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565360"/>
            <a:ext cx="576360" cy="57636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56536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198900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98900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141720"/>
            <a:ext cx="648000" cy="6476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71628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256536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256536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429264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14172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14172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314172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371628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371628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29264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29264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429264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429264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71628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14172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50864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924280"/>
            <a:ext cx="1970280" cy="177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119700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179280" y="836640"/>
            <a:ext cx="201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5013360"/>
            <a:ext cx="23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Хитрый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628640"/>
            <a:ext cx="6912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Неуклюжий, как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700280"/>
            <a:ext cx="63356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Трусливый,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628640"/>
            <a:ext cx="56545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Смешной,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55736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Сравните животных.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Чем они похожи, чем отличаются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2205000"/>
            <a:ext cx="2089080" cy="156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4581360"/>
            <a:ext cx="2089080" cy="16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2205000"/>
            <a:ext cx="2087640" cy="1506600"/>
          </a:xfrm>
          <a:prstGeom prst="rect">
            <a:avLst/>
          </a:prstGeom>
          <a:ln w="0">
            <a:noFill/>
          </a:ln>
        </p:spPr>
      </p:pic>
      <p:pic>
        <p:nvPicPr>
          <p:cNvPr id="147" name="i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35640" y="4581360"/>
            <a:ext cx="20890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Я заглядываю без труда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В окна третьего этажа.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557360"/>
            <a:ext cx="46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Лакомлюсь малиной 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И медком пчелиным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916280"/>
            <a:ext cx="633744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земле и под водой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Меня спасает панцирь мой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1773360"/>
            <a:ext cx="576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ебольшая я лошадка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Вся в линейку, как тетрадка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916280"/>
            <a:ext cx="69138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Словно рыжий огонёк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Я по деревьям скок, да скок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844640"/>
            <a:ext cx="3581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Живу и в тундре, и в лесу.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голове ношу красу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1773360"/>
            <a:ext cx="633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льдину вылезаю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Клыками устрашаю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844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Главные признак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ло н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ло покры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рмят детёныш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916280"/>
            <a:ext cx="158436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997360"/>
            <a:ext cx="345600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шер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221000"/>
            <a:ext cx="345600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л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26:45Z</dcterms:created>
  <dc:creator>XTreme</dc:creator>
  <dc:description/>
  <dc:language>en-US</dc:language>
  <cp:lastModifiedBy>XTreme</cp:lastModifiedBy>
  <dcterms:modified xsi:type="dcterms:W3CDTF">2009-02-03T19:07:44Z</dcterms:modified>
  <cp:revision>2</cp:revision>
  <dc:subject/>
  <dc:title>В гости к млекопитающи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30000000000010250300207f7000400038000</vt:lpwstr>
  </property>
</Properties>
</file>