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2EF-5B15-4626-B48F-E24AA74A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2EE-0B3C-45A4-90C8-4CA711D1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CC9-57C8-4617-9A77-22122853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DE3-98F9-492B-AEA2-91C081DA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087-20C2-4394-8C9E-D362CE8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2D7-D612-4C24-A8C9-B9E0042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23B-5A00-4CCD-A1FC-B537EBF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24E-7CC7-4A0E-876A-BB765A7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C0D-FCAA-4F23-A589-4CE4781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527-A8FF-4003-B295-5923EE7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6FF-8C22-4368-8A43-516AD57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B81-7AAE-473A-BC62-BF45AA2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D9F-2024-4E66-A4D4-DEAE7497B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егова Л.В. учитель географ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Большой Букор, Чайковского района,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5800" y="762120"/>
            <a:ext cx="80773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ра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419360" y="419112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ном Урале- бокс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богатство Урала- руды черных и цветных (медь, никель)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гматическая порода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4114800" y="380880"/>
            <a:ext cx="502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матические пор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Самородная медь"/>
          <p:cNvPicPr/>
          <p:nvPr/>
        </p:nvPicPr>
        <p:blipFill>
          <a:blip r:embed="rId2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280" y="0"/>
            <a:ext cx="41148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горьях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ура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оженных магматическими породами, открыты рудные месторождения (железные, медные и марганцевые ру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2971800" y="5662440"/>
            <a:ext cx="16812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ат Урал и благородными металлами(золотом, платиной, серебром), драгоценными, полудрагоценными, а также поделочными кам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Самородок платины"/>
          <p:cNvPicPr/>
          <p:nvPr/>
        </p:nvPicPr>
        <p:blipFill>
          <a:blip r:embed="rId1"/>
          <a:stretch/>
        </p:blipFill>
        <p:spPr>
          <a:xfrm>
            <a:off x="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52480" y="2971800"/>
            <a:ext cx="25099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а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7" descr="Золотой самородок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8"/>
          <p:cNvSpPr txBox="1"/>
          <p:nvPr/>
        </p:nvSpPr>
        <p:spPr>
          <a:xfrm>
            <a:off x="4952880" y="304920"/>
            <a:ext cx="14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9" descr="Серебро"/>
          <p:cNvPicPr/>
          <p:nvPr/>
        </p:nvPicPr>
        <p:blipFill>
          <a:blip r:embed="rId3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0"/>
          <p:cNvSpPr txBox="1"/>
          <p:nvPr/>
        </p:nvSpPr>
        <p:spPr>
          <a:xfrm>
            <a:off x="3809880" y="5791320"/>
            <a:ext cx="23148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бр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северных и южных рай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климата с выс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западного и восточного макро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v3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gor2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609480" y="2514600"/>
            <a:ext cx="408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има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57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адный скл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а смягчается теплым атлантическим воз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адает больше осад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denK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14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3053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верной части Предуралья произрастают еловые и широколиственно-еловые леса, на юге- лесостепь и ст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remel"/>
          <p:cNvPicPr/>
          <p:nvPr/>
        </p:nvPicPr>
        <p:blipFill>
          <a:blip r:embed="rId2"/>
          <a:stretch/>
        </p:blipFill>
        <p:spPr>
          <a:xfrm>
            <a:off x="228600" y="2163600"/>
            <a:ext cx="5029200" cy="316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sre3"/>
          <p:cNvPicPr/>
          <p:nvPr/>
        </p:nvPicPr>
        <p:blipFill>
          <a:blip r:embed="rId3"/>
          <a:stretch/>
        </p:blipFill>
        <p:spPr>
          <a:xfrm>
            <a:off x="4800600" y="373392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8088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- умеренно континент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точный ск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10080" y="9907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ат континент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влияния холодного сибирск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уралье господствуют лиственничники и мелколиственные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rav1"/>
          <p:cNvPicPr/>
          <p:nvPr/>
        </p:nvPicPr>
        <p:blipFill>
          <a:blip r:embed="rId1"/>
          <a:stretch/>
        </p:blipFill>
        <p:spPr>
          <a:xfrm>
            <a:off x="228600" y="22860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Светлохвойные леса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але находятся Печоро-Илычский биосферный и еще10 запов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Вишерский, Денежкин Камень, Басеги, Висимский, Ильменский и др.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национальных па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 rot="21314400">
            <a:off x="228600" y="773280"/>
            <a:ext cx="4991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40000"/>
                  </a:srgbClr>
                </a:solidFill>
                <a:latin typeface="Impact"/>
              </a:rPr>
              <a:t>Заповедные м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4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819520" y="426708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>
                    <a:alpha val="49000"/>
                  </a:srgbClr>
                </a:solidFill>
                <a:latin typeface="Arial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>
                  <a:alpha val="49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47840" y="304920"/>
            <a:ext cx="4578120" cy="6324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562720" y="1447920"/>
            <a:ext cx="33526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чоро-Илычский заповедник. Основан в 1930г. Здесь можно встретить останцы причудлив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Гора Денежкин Камень №10. Заповедник «Денежкин Кам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Гора Конжаковски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Вишерский 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3581280" y="228600"/>
            <a:ext cx="426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находится круп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и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а(63м)-она служила местом жертвоприношений у местных жителей с глубокой древности до начала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е найдена самая северная в мире палеолитическая  стоянка человека, который обитал здесь 20000-25000 лет назад. Обнаружено также большое количество костей вымерших животных- пещерного медведя и тигроль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aksim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39132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 rot="20328600">
            <a:off x="90360" y="1058400"/>
            <a:ext cx="351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1920" y="20574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 в мире минералогически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самой богатой кладовой Уральских 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сохранились старинные копи(400), в которых можно увидеть «диковинные камушки» из сказов П.П.Баж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80880" y="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жный ура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ьменский заповед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5" descr="Хромовый гранат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4724280" y="3429000"/>
            <a:ext cx="4419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сть заповедника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ьме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инерал черного цвета с полуметаллическим блеском, в 2005 г стало известно, что месторождение ильменита существует на Л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в Ильменах обнаружен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70 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 них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7-впер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есть редкие и редчайшие, не обнаруженные больше нигде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rav5"/>
          <p:cNvPicPr/>
          <p:nvPr/>
        </p:nvPicPr>
        <p:blipFill>
          <a:blip r:embed="rId1"/>
          <a:stretch/>
        </p:blipFill>
        <p:spPr>
          <a:xfrm>
            <a:off x="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Пещерная живопись"/>
          <p:cNvPicPr/>
          <p:nvPr/>
        </p:nvPicPr>
        <p:blipFill>
          <a:blip r:embed="rId2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0" y="0"/>
            <a:ext cx="4057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жный урал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пова пеще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10080" y="403848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щера с настенными изображениями эпохи палеолита на реке Бе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790960" y="304920"/>
            <a:ext cx="3352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ыке двух частей света Европы и Азии, крупнейших литосферных плит, крупнейших речных бассей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Географическое положение Урала"/>
          <p:cNvPicPr/>
          <p:nvPr/>
        </p:nvPicPr>
        <p:blipFill>
          <a:blip r:embed="rId1"/>
          <a:stretch/>
        </p:blipFill>
        <p:spPr>
          <a:xfrm>
            <a:off x="0" y="60948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полните предложе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 протянулся более чем на … километров от побережья …  моря до степей .... Цепи Уральских гор образуют границу между областью умеренно континентального и ... климата, между бассейном Волги и ... , между Русской равниной и ... , между древней платформой и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высо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 относят к гор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низким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ред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высо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ьские горы относят к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кладчаты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складчато-глыб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глыбо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бери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рные утвержде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я ледников в питании уральских рек очень знач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е богатство Урала — лесные ресур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ал — природный рубеж между Русской и Западно-Сибирской равн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ных склонах Уральских гор выпадает больше осадков, чем на восто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часть Урал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которая имеет наибольшую абсолютную высо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лярный Ур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Приполярный Урал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ный Урал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жный 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абсолютную высо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ысочайшей точки Уральских гор — горы Народн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642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8848 м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1895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292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берите характерные черты Приполярного Ур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араллельное расположение хреб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ие на Урале выс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 землетряс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ливые следы древних оледе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0" fill="hold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670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Определите цифры, которыми на рисунке обозначе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гора Яманта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река Печ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река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) Печоро-Илычский заповед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 хребет Пай-Х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) Юж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) Север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) Приполярный Ур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) гора Наро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) река Чусовая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) Ильменский заповед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) гора Конжаковский Кам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: а2, б4, в10, г6, д15, е13, з7, и1, к8, л11, м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м Уральских гор на севере являются острова Новой Земли и Вайгач, а на юге- Мугоджарс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02"/>
          <p:cNvPicPr/>
          <p:nvPr/>
        </p:nvPicPr>
        <p:blipFill>
          <a:blip r:embed="rId1"/>
          <a:stretch/>
        </p:blipFill>
        <p:spPr>
          <a:xfrm>
            <a:off x="5335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or4"/>
          <p:cNvPicPr/>
          <p:nvPr/>
        </p:nvPicPr>
        <p:blipFill>
          <a:blip r:embed="rId2"/>
          <a:stretch/>
        </p:blipFill>
        <p:spPr>
          <a:xfrm>
            <a:off x="4191120" y="3408480"/>
            <a:ext cx="4952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0" y="52578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о единая горная система, созданная в герцинскую складчатую эпо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2666880" y="228600"/>
            <a:ext cx="48769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черты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gor1"/>
          <p:cNvPicPr/>
          <p:nvPr/>
        </p:nvPicPr>
        <p:blipFill>
          <a:blip r:embed="rId2"/>
          <a:stretch/>
        </p:blipFill>
        <p:spPr>
          <a:xfrm>
            <a:off x="3581280" y="12952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495320"/>
            <a:ext cx="853416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Барьерное положение по отношению к западным ветрам усиливает циклоническую деятельность на западе и формирует резкие различия западных и восточных 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лимат Урала"/>
          <p:cNvPicPr/>
          <p:nvPr/>
        </p:nvPicPr>
        <p:blipFill>
          <a:blip r:embed="rId1"/>
          <a:stretch/>
        </p:blipFill>
        <p:spPr>
          <a:xfrm>
            <a:off x="1066680" y="5076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1051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мещение границ ландшафтных поясов в горах к югу относительно их границ на равн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Уральские горы (схема)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происхождение Уральских г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Chord"/>
          <p:cNvSpPr/>
          <p:nvPr/>
        </p:nvSpPr>
        <p:spPr>
          <a:xfrm>
            <a:off x="4876920" y="457200"/>
            <a:ext cx="2266920" cy="2266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0720" y="1763640"/>
            <a:ext cx="45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ейская и протерозойская э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9"/>
          <p:cNvSpPr/>
          <p:nvPr/>
        </p:nvSpPr>
        <p:spPr>
          <a:xfrm>
            <a:off x="7000920" y="1900080"/>
            <a:ext cx="73332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4376880" y="1936800"/>
            <a:ext cx="660240" cy="20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172120" y="2133720"/>
            <a:ext cx="1693800" cy="49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80880" y="3200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. Палеозойская эра. (Герцинская складчат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4952880" y="3048120"/>
            <a:ext cx="3613320" cy="996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4827600" y="2892600"/>
            <a:ext cx="3657600" cy="86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4724280" y="2666880"/>
            <a:ext cx="3746520" cy="113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80880" y="4419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этап. Мезозойская э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9"/>
          <p:cNvSpPr/>
          <p:nvPr/>
        </p:nvSpPr>
        <p:spPr>
          <a:xfrm>
            <a:off x="5065560" y="4406760"/>
            <a:ext cx="3463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0"/>
          <p:cNvSpPr/>
          <p:nvPr/>
        </p:nvSpPr>
        <p:spPr>
          <a:xfrm>
            <a:off x="4811760" y="4227480"/>
            <a:ext cx="465120" cy="554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"/>
          <p:cNvSpPr/>
          <p:nvPr/>
        </p:nvSpPr>
        <p:spPr>
          <a:xfrm>
            <a:off x="5665680" y="4422600"/>
            <a:ext cx="21600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"/>
          <p:cNvSpPr/>
          <p:nvPr/>
        </p:nvSpPr>
        <p:spPr>
          <a:xfrm>
            <a:off x="5711760" y="4227480"/>
            <a:ext cx="37620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"/>
          <p:cNvSpPr/>
          <p:nvPr/>
        </p:nvSpPr>
        <p:spPr>
          <a:xfrm>
            <a:off x="6700680" y="4451400"/>
            <a:ext cx="254160" cy="330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4"/>
          <p:cNvSpPr/>
          <p:nvPr/>
        </p:nvSpPr>
        <p:spPr>
          <a:xfrm>
            <a:off x="6521400" y="4219560"/>
            <a:ext cx="389160" cy="53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5"/>
          <p:cNvSpPr/>
          <p:nvPr/>
        </p:nvSpPr>
        <p:spPr>
          <a:xfrm>
            <a:off x="7254720" y="4481640"/>
            <a:ext cx="228600" cy="28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7240680" y="4272120"/>
            <a:ext cx="465120" cy="495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5965920" y="4211640"/>
            <a:ext cx="660240" cy="44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380880" y="5791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Кайнозойская э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 rot="10800000">
            <a:off x="5715000" y="4952880"/>
            <a:ext cx="1371600" cy="14479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2"/>
          <p:cNvSpPr/>
          <p:nvPr/>
        </p:nvSpPr>
        <p:spPr>
          <a:xfrm rot="10800000">
            <a:off x="4571640" y="5562720"/>
            <a:ext cx="1143000" cy="83808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3"/>
          <p:cNvSpPr/>
          <p:nvPr/>
        </p:nvSpPr>
        <p:spPr>
          <a:xfrm rot="10800000">
            <a:off x="7086600" y="5181120"/>
            <a:ext cx="1371600" cy="12193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4"/>
          <p:cNvSpPr/>
          <p:nvPr/>
        </p:nvSpPr>
        <p:spPr>
          <a:xfrm>
            <a:off x="4572000" y="5715000"/>
            <a:ext cx="839880" cy="47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029200" y="5791320"/>
            <a:ext cx="636480" cy="534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715000" y="5181480"/>
            <a:ext cx="1027080" cy="126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7"/>
          <p:cNvSpPr/>
          <p:nvPr/>
        </p:nvSpPr>
        <p:spPr>
          <a:xfrm>
            <a:off x="5979960" y="5351400"/>
            <a:ext cx="1035360" cy="10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8"/>
          <p:cNvSpPr/>
          <p:nvPr/>
        </p:nvSpPr>
        <p:spPr>
          <a:xfrm>
            <a:off x="6340320" y="5877000"/>
            <a:ext cx="405000" cy="49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9"/>
          <p:cNvSpPr/>
          <p:nvPr/>
        </p:nvSpPr>
        <p:spPr>
          <a:xfrm>
            <a:off x="6550200" y="5591160"/>
            <a:ext cx="469800" cy="79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0"/>
          <p:cNvSpPr/>
          <p:nvPr/>
        </p:nvSpPr>
        <p:spPr>
          <a:xfrm>
            <a:off x="7464600" y="5307120"/>
            <a:ext cx="879480" cy="107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1"/>
          <p:cNvSpPr/>
          <p:nvPr/>
        </p:nvSpPr>
        <p:spPr>
          <a:xfrm>
            <a:off x="7270920" y="5456160"/>
            <a:ext cx="858600" cy="80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2"/>
          <p:cNvSpPr/>
          <p:nvPr/>
        </p:nvSpPr>
        <p:spPr>
          <a:xfrm>
            <a:off x="7089840" y="5576760"/>
            <a:ext cx="495360" cy="389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3"/>
          <p:cNvSpPr/>
          <p:nvPr/>
        </p:nvSpPr>
        <p:spPr>
          <a:xfrm>
            <a:off x="7675560" y="5891040"/>
            <a:ext cx="314280" cy="47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7315200" y="563868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тный профиль Ур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457200" y="2743200"/>
            <a:ext cx="8491680" cy="30481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320" y="4648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48320" y="2819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(водораздельный)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02920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24080" y="2286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477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90920" y="5486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2485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772400" y="4495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о- Сибир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1143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е горы ассимметричны: западный склон пологий, восточный- довольно кру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86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ие полезных ископа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геологическим стро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горьях, в тектоническом прогибе, где преобладают осадочные породы, содержатся полезные ископаемые осадочного происхождения: калийные соли, поваренные соли, известняки и мраморы, огнеупорные глины, пески, угли и серный колче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уралье есть запасы нефти,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обыча соли"/>
          <p:cNvPicPr/>
          <p:nvPr/>
        </p:nvPicPr>
        <p:blipFill>
          <a:blip r:embed="rId1"/>
          <a:stretch/>
        </p:blipFill>
        <p:spPr>
          <a:xfrm>
            <a:off x="4064040" y="3657600"/>
            <a:ext cx="507996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791320" y="3657600"/>
            <a:ext cx="2752560" cy="56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ыча с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Picture 6" descr="Калийная соль"/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304920" y="5943600"/>
            <a:ext cx="3352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лийная 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8" descr="Уголь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5562720" y="0"/>
            <a:ext cx="1152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г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 истории</cp:lastModifiedBy>
  <dcterms:modified xsi:type="dcterms:W3CDTF">2012-03-21T04:08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140000000000010250300207f7000400038000</vt:lpwstr>
  </property>
  <property fmtid="{D5CDD505-2E9C-101B-9397-08002B2CF9AE}" pid="3" name="Version">
    <vt:r8>1</vt:r8>
  </property>
</Properties>
</file>