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1F3-2034-4440-8CB8-1EF87894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386-CD0A-417A-B743-3912A602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175-C064-4957-A2EF-FF6B4D16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A4C-C7BD-4543-9DA3-6F0C70CC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AC0-7CC9-4CD3-B7F7-B24B6B30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FB6-72DA-4D08-BD68-8A600F7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376-145E-43A1-827E-A3DE19F3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AD7-2247-4E2C-886B-0D5B811B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FB2-BCA7-43DB-9D16-9EF34A1A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A66-1EBB-471F-B702-30DC2F05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26C-8516-4601-AB53-EC8AD84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6F4-6C9C-4C83-84C9-0984F18F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3D78-E67A-4079-952B-BD813A6D0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46483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 кла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егова Л.В. учитель географ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Большой Букор, Чайковского района,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685800" y="762120"/>
            <a:ext cx="80773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ра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419360" y="4191120"/>
            <a:ext cx="4724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верном Урале- бокси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богатство Урала- руды черных и цветных (медь, никель) мет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Магматическая порода"/>
          <p:cNvPicPr/>
          <p:nvPr/>
        </p:nvPicPr>
        <p:blipFill>
          <a:blip r:embed="rId1"/>
          <a:stretch/>
        </p:blipFill>
        <p:spPr>
          <a:xfrm>
            <a:off x="406404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4114800" y="380880"/>
            <a:ext cx="5029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матические поро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Самородная медь"/>
          <p:cNvPicPr/>
          <p:nvPr/>
        </p:nvPicPr>
        <p:blipFill>
          <a:blip r:embed="rId2"/>
          <a:stretch/>
        </p:blipFill>
        <p:spPr>
          <a:xfrm>
            <a:off x="0" y="320040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52280" y="0"/>
            <a:ext cx="41148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точ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горьях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урал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ложенных магматическими породами, открыты рудные месторождения (железные, медные и марганцевые ру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8"/>
          <p:cNvSpPr txBox="1"/>
          <p:nvPr/>
        </p:nvSpPr>
        <p:spPr>
          <a:xfrm>
            <a:off x="2971800" y="5662440"/>
            <a:ext cx="16812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11480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ат Урал и благородными металлами(золотом, платиной, серебром), драгоценными, полудрагоценными, а также поделочными камн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Самородок платины"/>
          <p:cNvPicPr/>
          <p:nvPr/>
        </p:nvPicPr>
        <p:blipFill>
          <a:blip r:embed="rId1"/>
          <a:stretch/>
        </p:blipFill>
        <p:spPr>
          <a:xfrm>
            <a:off x="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752480" y="2971800"/>
            <a:ext cx="25099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ат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Picture 7" descr="Золотой самородок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8"/>
          <p:cNvSpPr txBox="1"/>
          <p:nvPr/>
        </p:nvSpPr>
        <p:spPr>
          <a:xfrm>
            <a:off x="4952880" y="304920"/>
            <a:ext cx="1400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лот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Picture 9" descr="Серебро"/>
          <p:cNvPicPr/>
          <p:nvPr/>
        </p:nvPicPr>
        <p:blipFill>
          <a:blip r:embed="rId3"/>
          <a:stretch/>
        </p:blipFill>
        <p:spPr>
          <a:xfrm>
            <a:off x="4876920" y="3429000"/>
            <a:ext cx="426708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0"/>
          <p:cNvSpPr txBox="1"/>
          <p:nvPr/>
        </p:nvSpPr>
        <p:spPr>
          <a:xfrm>
            <a:off x="3809880" y="5791320"/>
            <a:ext cx="231480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ебр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ие климата северных и южных рай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климата с выс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ие климата западного и восточного макроскл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rav3"/>
          <p:cNvPicPr/>
          <p:nvPr/>
        </p:nvPicPr>
        <p:blipFill>
          <a:blip r:embed="rId1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gor2"/>
          <p:cNvPicPr/>
          <p:nvPr/>
        </p:nvPicPr>
        <p:blipFill>
          <a:blip r:embed="rId2"/>
          <a:stretch/>
        </p:blipFill>
        <p:spPr>
          <a:xfrm>
            <a:off x="4191120" y="25146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7"/>
          <p:cNvSpPr txBox="1"/>
          <p:nvPr/>
        </p:nvSpPr>
        <p:spPr>
          <a:xfrm>
            <a:off x="609480" y="2514600"/>
            <a:ext cx="4086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има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572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адный скл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ода смягчается теплым атлантическим возду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адает больше осад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denK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2140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0" y="53053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верной части Предуралья произрастают еловые и широколиственно-еловые леса, на юге- лесостепь и степ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iremel"/>
          <p:cNvPicPr/>
          <p:nvPr/>
        </p:nvPicPr>
        <p:blipFill>
          <a:blip r:embed="rId2"/>
          <a:stretch/>
        </p:blipFill>
        <p:spPr>
          <a:xfrm>
            <a:off x="228600" y="2163600"/>
            <a:ext cx="5029200" cy="3160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sre3"/>
          <p:cNvPicPr/>
          <p:nvPr/>
        </p:nvPicPr>
        <p:blipFill>
          <a:blip r:embed="rId3"/>
          <a:stretch/>
        </p:blipFill>
        <p:spPr>
          <a:xfrm>
            <a:off x="4800600" y="373392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8088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мат- умеренно континент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05520" y="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точный скл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10080" y="99072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мат континент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влияния холодного сибирского во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049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уралье господствуют лиственничники и мелколиственные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rav1"/>
          <p:cNvPicPr/>
          <p:nvPr/>
        </p:nvPicPr>
        <p:blipFill>
          <a:blip r:embed="rId1"/>
          <a:stretch/>
        </p:blipFill>
        <p:spPr>
          <a:xfrm>
            <a:off x="228600" y="22860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Светлохвойные леса"/>
          <p:cNvPicPr/>
          <p:nvPr/>
        </p:nvPicPr>
        <p:blipFill>
          <a:blip r:embed="rId2"/>
          <a:stretch/>
        </p:blipFill>
        <p:spPr>
          <a:xfrm>
            <a:off x="4724280" y="354348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але находятся Печоро-Илычский биосферный и еще10 запове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Вишерский, Денежкин Камень, Басеги, Висимский, Ильменский и др.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национальных пар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 rot="21314400">
            <a:off x="228600" y="773280"/>
            <a:ext cx="4991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>
                    <a:alpha val="40000"/>
                  </a:srgbClr>
                </a:solidFill>
                <a:latin typeface="Impact"/>
              </a:rPr>
              <a:t>Заповедные ме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>
                  <a:alpha val="4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2819520" y="4267080"/>
            <a:ext cx="60195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>
                    <a:alpha val="49000"/>
                  </a:srgbClr>
                </a:solidFill>
                <a:latin typeface="Arial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>
                  <a:alpha val="49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47840" y="304920"/>
            <a:ext cx="4578120" cy="63244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562720" y="1447920"/>
            <a:ext cx="33526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чоро-Илычский заповедник. Основан в 1930г. Здесь можно встретить останцы причудлив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Гора Денежкин Камень №10. Заповедник «Денежкин Кам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Гора Конжаковский Ка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Вишерский 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3581280" y="228600"/>
            <a:ext cx="4267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верный урал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находится круп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ин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щера(63м)-она служила местом жертвоприношений у местных жителей с глубокой древности до начала 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ь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щере найдена самая северная в мире палеолитическая  стоянка человека, который обитал здесь 20000-25000 лет назад. Обнаружено также большое количество костей вымерших животных- пещерного медведя и тигроль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aksim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39132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5"/>
          <p:cNvSpPr txBox="1"/>
          <p:nvPr/>
        </p:nvSpPr>
        <p:spPr>
          <a:xfrm rot="20328600">
            <a:off x="90360" y="1058400"/>
            <a:ext cx="3514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верный ура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1920" y="20574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й в мире минералогически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 самой богатой кладовой Уральских г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сохранились старинные копи(400), в которых можно увидеть «диковинные камушки» из сказов П.П.Баж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380880" y="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Южный ура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льменский заповедн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5" descr="Хромовый гранат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4724280" y="3429000"/>
            <a:ext cx="4419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дость заповедника-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ьмен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инерал черного цвета с полуметаллическим блеском, в 2005 г стало известно, что месторождение ильменита существует на Лу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в Ильменах обнаружено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70 минер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з них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7-впер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есть редкие и редчайшие, не обнаруженные больше нигде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rav5"/>
          <p:cNvPicPr/>
          <p:nvPr/>
        </p:nvPicPr>
        <p:blipFill>
          <a:blip r:embed="rId1"/>
          <a:stretch/>
        </p:blipFill>
        <p:spPr>
          <a:xfrm>
            <a:off x="0" y="30481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Пещерная живопись"/>
          <p:cNvPicPr/>
          <p:nvPr/>
        </p:nvPicPr>
        <p:blipFill>
          <a:blip r:embed="rId2"/>
          <a:stretch/>
        </p:blipFill>
        <p:spPr>
          <a:xfrm>
            <a:off x="406404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0" y="0"/>
            <a:ext cx="40575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жный урал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пова пещер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10080" y="403848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щера с настенными изображениями эпохи палеолита на реке Бел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790960" y="304920"/>
            <a:ext cx="3352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тыке двух частей света Европы и Азии, крупнейших литосферных плит, крупнейших речных бассей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Географическое положение Урала"/>
          <p:cNvPicPr/>
          <p:nvPr/>
        </p:nvPicPr>
        <p:blipFill>
          <a:blip r:embed="rId1"/>
          <a:stretch/>
        </p:blipFill>
        <p:spPr>
          <a:xfrm>
            <a:off x="0" y="609480"/>
            <a:ext cx="571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полните предложе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л протянулся более чем на … километров от побережья …  моря до степей .... Цепи Уральских гор образуют границу между областью умеренно континентального и ... климата, между бассейном Волги и ... , между Русской равниной и ... , между древней платформой и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высот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Урал относят к гор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низким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средн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высо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 строению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Уральские горы относят к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кладчаты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складчато-глыбов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глыбо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берит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ерные утверждени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я ледников в питании уральских рек очень значите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ое богатство Урала — лесные ресур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ал — природный рубеж между Русской и Западно-Сибирской равн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ных склонах Уральских гор выпадает больше осадков, чем на восто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1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ажите часть Урал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которая имеет наибольшую абсолютную высот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олярный Ура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Приполярный Урал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еверный Урал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Ура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жный У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ажите абсолютную высот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ысочайшей точки Уральских гор — горы Народн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5642 м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8848 м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1895 м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292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берите характерные черты Приполярного Ур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араллельное расположение хреб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ие на Урале выс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е землетряс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ливые следы древних оледе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0" fill="hold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1000" fill="hold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670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.Определите цифры, которыми на рисунке обозначе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) гора Яманта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) река Печ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) река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) Печоро-Илычский заповедни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) хребет Пай-Х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) Южный Ур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) Северный Ур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) Приполярный Ур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) гора Наро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) река Чусовая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) Ильменский заповед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) гора Конжаковский Кам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: а2, б4, в10, г6, д15, е13, з7, и1, к8, л11, м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0"/>
            <a:ext cx="30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114800" y="-3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ением Уральских гор на севере являются острова Новой Земли и Вайгач, а на юге- Мугоджарские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02"/>
          <p:cNvPicPr/>
          <p:nvPr/>
        </p:nvPicPr>
        <p:blipFill>
          <a:blip r:embed="rId1"/>
          <a:stretch/>
        </p:blipFill>
        <p:spPr>
          <a:xfrm>
            <a:off x="5335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gor4"/>
          <p:cNvPicPr/>
          <p:nvPr/>
        </p:nvPicPr>
        <p:blipFill>
          <a:blip r:embed="rId2"/>
          <a:stretch/>
        </p:blipFill>
        <p:spPr>
          <a:xfrm>
            <a:off x="4191120" y="3408480"/>
            <a:ext cx="4952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0" y="525780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то единая горная система, созданная в герцинскую складчатую эпо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413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2666880" y="228600"/>
            <a:ext cx="48769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ые черты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8" descr="gor1"/>
          <p:cNvPicPr/>
          <p:nvPr/>
        </p:nvPicPr>
        <p:blipFill>
          <a:blip r:embed="rId2"/>
          <a:stretch/>
        </p:blipFill>
        <p:spPr>
          <a:xfrm>
            <a:off x="3581280" y="1295280"/>
            <a:ext cx="5079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4495320"/>
            <a:ext cx="853416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Барьерное положение по отношению к западным ветрам усиливает циклоническую деятельность на западе и формирует резкие различия западных и восточных скл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лимат Урала"/>
          <p:cNvPicPr/>
          <p:nvPr/>
        </p:nvPicPr>
        <p:blipFill>
          <a:blip r:embed="rId1"/>
          <a:stretch/>
        </p:blipFill>
        <p:spPr>
          <a:xfrm>
            <a:off x="1066680" y="5076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51051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мещение границ ландшафтных поясов в горах к югу относительно их границ на равни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Уральские горы (схема)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апы происхождение Уральских г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ubChord"/>
          <p:cNvSpPr/>
          <p:nvPr/>
        </p:nvSpPr>
        <p:spPr>
          <a:xfrm>
            <a:off x="4876920" y="457200"/>
            <a:ext cx="2266920" cy="2266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60720" y="1763640"/>
            <a:ext cx="450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ейская и протерозойская э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9"/>
          <p:cNvSpPr/>
          <p:nvPr/>
        </p:nvSpPr>
        <p:spPr>
          <a:xfrm>
            <a:off x="7000920" y="1900080"/>
            <a:ext cx="733320" cy="2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4376880" y="1936800"/>
            <a:ext cx="660240" cy="206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172120" y="2133720"/>
            <a:ext cx="1693800" cy="49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80880" y="3200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этап. Палеозойская эра. (Герцинская складчат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3"/>
          <p:cNvSpPr/>
          <p:nvPr/>
        </p:nvSpPr>
        <p:spPr>
          <a:xfrm>
            <a:off x="4952880" y="3048120"/>
            <a:ext cx="3613320" cy="996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4827600" y="2892600"/>
            <a:ext cx="3657600" cy="86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4724280" y="2666880"/>
            <a:ext cx="3746520" cy="1136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80880" y="44197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этап. Мезозойская э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9"/>
          <p:cNvSpPr/>
          <p:nvPr/>
        </p:nvSpPr>
        <p:spPr>
          <a:xfrm>
            <a:off x="5065560" y="4406760"/>
            <a:ext cx="3463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0"/>
          <p:cNvSpPr/>
          <p:nvPr/>
        </p:nvSpPr>
        <p:spPr>
          <a:xfrm>
            <a:off x="4811760" y="4227480"/>
            <a:ext cx="465120" cy="554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1"/>
          <p:cNvSpPr/>
          <p:nvPr/>
        </p:nvSpPr>
        <p:spPr>
          <a:xfrm>
            <a:off x="5665680" y="4422600"/>
            <a:ext cx="216000" cy="32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2"/>
          <p:cNvSpPr/>
          <p:nvPr/>
        </p:nvSpPr>
        <p:spPr>
          <a:xfrm>
            <a:off x="5711760" y="4227480"/>
            <a:ext cx="376200" cy="53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3"/>
          <p:cNvSpPr/>
          <p:nvPr/>
        </p:nvSpPr>
        <p:spPr>
          <a:xfrm>
            <a:off x="6700680" y="4451400"/>
            <a:ext cx="254160" cy="330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4"/>
          <p:cNvSpPr/>
          <p:nvPr/>
        </p:nvSpPr>
        <p:spPr>
          <a:xfrm>
            <a:off x="6521400" y="4219560"/>
            <a:ext cx="389160" cy="53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5"/>
          <p:cNvSpPr/>
          <p:nvPr/>
        </p:nvSpPr>
        <p:spPr>
          <a:xfrm>
            <a:off x="7254720" y="4481640"/>
            <a:ext cx="228600" cy="28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7240680" y="4272120"/>
            <a:ext cx="465120" cy="495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7"/>
          <p:cNvSpPr/>
          <p:nvPr/>
        </p:nvSpPr>
        <p:spPr>
          <a:xfrm>
            <a:off x="5965920" y="4211640"/>
            <a:ext cx="660240" cy="44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380880" y="57913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Кайнозойская э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1"/>
          <p:cNvSpPr/>
          <p:nvPr/>
        </p:nvSpPr>
        <p:spPr>
          <a:xfrm rot="10800000">
            <a:off x="5715000" y="4952880"/>
            <a:ext cx="1371600" cy="144792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2"/>
          <p:cNvSpPr/>
          <p:nvPr/>
        </p:nvSpPr>
        <p:spPr>
          <a:xfrm rot="10800000">
            <a:off x="4571640" y="5562720"/>
            <a:ext cx="1143000" cy="83808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3"/>
          <p:cNvSpPr/>
          <p:nvPr/>
        </p:nvSpPr>
        <p:spPr>
          <a:xfrm rot="10800000">
            <a:off x="7086600" y="5181120"/>
            <a:ext cx="1371600" cy="121932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4"/>
          <p:cNvSpPr/>
          <p:nvPr/>
        </p:nvSpPr>
        <p:spPr>
          <a:xfrm>
            <a:off x="4572000" y="5715000"/>
            <a:ext cx="839880" cy="476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5"/>
          <p:cNvSpPr/>
          <p:nvPr/>
        </p:nvSpPr>
        <p:spPr>
          <a:xfrm>
            <a:off x="5029200" y="5791320"/>
            <a:ext cx="636480" cy="534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6"/>
          <p:cNvSpPr/>
          <p:nvPr/>
        </p:nvSpPr>
        <p:spPr>
          <a:xfrm>
            <a:off x="5715000" y="5181480"/>
            <a:ext cx="1027080" cy="1260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7"/>
          <p:cNvSpPr/>
          <p:nvPr/>
        </p:nvSpPr>
        <p:spPr>
          <a:xfrm>
            <a:off x="5979960" y="5351400"/>
            <a:ext cx="1035360" cy="1005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8"/>
          <p:cNvSpPr/>
          <p:nvPr/>
        </p:nvSpPr>
        <p:spPr>
          <a:xfrm>
            <a:off x="6340320" y="5877000"/>
            <a:ext cx="405000" cy="49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9"/>
          <p:cNvSpPr/>
          <p:nvPr/>
        </p:nvSpPr>
        <p:spPr>
          <a:xfrm>
            <a:off x="6550200" y="5591160"/>
            <a:ext cx="469800" cy="79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0"/>
          <p:cNvSpPr/>
          <p:nvPr/>
        </p:nvSpPr>
        <p:spPr>
          <a:xfrm>
            <a:off x="7464600" y="5307120"/>
            <a:ext cx="879480" cy="1079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1"/>
          <p:cNvSpPr/>
          <p:nvPr/>
        </p:nvSpPr>
        <p:spPr>
          <a:xfrm>
            <a:off x="7270920" y="5456160"/>
            <a:ext cx="858600" cy="80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2"/>
          <p:cNvSpPr/>
          <p:nvPr/>
        </p:nvSpPr>
        <p:spPr>
          <a:xfrm>
            <a:off x="7089840" y="5576760"/>
            <a:ext cx="495360" cy="389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3"/>
          <p:cNvSpPr/>
          <p:nvPr/>
        </p:nvSpPr>
        <p:spPr>
          <a:xfrm>
            <a:off x="7675560" y="5891040"/>
            <a:ext cx="314280" cy="479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7315200" y="563868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ротный профиль Ур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457200" y="2743200"/>
            <a:ext cx="8491680" cy="30481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320" y="4648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648320" y="28195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й (водораздельный)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02920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124080" y="2286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4771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590920" y="5486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дные предго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248520" y="5638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чные предго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7772400" y="4495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дно- Сибир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0" y="11430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льские горы ассимметричны: западный склон пологий, восточный- довольно кру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486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зные ископаем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щение полезных ископае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о с геологическим стро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а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горьях, в тектоническом прогибе, где преобладают осадочные породы, содержатся полезные ископаемые осадочного происхождения: калийные соли, поваренные соли, известняки и мраморы, огнеупорные глины, пески, угли и серный колче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едуралье есть запасы нефти,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Добыча соли"/>
          <p:cNvPicPr/>
          <p:nvPr/>
        </p:nvPicPr>
        <p:blipFill>
          <a:blip r:embed="rId1"/>
          <a:stretch/>
        </p:blipFill>
        <p:spPr>
          <a:xfrm>
            <a:off x="4064040" y="3657600"/>
            <a:ext cx="507996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791320" y="3657600"/>
            <a:ext cx="2752560" cy="56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быча со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6" name="Picture 6" descr="Калийная соль"/>
          <p:cNvPicPr/>
          <p:nvPr/>
        </p:nvPicPr>
        <p:blipFill>
          <a:blip r:embed="rId2"/>
          <a:stretch/>
        </p:blipFill>
        <p:spPr>
          <a:xfrm>
            <a:off x="228600" y="388620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7"/>
          <p:cNvSpPr txBox="1"/>
          <p:nvPr/>
        </p:nvSpPr>
        <p:spPr>
          <a:xfrm>
            <a:off x="304920" y="5943600"/>
            <a:ext cx="335268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лийная с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8" name="Picture 8" descr="Уголь"/>
          <p:cNvPicPr/>
          <p:nvPr/>
        </p:nvPicPr>
        <p:blipFill>
          <a:blip r:embed="rId3"/>
          <a:stretch/>
        </p:blipFill>
        <p:spPr>
          <a:xfrm>
            <a:off x="6477120" y="0"/>
            <a:ext cx="2666880" cy="17780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9"/>
          <p:cNvSpPr txBox="1"/>
          <p:nvPr/>
        </p:nvSpPr>
        <p:spPr>
          <a:xfrm>
            <a:off x="5562720" y="0"/>
            <a:ext cx="1152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г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 истории</cp:lastModifiedBy>
  <dcterms:modified xsi:type="dcterms:W3CDTF">2012-03-21T04:08:4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140000000000010250300207f7000400038000</vt:lpwstr>
  </property>
  <property fmtid="{D5CDD505-2E9C-101B-9397-08002B2CF9AE}" pid="3" name="Version">
    <vt:r8>1</vt:r8>
  </property>
</Properties>
</file>