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9.png" ContentType="image/pn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5584-39EE-45C8-9E9B-F30F0FE314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 рабочем поле щелкаем по выбранным учениками вариантам (например Полководцы – 100), происходит переход на поле вопроса, после ответа учеников, нажмите на кнопку Ответ, кнопка исчезнет вместе с правильным ответом и появится кнопка для перехода к игровому полю для продолжения игры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Можно дополнительно задать вопрос, а какие еще произведения Крылова посвящены Отечественной войн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Кот и повар”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о назначении М.И. Кутузова командующим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Ворона и курица”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голодные французы в Москве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Волк на псарне”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пребывание Наполеона в Москве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Собачья дружба”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Венский конгресс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Чиж и Ёж”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восхваление Александра I)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Здесь старый стиль – по новому 24-го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В начале войны император был главнокомандующим русской армие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Автор В.В. Верещаги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Автор В.В. Верещаги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538A-D744-4FDE-A837-6B03CC90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6B2C-2876-4FC8-9812-08F03D81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8F6-F7AA-4AF1-ABAC-9D00DB9A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E052-8BC2-4A53-B52A-4F1572E2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8CD5-8119-4B07-94D3-48DBFCE1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B936-F088-4AA5-B7F3-D36D26A1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8EBF-C460-4E1C-84FE-1222DF5C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7C47-D03D-48C0-8550-A0804586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494F-54D6-4042-8243-C492041B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F412-9A37-4C68-8D1A-C553BC81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9358-1850-42DE-8279-7A53C424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49AB-DB79-4A50-BB09-C08F8741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3FD5-C466-4BC9-977F-9DF37CEB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C0E1-2E6A-4D6F-ABA4-D262B1EC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8FE9-1EBB-4EDA-B565-B4364EE8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F095-8879-4F67-9548-33B2B473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9B75-055B-46EC-8461-AC573A80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3BF7-2B5C-4468-B0AC-E01C2395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158-6856-4DDF-B541-22397532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422-D4EE-45C8-AD77-38E8DE52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10BB-0F0E-4D6A-95B4-685B492B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34D-38B5-4DCE-8BB7-BF5F1AD5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56A0-BB92-4BDC-A0B0-2E684414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7A25-15FE-4252-BEF2-1F8852C7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DDCC-6380-434B-A8F5-946A77484F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7541-7644-44B8-904E-25F9A92616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58920" y="549360"/>
            <a:ext cx="6049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Тюменский нефтегазовый комплек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494172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328464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Викторина по истор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2843280" y="465300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р Макаров А.Д., преподаватель Тюменского нефтегазового колледжа имени Ю.Г.Эрвь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3814920" y="616572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юмень,20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537372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Фарман Курбанович Салман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1484280"/>
            <a:ext cx="4319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ветский геолог, первооткрыватель нефти в Сибир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снователь футбольного клуба «Тюмень»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" descr="история в фотографиях - 21 сентября 1953 г. Россия стала Сверхдержавой"/>
          <p:cNvPicPr/>
          <p:nvPr/>
        </p:nvPicPr>
        <p:blipFill>
          <a:blip r:embed="rId1"/>
          <a:stretch/>
        </p:blipFill>
        <p:spPr>
          <a:xfrm>
            <a:off x="250920" y="1557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9500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сипов Юрий Сергееви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4500720" y="1484280"/>
            <a:ext cx="4319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езидент РАН ( 1991-2013). Председатель попечительского совета фонда "Возрождение Тобольска". Лауреат Ленинской преми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26880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595008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иктор Ефимович Копыло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4500720" y="1484280"/>
            <a:ext cx="431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ектор Тюменского индустриального института (1973—1986). Автор книги «Окрик памяти. История Тюменского края глазами инженера»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23 (5933). . Тюменские известия. . Новости Тюмени."/>
          <p:cNvPicPr/>
          <p:nvPr/>
        </p:nvPicPr>
        <p:blipFill>
          <a:blip r:embed="rId1"/>
          <a:srcRect l="0" t="0" r="35" b="0"/>
          <a:stretch/>
        </p:blipFill>
        <p:spPr>
          <a:xfrm>
            <a:off x="324000" y="1341360"/>
            <a:ext cx="382572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еликие открыт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661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емен Никитович Урусо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1484280"/>
            <a:ext cx="467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Буровой мастер, которому было присвоено звание Героя Социалистического Труда за открытие скважины №Р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давшей первую Сибирскую нефть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3143160" cy="343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еликие открыт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55166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1960 г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5364000" y="1484280"/>
            <a:ext cx="345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В каком году была получена первая в Западной Сибири промышленная нефт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Научно-производственному объединению &quot;Тюменьнефтегаз&quot;- 50 ле…"/>
          <p:cNvPicPr/>
          <p:nvPr/>
        </p:nvPicPr>
        <p:blipFill>
          <a:blip r:embed="rId1"/>
          <a:srcRect l="0" t="0" r="41" b="-60"/>
          <a:stretch/>
        </p:blipFill>
        <p:spPr>
          <a:xfrm>
            <a:off x="250920" y="1413000"/>
            <a:ext cx="489744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еликие открыт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57340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елок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ерезо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5076720" y="1484280"/>
            <a:ext cx="37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есто, где в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1953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г. искали нефть, а нашли первый газ Западной Сибир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-100" b="0"/>
          <a:stretch/>
        </p:blipFill>
        <p:spPr>
          <a:xfrm>
            <a:off x="468360" y="1268280"/>
            <a:ext cx="4319640" cy="34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Месторождения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53737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амотлорское месторожд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5219640" y="1557360"/>
            <a:ext cx="374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Самая большое нефтяное месторождение СССР, открытое в 1965 г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Блог Шуруто Валентины Викторовны: Июнь 2010"/>
          <p:cNvPicPr/>
          <p:nvPr/>
        </p:nvPicPr>
        <p:blipFill>
          <a:blip r:embed="rId1"/>
          <a:stretch/>
        </p:blipFill>
        <p:spPr>
          <a:xfrm>
            <a:off x="250920" y="1413000"/>
            <a:ext cx="4681440" cy="31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333360"/>
            <a:ext cx="864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Развитие нефтегазового комплекс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537372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своение нефтяных и газовых месторождений Тюменской обл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5219640" y="1557360"/>
            <a:ext cx="374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Какая всесоюзная комсомольская стройка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в 1965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была названа №1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88764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333360"/>
            <a:ext cx="864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Развитие нефтегазового комплекс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1042920" y="5805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967 г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1557360"/>
            <a:ext cx="42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Когда Тюменская область получила высшую награду Родины – орден Ленина?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111480" cy="40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333360"/>
            <a:ext cx="864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Развитие нефтегазового комплекс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5373720"/>
            <a:ext cx="56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медаль «За освоение недр и развит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ефтегазового комплекса Западной Сибири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1557360"/>
            <a:ext cx="37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Этой медалью, учрежденной в 1978 г. награждались те, кто своим самоотверженным трудом способствовал увеличению добычи сибирской нефти и развитию обла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Medal For Development of the Petrochemical Complex of Western Siberia.jpg"/>
          <p:cNvPicPr/>
          <p:nvPr/>
        </p:nvPicPr>
        <p:blipFill>
          <a:blip r:embed="rId1"/>
          <a:stretch/>
        </p:blipFill>
        <p:spPr>
          <a:xfrm>
            <a:off x="395280" y="1197000"/>
            <a:ext cx="21448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333360"/>
            <a:ext cx="856908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олезные ископаемы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229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еф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3995640" y="1557360"/>
            <a:ext cx="468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Природная маслянистая горючая жидкость, состоящая из сложной смеси углеводородов и некоторых других органический соедин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" descr="Будет ли Китай влиять на формирование мировой стоимости нефт…"/>
          <p:cNvPicPr/>
          <p:nvPr/>
        </p:nvPicPr>
        <p:blipFill>
          <a:blip r:embed="rId1"/>
          <a:srcRect l="0" t="0" r="0" b="-27"/>
          <a:stretch/>
        </p:blipFill>
        <p:spPr>
          <a:xfrm>
            <a:off x="324000" y="1484280"/>
            <a:ext cx="3419280" cy="254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Развитие нефтегазового комплек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537372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агит Юсуфови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лекпер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4211640" y="1557360"/>
            <a:ext cx="475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езидент нефтяной кампании награжденный медалью «За освоение недр и развитие нефтегазового комплекса Западной Сибири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0" r="-105" b="-29"/>
          <a:stretch/>
        </p:blipFill>
        <p:spPr>
          <a:xfrm>
            <a:off x="395280" y="1268280"/>
            <a:ext cx="273672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Развитие нефтегазового комплек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53737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«Северное сияние»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 ш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4211640" y="1557360"/>
            <a:ext cx="475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Как назывались плавучие газотурбинные электростанции, выпускавшиеся в Тюмени с 1970—по 1983 гг.? Сколько их было построен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-85" b="30"/>
          <a:stretch/>
        </p:blipFill>
        <p:spPr>
          <a:xfrm>
            <a:off x="324000" y="1484280"/>
            <a:ext cx="3600360" cy="334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бные завед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53737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натолий Николаевич Косухин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211640" y="155736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Первый ректор Тюменского индустриального института (ныне - Нефтегазового университета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" descr="Титаны нефтегаза"/>
          <p:cNvPicPr/>
          <p:nvPr/>
        </p:nvPicPr>
        <p:blipFill>
          <a:blip r:embed="rId1"/>
          <a:stretch/>
        </p:blipFill>
        <p:spPr>
          <a:xfrm>
            <a:off x="395280" y="134136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бные завед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53737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Юрий Константинович Шафрани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4211640" y="1557360"/>
            <a:ext cx="475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инистр топлива и энергетики России, губернатор Тюменской области, выпускник Тюменского индустриального институт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98" b="-74"/>
          <a:stretch/>
        </p:blipFill>
        <p:spPr>
          <a:xfrm>
            <a:off x="395280" y="1341360"/>
            <a:ext cx="3311640" cy="38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бные завед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179280" y="53737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ладимир Леонидович Богдан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4211640" y="1557360"/>
            <a:ext cx="475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Начав свою трудовую деятельность с помощника бурильщика, в 1984 году был назначен генеральным директором ПО «Сургутнефтегаза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87964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бные завед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573408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рофессиональное училище №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4211640" y="1557360"/>
            <a:ext cx="47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На базе какого учебного заведения был создан Нефтегазовый колледж Тюменског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государственного нефтегазов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университета.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537080" cy="340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бные завед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5734080"/>
            <a:ext cx="561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Глебов Николай Дмитриевич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4211640" y="1557360"/>
            <a:ext cx="475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Буровой мастер, Герой Социалистического труда, один из первооткрывателей месторождений нефти и газа, один из самых известных выпускников тюменского ПТУ №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" descr="Николай  Дмитриевич Глебов - буровой мастер, герой Социалистического труда, почетный разведчик недр, первооткрыватель месторождений на Ямале. ЯНАО"/>
          <p:cNvPicPr/>
          <p:nvPr/>
        </p:nvPicPr>
        <p:blipFill>
          <a:blip r:embed="rId1"/>
          <a:stretch/>
        </p:blipFill>
        <p:spPr>
          <a:xfrm>
            <a:off x="395280" y="1268280"/>
            <a:ext cx="2532240" cy="43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роизведения искус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300640"/>
            <a:ext cx="421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Владимир  Семенович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Высоцк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4859280" y="1557360"/>
            <a:ext cx="388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сполнитель  песни о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ткрытии тюменской нефт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И ожила земля, и помню ночью я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На той земле танцующих людей..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Я счастлив, что превысив полномочия,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Мы взяли риск - и вскрыли вены ей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319640" cy="3726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740720" y="333360"/>
            <a:ext cx="71892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3" dur="21222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роизведения искус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5484960"/>
            <a:ext cx="421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Иосиф Давыдович Кобз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134136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Песня «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Нефтяные корол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Музыка: Э.С.Колмановск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Слова: М.С.Пляцковски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Кто самый известн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исполнитель этог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произведе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0" t="0" r="83" b="-27"/>
          <a:stretch/>
        </p:blipFill>
        <p:spPr>
          <a:xfrm>
            <a:off x="539640" y="1341360"/>
            <a:ext cx="3254400" cy="3745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812000" y="40464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186077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роизведения искус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573408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лександра Николаев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ахмутова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395280" y="1341360"/>
            <a:ext cx="835344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Автор песни о геологах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Я уехала в знойные степи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Ты ушёл на разведку в тайгу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Надо мною лишь солнц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палящее светит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Над тобою лишь кедры в снег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0" t="0" r="-182" b="0"/>
          <a:stretch/>
        </p:blipFill>
        <p:spPr>
          <a:xfrm>
            <a:off x="395280" y="1413000"/>
            <a:ext cx="2855880" cy="3240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740720" y="333360"/>
            <a:ext cx="71892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9" dur="166108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333360"/>
            <a:ext cx="856908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рганизаторы топливной промышлен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595008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аганович Лазарь Моисеевич (1893–199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1557360"/>
            <a:ext cx="468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Этот человек, прозванный «железным наркомом» возглавлял с 1939 года топливную промышленность, с 1939—1940 гг. — нефтяную промышленность СССР. Его имя в 1935—1955 носил Московский метрополите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" descr="Весточки с Политпомойки"/>
          <p:cNvPicPr/>
          <p:nvPr/>
        </p:nvPicPr>
        <p:blipFill>
          <a:blip r:embed="rId1"/>
          <a:stretch/>
        </p:blipFill>
        <p:spPr>
          <a:xfrm>
            <a:off x="684360" y="1484280"/>
            <a:ext cx="302868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Спасибо за активное участие в викторине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333360"/>
            <a:ext cx="849600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рганизаторы топливной промышлен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580536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иколай Константинович Байбаков (1911-2008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1268280"/>
            <a:ext cx="504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 сентября 1940 — заместитель народного комиссара нефтяной промышленности СССР. Возглавлял созданный в наркомате специальный штаб, координировавший работу по обеспечению горючим воинских частей и предприят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" descr="Николай Константинович Байбаков"/>
          <p:cNvPicPr/>
          <p:nvPr/>
        </p:nvPicPr>
        <p:blipFill>
          <a:blip r:embed="rId1"/>
          <a:stretch/>
        </p:blipFill>
        <p:spPr>
          <a:xfrm>
            <a:off x="468360" y="1413000"/>
            <a:ext cx="311148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33360"/>
            <a:ext cx="849600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рганизаторы топливной промышлен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595008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Борис Евдокимович Щерби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1484280"/>
            <a:ext cx="5327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Первый секретарь Тюменского обкома КПС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Министр строительства предприятий нефтяной и газовой промышленности ССС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" descr="В честь кого в Тюмени установили памятники // KP.MD Комсомольская правда в Молдове"/>
          <p:cNvPicPr/>
          <p:nvPr/>
        </p:nvPicPr>
        <p:blipFill>
          <a:blip r:embed="rId1"/>
          <a:stretch/>
        </p:blipFill>
        <p:spPr>
          <a:xfrm>
            <a:off x="324000" y="1341360"/>
            <a:ext cx="3000240" cy="42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333360"/>
            <a:ext cx="864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рганизаторы топливной промышлен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551664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ктор Степанович Черномырди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3564000" y="1268280"/>
            <a:ext cx="525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чальник Всесоюзного объединения «Тюменгазпром». В 1985—1989 — министр газовой промышленности СССР. Создатель концерна «Газпром»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" descr="ЧЕРНОМЫРДИН Виктор Степанович.jpg"/>
          <p:cNvPicPr/>
          <p:nvPr/>
        </p:nvPicPr>
        <p:blipFill>
          <a:blip r:embed="rId1"/>
          <a:stretch/>
        </p:blipFill>
        <p:spPr>
          <a:xfrm>
            <a:off x="395280" y="1268280"/>
            <a:ext cx="302724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Уче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573408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митрий Иванович Менделее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1484280"/>
            <a:ext cx="532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Великий ученый, открывший периодический закон химических элементов- уроженец Тобольской губерн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9" name="" descr="Высказывания и афоризмы о воде Красноперекопское управление водного хозяйства"/>
          <p:cNvPicPr/>
          <p:nvPr/>
        </p:nvPicPr>
        <p:blipFill>
          <a:blip r:embed="rId1"/>
          <a:stretch/>
        </p:blipFill>
        <p:spPr>
          <a:xfrm>
            <a:off x="324000" y="1341360"/>
            <a:ext cx="3019320" cy="41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Уче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57340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ван Михайлович Губки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1484280"/>
            <a:ext cx="532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Советский учёный-геолог, основатель нефтяной геологии, предсказавший открытие тюменской неф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" descr="История Владимирского края"/>
          <p:cNvPicPr/>
          <p:nvPr/>
        </p:nvPicPr>
        <p:blipFill>
          <a:blip r:embed="rId1"/>
          <a:stretch/>
        </p:blipFill>
        <p:spPr>
          <a:xfrm>
            <a:off x="611280" y="1341360"/>
            <a:ext cx="2824200" cy="38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566100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РВЬЕ Рауль-Юрий Георгиевич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1484280"/>
            <a:ext cx="525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снователь и первый руководитель Главного тюменского производственного геологического управления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(1966 – 1977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" descr="Самолет назвали в честь Юрия Эрвье - Новости онлайн - Новости"/>
          <p:cNvPicPr/>
          <p:nvPr/>
        </p:nvPicPr>
        <p:blipFill>
          <a:blip r:embed="rId1"/>
          <a:stretch/>
        </p:blipFill>
        <p:spPr>
          <a:xfrm>
            <a:off x="395280" y="1341360"/>
            <a:ext cx="28796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20:51:06Z</dcterms:created>
  <dc:creator>Макаров А.Д.</dc:creator>
  <dc:description/>
  <cp:keywords>нефть газ</cp:keywords>
  <dc:language>en-US</dc:language>
  <cp:lastModifiedBy>User</cp:lastModifiedBy>
  <dcterms:modified xsi:type="dcterms:W3CDTF">2015-07-27T06:56:41Z</dcterms:modified>
  <cp:revision>44</cp:revision>
  <dc:subject/>
  <dc:title>Тюменский нефтегазовый комплекс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0c0000000000010250300207f7000400038000</vt:lpwstr>
  </property>
</Properties>
</file>