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2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9.png" ContentType="image/png"/>
  <Override PartName="/ppt/media/image27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0EDC9-9C21-4E9A-8CCE-BB8F39CF294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а рабочем поле щелкаем по выбранным учениками вариантам (например Полководцы – 100), происходит переход на поле вопроса, после ответа учеников, нажмите на кнопку Ответ, кнопка исчезнет вместе с правильным ответом и появится кнопка для перехода к игровому полю для продолжения игры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Можно дополнительно задать вопрос, а какие еще произведения Крылова посвящены Отечественной войне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Кот и повар”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о назначении М.И. Кутузова командующим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“Ворона и курица”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голодные французы в Москве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“Волк на псарне”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пребывание Наполеона в Москве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“Собачья дружба”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Венский конгресс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“Чиж и Ёж”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восхваление Александра I)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Здесь картина Э. П. Гау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Здесь картина Э. П. Гау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Здесь картина Э. П. Гау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Здесь картина Э. П. Гау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Здесь картина Э. П. Гау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Здесь картина Э. П. Гау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Здесь картина Э. П. Гау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Здесь картина Э. П. Гау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Здесь картина Э. П. Гау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Здесь картина Э. П. Гау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Здесь картина Э. П. Гау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Здесь картина Э. П. Гау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Здесь картина Э. П. Гау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Здесь картина Э. П. Гау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Здесь старый стиль – по новому 24-го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В начале войны император был главнокомандующим русской армией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Автор В.В. Верещагин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Автор В.В. Верещагин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FD35-7608-480C-9A08-55EF27439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F473-C508-414F-992F-E4FEFFF44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2635-7FEB-47AB-B16D-B9AE9F9AA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D843-F31E-411C-AAC4-DF29510A9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1B546-4A29-4183-87EC-1BE79039F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2981E-CC8A-4787-8909-A335529C9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6B408-E328-461A-88C4-1CF8D35F8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A068C-CB7B-4A5B-89B6-7C544E966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AB97A-4684-4CB4-A5A3-57734BEE3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591AB-E295-4029-8A40-2BEC55262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420FE-B12B-4B07-BEC5-A8214B75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F774-97F5-40EA-8354-00FDFF40A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A23CF-C793-41BD-AA53-DC331834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41FDA-670B-43A8-9C6B-55B6A5C4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3C740-A027-4794-AED6-AA9F8B960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28CA1-B4E4-4D93-8366-19733C719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94C85-3056-45B9-92D4-DB24180EF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3F0A-1554-4FA8-9AAE-32F570AEA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D924-7057-44A6-BE1C-9ED95307C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D09D-EBC3-4266-AC69-D5072944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0CA4-FA51-475C-80EB-D9F49761B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B5D5-38B3-4BCD-936E-915A9143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0817-B115-4C5C-86CF-F56A4EE9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1EDC-C3B1-48C0-8F92-E63D1BCA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c3cc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e7ed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4EA26-0AA0-4A9D-AE99-CF6B5E9DEA7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afb7b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e7ed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97208-D3DC-4613-8367-C5B8C2EAB57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258920" y="549360"/>
            <a:ext cx="6049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Тюменский нефтегазовый комплекс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3132000" y="4941720"/>
            <a:ext cx="56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"/>
          <p:cNvSpPr/>
          <p:nvPr/>
        </p:nvSpPr>
        <p:spPr>
          <a:xfrm>
            <a:off x="2411280" y="3284640"/>
            <a:ext cx="44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Викторина по истори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"/>
          <p:cNvSpPr/>
          <p:nvPr/>
        </p:nvSpPr>
        <p:spPr>
          <a:xfrm>
            <a:off x="2843280" y="4653000"/>
            <a:ext cx="59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втор Макаров А.Д., преподаватель Тюменского нефтегазового колледжа имени Ю.Г.Эрвь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"/>
          <p:cNvSpPr/>
          <p:nvPr/>
        </p:nvSpPr>
        <p:spPr>
          <a:xfrm>
            <a:off x="3814920" y="616572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Тюмень,201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333360"/>
            <a:ext cx="7200720" cy="719280"/>
          </a:xfrm>
          <a:prstGeom prst="roundRect">
            <a:avLst>
              <a:gd name="adj" fmla="val 2378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Учены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"/>
          <p:cNvSpPr/>
          <p:nvPr/>
        </p:nvSpPr>
        <p:spPr>
          <a:xfrm>
            <a:off x="395280" y="5373720"/>
            <a:ext cx="56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Фарман Курбанович Салманов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"/>
          <p:cNvSpPr/>
          <p:nvPr/>
        </p:nvSpPr>
        <p:spPr>
          <a:xfrm>
            <a:off x="4500720" y="1484280"/>
            <a:ext cx="4319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Советский геолог, первооткрыватель нефти в Сибири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Основатель футбольного клуба «Тюмень»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4" name="" descr="история в фотографиях - 21 сентября 1953 г. Россия стала Сверхдержавой"/>
          <p:cNvPicPr/>
          <p:nvPr/>
        </p:nvPicPr>
        <p:blipFill>
          <a:blip r:embed="rId1"/>
          <a:stretch/>
        </p:blipFill>
        <p:spPr>
          <a:xfrm>
            <a:off x="250920" y="1557360"/>
            <a:ext cx="3816360" cy="286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333360"/>
            <a:ext cx="7200720" cy="719280"/>
          </a:xfrm>
          <a:prstGeom prst="roundRect">
            <a:avLst>
              <a:gd name="adj" fmla="val 2378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Учены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"/>
          <p:cNvSpPr/>
          <p:nvPr/>
        </p:nvSpPr>
        <p:spPr>
          <a:xfrm>
            <a:off x="468360" y="5950080"/>
            <a:ext cx="56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Осипов Юрий Сергеевич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"/>
          <p:cNvSpPr/>
          <p:nvPr/>
        </p:nvSpPr>
        <p:spPr>
          <a:xfrm>
            <a:off x="4500720" y="1484280"/>
            <a:ext cx="4319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резидент РАН ( 1991-2013). Председатель попечительского совета фонда "Возрождение Тобольска". Лауреат Ленинской премии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268800" cy="431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173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" y="333360"/>
            <a:ext cx="7200720" cy="719280"/>
          </a:xfrm>
          <a:prstGeom prst="roundRect">
            <a:avLst>
              <a:gd name="adj" fmla="val 2378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Учены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5950080"/>
            <a:ext cx="56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Виктор Ефимович Копылов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4500720" y="1484280"/>
            <a:ext cx="4319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Ректор Тюменского индустриального института (1973—1986). Автор книги «Окрик памяти. История Тюменского края глазами инженера»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" descr="23 (5933). . Тюменские известия. . Новости Тюмени."/>
          <p:cNvPicPr/>
          <p:nvPr/>
        </p:nvPicPr>
        <p:blipFill>
          <a:blip r:embed="rId1"/>
          <a:srcRect l="0" t="0" r="35" b="0"/>
          <a:stretch/>
        </p:blipFill>
        <p:spPr>
          <a:xfrm>
            <a:off x="324000" y="1341360"/>
            <a:ext cx="3825720" cy="431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333360"/>
            <a:ext cx="7200720" cy="719280"/>
          </a:xfrm>
          <a:prstGeom prst="roundRect">
            <a:avLst>
              <a:gd name="adj" fmla="val 2378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Великие открыт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539640" y="566100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Семен Никитович Урусов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/>
          <p:cNvSpPr/>
          <p:nvPr/>
        </p:nvSpPr>
        <p:spPr>
          <a:xfrm>
            <a:off x="4140360" y="1484280"/>
            <a:ext cx="4679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Буровой мастер, которому было присвоено звание Героя Социалистического Труда за открытие скважины №Р-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 давшей первую Сибирскую нефть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3143160" cy="343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324000" y="333360"/>
            <a:ext cx="7200720" cy="719280"/>
          </a:xfrm>
          <a:prstGeom prst="roundRect">
            <a:avLst>
              <a:gd name="adj" fmla="val 2378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Великие открыт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395280" y="551664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ahoma"/>
              </a:rPr>
              <a:t>1960 г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5364000" y="1484280"/>
            <a:ext cx="3456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В каком году была получена первая в Западной Сибири промышленная нефть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" descr="Научно-производственному объединению &quot;Тюменьнефтегаз&quot;- 50 ле…"/>
          <p:cNvPicPr/>
          <p:nvPr/>
        </p:nvPicPr>
        <p:blipFill>
          <a:blip r:embed="rId1"/>
          <a:srcRect l="0" t="0" r="41" b="-60"/>
          <a:stretch/>
        </p:blipFill>
        <p:spPr>
          <a:xfrm>
            <a:off x="250920" y="1413000"/>
            <a:ext cx="4897440" cy="33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/>
          <p:nvPr/>
        </p:nvSpPr>
        <p:spPr>
          <a:xfrm>
            <a:off x="324000" y="333360"/>
            <a:ext cx="7200720" cy="719280"/>
          </a:xfrm>
          <a:prstGeom prst="roundRect">
            <a:avLst>
              <a:gd name="adj" fmla="val 2378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Великие открыт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395280" y="573408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селок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Березов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5076720" y="1484280"/>
            <a:ext cx="374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Место, где в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1953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 г. искали нефть, а нашли первый газ Западной Сибири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-100" b="0"/>
          <a:stretch/>
        </p:blipFill>
        <p:spPr>
          <a:xfrm>
            <a:off x="468360" y="1268280"/>
            <a:ext cx="4319640" cy="340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245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>
            <a:off x="324000" y="333360"/>
            <a:ext cx="7200720" cy="719280"/>
          </a:xfrm>
          <a:prstGeom prst="roundRect">
            <a:avLst>
              <a:gd name="adj" fmla="val 2378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Месторождения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179280" y="5373720"/>
            <a:ext cx="56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Самотлорское месторождени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/>
          <p:nvPr/>
        </p:nvSpPr>
        <p:spPr>
          <a:xfrm>
            <a:off x="5219640" y="1557360"/>
            <a:ext cx="3745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Самая большое нефтяное месторождение СССР, открытое в 1965 г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" descr="Блог Шуруто Валентины Викторовны: Июнь 2010"/>
          <p:cNvPicPr/>
          <p:nvPr/>
        </p:nvPicPr>
        <p:blipFill>
          <a:blip r:embed="rId1"/>
          <a:stretch/>
        </p:blipFill>
        <p:spPr>
          <a:xfrm>
            <a:off x="250920" y="1413000"/>
            <a:ext cx="4681440" cy="316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263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/>
          <p:nvPr/>
        </p:nvSpPr>
        <p:spPr>
          <a:xfrm>
            <a:off x="324000" y="333360"/>
            <a:ext cx="8640720" cy="719280"/>
          </a:xfrm>
          <a:prstGeom prst="roundRect">
            <a:avLst>
              <a:gd name="adj" fmla="val 2378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Развитие нефтегазового комплекс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/>
          <p:nvPr/>
        </p:nvSpPr>
        <p:spPr>
          <a:xfrm>
            <a:off x="179280" y="5373720"/>
            <a:ext cx="56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освоение нефтяных и газовых месторождений Тюменской област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/>
          <p:nvPr/>
        </p:nvSpPr>
        <p:spPr>
          <a:xfrm>
            <a:off x="5219640" y="1557360"/>
            <a:ext cx="3745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Какая всесоюзная комсомольская стройка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 в 1965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была названа №1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3887640" cy="358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281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/>
          <p:nvPr/>
        </p:nvSpPr>
        <p:spPr>
          <a:xfrm>
            <a:off x="324000" y="333360"/>
            <a:ext cx="8640720" cy="719280"/>
          </a:xfrm>
          <a:prstGeom prst="roundRect">
            <a:avLst>
              <a:gd name="adj" fmla="val 2378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Развитие нефтегазового комплекс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/>
          <p:nvPr/>
        </p:nvSpPr>
        <p:spPr>
          <a:xfrm>
            <a:off x="1042920" y="580536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967 г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/>
          <p:nvPr/>
        </p:nvSpPr>
        <p:spPr>
          <a:xfrm>
            <a:off x="4716360" y="1557360"/>
            <a:ext cx="424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Когда Тюменская область получила высшую награду Родины – орден Ленина?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3111480" cy="409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299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324000" y="333360"/>
            <a:ext cx="8640720" cy="719280"/>
          </a:xfrm>
          <a:prstGeom prst="roundRect">
            <a:avLst>
              <a:gd name="adj" fmla="val 2378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Развитие нефтегазового комплекс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/>
          <p:nvPr/>
        </p:nvSpPr>
        <p:spPr>
          <a:xfrm>
            <a:off x="179280" y="5373720"/>
            <a:ext cx="561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медаль «За освоение недр и развитие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нефтегазового комплекса Западной Сибири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1557360"/>
            <a:ext cx="3745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Этой медалью, учрежденной в 1978 г. награждались те, кто своим самоотверженным трудом способствовал увеличению добычи сибирской нефти и развитию област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" descr="Medal For Development of the Petrochemical Complex of Western Siberia.jpg"/>
          <p:cNvPicPr/>
          <p:nvPr/>
        </p:nvPicPr>
        <p:blipFill>
          <a:blip r:embed="rId1"/>
          <a:stretch/>
        </p:blipFill>
        <p:spPr>
          <a:xfrm>
            <a:off x="395280" y="1197000"/>
            <a:ext cx="214488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317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333360"/>
            <a:ext cx="8569080" cy="719280"/>
          </a:xfrm>
          <a:prstGeom prst="roundRect">
            <a:avLst>
              <a:gd name="adj" fmla="val 2378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Полезные ископаемые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522936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неф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"/>
          <p:cNvSpPr/>
          <p:nvPr/>
        </p:nvSpPr>
        <p:spPr>
          <a:xfrm>
            <a:off x="3995640" y="1557360"/>
            <a:ext cx="4680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Природная маслянистая горючая жидкость, состоящая из сложной смеси углеводородов и некоторых других органический соединени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4" name="" descr="Будет ли Китай влиять на формирование мировой стоимости нефт…"/>
          <p:cNvPicPr/>
          <p:nvPr/>
        </p:nvPicPr>
        <p:blipFill>
          <a:blip r:embed="rId1"/>
          <a:srcRect l="0" t="0" r="0" b="-27"/>
          <a:stretch/>
        </p:blipFill>
        <p:spPr>
          <a:xfrm>
            <a:off x="324000" y="1484280"/>
            <a:ext cx="3419280" cy="254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/>
          <p:nvPr/>
        </p:nvSpPr>
        <p:spPr>
          <a:xfrm>
            <a:off x="324000" y="333360"/>
            <a:ext cx="7200720" cy="719280"/>
          </a:xfrm>
          <a:prstGeom prst="roundRect">
            <a:avLst>
              <a:gd name="adj" fmla="val 2378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Развитие нефтегазового комплекс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5373720"/>
            <a:ext cx="56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Вагит Юсуфович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Алекпер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/>
          <p:nvPr/>
        </p:nvSpPr>
        <p:spPr>
          <a:xfrm>
            <a:off x="4211640" y="1557360"/>
            <a:ext cx="4753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Президент нефтяной кампании награжденный медалью «За освоение недр и развитие нефтегазового комплекса Западной Сибири»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rcRect l="0" t="0" r="-105" b="-29"/>
          <a:stretch/>
        </p:blipFill>
        <p:spPr>
          <a:xfrm>
            <a:off x="395280" y="1268280"/>
            <a:ext cx="2736720" cy="374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4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335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1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333360"/>
            <a:ext cx="7200720" cy="719280"/>
          </a:xfrm>
          <a:prstGeom prst="roundRect">
            <a:avLst>
              <a:gd name="adj" fmla="val 2378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Развитие нефтегазового комплекс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/>
          <p:nvPr/>
        </p:nvSpPr>
        <p:spPr>
          <a:xfrm>
            <a:off x="179280" y="5373720"/>
            <a:ext cx="56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«Северное сияние»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6 ш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4211640" y="1557360"/>
            <a:ext cx="4753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Как назывались плавучие газотурбинные электростанции, выпускавшиеся в Тюмени с 1970—по 1983 гг.? Сколько их было построено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rcRect l="0" t="0" r="-85" b="30"/>
          <a:stretch/>
        </p:blipFill>
        <p:spPr>
          <a:xfrm>
            <a:off x="324000" y="1484280"/>
            <a:ext cx="3600360" cy="334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2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353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9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"/>
          <p:cNvSpPr/>
          <p:nvPr/>
        </p:nvSpPr>
        <p:spPr>
          <a:xfrm>
            <a:off x="324000" y="333360"/>
            <a:ext cx="7200720" cy="719280"/>
          </a:xfrm>
          <a:prstGeom prst="roundRect">
            <a:avLst>
              <a:gd name="adj" fmla="val 2378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Учебные заведен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"/>
          <p:cNvSpPr/>
          <p:nvPr/>
        </p:nvSpPr>
        <p:spPr>
          <a:xfrm>
            <a:off x="179280" y="5373720"/>
            <a:ext cx="56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натолий Николаевич Косухин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4211640" y="1557360"/>
            <a:ext cx="475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Первый ректор Тюменского индустриального института (ныне - Нефтегазового университета)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4" name="" descr="Титаны нефтегаза"/>
          <p:cNvPicPr/>
          <p:nvPr/>
        </p:nvPicPr>
        <p:blipFill>
          <a:blip r:embed="rId1"/>
          <a:stretch/>
        </p:blipFill>
        <p:spPr>
          <a:xfrm>
            <a:off x="395280" y="1341360"/>
            <a:ext cx="3168720" cy="31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0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371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7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324000" y="333360"/>
            <a:ext cx="7200720" cy="719280"/>
          </a:xfrm>
          <a:prstGeom prst="roundRect">
            <a:avLst>
              <a:gd name="adj" fmla="val 2378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Учебные заведен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179280" y="5373720"/>
            <a:ext cx="56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Юрий Константинович Шафраник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"/>
          <p:cNvSpPr/>
          <p:nvPr/>
        </p:nvSpPr>
        <p:spPr>
          <a:xfrm>
            <a:off x="4211640" y="1557360"/>
            <a:ext cx="4753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инистр топлива и энергетики России, губернатор Тюменской области, выпускник Тюменского индустриального института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98" b="-74"/>
          <a:stretch/>
        </p:blipFill>
        <p:spPr>
          <a:xfrm>
            <a:off x="395280" y="1341360"/>
            <a:ext cx="3311640" cy="387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8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389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"/>
          <p:cNvSpPr/>
          <p:nvPr/>
        </p:nvSpPr>
        <p:spPr>
          <a:xfrm>
            <a:off x="324000" y="333360"/>
            <a:ext cx="7200720" cy="719280"/>
          </a:xfrm>
          <a:prstGeom prst="roundRect">
            <a:avLst>
              <a:gd name="adj" fmla="val 2378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Учебные заведен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"/>
          <p:cNvSpPr/>
          <p:nvPr/>
        </p:nvSpPr>
        <p:spPr>
          <a:xfrm>
            <a:off x="179280" y="5373720"/>
            <a:ext cx="56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Владимир Леонидович Богдан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"/>
          <p:cNvSpPr/>
          <p:nvPr/>
        </p:nvSpPr>
        <p:spPr>
          <a:xfrm>
            <a:off x="4211640" y="1557360"/>
            <a:ext cx="4753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Начав свою трудовую деятельность с помощника бурильщика, в 1984 году был назначен генеральным директором ПО «Сургутнефтегаза»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2879640" cy="367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6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407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3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"/>
          <p:cNvSpPr/>
          <p:nvPr/>
        </p:nvSpPr>
        <p:spPr>
          <a:xfrm>
            <a:off x="324000" y="333360"/>
            <a:ext cx="7200720" cy="719280"/>
          </a:xfrm>
          <a:prstGeom prst="roundRect">
            <a:avLst>
              <a:gd name="adj" fmla="val 2378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Учебные заведен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"/>
          <p:cNvSpPr/>
          <p:nvPr/>
        </p:nvSpPr>
        <p:spPr>
          <a:xfrm>
            <a:off x="324000" y="5734080"/>
            <a:ext cx="56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профессиональное училище № 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"/>
          <p:cNvSpPr/>
          <p:nvPr/>
        </p:nvSpPr>
        <p:spPr>
          <a:xfrm>
            <a:off x="4211640" y="1557360"/>
            <a:ext cx="475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На базе какого учебного заведения был создан Нефтегазовый колледж Тюменского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государственного нефтегазовог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университета.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4537080" cy="340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4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425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1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"/>
          <p:cNvSpPr/>
          <p:nvPr/>
        </p:nvSpPr>
        <p:spPr>
          <a:xfrm>
            <a:off x="324000" y="333360"/>
            <a:ext cx="7200720" cy="719280"/>
          </a:xfrm>
          <a:prstGeom prst="roundRect">
            <a:avLst>
              <a:gd name="adj" fmla="val 2378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Учебные заведен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"/>
          <p:cNvSpPr/>
          <p:nvPr/>
        </p:nvSpPr>
        <p:spPr>
          <a:xfrm>
            <a:off x="324000" y="5734080"/>
            <a:ext cx="5616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Глебов Николай Дмитриевич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"/>
          <p:cNvSpPr/>
          <p:nvPr/>
        </p:nvSpPr>
        <p:spPr>
          <a:xfrm>
            <a:off x="4211640" y="1557360"/>
            <a:ext cx="4753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Буровой мастер, Герой Социалистического труда, один из первооткрывателей месторождений нефти и газа, один из самых известных выпускников тюменского ПТУ №7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4" name="" descr="Николай  Дмитриевич Глебов - буровой мастер, герой Социалистического труда, почетный разведчик недр, первооткрыватель месторождений на Ямале. ЯНАО"/>
          <p:cNvPicPr/>
          <p:nvPr/>
        </p:nvPicPr>
        <p:blipFill>
          <a:blip r:embed="rId1"/>
          <a:stretch/>
        </p:blipFill>
        <p:spPr>
          <a:xfrm>
            <a:off x="395280" y="1268280"/>
            <a:ext cx="2532240" cy="432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2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443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9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"/>
          <p:cNvSpPr/>
          <p:nvPr/>
        </p:nvSpPr>
        <p:spPr>
          <a:xfrm>
            <a:off x="324000" y="333360"/>
            <a:ext cx="7200720" cy="719280"/>
          </a:xfrm>
          <a:prstGeom prst="roundRect">
            <a:avLst>
              <a:gd name="adj" fmla="val 2378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Произведения искусств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5300640"/>
            <a:ext cx="421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Владимир  Семенович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Высоцки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"/>
          <p:cNvSpPr/>
          <p:nvPr/>
        </p:nvSpPr>
        <p:spPr>
          <a:xfrm>
            <a:off x="4859280" y="1557360"/>
            <a:ext cx="3889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Исполнитель  песни о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открытии тюменской нефти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И ожила земля, и помню ночью я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На той земле танцующих людей...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Я счастлив, что превысив полномочия,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Мы взяли риск - и вскрыли вены ей!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4319640" cy="37260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7740720" y="333360"/>
            <a:ext cx="718920" cy="71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0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461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7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9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470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3" dur="212220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"/>
          <p:cNvSpPr/>
          <p:nvPr/>
        </p:nvSpPr>
        <p:spPr>
          <a:xfrm>
            <a:off x="324000" y="333360"/>
            <a:ext cx="7200720" cy="719280"/>
          </a:xfrm>
          <a:prstGeom prst="roundRect">
            <a:avLst>
              <a:gd name="adj" fmla="val 2378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Произведения искусств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"/>
          <p:cNvSpPr/>
          <p:nvPr/>
        </p:nvSpPr>
        <p:spPr>
          <a:xfrm>
            <a:off x="539640" y="5484960"/>
            <a:ext cx="421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Иосиф Давыдович Кобзон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"/>
          <p:cNvSpPr/>
          <p:nvPr/>
        </p:nvSpPr>
        <p:spPr>
          <a:xfrm>
            <a:off x="395280" y="1341360"/>
            <a:ext cx="8353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Песня «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Нефтяные короли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Музыка: Э.С.Колмановски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Слова: М.С.Пляцковский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Кто самый известны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исполнитель этого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произведения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rcRect l="0" t="0" r="83" b="-27"/>
          <a:stretch/>
        </p:blipFill>
        <p:spPr>
          <a:xfrm>
            <a:off x="539640" y="1341360"/>
            <a:ext cx="3254400" cy="37450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7812000" y="404640"/>
            <a:ext cx="647640" cy="6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3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484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0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2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493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6" dur="186077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"/>
          <p:cNvSpPr/>
          <p:nvPr/>
        </p:nvSpPr>
        <p:spPr>
          <a:xfrm>
            <a:off x="324000" y="333360"/>
            <a:ext cx="7200720" cy="719280"/>
          </a:xfrm>
          <a:prstGeom prst="roundRect">
            <a:avLst>
              <a:gd name="adj" fmla="val 2378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Произведения искусств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"/>
          <p:cNvSpPr/>
          <p:nvPr/>
        </p:nvSpPr>
        <p:spPr>
          <a:xfrm>
            <a:off x="324000" y="5734080"/>
            <a:ext cx="43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Александра Николаевн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ахмутова 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"/>
          <p:cNvSpPr/>
          <p:nvPr/>
        </p:nvSpPr>
        <p:spPr>
          <a:xfrm>
            <a:off x="395280" y="1341360"/>
            <a:ext cx="835344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Автор песни о геологах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Я уехала в знойные степи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Ты ушёл на разведку в тайгу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Надо мною лишь солнце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палящее светит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Над тобою лишь кедры в снег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rcRect l="0" t="0" r="-182" b="0"/>
          <a:stretch/>
        </p:blipFill>
        <p:spPr>
          <a:xfrm>
            <a:off x="395280" y="1413000"/>
            <a:ext cx="2855880" cy="32400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7740720" y="333360"/>
            <a:ext cx="718920" cy="71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6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507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5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516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9" dur="166108" fill="hold"/>
                                        <p:tgtEl>
                                          <p:spTgt spid="2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333360"/>
            <a:ext cx="8569080" cy="719280"/>
          </a:xfrm>
          <a:prstGeom prst="roundRect">
            <a:avLst>
              <a:gd name="adj" fmla="val 2378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Организаторы топливной промышленност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"/>
          <p:cNvSpPr/>
          <p:nvPr/>
        </p:nvSpPr>
        <p:spPr>
          <a:xfrm>
            <a:off x="539640" y="5950080"/>
            <a:ext cx="56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Каганович Лазарь Моисеевич (1893–1991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"/>
          <p:cNvSpPr/>
          <p:nvPr/>
        </p:nvSpPr>
        <p:spPr>
          <a:xfrm>
            <a:off x="3995640" y="1557360"/>
            <a:ext cx="468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Этот человек, прозванный «железным наркомом» возглавлял с 1939 года топливную промышленность, с 1939—1940 гг. — нефтяную промышленность СССР. Его имя в 1935—1955 носил Московский метрополите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9" name="" descr="Весточки с Политпомойки"/>
          <p:cNvPicPr/>
          <p:nvPr/>
        </p:nvPicPr>
        <p:blipFill>
          <a:blip r:embed="rId1"/>
          <a:stretch/>
        </p:blipFill>
        <p:spPr>
          <a:xfrm>
            <a:off x="684360" y="1484280"/>
            <a:ext cx="3028680" cy="428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Спасибо за активное участие в викторине!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333360"/>
            <a:ext cx="8496000" cy="719280"/>
          </a:xfrm>
          <a:prstGeom prst="roundRect">
            <a:avLst>
              <a:gd name="adj" fmla="val 2378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Организаторы топливной промышленност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5805360"/>
            <a:ext cx="56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Николай Константинович Байбаков (1911-2008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3924360" y="1268280"/>
            <a:ext cx="5040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С сентября 1940 — заместитель народного комиссара нефтяной промышленности СССР. Возглавлял созданный в наркомате специальный штаб, координировавший работу по обеспечению горючим воинских частей и предприяти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4" name="" descr="Николай Константинович Байбаков"/>
          <p:cNvPicPr/>
          <p:nvPr/>
        </p:nvPicPr>
        <p:blipFill>
          <a:blip r:embed="rId1"/>
          <a:stretch/>
        </p:blipFill>
        <p:spPr>
          <a:xfrm>
            <a:off x="468360" y="1413000"/>
            <a:ext cx="3111480" cy="40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333360"/>
            <a:ext cx="8496000" cy="719280"/>
          </a:xfrm>
          <a:prstGeom prst="roundRect">
            <a:avLst>
              <a:gd name="adj" fmla="val 2378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Организаторы топливной промышленност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595008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Борис Евдокимович Щерби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3492360" y="1484280"/>
            <a:ext cx="5327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Первый секретарь Тюменского обкома КПСС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Министр строительства предприятий нефтяной и газовой промышленности СССР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9" name="" descr="В честь кого в Тюмени установили памятники // KP.MD Комсомольская правда в Молдове"/>
          <p:cNvPicPr/>
          <p:nvPr/>
        </p:nvPicPr>
        <p:blipFill>
          <a:blip r:embed="rId1"/>
          <a:stretch/>
        </p:blipFill>
        <p:spPr>
          <a:xfrm>
            <a:off x="324000" y="1341360"/>
            <a:ext cx="3000240" cy="425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333360"/>
            <a:ext cx="8640720" cy="719280"/>
          </a:xfrm>
          <a:prstGeom prst="roundRect">
            <a:avLst>
              <a:gd name="adj" fmla="val 2378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Организаторы топливной промышленност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551664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иктор Степанович Черномырдин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"/>
          <p:cNvSpPr/>
          <p:nvPr/>
        </p:nvSpPr>
        <p:spPr>
          <a:xfrm>
            <a:off x="3564000" y="1268280"/>
            <a:ext cx="5256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ачальник Всесоюзного объединения «Тюменгазпром». В 1985—1989 — министр газовой промышленности СССР. Создатель концерна «Газпром»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4" name="" descr="ЧЕРНОМЫРДИН Виктор Степанович.jpg"/>
          <p:cNvPicPr/>
          <p:nvPr/>
        </p:nvPicPr>
        <p:blipFill>
          <a:blip r:embed="rId1"/>
          <a:stretch/>
        </p:blipFill>
        <p:spPr>
          <a:xfrm>
            <a:off x="395280" y="1268280"/>
            <a:ext cx="3027240" cy="388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333360"/>
            <a:ext cx="7200720" cy="719280"/>
          </a:xfrm>
          <a:prstGeom prst="roundRect">
            <a:avLst>
              <a:gd name="adj" fmla="val 2378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lbertus Extra Bold"/>
              </a:rPr>
              <a:t>Учены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5734080"/>
            <a:ext cx="56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митрий Иванович Менделее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"/>
          <p:cNvSpPr/>
          <p:nvPr/>
        </p:nvSpPr>
        <p:spPr>
          <a:xfrm>
            <a:off x="3492360" y="1484280"/>
            <a:ext cx="5327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Великий ученый, открывший периодический закон химических элементов- уроженец Тобольской губерни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9" name="" descr="Высказывания и афоризмы о воде Красноперекопское управление водного хозяйства"/>
          <p:cNvPicPr/>
          <p:nvPr/>
        </p:nvPicPr>
        <p:blipFill>
          <a:blip r:embed="rId1"/>
          <a:stretch/>
        </p:blipFill>
        <p:spPr>
          <a:xfrm>
            <a:off x="324000" y="1341360"/>
            <a:ext cx="3019320" cy="414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333360"/>
            <a:ext cx="7200720" cy="719280"/>
          </a:xfrm>
          <a:prstGeom prst="roundRect">
            <a:avLst>
              <a:gd name="adj" fmla="val 2378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lbertus Extra Bold"/>
              </a:rPr>
              <a:t>Учены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"/>
          <p:cNvSpPr/>
          <p:nvPr/>
        </p:nvSpPr>
        <p:spPr>
          <a:xfrm>
            <a:off x="395280" y="573408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ван Михайлович Губкин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"/>
          <p:cNvSpPr/>
          <p:nvPr/>
        </p:nvSpPr>
        <p:spPr>
          <a:xfrm>
            <a:off x="3492360" y="1484280"/>
            <a:ext cx="5327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Советский учёный-геолог, основатель нефтяной геологии, предсказавший открытие тюменской нефт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4" name="" descr="История Владимирского края"/>
          <p:cNvPicPr/>
          <p:nvPr/>
        </p:nvPicPr>
        <p:blipFill>
          <a:blip r:embed="rId1"/>
          <a:stretch/>
        </p:blipFill>
        <p:spPr>
          <a:xfrm>
            <a:off x="611280" y="1341360"/>
            <a:ext cx="2824200" cy="382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7451640" y="6237360"/>
            <a:ext cx="1474920" cy="466560"/>
          </a:xfrm>
          <a:custGeom>
            <a:avLst/>
            <a:gdLst>
              <a:gd name="textAreaLeft" fmla="*/ 30240 w 1474920"/>
              <a:gd name="textAreaRight" fmla="*/ 1444680 w 1474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68247" h="21600">
                <a:moveTo>
                  <a:pt x="0" y="0"/>
                </a:moveTo>
                <a:lnTo>
                  <a:pt x="68247" y="0"/>
                </a:lnTo>
                <a:lnTo>
                  <a:pt x="68247" y="21600"/>
                </a:lnTo>
                <a:lnTo>
                  <a:pt x="0" y="21600"/>
                </a:lnTo>
                <a:close/>
              </a:path>
              <a:path fill="lightenLess" w="68247" h="21600">
                <a:moveTo>
                  <a:pt x="0" y="0"/>
                </a:moveTo>
                <a:lnTo>
                  <a:pt x="68247" y="0"/>
                </a:lnTo>
                <a:lnTo>
                  <a:pt x="66847" y="1400"/>
                </a:lnTo>
                <a:lnTo>
                  <a:pt x="1400" y="1400"/>
                </a:lnTo>
                <a:close/>
              </a:path>
              <a:path fill="darken" w="68247" h="21600">
                <a:moveTo>
                  <a:pt x="68247" y="0"/>
                </a:moveTo>
                <a:lnTo>
                  <a:pt x="68247" y="21600"/>
                </a:lnTo>
                <a:lnTo>
                  <a:pt x="66847" y="20200"/>
                </a:lnTo>
                <a:lnTo>
                  <a:pt x="66847" y="1400"/>
                </a:lnTo>
                <a:close/>
              </a:path>
              <a:path fill="darkenLess" w="68247" h="21600">
                <a:moveTo>
                  <a:pt x="68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47" y="20200"/>
                </a:lnTo>
                <a:close/>
              </a:path>
              <a:path fill="lighten" w="68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e3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"/>
          <p:cNvSpPr/>
          <p:nvPr/>
        </p:nvSpPr>
        <p:spPr>
          <a:xfrm>
            <a:off x="324000" y="333360"/>
            <a:ext cx="7200720" cy="719280"/>
          </a:xfrm>
          <a:prstGeom prst="roundRect">
            <a:avLst>
              <a:gd name="adj" fmla="val 2378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Учены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5661000"/>
            <a:ext cx="56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ЭРВЬЕ Рауль-Юрий Георгиевич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3564000" y="1484280"/>
            <a:ext cx="5256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Основатель и первый руководитель Главного тюменского производственного геологического управления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(1966 – 1977)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9" name="" descr="Самолет назвали в честь Юрия Эрвье - Новости онлайн - Новости"/>
          <p:cNvPicPr/>
          <p:nvPr/>
        </p:nvPicPr>
        <p:blipFill>
          <a:blip r:embed="rId1"/>
          <a:stretch/>
        </p:blipFill>
        <p:spPr>
          <a:xfrm>
            <a:off x="395280" y="1341360"/>
            <a:ext cx="287964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37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2T20:51:06Z</dcterms:created>
  <dc:creator>Макаров А.Д.</dc:creator>
  <dc:description/>
  <cp:keywords>нефть газ</cp:keywords>
  <dc:language>en-US</dc:language>
  <cp:lastModifiedBy>User</cp:lastModifiedBy>
  <dcterms:modified xsi:type="dcterms:W3CDTF">2015-07-27T06:56:41Z</dcterms:modified>
  <cp:revision>44</cp:revision>
  <dc:subject/>
  <dc:title>Тюменский нефтегазовый комплекс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e0c0000000000010250300207f7000400038000</vt:lpwstr>
  </property>
</Properties>
</file>