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42F7-C839-4313-B63C-FC73B59D24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рабочем поле щелкаем по выбранным учениками вариантам (например Полководцы – 100), происходит переход на поле вопроса, после ответа учеников, нажмите на кнопку Ответ, кнопка исчезнет вместе с правильным ответом и появится кнопка для перехода к игровому полю для продолжения игры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Можно дополнительно задать вопрос, а какие еще произведения Крылова посвящены Отечественной войн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Кот и повар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о назначении М.И. Кутузова командующим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Ворона и курица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голодные французы в Москве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Волк на псарне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пребывание Наполеона в Москве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Собачья дружба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Венский конгресс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Чиж и Ёж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восхваление Александра I)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Здесь старый стиль – по новому 24-го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начале войны император был главнокомандующим русской армие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1DB-6B52-42CC-883D-F7D66D4B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A82-3B74-44F0-931A-AB2CFA9D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99D-727F-4FF0-A467-EB187470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4C3-130A-45F6-BE99-E87ABDCF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F03B-EDCD-4A2B-A7AB-E8FB03B1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B10E-193A-4E04-987D-E63A41A6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55ED-8D3C-4145-9242-5B79DE94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1B5C-1615-44BC-9053-20F9D853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E43D-C216-4D37-990F-4D2FCF8E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66E9-D146-4769-9EA1-05DCB5D4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40A3-14A4-4B03-957A-AFA2DDB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D6C-8F16-4671-9CA6-16C1191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CC9C-2ECE-4A20-957D-3EB40B9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7C31-2D99-4071-87CC-15BC330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55DE-9AF7-44D6-9162-8F24554D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BE3F-DA46-4710-9FFB-AFCE1179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E1A5-45E0-42A7-935D-5323368C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B24-7B0B-4472-86D6-A5D86513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A75-CF17-47E0-AF0A-847328F3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53C-7BA3-4039-88F5-AF5F90C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752-E09A-4791-B101-9DD4F55A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610-FB14-48C8-95BF-E0D9ABD0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EE1-79E5-4825-92BE-8E122D41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C4E-096F-4A5D-872F-27D0F241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DDC-95A5-4605-9D9C-7D4E01FBCB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5026-D7AC-4B24-80E1-FB0C0BE526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8920" y="549360"/>
            <a:ext cx="604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Тюменский нефтегазовый комплек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94172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328464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Викторина по истор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4653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 Макаров А.Д., преподаватель Тюменского нефтегазового колледжа имени Ю.Г.Эрв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3814920" y="61657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юмень,20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537372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Фарман Курбанович Салман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1484280"/>
            <a:ext cx="431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ветский геолог, первооткрыватель нефти в Сибир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снователь футбольного клуба «Тюмень»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история в фотографиях - 21 сентября 1953 г. Россия стала Сверхдержавой"/>
          <p:cNvPicPr/>
          <p:nvPr/>
        </p:nvPicPr>
        <p:blipFill>
          <a:blip r:embed="rId1"/>
          <a:stretch/>
        </p:blipFill>
        <p:spPr>
          <a:xfrm>
            <a:off x="250920" y="1557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9500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сипов Юрий Сергееви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1484280"/>
            <a:ext cx="431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зидент РАН ( 1991-2013). Председатель попечительского совета фонда "Возрождение Тобольска". Лауреат Ленинской прем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2688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9500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иктор Ефимович Копыл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484280"/>
            <a:ext cx="431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ктор Тюменского индустриального института (1973—1986). Автор книги «Окрик памяти. История Тюменского края глазами инженера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23 (5933). . Тюменские известия. . Новости Тюмени."/>
          <p:cNvPicPr/>
          <p:nvPr/>
        </p:nvPicPr>
        <p:blipFill>
          <a:blip r:embed="rId1"/>
          <a:srcRect l="0" t="0" r="35" b="0"/>
          <a:stretch/>
        </p:blipFill>
        <p:spPr>
          <a:xfrm>
            <a:off x="324000" y="1341360"/>
            <a:ext cx="3825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еликие откры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661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емен Никитович Урус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1484280"/>
            <a:ext cx="467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уровой мастер, которому было присвоено звание Героя Социалистического Труда за открытие скважины №Р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давшей первую Сибирскую нефть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143160" cy="34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еликие откры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516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1960 г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1484280"/>
            <a:ext cx="34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 каком году была получена первая в Западной Сибири промышленная неф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Научно-производственному объединению &quot;Тюменьнефтегаз&quot;- 50 ле…"/>
          <p:cNvPicPr/>
          <p:nvPr/>
        </p:nvPicPr>
        <p:blipFill>
          <a:blip r:embed="rId1"/>
          <a:srcRect l="0" t="0" r="41" b="-60"/>
          <a:stretch/>
        </p:blipFill>
        <p:spPr>
          <a:xfrm>
            <a:off x="250920" y="1413000"/>
            <a:ext cx="489744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еликие откры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734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елок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ерезо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1484280"/>
            <a:ext cx="37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сто, где в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1953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г. искали нефть, а нашли первый газ Западной Сибир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-100" b="0"/>
          <a:stretch/>
        </p:blipFill>
        <p:spPr>
          <a:xfrm>
            <a:off x="468360" y="1268280"/>
            <a:ext cx="4319640" cy="34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Месторождени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амотлорское месторожд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1557360"/>
            <a:ext cx="374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амая большое нефтяное месторождение СССР, открытое в 1965 г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Блог Шуруто Валентины Викторовны: Июнь 2010"/>
          <p:cNvPicPr/>
          <p:nvPr/>
        </p:nvPicPr>
        <p:blipFill>
          <a:blip r:embed="rId1"/>
          <a:stretch/>
        </p:blipFill>
        <p:spPr>
          <a:xfrm>
            <a:off x="250920" y="1413000"/>
            <a:ext cx="4681440" cy="31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537372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воение нефтяных и газовых месторождений Тюменской об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1557360"/>
            <a:ext cx="37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акая всесоюзная комсомольская стройка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в 1965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ыла названа №1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8764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5805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67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1557360"/>
            <a:ext cx="42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огда Тюменская область получила высшую награду Родины – орден Ленина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111480" cy="40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37372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даль «За освоение недр и развит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фтегазового комплекса Западной Сибир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155736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той медалью, учрежденной в 1978 г. награждались те, кто своим самоотверженным трудом способствовал увеличению добычи сибирской нефти и развитию обла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Medal For Development of the Petrochemical Complex of Western Siberia.jpg"/>
          <p:cNvPicPr/>
          <p:nvPr/>
        </p:nvPicPr>
        <p:blipFill>
          <a:blip r:embed="rId1"/>
          <a:stretch/>
        </p:blipFill>
        <p:spPr>
          <a:xfrm>
            <a:off x="395280" y="1197000"/>
            <a:ext cx="21448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33360"/>
            <a:ext cx="856908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езные ископаемы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229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ф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1557360"/>
            <a:ext cx="468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риродная маслянистая горючая жидкость, состоящая из сложной смеси углеводородов и некоторых других органический соедин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Будет ли Китай влиять на формирование мировой стоимости нефт…"/>
          <p:cNvPicPr/>
          <p:nvPr/>
        </p:nvPicPr>
        <p:blipFill>
          <a:blip r:embed="rId1"/>
          <a:srcRect l="0" t="0" r="0" b="-27"/>
          <a:stretch/>
        </p:blipFill>
        <p:spPr>
          <a:xfrm>
            <a:off x="324000" y="1484280"/>
            <a:ext cx="3419280" cy="25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537372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агит Юсуфови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екпе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1557360"/>
            <a:ext cx="47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езидент нефтяной кампании награжденный медалью «За освоение недр и развитие нефтегазового комплекса Западной Сибир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-105" b="-29"/>
          <a:stretch/>
        </p:blipFill>
        <p:spPr>
          <a:xfrm>
            <a:off x="395280" y="1268280"/>
            <a:ext cx="273672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Северное сияние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ш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1557360"/>
            <a:ext cx="47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ак назывались плавучие газотурбинные электростанции, выпускавшиеся в Тюмени с 1970—по 1983 гг.? Сколько их было построен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-85" b="30"/>
          <a:stretch/>
        </p:blipFill>
        <p:spPr>
          <a:xfrm>
            <a:off x="324000" y="1484280"/>
            <a:ext cx="3600360" cy="33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натолий Николаевич Косухи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155736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Первый ректор Тюменского индустриального института (ныне - Нефтегазового университета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Титаны нефтегаза"/>
          <p:cNvPicPr/>
          <p:nvPr/>
        </p:nvPicPr>
        <p:blipFill>
          <a:blip r:embed="rId1"/>
          <a:stretch/>
        </p:blipFill>
        <p:spPr>
          <a:xfrm>
            <a:off x="395280" y="134136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Юрий Константинович Шафран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1557360"/>
            <a:ext cx="47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инистр топлива и энергетики России, губернатор Тюменской области, выпускник Тюменского индустриального институт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98" b="-74"/>
          <a:stretch/>
        </p:blipFill>
        <p:spPr>
          <a:xfrm>
            <a:off x="395280" y="1341360"/>
            <a:ext cx="331164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ладимир Леонидович Богдан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1557360"/>
            <a:ext cx="475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Начав свою трудовую деятельность с помощника бурильщика, в 1984 году был назначен генеральным директором ПО «Сургутнефтегаз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8796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57340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фессиональное училище №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1557360"/>
            <a:ext cx="47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На базе какого учебного заведения был создан Нефтегазовый колледж Тюменск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государственного нефтегазов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университета.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537080" cy="34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5734080"/>
            <a:ext cx="561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Глебов Николай Дмитриевич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557360"/>
            <a:ext cx="47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уровой мастер, Герой Социалистического труда, один из первооткрывателей месторождений нефти и газа, один из самых известных выпускников тюменского ПТУ №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Николай  Дмитриевич Глебов - буровой мастер, герой Социалистического труда, почетный разведчик недр, первооткрыватель месторождений на Ямале. ЯНАО"/>
          <p:cNvPicPr/>
          <p:nvPr/>
        </p:nvPicPr>
        <p:blipFill>
          <a:blip r:embed="rId1"/>
          <a:stretch/>
        </p:blipFill>
        <p:spPr>
          <a:xfrm>
            <a:off x="395280" y="1268280"/>
            <a:ext cx="253224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оизведения искус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00640"/>
            <a:ext cx="42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ладимир  Семенович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ысоц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1557360"/>
            <a:ext cx="388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нитель  песни о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крытии тюменской нефт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И ожила земля, и помню ночью я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а той земле танцующих людей..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Я счастлив, что превысив полномочия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Мы взяли риск - и вскрыли вены ей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319640" cy="372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21222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оизведения искус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5484960"/>
            <a:ext cx="42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осиф Давыдович Кобз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34136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Песня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ефтяные корол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Музыка: Э.С.Колманов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Слова: М.С.Пляцковски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Кто самый извест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исполнитель эт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произвед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83" b="-27"/>
          <a:stretch/>
        </p:blipFill>
        <p:spPr>
          <a:xfrm>
            <a:off x="539640" y="1341360"/>
            <a:ext cx="3254400" cy="3745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86077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оизведения искус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73408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лександра Николае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хмутова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1341360"/>
            <a:ext cx="83534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Автор песни о геологах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Я уехала в знойные степ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Ты ушёл на разведку в тайгу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адо мною лишь солнц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палящее светит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ад тобою лишь кедры в снег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-182" b="0"/>
          <a:stretch/>
        </p:blipFill>
        <p:spPr>
          <a:xfrm>
            <a:off x="395280" y="1413000"/>
            <a:ext cx="2855880" cy="3240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16610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33360"/>
            <a:ext cx="856908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95008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ганович Лазарь Моисеевич (1893–199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1557360"/>
            <a:ext cx="46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Этот человек, прозванный «железным наркомом» возглавлял с 1939 года топливную промышленность, с 1939—1940 гг. — нефтяную промышленность СССР. Его имя в 1935—1955 носил Московский метрополит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Весточки с Политпомойки"/>
          <p:cNvPicPr/>
          <p:nvPr/>
        </p:nvPicPr>
        <p:blipFill>
          <a:blip r:embed="rId1"/>
          <a:stretch/>
        </p:blipFill>
        <p:spPr>
          <a:xfrm>
            <a:off x="684360" y="1484280"/>
            <a:ext cx="30286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Спасибо за активное участие в викторине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33360"/>
            <a:ext cx="849600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805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иколай Константинович Байбаков (1911-200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1268280"/>
            <a:ext cx="50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сентября 1940 — заместитель народного комиссара нефтяной промышленности СССР. Возглавлял созданный в наркомате специальный штаб, координировавший работу по обеспечению горючим воинских частей и предприят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" descr="Николай Константинович Байбаков"/>
          <p:cNvPicPr/>
          <p:nvPr/>
        </p:nvPicPr>
        <p:blipFill>
          <a:blip r:embed="rId1"/>
          <a:stretch/>
        </p:blipFill>
        <p:spPr>
          <a:xfrm>
            <a:off x="468360" y="1413000"/>
            <a:ext cx="3111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849600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95008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орис Евдокимович Щерб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484280"/>
            <a:ext cx="532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ервый секретарь Тюменского обкома КПС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Министр строительства предприятий нефтяной и газовой промышленности ССС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В честь кого в Тюмени установили памятники // KP.MD Комсомольская правда в Молдове"/>
          <p:cNvPicPr/>
          <p:nvPr/>
        </p:nvPicPr>
        <p:blipFill>
          <a:blip r:embed="rId1"/>
          <a:stretch/>
        </p:blipFill>
        <p:spPr>
          <a:xfrm>
            <a:off x="324000" y="1341360"/>
            <a:ext cx="3000240" cy="42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51664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ктор Степанович Черномырд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1268280"/>
            <a:ext cx="525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чальник Всесоюзного объединения «Тюменгазпром». В 1985—1989 — министр газовой промышленности СССР. Создатель концерна «Газпром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ЧЕРНОМЫРДИН Виктор Степанович.jpg"/>
          <p:cNvPicPr/>
          <p:nvPr/>
        </p:nvPicPr>
        <p:blipFill>
          <a:blip r:embed="rId1"/>
          <a:stretch/>
        </p:blipFill>
        <p:spPr>
          <a:xfrm>
            <a:off x="395280" y="1268280"/>
            <a:ext cx="30272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73408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митрий Иванович Менделе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1484280"/>
            <a:ext cx="53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еликий ученый, открывший периодический закон химических элементов- уроженец Тобольской губер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" descr="Высказывания и афоризмы о воде Красноперекопское управление водного хозяйства"/>
          <p:cNvPicPr/>
          <p:nvPr/>
        </p:nvPicPr>
        <p:blipFill>
          <a:blip r:embed="rId1"/>
          <a:stretch/>
        </p:blipFill>
        <p:spPr>
          <a:xfrm>
            <a:off x="324000" y="1341360"/>
            <a:ext cx="301932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734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ван Михайлович Губк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1484280"/>
            <a:ext cx="53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оветский учёный-геолог, основатель нефтяной геологии, предсказавший открытие тюменской неф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" descr="История Владимирского края"/>
          <p:cNvPicPr/>
          <p:nvPr/>
        </p:nvPicPr>
        <p:blipFill>
          <a:blip r:embed="rId1"/>
          <a:stretch/>
        </p:blipFill>
        <p:spPr>
          <a:xfrm>
            <a:off x="611280" y="1341360"/>
            <a:ext cx="2824200" cy="38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66100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РВЬЕ Рауль-Юрий Георгиевич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1484280"/>
            <a:ext cx="52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снователь и первый руководитель Главного тюменского производственного геологического управления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1966 – 1977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Самолет назвали в честь Юрия Эрвье - Новости онлайн - Новости"/>
          <p:cNvPicPr/>
          <p:nvPr/>
        </p:nvPicPr>
        <p:blipFill>
          <a:blip r:embed="rId1"/>
          <a:stretch/>
        </p:blipFill>
        <p:spPr>
          <a:xfrm>
            <a:off x="395280" y="134136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51:06Z</dcterms:created>
  <dc:creator>Макаров А.Д.</dc:creator>
  <dc:description/>
  <cp:keywords>нефть газ</cp:keywords>
  <dc:language>en-US</dc:language>
  <cp:lastModifiedBy>User</cp:lastModifiedBy>
  <dcterms:modified xsi:type="dcterms:W3CDTF">2015-07-27T06:56:41Z</dcterms:modified>
  <cp:revision>44</cp:revision>
  <dc:subject/>
  <dc:title>Тюменский нефтегазовый комплек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0c0000000000010250300207f7000400038000</vt:lpwstr>
  </property>
</Properties>
</file>