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.png" ContentType="image/png"/>
  <Override PartName="/ppt/media/image1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4.png" ContentType="image/pn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93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74.jpeg" ContentType="image/jpeg"/>
  <Override PartName="/ppt/media/image81.jpeg" ContentType="image/jpeg"/>
  <Override PartName="/ppt/media/image22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2DB-302F-4177-9BD7-40D3393B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445-0B32-4420-A17F-706F4FF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021-76A3-482C-A653-6DA1779F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AB9-6B5C-4D0C-910F-23E7AFD8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7E5-6BAD-4F3B-AA6E-06CDAC67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394-DB6B-49B4-AB59-8CDDE3EE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E1D-F29D-49A0-88D0-CFDDC77C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A9A-A3E9-4910-8F06-18CFA51E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091-2160-4661-896E-3F8AA3CA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210-48B3-4ECC-AF17-8FBA40E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261-8C78-4A0E-9CF3-C0998A9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030-EC2B-495B-BB8E-F52D3D4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82B1-7ED3-42DF-86F3-6C3AA5424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bigfoto.ru/gallery/albums/userpics/16614/normal_Most_vlyublennyh_na_reke_Ture_g._Tyumen_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aryan-mar.ru/forum/gallery/48_28_10_07_1_31_28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1;&#1089;&#1089;&#1082;&#1080;&#1077;" TargetMode="External"/><Relationship Id="rId2" Type="http://schemas.openxmlformats.org/officeDocument/2006/relationships/hyperlink" Target="http://ru.wikipedia.org/wiki/&#1058;&#1072;&#1090;&#1072;&#1088;&#1099;" TargetMode="External"/><Relationship Id="rId3" Type="http://schemas.openxmlformats.org/officeDocument/2006/relationships/hyperlink" Target="http://ru.wikipedia.org/wiki/&#1059;&#1082;&#1088;&#1072;&#1080;&#1085;&#1094;&#1099;" TargetMode="External"/><Relationship Id="rId4" Type="http://schemas.openxmlformats.org/officeDocument/2006/relationships/hyperlink" Target="http://ru.wikipedia.org/wiki/&#1041;&#1072;&#1096;&#1082;&#1080;&#1088;&#1099;" TargetMode="External"/><Relationship Id="rId5" Type="http://schemas.openxmlformats.org/officeDocument/2006/relationships/hyperlink" Target="http://ru.wikipedia.org/wiki/&#1040;&#1079;&#1077;&#1088;&#1073;&#1072;&#1081;&#1076;&#1078;&#1072;&#1085;&#1094;&#1099;" TargetMode="External"/><Relationship Id="rId6" Type="http://schemas.openxmlformats.org/officeDocument/2006/relationships/hyperlink" Target="http://ru.wikipedia.org/wiki/&#1056;&#1060;" TargetMode="External"/><Relationship Id="rId7" Type="http://schemas.openxmlformats.org/officeDocument/2006/relationships/hyperlink" Target="http://ru.wikipedia.org/wiki/&#1061;&#1072;&#1085;&#1090;&#1099;-&#1052;&#1072;&#1085;&#1089;&#1080;&#1081;&#1089;&#1082;&#1080;&#1081;_&#1072;&#1074;&#1090;&#1086;&#1085;&#1086;&#1084;&#1085;&#1099;&#1081;_&#1086;&#1082;&#1088;&#1091;&#1075;_&#8212;_&#1070;&#1075;&#1088;&#1072;" TargetMode="External"/><Relationship Id="rId8" Type="http://schemas.openxmlformats.org/officeDocument/2006/relationships/hyperlink" Target="http://ru.wikipedia.org/wiki/&#1071;&#1084;&#1072;&#1083;&#1086;-&#1053;&#1077;&#1085;&#1077;&#1094;&#1082;&#1080;&#1081;_&#1072;&#1074;&#1090;&#1086;&#1085;&#1086;&#1084;&#1085;&#1099;&#1081;_&#1086;&#1082;&#1088;&#1091;&#1075;" TargetMode="External"/><Relationship Id="rId9" Type="http://schemas.openxmlformats.org/officeDocument/2006/relationships/hyperlink" Target="http://ru.wikipedia.org/wiki/1993_&#1075;&#1086;&#1076;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polarural.narod.ru/ural/lake/l2.jpg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img-2007-06.photosight.ru/04/2127285.jpg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www.kamchatkadventures.ru/images/gallery/1182760763.jpg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visualrian.ru/storage/PreviewWM/0148/36/014836.jpg?1098255780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photofile.ru/photo/avtoz/2009868/large/32491324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Тюменская область: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стория,география,экономика</a:t>
            </a:r>
            <a:br>
              <a:rPr sz="6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29320" y="5151600"/>
            <a:ext cx="498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Макаров А.Д., преподав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юменского нефтегазового коллед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ни Ю.Г.Эрвье, ТГ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Гостиница &quot;Обь&quot; в Салехарде Гостиницы Салехарда"/>
          <p:cNvPicPr/>
          <p:nvPr/>
        </p:nvPicPr>
        <p:blipFill>
          <a:blip r:embed="rId1"/>
          <a:stretch/>
        </p:blipFill>
        <p:spPr>
          <a:xfrm>
            <a:off x="250920" y="26028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Салехард - город на полярном круге ТУРЛИКБЕЗ"/>
          <p:cNvPicPr/>
          <p:nvPr/>
        </p:nvPicPr>
        <p:blipFill>
          <a:blip r:embed="rId2"/>
          <a:stretch/>
        </p:blipFill>
        <p:spPr>
          <a:xfrm>
            <a:off x="4356000" y="3213000"/>
            <a:ext cx="4488120" cy="336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На переправе между Салехардом и Лабытнанги углубят дно - Рам…"/>
          <p:cNvPicPr/>
          <p:nvPr/>
        </p:nvPicPr>
        <p:blipFill>
          <a:blip r:embed="rId3"/>
          <a:stretch/>
        </p:blipFill>
        <p:spPr>
          <a:xfrm>
            <a:off x="5219640" y="333360"/>
            <a:ext cx="3552840" cy="266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340848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ЕРНАТОР ТЮМЕНСКОЙ ОБЛАСТИ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УШЕВ ВЛАДИМИР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opy_of_yakushev_0"/>
          <p:cNvPicPr/>
          <p:nvPr/>
        </p:nvPicPr>
        <p:blipFill>
          <a:blip r:embed="rId1"/>
          <a:stretch/>
        </p:blipFill>
        <p:spPr>
          <a:xfrm>
            <a:off x="2700360" y="1268280"/>
            <a:ext cx="3340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uma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АЯ ОБЛАСТНАЯ Д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ТЕЛЬСТВО ТЮМЕНСКОЙ  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0_17c55_652070be_xl"/>
          <p:cNvPicPr/>
          <p:nvPr/>
        </p:nvPicPr>
        <p:blipFill>
          <a:blip r:embed="rId4"/>
          <a:stretch/>
        </p:blipFill>
        <p:spPr>
          <a:xfrm>
            <a:off x="755640" y="134136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ерб Тюмен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704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39640" y="1042200"/>
            <a:ext cx="820908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90000" tIns="46800" bIns="36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тодержатели: черные соболя, каждый с золотой мордой, горлом и грудью и с червленым язык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«СИБИРЬЮ ПРИРАСТАТЬ БУДЕТ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АГ ТЮМЕ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Б ТЮ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52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39640" y="216360"/>
            <a:ext cx="820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альдическое описание гер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ывущее  судно (дощаник) с мачтой без па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тодержатели: бобр и лис, стоящие на золотом трофее (состоящем из алебард, знамен, барабанов с круглым щитом посредине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- От сего града начин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54800" cy="5511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274320"/>
            <a:ext cx="8136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юмень является крупнейшим городом и административным центром Тюменской области, расположен на реке Тура, впадающей в То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АЯ 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oblast"/>
          <p:cNvPicPr/>
          <p:nvPr/>
        </p:nvPicPr>
        <p:blipFill>
          <a:blip r:embed="rId1"/>
          <a:stretch/>
        </p:blipFill>
        <p:spPr>
          <a:xfrm>
            <a:off x="684360" y="1268280"/>
            <a:ext cx="755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ура́ — река в Западной Сибири, левый приток Тобол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ина 1030 км, площадь бассейна 80,4 тыс. км². Сплавная. Судоходна на 635 км от усть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Картинка 1 из 67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1733400"/>
            <a:ext cx="770400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а 58 из 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333360"/>
            <a:ext cx="6409080" cy="4773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530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нные народы Севера Тюменской области: ханты, манси, ненцы и селькуп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88000" y="63036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бирские татары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коренных народов Западной и Южной Сиб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4- 15 в.в. появляется Сибирское ханство. Столицей ханства становится Сибир (Иске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лам пришел к сибирским татарам из Бух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358720" cy="4392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21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55640" y="549360"/>
          <a:ext cx="7201080" cy="3566880"/>
        </p:xfrm>
        <a:graphic>
          <a:graphicData uri="http://schemas.openxmlformats.org/drawingml/2006/table">
            <a:tbl>
              <a:tblPr/>
              <a:tblGrid>
                <a:gridCol w="4813200"/>
                <a:gridCol w="238788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Русс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6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Тата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Украин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Башки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Азербайджан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22"/>
          <p:cNvSpPr/>
          <p:nvPr/>
        </p:nvSpPr>
        <p:spPr>
          <a:xfrm>
            <a:off x="468360" y="42328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ерритории Тюменской области как субъект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Р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расположены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Ханты-Мансийски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Ямало-Ненецки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автономные округа (которые также получили статус полноправных субъектов Российской Федерации 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993 год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ирода, климат, животный и растительный мир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Картинка 167 из 6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1125360"/>
            <a:ext cx="698508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89320" y="6230880"/>
            <a:ext cx="45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еро Большое Хадата-Юган-Л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 Урал – самая северная часть Уральских гор, которая отличается одновременно своей суровостью и красо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321 из 599"/>
          <p:cNvPicPr/>
          <p:nvPr/>
        </p:nvPicPr>
        <p:blipFill>
          <a:blip r:embed="rId1"/>
          <a:stretch/>
        </p:blipFill>
        <p:spPr>
          <a:xfrm>
            <a:off x="755640" y="1413000"/>
            <a:ext cx="741672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высокая вершина Полярного Урала – гора Пайер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Картинка 80 из 6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628640"/>
            <a:ext cx="74901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Галерея фотографий YARYCK - Страница 3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68cebfd9ea6ed51716ef15c4410597bd"/>
          <p:cNvPicPr/>
          <p:nvPr/>
        </p:nvPicPr>
        <p:blipFill>
          <a:blip r:embed="rId4"/>
          <a:stretch/>
        </p:blipFill>
        <p:spPr>
          <a:xfrm>
            <a:off x="1187280" y="1125360"/>
            <a:ext cx="6772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ическая карта Тюм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umen"/>
          <p:cNvPicPr/>
          <p:nvPr/>
        </p:nvPicPr>
        <p:blipFill>
          <a:blip r:embed="rId1"/>
          <a:stretch/>
        </p:blipFill>
        <p:spPr>
          <a:xfrm>
            <a:off x="2268360" y="1047600"/>
            <a:ext cx="4222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верные олени , парнокопытное млекопитающее семейства оленевых. Живет в северной части Евразии и Северной Америки. Ест не только траву и лишайники, но и мелких млекопитающих и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Картинка 22 из 306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1857240"/>
            <a:ext cx="691200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Картинка 4 из 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7561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Картинка 198 из 6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8137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997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з истории област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87"/>
          <p:cNvPicPr/>
          <p:nvPr/>
        </p:nvPicPr>
        <p:blipFill>
          <a:blip r:embed="rId1"/>
          <a:stretch/>
        </p:blipFill>
        <p:spPr>
          <a:xfrm>
            <a:off x="611280" y="476280"/>
            <a:ext cx="305748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Картинка 11 из 218"/>
          <p:cNvPicPr/>
          <p:nvPr/>
        </p:nvPicPr>
        <p:blipFill>
          <a:blip r:embed="rId2"/>
          <a:stretch/>
        </p:blipFill>
        <p:spPr>
          <a:xfrm>
            <a:off x="4643280" y="1773360"/>
            <a:ext cx="3857760" cy="3476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8200" y="4456080"/>
            <a:ext cx="239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РМ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573408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Й У ЧУВАШСКОГО МЫ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11280" y="33336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ентября 1581 отряд казаков, под начальством Ермака, выступил в поход за Каменный Пояс (Урал) из Орла-горо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раза разбили они сибирских татар, на Туре и в устье Тавды. На Иртыше казаки нанесли окончательное поражение татарам в битве при Чувашском мы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н Кучум бежал на юг, в Ишимские ст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 октября 1582 Ермак вступил в покинутую татарами Сибирь - столицу х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Картинка 59 из 218"/>
          <p:cNvPicPr/>
          <p:nvPr/>
        </p:nvPicPr>
        <p:blipFill>
          <a:blip r:embed="rId1"/>
          <a:stretch/>
        </p:blipFill>
        <p:spPr>
          <a:xfrm>
            <a:off x="1187280" y="333360"/>
            <a:ext cx="5077080" cy="3095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386064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мак — ледокол русского и советского флотов. Первый в мире ледокол арктического класса. Был заложен в Ньюкасле в декабре 1897 года по заказу Росс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„Ермаке“ впервые в мире использован радиотелеграф Александра Поп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октября 1941 года «Ермак» вновь был мобилизован. Он участвовал в эвакуации гарнизона полуострова Ханко и островов Финского залива, проводил корабли для обстрела позиций врага, выводил на боевые позиции подводные л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42764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ник покорителю Сибири — Ермаку. Проект памятника был разработан в Санкт-Петербурге академиком Брюлловым. Его открытие состоялось в 1839 году. Памятник высотой в 16 метров по своей форме напоминает обелис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Памятник Ермаку в Тобольске"/>
          <p:cNvPicPr/>
          <p:nvPr/>
        </p:nvPicPr>
        <p:blipFill>
          <a:blip r:embed="rId1"/>
          <a:stretch/>
        </p:blipFill>
        <p:spPr>
          <a:xfrm>
            <a:off x="755640" y="836640"/>
            <a:ext cx="31320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67560" cy="4448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4000" y="511560"/>
            <a:ext cx="86421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юмень первый русский город в Сибири, который стали строить по приказы царя Федора Иоанн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333360"/>
            <a:ext cx="4354560" cy="4968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4000" y="519840"/>
            <a:ext cx="367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1586 года  воеводы Василий Сукин и Иван Мясной со стрельцами   и казаками пришли в Сиб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9 июля 1586 г. они начали строить острог на месте разрушенной Чимги -Туры. Первоначально стрельцы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ки составляли большинство тюменского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МЕН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та образования - 14 августа 194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рритория - 1435,2 тыс. км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тяженность с севера на юг - 2100 к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запада на восток - 1400 к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мывается водами Карского мор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ничит с Казахстаном, Республикой Ком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сноярским краем, Свердловской, Курганско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мской, Томской, Архангельской областя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дминистративный центр - г. Тюмен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от Тюмени до Москвы - 2144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116840" cy="527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5721480"/>
            <a:ext cx="82803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ицкий монастырь - первое каменное здание в 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84160" y="1052640"/>
            <a:ext cx="3216240" cy="424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0" y="1222920"/>
            <a:ext cx="403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 1986 году, в честь своего 400-ле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за заслуги перед страной город был награжд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рденом Октябрьской Ре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4560" y="2300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1867 по сегодняшний день звание «Почетный гражданин города Тюмени" получил около 50человек, среди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228600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492360" y="1413000"/>
            <a:ext cx="2286000" cy="301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5805000"/>
            <a:ext cx="85690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вье Рауль-Юрий (1909 - 1991) - легендарный геолог, который  руководил  поиском и открытием тюменской неф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280" y="508464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А. Гага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4699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.Ю.Эр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420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51840" y="399888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Гуля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208-08-1-1200x900"/>
          <p:cNvPicPr/>
          <p:nvPr/>
        </p:nvPicPr>
        <p:blipFill>
          <a:blip r:embed="rId1"/>
          <a:stretch/>
        </p:blipFill>
        <p:spPr>
          <a:xfrm>
            <a:off x="1547640" y="189000"/>
            <a:ext cx="5688360" cy="4265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9280" y="4508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больск.  Основан в 1587. В 1590 году первым в Сибири получил статус города. С конца XVI до XVIII века — главный военный, административный, политический и церковный центр Сибири. С 1708 года — город, центр Сибирской губернии, простиравшейся от Урала до Тихого оке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68360" y="476280"/>
            <a:ext cx="820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ва всячески поощряла здесь каменное строительство. В 1683—1686 году присланными из Москвы и Великого Устюга каменщиками с подмастерьями Герасимом Шарыпиным и Гаврилой Тютиным строится каменный Софийско-Успенский соб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ФИЙСКИЙ СОБОР В ТОБОЛЬ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Файл:Софийский собор в Тобольске.jpg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БОЛЬСКИЙ КРЕМ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b4bba37fab78f8dcd1e93e00f8037d8c"/>
          <p:cNvPicPr/>
          <p:nvPr/>
        </p:nvPicPr>
        <p:blipFill>
          <a:blip r:embed="rId1"/>
          <a:stretch/>
        </p:blipFill>
        <p:spPr>
          <a:xfrm>
            <a:off x="468360" y="981000"/>
            <a:ext cx="81532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27186828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5843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897280" y="6256440"/>
            <a:ext cx="43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горная часть Тоболь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68360" y="476280"/>
            <a:ext cx="820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бо́льский кремль — единственный каменный кремль во всей Сибири, его памятники — уникальные образцы сибирского зодчества. Каждый этап строительства и каждый памятник Кремля являются вехами важнейших событий русской ис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50920" y="26028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92 году началось строительство колокольни по проекту Александра Гучева. К 1797 году строительство колокольни было завершено В 1809 году здесь были установлены куранты, изготовленные ямщиком Ильей Баяновым. На колокольне собора находилось 15 колоколов, в том числе и самый большой колокол Сибири весом 16 тонн. Так же на колокольне висел ссыльный угличский колок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Все о Тобольске - Соборная колокольня"/>
          <p:cNvPicPr/>
          <p:nvPr/>
        </p:nvPicPr>
        <p:blipFill>
          <a:blip r:embed="rId1"/>
          <a:stretch/>
        </p:blipFill>
        <p:spPr>
          <a:xfrm>
            <a:off x="324000" y="260280"/>
            <a:ext cx="3333600" cy="443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5373720"/>
            <a:ext cx="34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та сооружения составляет 75 метр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Картинка 237 из 617"/>
          <p:cNvPicPr/>
          <p:nvPr/>
        </p:nvPicPr>
        <p:blipFill>
          <a:blip r:embed="rId2"/>
          <a:stretch/>
        </p:blipFill>
        <p:spPr>
          <a:xfrm>
            <a:off x="1692360" y="1197000"/>
            <a:ext cx="6265800" cy="464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16360" y="609300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ница Европы и 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ьный набатный коло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обольска начиналась знаменитая «сибирская ссылка». Первым ссыльным стал угличский колокол, поднявший народ на восстание после загадочной смерти царевича Дмитрия, младшего сына Ивана Грозного. Угличский колокол вернулся из тобольской ссылки только в 1892 году, после длительной переписки и получения разрешения императора 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Александра III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вязи с приближающимся 300-летием ссыл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Картинка 1 из 44"/>
          <p:cNvPicPr/>
          <p:nvPr/>
        </p:nvPicPr>
        <p:blipFill>
          <a:blip r:embed="rId1"/>
          <a:stretch/>
        </p:blipFill>
        <p:spPr>
          <a:xfrm>
            <a:off x="826920" y="1268280"/>
            <a:ext cx="2395800" cy="3090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250px-SurikovMenshikovBerezovo"/>
          <p:cNvPicPr/>
          <p:nvPr/>
        </p:nvPicPr>
        <p:blipFill>
          <a:blip r:embed="rId2"/>
          <a:stretch/>
        </p:blipFill>
        <p:spPr>
          <a:xfrm>
            <a:off x="4572000" y="1268280"/>
            <a:ext cx="3672000" cy="3097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ЕТЛЕЙШИЙ КНЯЗЬ А.Д.МЕНЬШ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65300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ександр Данилович лишился всех своих титулов, чинов и богатств, а его местом ссылки стал город Берёзов Тобольской губернии. Жена его, княгиня Дарья Михайловна, бывшая когда-то любимицей самого Петра, скончалась по дороге к местам отбывания. Эпидемия оспы унесла жизнь его дочери, а 12 ноября 1729 года не стало и самого Александра Даниловича. Похоронили его возле алтаря им же возведенной церквушки.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больская сс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й четверти 19 в. в Тобольскую губернию ссылаются декабрис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енков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ятинский А.П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визин М.А. - Тобольс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равьев - Апостол М.И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щин И.И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ушкин И.Д. - Ялуторовск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 в губернию было сослано 36 декабр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Тобольский острог прошли и другие представители освободительных движений России – А.Н. Радищев, Ф.М. Достоевский, И.В.Петрашевский и многие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539640" y="4724280"/>
            <a:ext cx="835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XX веке Тобольск получил известность как место ссылки последнего русского царя Николая II и его семьи. Из Тобольска семья была переведена в Екатеринбург, где и была расстреля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108000" y="1989000"/>
            <a:ext cx="8137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286000" y="-2319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84360" y="278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AlexeiNicholas1917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835280" y="260280"/>
            <a:ext cx="5903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0" t="0" r="31" b="-85"/>
          <a:stretch/>
        </p:blipFill>
        <p:spPr>
          <a:xfrm>
            <a:off x="4067280" y="476280"/>
            <a:ext cx="4608360" cy="3384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8080" y="1423440"/>
            <a:ext cx="3716280" cy="3933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иод Великой Отечественной войны, в июле 1941, тело В. И. Ленина было эвакуировано в Тюмень, а в апреле 1945 возвращено в Мос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3" descr="Картинка 771 из 4790"/>
          <p:cNvPicPr/>
          <p:nvPr/>
        </p:nvPicPr>
        <p:blipFill>
          <a:blip r:embed="rId2"/>
          <a:stretch/>
        </p:blipFill>
        <p:spPr>
          <a:xfrm>
            <a:off x="4500720" y="4005360"/>
            <a:ext cx="393840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нспор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24000" y="33336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сибирская железнодорожная магистраль (Трансси́б), Великий Сибирский Путь (историческое название) — железная дорога через Евразийский континент, соединяющая Москву (до революции — Санкт-Петербург) и Дальний Вос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а магистрали 9288,2 км — это самая длинная железная дорога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улярное сообщение между Санкт-Петербургом и  Владивостоком по железной дороге было установлено в июле 1903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4357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217760" cy="2700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24000" y="333360"/>
            <a:ext cx="842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би́рский тракт (иначе: Московский тракт) — сухопутный транспортный путь между европейской частью России, Сибирью и Кит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тройство тракта началось в 1730 и было закончено в середине XIX века, до этого из-за отсутствия дорог в основном использовались речн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бирский тракт шёл из Москвы через Казань,  Пермь,  Екатеринбург, Тюмень, Тобольск,  Томск, Енисейск, Иркутск,  Нерчинск до границы с Кита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екающая в Западной Сибири река Обь самая протяженная в России (5410 км) и вторая по протяженности в Азии. Река образуется на Алтае слиянием рек Бии и Катуни. На севере река Обь впадает в Карское море, образуя залив, который носит название Обской Губ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5840-big"/>
          <p:cNvPicPr/>
          <p:nvPr/>
        </p:nvPicPr>
        <p:blipFill>
          <a:blip r:embed="rId4"/>
          <a:stretch/>
        </p:blipFill>
        <p:spPr>
          <a:xfrm>
            <a:off x="611280" y="1822320"/>
            <a:ext cx="80643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roschino3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3059280" y="2492280"/>
            <a:ext cx="561636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s640x480"/>
          <p:cNvPicPr/>
          <p:nvPr/>
        </p:nvPicPr>
        <p:blipFill>
          <a:blip r:embed="rId2"/>
          <a:stretch/>
        </p:blipFill>
        <p:spPr>
          <a:xfrm>
            <a:off x="539640" y="404640"/>
            <a:ext cx="49453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5851440" cy="4389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238720" cy="3143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554800"/>
            <a:ext cx="5065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эропорт Рощино находит в 13 км к западу от 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мышленность и 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34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запно вздрогнула земля. Взревела, загрохотала. О, что тут стало! Бомба! Бомб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юмень тогда полетела такая телеграмма: «21 сентября 1953 года в 21 час 30 минут на скважине № Р-1 Березовской буровой партии в момент подъема инструмента после разбуривания цементных пробок произошел внезапный газо-водяной выброс... Высота струи фонтана достигает 45— 50 метров...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было открыто первое в Западной Сибири газовое месторо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Березово хмао карта - найдено на форуме по картам, Доступно для загрузки"/>
          <p:cNvPicPr/>
          <p:nvPr/>
        </p:nvPicPr>
        <p:blipFill>
          <a:blip r:embed="rId1"/>
          <a:srcRect l="0" t="13122" r="0" b="0"/>
          <a:stretch/>
        </p:blipFill>
        <p:spPr>
          <a:xfrm>
            <a:off x="611280" y="3206880"/>
            <a:ext cx="4968720" cy="2931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&quot;Тоталь&quot; заявила о намерении серьезно заняться разведкой Баженовской свиты &quot; Информационное агентство МАНГАЗЕЯ"/>
          <p:cNvPicPr/>
          <p:nvPr/>
        </p:nvPicPr>
        <p:blipFill>
          <a:blip r:embed="rId2"/>
          <a:stretch/>
        </p:blipFill>
        <p:spPr>
          <a:xfrm>
            <a:off x="6300720" y="2997360"/>
            <a:ext cx="22114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11280" y="4798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том 1960 года мастер Урусов на реке Конде получил первый фонтан промышленной неф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через восемь месяцев на берегах реки Меги ударил нефтяной фонтан из скважины мастера Норк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5572080" cy="3981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Урусов Семен Никтич, Герой Социалистического труда (1962), Почетный разведчик недр"/>
          <p:cNvPicPr/>
          <p:nvPr/>
        </p:nvPicPr>
        <p:blipFill>
          <a:blip r:embed="rId2"/>
          <a:stretch/>
        </p:blipFill>
        <p:spPr>
          <a:xfrm>
            <a:off x="611280" y="3284640"/>
            <a:ext cx="2001600" cy="2735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9640" y="6184800"/>
            <a:ext cx="76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УСОВ Семен Никитич, Герой Социалистического труда (196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Люди земли тюменско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pme"/>
          <p:cNvPicPr/>
          <p:nvPr/>
        </p:nvPicPr>
        <p:blipFill>
          <a:blip r:embed="rId1"/>
          <a:stretch/>
        </p:blipFill>
        <p:spPr>
          <a:xfrm>
            <a:off x="1069920" y="739800"/>
            <a:ext cx="1476360" cy="2095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611280" y="310824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митрий Иванович Менделеев. Всемирно известный ученый, автор периодической таблицы химических элементов, носящей его имя, Дмитрий Иванович Менделеев родился 27 января (8 февраля) 1834 года в семье директора Тобольской гимназии Ивана Павловича Менделе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0008-008-Blagorodnye-metally"/>
          <p:cNvPicPr/>
          <p:nvPr/>
        </p:nvPicPr>
        <p:blipFill>
          <a:blip r:embed="rId2"/>
          <a:stretch/>
        </p:blipFill>
        <p:spPr>
          <a:xfrm>
            <a:off x="4572000" y="26028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611280" y="310824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р Павлович Ерш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эт-сказочник - автор знаменитого "Конька-Горбунка" Петр Павлович Ершов родился 22 февраля (6 марта по новому стилю) 1815 год в деревне Безруковой Ишимского округа Тобольской губер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per"/>
          <p:cNvPicPr/>
          <p:nvPr/>
        </p:nvPicPr>
        <p:blipFill>
          <a:blip r:embed="rId1"/>
          <a:stretch/>
        </p:blipFill>
        <p:spPr>
          <a:xfrm>
            <a:off x="755640" y="620640"/>
            <a:ext cx="2016000" cy="237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01958756"/>
          <p:cNvPicPr/>
          <p:nvPr/>
        </p:nvPicPr>
        <p:blipFill>
          <a:blip r:embed="rId2"/>
          <a:srcRect l="0" t="0" r="0" b="-88"/>
          <a:stretch/>
        </p:blipFill>
        <p:spPr>
          <a:xfrm>
            <a:off x="4140360" y="189000"/>
            <a:ext cx="38620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11280" y="310824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ександр Александрович Алябь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одился в 1787 году в Тобольске, в семье губернатора. Автор известного романса «Солов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pal"/>
          <p:cNvPicPr/>
          <p:nvPr/>
        </p:nvPicPr>
        <p:blipFill>
          <a:blip r:embed="rId1"/>
          <a:stretch/>
        </p:blipFill>
        <p:spPr>
          <a:xfrm>
            <a:off x="1258920" y="404640"/>
            <a:ext cx="194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11280" y="310824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силий Григорьевич Пе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дился в Тобольске в 1833 году. В начале 1860-х годов появились знаменитые полотна художника ("Сельский крестный ход на Пасхе", "Проповедь в селе"). В.Г. Перов был одним из основателей Товарищества передвижных художественных выста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ppe"/>
          <p:cNvPicPr/>
          <p:nvPr/>
        </p:nvPicPr>
        <p:blipFill>
          <a:blip r:embed="rId1"/>
          <a:stretch/>
        </p:blipFill>
        <p:spPr>
          <a:xfrm>
            <a:off x="1069920" y="260280"/>
            <a:ext cx="1933560" cy="2644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2413688"/>
          <p:cNvPicPr/>
          <p:nvPr/>
        </p:nvPicPr>
        <p:blipFill>
          <a:blip r:embed="rId2"/>
          <a:stretch/>
        </p:blipFill>
        <p:spPr>
          <a:xfrm>
            <a:off x="4643280" y="333360"/>
            <a:ext cx="35528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артинка 277 из 617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11280" y="310824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ипов Юрий Сергеевич- ученый математик, механик. Родился в Тобольске в 1936 году. Президент РАН (1991-2013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osipov"/>
          <p:cNvPicPr/>
          <p:nvPr/>
        </p:nvPicPr>
        <p:blipFill>
          <a:blip r:embed="rId1"/>
          <a:stretch/>
        </p:blipFill>
        <p:spPr>
          <a:xfrm>
            <a:off x="755640" y="333360"/>
            <a:ext cx="201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лекса́ндр Гаврии́лович Абду́лов (29 мая 1953, Тобольск, Тюменская область, СССР — 3 января 2008, Москва, Россия) — советский и российский актёр театра и к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i?id=85242591-20-72&amp;n=21"/>
          <p:cNvPicPr/>
          <p:nvPr/>
        </p:nvPicPr>
        <p:blipFill>
          <a:blip r:embed="rId3"/>
          <a:stretch/>
        </p:blipFill>
        <p:spPr>
          <a:xfrm>
            <a:off x="4427640" y="260280"/>
            <a:ext cx="4336920" cy="2943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Рәсем"/>
          <p:cNvPicPr/>
          <p:nvPr/>
        </p:nvPicPr>
        <p:blipFill>
          <a:blip r:embed="rId4"/>
          <a:stretch/>
        </p:blipFill>
        <p:spPr>
          <a:xfrm>
            <a:off x="900000" y="115920"/>
            <a:ext cx="25113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дия Николаевна Смирн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915 — 2007 гг.) — советская и российская актриса театра и кино, народная артистка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%D0%96%D0%B5%D0%BD%D0%B8%D1%82%D1%8C%D0%B1%D0%B0_%D0%91%D0%B0%D0%BB%D1%8C%D0%B7%D0%B0%D0%BC%D0%B8%D0%BD%D0%BE%D0%B2%D0%B0_%D0%BA%D0%B0%D0%B4%D1%801"/>
          <p:cNvPicPr/>
          <p:nvPr/>
        </p:nvPicPr>
        <p:blipFill>
          <a:blip r:embed="rId3"/>
          <a:stretch/>
        </p:blipFill>
        <p:spPr>
          <a:xfrm>
            <a:off x="468360" y="260280"/>
            <a:ext cx="3672000" cy="3024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%D0%9B%D0%B8%D0%B4%D0%B8%D1%8F_%D0%A1%D0%BC%D0%B8%D1%80%D0%BD%D0%BE%D0%B2%D0%B0"/>
          <p:cNvPicPr/>
          <p:nvPr/>
        </p:nvPicPr>
        <p:blipFill>
          <a:blip r:embed="rId4"/>
          <a:stretch/>
        </p:blipFill>
        <p:spPr>
          <a:xfrm>
            <a:off x="5435640" y="260280"/>
            <a:ext cx="19447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нна Агузар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284360" y="1267920"/>
            <a:ext cx="4475160" cy="52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́нна Хаса́новна Агуза́рова (род. 7 июля 1962 года)   —бывшая вокалистка группы «Браво», сделавшая сольную карьеру. Родилась в посёлке Туртас Уватского района. Отец — осетин. Из-за обнаружения у Агузаровой паспорта на чужое имя в 1984 г. её помещают сначала в Бутырскую тюрьму, затем в Институт судебной психиатрии им. Сербского, где признают вменяемой, и высылают на принудительные работы в леспромхоз в Тюменской области на полтор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Жанна Агузарова.jpg"/>
          <p:cNvPicPr/>
          <p:nvPr/>
        </p:nvPicPr>
        <p:blipFill>
          <a:blip r:embed="rId1"/>
          <a:stretch/>
        </p:blipFill>
        <p:spPr>
          <a:xfrm>
            <a:off x="539640" y="1413000"/>
            <a:ext cx="3597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ва Мамон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492360" y="1413000"/>
            <a:ext cx="540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́вва Ива́нович Ма́монтов (1841, Ялуторовск — 1918, Абрамцево) — русский предприниматель и меценат. В 1870—1890 годах имение Абрамцево стало центром художественной жизни России. Здесь подолгу жили и работали русские художники (И. Е. Репин, М. М. Антокольский, В. М. Васнецов, В. А. Серов, М. А. Врубель, М. В. Нестеров, В. Д. Поленов, К. А. Коровин) и музыканты (Ф. И. Шаляпин и друг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115 лет ЗАО &quot;МЕТРОВАГОНМАШ&quot;"/>
          <p:cNvPicPr/>
          <p:nvPr/>
        </p:nvPicPr>
        <p:blipFill>
          <a:blip r:embed="rId1"/>
          <a:stretch/>
        </p:blipFill>
        <p:spPr>
          <a:xfrm>
            <a:off x="468360" y="1700280"/>
            <a:ext cx="28051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Rodina_mat_zovet"/>
          <p:cNvPicPr/>
          <p:nvPr/>
        </p:nvPicPr>
        <p:blipFill>
          <a:blip r:embed="rId3"/>
          <a:stretch/>
        </p:blipFill>
        <p:spPr>
          <a:xfrm>
            <a:off x="826920" y="260280"/>
            <a:ext cx="1657440" cy="30974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2286000" y="-2319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59280" y="0"/>
            <a:ext cx="5689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Николай Васильевич Никитин (15 декабря 1907, Тобольск — 3 марта 1973, Москва) — русский архит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Н.В. Никитин разработал конструкции фундаментов и несущих каркасов следующих зд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Дворца Советов (проектная высота здания - 420 метров, до июля 1941 года был построен только фундамен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Здания МГУ на Ленинских (Воробьёвых) горах — главное здание высотой 240 метров на момент строительства было самым высоким зданием в Европе. Строительство шло с 1949 по 1953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Дворца культуры и науки в Варшаве — строительство которого проходило в 1952 — 1955 г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Центрального стадиона имени В. И. Ленина в Лужни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Монумента «Родина-мать зовёт!» в Волгограде — памятник высотой 85 метров и весом свыше 8 тысяч тон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Телевизионной башни в Останкино — строительство которой закончилось в 1967 году. Высота башни составляет 540 метров.</a:t>
            </a:r>
            <a:r>
              <a:rPr b="0" lang="en-US" sz="1800" spc="-1" strike="noStrike">
                <a:solidFill>
                  <a:srgbClr val="000000"/>
                </a:solidFill>
                <a:latin typeface="Lucida Fa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450px-TVtower_in_Ostankino"/>
          <p:cNvPicPr/>
          <p:nvPr/>
        </p:nvPicPr>
        <p:blipFill>
          <a:blip r:embed="rId4"/>
          <a:stretch/>
        </p:blipFill>
        <p:spPr>
          <a:xfrm>
            <a:off x="826920" y="3500280"/>
            <a:ext cx="1657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foto29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47628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24000" y="198900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́рий Алекса́ндрович Гуля́ев (9 сентября 1930, Тюмень — 1986, Москва) —певец, народный артист СССР (196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итная карточка певца - песни «Знаете, каким он парнем был?», "Твоя нежность", "Созвездие Гагарина", «Русское поле», «На безымянной высот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ляев с огромным успехом так же пел русские народные песни «Из-за острова на стрежень» , «Вдоль по Питерской», "Метелица", "Утёс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сал ряд собственных песен, одна из которых — «Желаю Вам» (на стихи Роберта Рождественск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86_1108"/>
          <p:cNvPicPr/>
          <p:nvPr/>
        </p:nvPicPr>
        <p:blipFill>
          <a:blip r:embed="rId1"/>
          <a:stretch/>
        </p:blipFill>
        <p:spPr>
          <a:xfrm>
            <a:off x="395280" y="189000"/>
            <a:ext cx="2700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286000" y="-2319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84360" y="278136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и́с Па́влович Грабо́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а рождения: 26 мая 19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рождения: Тобольск, Российская имп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а смерти: 196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смерти: Фрунзе, Киргизия,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ен как один из изобретателей телеви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%D0%91%D0%BE%D1%80%D0%B8%D1%81_%D0%93%D1%80%D0%B0%D0%B1%D0%BE%D0%B2%D1%81%D0%BA%D0%B8%D0%B9_1928"/>
          <p:cNvPicPr/>
          <p:nvPr/>
        </p:nvPicPr>
        <p:blipFill>
          <a:blip r:embed="rId3"/>
          <a:stretch/>
        </p:blipFill>
        <p:spPr>
          <a:xfrm>
            <a:off x="4427640" y="260280"/>
            <a:ext cx="4105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pic_tt7_r"/>
          <p:cNvPicPr/>
          <p:nvPr/>
        </p:nvPicPr>
        <p:blipFill>
          <a:blip r:embed="rId1"/>
          <a:srcRect l="0" t="0" r="0" b="39"/>
          <a:stretch/>
        </p:blipFill>
        <p:spPr>
          <a:xfrm>
            <a:off x="324000" y="404640"/>
            <a:ext cx="2374920" cy="331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RA8-117"/>
          <p:cNvPicPr/>
          <p:nvPr/>
        </p:nvPicPr>
        <p:blipFill>
          <a:blip r:embed="rId2"/>
          <a:stretch/>
        </p:blipFill>
        <p:spPr>
          <a:xfrm>
            <a:off x="5940360" y="260280"/>
            <a:ext cx="2521080" cy="3527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539640" y="389268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иго́рий Ефи́мович Распу́тин  ( 1869 — 1916 гг.) — крестьянин села Покровское. Приобрёл всемирную известность благодаря своей близости к семье последнего российского императора Николая II. Имел репутацию «старца», прозорливца и целителя; по мнению некоторых современников, играл значительную роль в принятии кадровых и политических решений импера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i"/>
          <p:cNvPicPr/>
          <p:nvPr/>
        </p:nvPicPr>
        <p:blipFill>
          <a:blip r:embed="rId3"/>
          <a:stretch/>
        </p:blipFill>
        <p:spPr>
          <a:xfrm>
            <a:off x="3780000" y="549360"/>
            <a:ext cx="1333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 на полярном кру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Мойдан - Страница 452 - Dirt.ru - горный велосипед"/>
          <p:cNvPicPr/>
          <p:nvPr/>
        </p:nvPicPr>
        <p:blipFill>
          <a:blip r:embed="rId1"/>
          <a:stretch/>
        </p:blipFill>
        <p:spPr>
          <a:xfrm>
            <a:off x="2050920" y="126828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08200" y="494172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был основан в 1595 году русскими казаками под именем Обдор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город в мире, находящийся непосредственно на Полярном круге. Полярный день в Салехарде наблюдается месяц, с 7 июня по 7 июля, 31 сутки в году, верхний край солнца не опускается под горизонт. В Салехарде есть один из самых северных пляжей мира Температурный максимум- 33 градуса в ию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397px-Tyumen-elmarreich02"/>
          <p:cNvPicPr/>
          <p:nvPr/>
        </p:nvPicPr>
        <p:blipFill>
          <a:blip r:embed="rId1"/>
          <a:stretch/>
        </p:blipFill>
        <p:spPr>
          <a:xfrm>
            <a:off x="2681280" y="571680"/>
            <a:ext cx="378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Безымянный"/>
          <p:cNvPicPr/>
          <p:nvPr/>
        </p:nvPicPr>
        <p:blipFill>
          <a:blip r:embed="rId1"/>
          <a:stretch/>
        </p:blipFill>
        <p:spPr>
          <a:xfrm>
            <a:off x="684360" y="1052640"/>
            <a:ext cx="792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23d903de3228"/>
          <p:cNvPicPr/>
          <p:nvPr/>
        </p:nvPicPr>
        <p:blipFill>
          <a:blip r:embed="rId1"/>
          <a:stretch/>
        </p:blipFill>
        <p:spPr>
          <a:xfrm>
            <a:off x="826920" y="549360"/>
            <a:ext cx="7417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FF735001_60"/>
          <p:cNvPicPr/>
          <p:nvPr/>
        </p:nvPicPr>
        <p:blipFill>
          <a:blip r:embed="rId1"/>
          <a:stretch/>
        </p:blipFill>
        <p:spPr>
          <a:xfrm>
            <a:off x="2195640" y="476280"/>
            <a:ext cx="460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c0dcdc7d481e"/>
          <p:cNvPicPr/>
          <p:nvPr/>
        </p:nvPicPr>
        <p:blipFill>
          <a:blip r:embed="rId1"/>
          <a:stretch/>
        </p:blipFill>
        <p:spPr>
          <a:xfrm>
            <a:off x="684360" y="620640"/>
            <a:ext cx="76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ник по истории Тюм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б Тюмени был утверждён Екатериной  Второй в 1785 году. В верхней части щита находится символика Тобольска - воинская арматура, знамена, барабаны, алебарды; в нижней - символика Тюмени - золотой дощаник в знак того, что «от сего города начинается плавание по рекам всей Сибири». А что такое дощаник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щаник - большая плоскодонная лодка, на которой можно перевести много гру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близи, какого села и в каком году в Сибири забил первый нефтяной фонтан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ый нефтяной фонтан ударил в июне 1960 года вблизи села Ша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63 году в Тюмени были созданы два новых института. Назовите их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63 году в Тюмени были созданы два института – медицинский (ныне академия) и индустриальный (ныне нефтегазовый университ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их годах семья Романовых находилась под арестом  в г. Тобольске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17-1918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указу, какого царя началось Строительство Тюме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выдающихся людей в истории России из Тюменской области (ученого, композитора, сказочника, артиста, певца, писателя, художника, политического деятеля, геолог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первые люди стали селиться в Западной Сибири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5-20 тысяч лет назад в конце древнекаменного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686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лемена заселили территорию Тюменской област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 племена ханты и манси (вогулы), ненцы (самоеды), селькупы (остяки). В конце первого тысячелетия н.э. на юге Тюменской области появляются тюркские племена, которые позднее сформировались в этническую общность - сибирские тат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был организатором похода отряда Ермака в Сибирь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льские купцы и промышленники Строганов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1582 г. казаки начали поход против Сибирского ханства. 23 октября 1582 г. произошло решающее сражение с Кучумовскими войсками. В битве у Чувашского мыса ханские силы были разгромлены. Четыре года продолжался поход казаков в Сиби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было поручено строительство города Тюмени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 1586 г. воеводами В. Сукиным и И. Мясным на р. Туре начато строительство острога, который впоследствии стал первым русским городом в Сибири - Тюм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каком городе был построен единственный в азиатской части страны Кремл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ачала XVII в. на территорию Тюменской области высылают "государственных" преступников. А кто был первым сибирским ссыльны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 Угличской колок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ие два великих пути проходят через город Тюм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честь какого революционного деятеля названа улица Пермяк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м своеобразие национально-государственного устройства Тюменской области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1930 г. на Обском Севере было образовано два национальных округа - Остяко-Вогульский и Ямало-Ненец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в стране область самая большая по территор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ходит ли по территории области граница между Европой и Ази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тюменские коты связаны с историей Эрмитаж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феврале 1944 года тюменская милиция в течение двух недель собирала по городу котов и кошек для отправки в Эрмитаж (г. Ленинград), где за время блокады развелось множество грызунов, представлявших угрозу для произведений искусства. 238 «усатых стражей» было отправлено в северную столицу, где они дали начало новой популяции ленинградских ко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связаны глава администрации города Тюмени и лорд-канцлер, хранитель печати Англии во времена Генриха VIII? Моор Александр Викторович и Томас Мор (1478, Лондон — 1535, Лондон) — английский юрист, лорд-канцлер, мыслитель, писатель, гуманист, святой Католической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чьем памятнике написано – «от благодарной Тюмени»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мятник Раулю-Юрию Георгиевичу Эрвье — первооткрывателю тюменской неф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ый известный выпускники тюменского ПТУ №7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ои Социалистического Труда С.Н. Урусов, Н.Д. Гле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Салехард &quot; Города России &quot; Мир России. Достопримечательности городов России. История городов России. Регионы России"/>
          <p:cNvPicPr/>
          <p:nvPr/>
        </p:nvPicPr>
        <p:blipFill>
          <a:blip r:embed="rId1"/>
          <a:stretch/>
        </p:blipFill>
        <p:spPr>
          <a:xfrm>
            <a:off x="250920" y="189000"/>
            <a:ext cx="4248000" cy="315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Проходной балл 2014 салехард на карте россии Поступаем вмест…"/>
          <p:cNvPicPr/>
          <p:nvPr/>
        </p:nvPicPr>
        <p:blipFill>
          <a:blip r:embed="rId2"/>
          <a:stretch/>
        </p:blipFill>
        <p:spPr>
          <a:xfrm>
            <a:off x="4140360" y="3429000"/>
            <a:ext cx="470376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Прибыль ОАО &quot;Аэропорт Салехард&quot; выросла на 13,81% - Рамблер-Новости"/>
          <p:cNvPicPr/>
          <p:nvPr/>
        </p:nvPicPr>
        <p:blipFill>
          <a:blip r:embed="rId3"/>
          <a:stretch/>
        </p:blipFill>
        <p:spPr>
          <a:xfrm>
            <a:off x="4788000" y="115920"/>
            <a:ext cx="3984480" cy="299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Салехард : Фото : Накануне.RU"/>
          <p:cNvPicPr/>
          <p:nvPr/>
        </p:nvPicPr>
        <p:blipFill>
          <a:blip r:embed="rId4"/>
          <a:stretch/>
        </p:blipFill>
        <p:spPr>
          <a:xfrm>
            <a:off x="179280" y="350028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1:39:16Z</dcterms:created>
  <dc:creator>Макаров Андрей Дмитриевич</dc:creator>
  <dc:description/>
  <dc:language>en-US</dc:language>
  <cp:lastModifiedBy>User</cp:lastModifiedBy>
  <dcterms:modified xsi:type="dcterms:W3CDTF">2015-07-09T09:48:52Z</dcterms:modified>
  <cp:revision>21</cp:revision>
  <dc:subject/>
  <dc:title>Тюменская обла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430000000000010250300207f7000400038000</vt:lpwstr>
  </property>
</Properties>
</file>