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55.png" ContentType="image/png"/>
  <Override PartName="/ppt/media/image20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1.png" ContentType="image/png"/>
  <Override PartName="/ppt/media/image1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64.png" ContentType="image/pn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93.jpeg" ContentType="image/jpeg"/>
  <Override PartName="/ppt/media/image76.jpeg" ContentType="image/jpeg"/>
  <Override PartName="/ppt/media/image75.jpeg" ContentType="image/jpeg"/>
  <Override PartName="/ppt/media/image94.jpeg" ContentType="image/jpeg"/>
  <Override PartName="/ppt/media/image74.jpeg" ContentType="image/jpeg"/>
  <Override PartName="/ppt/media/image81.jpeg" ContentType="image/jpeg"/>
  <Override PartName="/ppt/media/image22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72.jpeg" ContentType="image/jpeg"/>
  <Override PartName="/ppt/media/image73.jpeg" ContentType="image/jpeg"/>
  <Override PartName="/ppt/media/image71.jpeg" ContentType="image/jpeg"/>
  <Override PartName="/ppt/media/image70.jpeg" ContentType="image/jpeg"/>
  <Override PartName="/ppt/media/image80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83.jpeg" ContentType="image/jpeg"/>
  <Override PartName="/ppt/media/image24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8ED6-44EB-48EC-BCE2-472254C1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AC1B-C17B-4585-B10F-F0DD4B05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DB0E-C581-4989-8A44-D27D3B1A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B88-569F-46B6-89D1-EC2E256E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F5A1-5D20-4E69-8945-482088AC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DF0B-1B76-450E-97C1-5F82D9FE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13D0-B701-4E88-95AB-5EC35538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C53-EA33-44CA-B718-0CCA7993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D971-B647-432D-B093-9A04A1B5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924C-095B-46B5-8EA5-F5D0FC2E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E5D1-DF63-4777-8687-E0A871EE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158D-E6FF-4F13-B22A-146BBBCE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8CB5-36AE-4045-A27E-9235CD64B2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dmtyumen.ru/images/ogv_to/photo_galleries/about_region_TO/tyumen5.jpg" TargetMode="External"/><Relationship Id="rId2" Type="http://schemas.openxmlformats.org/officeDocument/2006/relationships/hyperlink" Target="http://www.admtyumen.ru/images/ogv_to/photo_galleries/about_region_TO/tyumen5.jpg" TargetMode="External"/><Relationship Id="rId3" Type="http://schemas.openxmlformats.org/officeDocument/2006/relationships/hyperlink" Target="http://www.admtyumen.ru/images/ogv_to/photo_galleries/about_region_TO/tyumen5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dmtyumen.ru/images/ogv_to/photo_galleries/about_region_TO/tyumen5.jpg" TargetMode="External"/><Relationship Id="rId2" Type="http://schemas.openxmlformats.org/officeDocument/2006/relationships/hyperlink" Target="http://www.admtyumen.ru/images/ogv_to/photo_galleries/about_region_TO/tyumen5.jpg" TargetMode="External"/><Relationship Id="rId3" Type="http://schemas.openxmlformats.org/officeDocument/2006/relationships/hyperlink" Target="http://www.admtyumen.ru/images/ogv_to/photo_galleries/about_region_TO/tyumen5.jpg" TargetMode="External"/><Relationship Id="rId4" Type="http://schemas.openxmlformats.org/officeDocument/2006/relationships/hyperlink" Target="http://bigfoto.ru/gallery/albums/userpics/16614/normal_Most_vlyublennyh_na_reke_Ture_g._Tyumen_.jpg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naryan-mar.ru/forum/gallery/48_28_10_07_1_31_28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91;&#1089;&#1089;&#1082;&#1080;&#1077;" TargetMode="External"/><Relationship Id="rId2" Type="http://schemas.openxmlformats.org/officeDocument/2006/relationships/hyperlink" Target="http://ru.wikipedia.org/wiki/&#1058;&#1072;&#1090;&#1072;&#1088;&#1099;" TargetMode="External"/><Relationship Id="rId3" Type="http://schemas.openxmlformats.org/officeDocument/2006/relationships/hyperlink" Target="http://ru.wikipedia.org/wiki/&#1059;&#1082;&#1088;&#1072;&#1080;&#1085;&#1094;&#1099;" TargetMode="External"/><Relationship Id="rId4" Type="http://schemas.openxmlformats.org/officeDocument/2006/relationships/hyperlink" Target="http://ru.wikipedia.org/wiki/&#1041;&#1072;&#1096;&#1082;&#1080;&#1088;&#1099;" TargetMode="External"/><Relationship Id="rId5" Type="http://schemas.openxmlformats.org/officeDocument/2006/relationships/hyperlink" Target="http://ru.wikipedia.org/wiki/&#1040;&#1079;&#1077;&#1088;&#1073;&#1072;&#1081;&#1076;&#1078;&#1072;&#1085;&#1094;&#1099;" TargetMode="External"/><Relationship Id="rId6" Type="http://schemas.openxmlformats.org/officeDocument/2006/relationships/hyperlink" Target="http://ru.wikipedia.org/wiki/&#1056;&#1060;" TargetMode="External"/><Relationship Id="rId7" Type="http://schemas.openxmlformats.org/officeDocument/2006/relationships/hyperlink" Target="http://ru.wikipedia.org/wiki/&#1061;&#1072;&#1085;&#1090;&#1099;-&#1052;&#1072;&#1085;&#1089;&#1080;&#1081;&#1089;&#1082;&#1080;&#1081;_&#1072;&#1074;&#1090;&#1086;&#1085;&#1086;&#1084;&#1085;&#1099;&#1081;_&#1086;&#1082;&#1088;&#1091;&#1075;_&#8212;_&#1070;&#1075;&#1088;&#1072;" TargetMode="External"/><Relationship Id="rId8" Type="http://schemas.openxmlformats.org/officeDocument/2006/relationships/hyperlink" Target="http://ru.wikipedia.org/wiki/&#1071;&#1084;&#1072;&#1083;&#1086;-&#1053;&#1077;&#1085;&#1077;&#1094;&#1082;&#1080;&#1081;_&#1072;&#1074;&#1090;&#1086;&#1085;&#1086;&#1084;&#1085;&#1099;&#1081;_&#1086;&#1082;&#1088;&#1091;&#1075;" TargetMode="External"/><Relationship Id="rId9" Type="http://schemas.openxmlformats.org/officeDocument/2006/relationships/hyperlink" Target="http://ru.wikipedia.org/wiki/1993_&#1075;&#1086;&#1076;" TargetMode="External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admtyumen.ru/images/ogv_to/photo_galleries/about_region_TO/tyumen5.jpg" TargetMode="External"/><Relationship Id="rId2" Type="http://schemas.openxmlformats.org/officeDocument/2006/relationships/hyperlink" Target="http://www.admtyumen.ru/images/ogv_to/photo_galleries/about_region_TO/tyumen5.jpg" TargetMode="External"/><Relationship Id="rId3" Type="http://schemas.openxmlformats.org/officeDocument/2006/relationships/hyperlink" Target="http://www.admtyumen.ru/images/ogv_to/photo_galleries/about_region_TO/tyumen5.jpg" TargetMode="External"/><Relationship Id="rId4" Type="http://schemas.openxmlformats.org/officeDocument/2006/relationships/hyperlink" Target="http://polarural.narod.ru/ural/lake/l2.jpg" TargetMode="External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admtyumen.ru/images/ogv_to/photo_galleries/about_region_TO/tyumen5.jpg" TargetMode="External"/><Relationship Id="rId2" Type="http://schemas.openxmlformats.org/officeDocument/2006/relationships/hyperlink" Target="http://www.admtyumen.ru/images/ogv_to/photo_galleries/about_region_TO/tyumen5.jpg" TargetMode="External"/><Relationship Id="rId3" Type="http://schemas.openxmlformats.org/officeDocument/2006/relationships/hyperlink" Target="http://www.admtyumen.ru/images/ogv_to/photo_galleries/about_region_TO/tyumen5.jpg" TargetMode="External"/><Relationship Id="rId4" Type="http://schemas.openxmlformats.org/officeDocument/2006/relationships/hyperlink" Target="http://img-2007-06.photosight.ru/04/2127285.jpg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admtyumen.ru/images/ogv_to/photo_galleries/about_region_TO/tyumen5.jpg" TargetMode="External"/><Relationship Id="rId2" Type="http://schemas.openxmlformats.org/officeDocument/2006/relationships/hyperlink" Target="http://www.admtyumen.ru/images/ogv_to/photo_galleries/about_region_TO/tyumen5.jpg" TargetMode="External"/><Relationship Id="rId3" Type="http://schemas.openxmlformats.org/officeDocument/2006/relationships/hyperlink" Target="http://www.admtyumen.ru/images/ogv_to/photo_galleries/about_region_TO/tyumen5.jpg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admtyumen.ru/images/ogv_to/photo_galleries/about_region_TO/tyumen5.jpg" TargetMode="External"/><Relationship Id="rId2" Type="http://schemas.openxmlformats.org/officeDocument/2006/relationships/hyperlink" Target="http://www.admtyumen.ru/images/ogv_to/photo_galleries/about_region_TO/tyumen5.jpg" TargetMode="External"/><Relationship Id="rId3" Type="http://schemas.openxmlformats.org/officeDocument/2006/relationships/hyperlink" Target="http://www.admtyumen.ru/images/ogv_to/photo_galleries/about_region_TO/tyumen5.jpg" TargetMode="External"/><Relationship Id="rId4" Type="http://schemas.openxmlformats.org/officeDocument/2006/relationships/hyperlink" Target="http://www.kamchatkadventures.ru/images/gallery/1182760763.jpg" TargetMode="External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visualrian.ru/storage/PreviewWM/0148/36/014836.jpg?1098255780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photofile.ru/photo/avtoz/2009868/large/32491324.jpg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dmtyumen.ru/images/ogv_to/photo_galleries/about_region_TO/tyumen5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dmtyumen.ru/images/ogv_to/photo_galleries/about_region_TO/tyumen5.jpg" TargetMode="External"/><Relationship Id="rId2" Type="http://schemas.openxmlformats.org/officeDocument/2006/relationships/hyperlink" Target="http://www.admtyumen.ru/images/ogv_to/photo_galleries/about_region_TO/tyumen5.jpg" TargetMode="External"/><Relationship Id="rId3" Type="http://schemas.openxmlformats.org/officeDocument/2006/relationships/hyperlink" Target="http://www.admtyumen.ru/images/ogv_to/photo_galleries/about_region_TO/tyumen5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obflag.gif" TargetMode="External"/><Relationship Id="rId2" Type="http://schemas.openxmlformats.org/officeDocument/2006/relationships/hyperlink" Target="http://ru.wikipedia.org/wiki/&#1060;&#1072;&#1081;&#1083;:Tobflag.gif" TargetMode="External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obflag.gif" TargetMode="External"/><Relationship Id="rId2" Type="http://schemas.openxmlformats.org/officeDocument/2006/relationships/hyperlink" Target="http://ru.wikipedia.org/wiki/&#1060;&#1072;&#1081;&#1083;:Tobflag.gif" TargetMode="External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obflag.gif" TargetMode="External"/><Relationship Id="rId2" Type="http://schemas.openxmlformats.org/officeDocument/2006/relationships/hyperlink" Target="http://ru.wikipedia.org/wiki/&#1060;&#1072;&#1081;&#1083;:Tobflag.gif" TargetMode="External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obflag.gif" TargetMode="External"/><Relationship Id="rId2" Type="http://schemas.openxmlformats.org/officeDocument/2006/relationships/hyperlink" Target="http://ru.wikipedia.org/wiki/&#1060;&#1072;&#1081;&#1083;:Tobflag.gif" TargetMode="External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Тюменская область:</a:t>
            </a:r>
            <a:br>
              <a:rPr sz="6600"/>
            </a:b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история,география,экономика</a:t>
            </a:r>
            <a:br>
              <a:rPr sz="6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29320" y="5151600"/>
            <a:ext cx="498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 Макаров А.Д., преподава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юменского нефтегазового коллед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ни Ю.Г.Эрвье, ТГН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Гостиница &quot;Обь&quot; в Салехарде Гостиницы Салехарда"/>
          <p:cNvPicPr/>
          <p:nvPr/>
        </p:nvPicPr>
        <p:blipFill>
          <a:blip r:embed="rId1"/>
          <a:stretch/>
        </p:blipFill>
        <p:spPr>
          <a:xfrm>
            <a:off x="250920" y="26028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Салехард - город на полярном круге ТУРЛИКБЕЗ"/>
          <p:cNvPicPr/>
          <p:nvPr/>
        </p:nvPicPr>
        <p:blipFill>
          <a:blip r:embed="rId2"/>
          <a:stretch/>
        </p:blipFill>
        <p:spPr>
          <a:xfrm>
            <a:off x="4356000" y="3213000"/>
            <a:ext cx="4488120" cy="336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На переправе между Салехардом и Лабытнанги углубят дно - Рам…"/>
          <p:cNvPicPr/>
          <p:nvPr/>
        </p:nvPicPr>
        <p:blipFill>
          <a:blip r:embed="rId3"/>
          <a:stretch/>
        </p:blipFill>
        <p:spPr>
          <a:xfrm>
            <a:off x="5219640" y="333360"/>
            <a:ext cx="3552840" cy="2665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95280" y="3933720"/>
            <a:ext cx="340848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479840" y="32767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УБЕРНАТОР ТЮМЕНСКОЙ ОБЛАСТИ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КУШЕВ ВЛАДИМИР ВЛАДИМИ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copy_of_yakushev_0"/>
          <p:cNvPicPr/>
          <p:nvPr/>
        </p:nvPicPr>
        <p:blipFill>
          <a:blip r:embed="rId1"/>
          <a:stretch/>
        </p:blipFill>
        <p:spPr>
          <a:xfrm>
            <a:off x="2700360" y="1268280"/>
            <a:ext cx="3340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uma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ЮМЕНСКАЯ ОБЛАСТНАЯ Д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ТЕЛЬСТВО ТЮМЕНСКОЙ  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>
            <a:hlinkClick r:id="rId3"/>
          </p:cNvPr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0_17c55_652070be_xl"/>
          <p:cNvPicPr/>
          <p:nvPr/>
        </p:nvPicPr>
        <p:blipFill>
          <a:blip r:embed="rId4"/>
          <a:stretch/>
        </p:blipFill>
        <p:spPr>
          <a:xfrm>
            <a:off x="755640" y="1341360"/>
            <a:ext cx="76201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ерб Тюменской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704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539640" y="1042200"/>
            <a:ext cx="820908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90000" tIns="46800" bIns="36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итодержатели: черные соболя, каждый с золотой мордой, горлом и грудью и с червленым языко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из «СИБИРЬЮ ПРИРАСТАТЬ БУДЕТ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ЛАГ ТЮМЕН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064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ЕРБ ТЮ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771640" y="1268280"/>
            <a:ext cx="3529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539640" y="216360"/>
            <a:ext cx="820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ральдическое описание герб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ывущее  судно (дощаник) с мачтой без пар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итодержатели: бобр и лис, стоящие на золотом трофее (состоящем из алебард, знамен, барабанов с круглым щитом посредине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из - От сего града начин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254800" cy="5511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8360" y="274320"/>
            <a:ext cx="8136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юмень является крупнейшим городом и административным центром Тюменской области, расположен на реке Тура, впадающей в Тоб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ЮМЕНСКАЯ 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oblast"/>
          <p:cNvPicPr/>
          <p:nvPr/>
        </p:nvPicPr>
        <p:blipFill>
          <a:blip r:embed="rId1"/>
          <a:stretch/>
        </p:blipFill>
        <p:spPr>
          <a:xfrm>
            <a:off x="684360" y="1268280"/>
            <a:ext cx="75596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ура́ — река в Западной Сибири, левый приток Тобола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ина 1030 км, площадь бассейна 80,4 тыс. км². Сплавная. Судоходна на 635 км от усть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>
            <a:hlinkClick r:id="rId3"/>
          </p:cNvPr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Картинка 1 из 673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5640" y="1733400"/>
            <a:ext cx="770400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Картинка 58 из 1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333360"/>
            <a:ext cx="6409080" cy="4773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5280" y="530064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нные народы Севера Тюменской области: ханты, манси, ненцы и селькупы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788000" y="630360"/>
            <a:ext cx="403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бирские татары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 из коренных народов Западной и Южной Сиби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4- 15 в.в. появляется Сибирское ханство. Столицей ханства становится Сибир (Искер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лам пришел к сибирским татарам из Бух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358720" cy="4392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2160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755640" y="549360"/>
          <a:ext cx="7201080" cy="3566880"/>
        </p:xfrm>
        <a:graphic>
          <a:graphicData uri="http://schemas.openxmlformats.org/drawingml/2006/table">
            <a:tbl>
              <a:tblPr/>
              <a:tblGrid>
                <a:gridCol w="4813200"/>
                <a:gridCol w="2387880"/>
              </a:tblGrid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Русск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6 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Татар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 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Украинц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 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Башкир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 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Азербайджанц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 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22"/>
          <p:cNvSpPr/>
          <p:nvPr/>
        </p:nvSpPr>
        <p:spPr>
          <a:xfrm>
            <a:off x="468360" y="423288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территории Тюменской области как субъекта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РФ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расположены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Ханты-Мансийский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Ямало-Ненецкий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автономные округа (которые также получили статус полноправных субъектов Российской Федерации в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1993 год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рирода, климат, животный и растительный мир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ВЕРНЫЙ 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>
            <a:hlinkClick r:id="rId3"/>
          </p:cNvPr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Картинка 167 из 61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16000" y="1125360"/>
            <a:ext cx="6985080" cy="5040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389320" y="6230880"/>
            <a:ext cx="45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зеро Большое Хадата-Юган-Л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ярный Урал – самая северная часть Уральских гор, которая отличается одновременно своей суровостью и красот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Картинка 321 из 599"/>
          <p:cNvPicPr/>
          <p:nvPr/>
        </p:nvPicPr>
        <p:blipFill>
          <a:blip r:embed="rId1"/>
          <a:stretch/>
        </p:blipFill>
        <p:spPr>
          <a:xfrm>
            <a:off x="755640" y="1413000"/>
            <a:ext cx="741672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ая высокая вершина Полярного Урала – гора Пайер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>
            <a:hlinkClick r:id="rId3"/>
          </p:cNvPr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Картинка 80 из 61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6920" y="1628640"/>
            <a:ext cx="74901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Галерея фотографий YARYCK - Страница 3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ВЕРНЫЙ 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>
            <a:hlinkClick r:id="rId3"/>
          </p:cNvPr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68cebfd9ea6ed51716ef15c4410597bd"/>
          <p:cNvPicPr/>
          <p:nvPr/>
        </p:nvPicPr>
        <p:blipFill>
          <a:blip r:embed="rId4"/>
          <a:stretch/>
        </p:blipFill>
        <p:spPr>
          <a:xfrm>
            <a:off x="1187280" y="1125360"/>
            <a:ext cx="67723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479840" y="32767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изическая карта Тюме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tumen"/>
          <p:cNvPicPr/>
          <p:nvPr/>
        </p:nvPicPr>
        <p:blipFill>
          <a:blip r:embed="rId1"/>
          <a:stretch/>
        </p:blipFill>
        <p:spPr>
          <a:xfrm>
            <a:off x="2268360" y="1047600"/>
            <a:ext cx="4222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верные олени , парнокопытное млекопитающее семейства оленевых. Живет в северной части Евразии и Северной Америки. Ест не только траву и лишайники, но и мелких млекопитающих и п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>
            <a:hlinkClick r:id="rId3"/>
          </p:cNvPr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Картинка 22 из 306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16000" y="1857240"/>
            <a:ext cx="6912000" cy="45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Картинка 4 из 1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476280"/>
            <a:ext cx="7561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Картинка 198 из 6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4640"/>
            <a:ext cx="8137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997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Из истории област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187"/>
          <p:cNvPicPr/>
          <p:nvPr/>
        </p:nvPicPr>
        <p:blipFill>
          <a:blip r:embed="rId1"/>
          <a:stretch/>
        </p:blipFill>
        <p:spPr>
          <a:xfrm>
            <a:off x="611280" y="476280"/>
            <a:ext cx="3057480" cy="3809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Картинка 11 из 218"/>
          <p:cNvPicPr/>
          <p:nvPr/>
        </p:nvPicPr>
        <p:blipFill>
          <a:blip r:embed="rId2"/>
          <a:stretch/>
        </p:blipFill>
        <p:spPr>
          <a:xfrm>
            <a:off x="4643280" y="1773360"/>
            <a:ext cx="3857760" cy="3476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28200" y="4456080"/>
            <a:ext cx="239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РМ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ИМОФ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5734080"/>
            <a:ext cx="44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Й У ЧУВАШСКОГО МЫ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11280" y="333360"/>
            <a:ext cx="7993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сентября 1581 отряд казаков, под начальством Ермака, выступил в поход за Каменный Пояс (Урал) из Орла-город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раза разбили они сибирских татар, на Туре и в устье Тавды. На Иртыше казаки нанесли окончательное поражение татарам в битве при Чувашском мыс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н Кучум бежал на юг, в Ишимские степ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6 октября 1582 Ермак вступил в покинутую татарами Сибирь - столицу хан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Картинка 59 из 218"/>
          <p:cNvPicPr/>
          <p:nvPr/>
        </p:nvPicPr>
        <p:blipFill>
          <a:blip r:embed="rId1"/>
          <a:stretch/>
        </p:blipFill>
        <p:spPr>
          <a:xfrm>
            <a:off x="1187280" y="333360"/>
            <a:ext cx="5077080" cy="3095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24000" y="3860640"/>
            <a:ext cx="820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рмак — ледокол русского и советского флотов. Первый в мире ледокол арктического класса. Был заложен в Ньюкасле в декабре 1897 года по заказу Росси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„Ермаке“ впервые в мире использован радиотелеграф Александра Поп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октября 1941 года «Ермак» вновь был мобилизован. Он участвовал в эвакуации гарнизона полуострова Ханко и островов Финского залива, проводил корабли для обстрела позиций врага, выводил на боевые позиции подводные ло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42764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мятник покорителю Сибири — Ермаку. Проект памятника был разработан в Санкт-Петербурге академиком Брюлловым. Его открытие состоялось в 1839 году. Памятник высотой в 16 метров по своей форме напоминает обелис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Памятник Ермаку в Тобольске"/>
          <p:cNvPicPr/>
          <p:nvPr/>
        </p:nvPicPr>
        <p:blipFill>
          <a:blip r:embed="rId1"/>
          <a:stretch/>
        </p:blipFill>
        <p:spPr>
          <a:xfrm>
            <a:off x="755640" y="836640"/>
            <a:ext cx="313200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667560" cy="4448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24000" y="511560"/>
            <a:ext cx="864216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юмень первый русский город в Сибири, который стали строить по приказы царя Федора Иоаннови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0" y="333360"/>
            <a:ext cx="4354560" cy="4968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24000" y="519840"/>
            <a:ext cx="3671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ом 1586 года  воеводы Василий Сукин и Иван Мясной со стрельцами   и казаками пришли в Сиби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9 июля 1586 г. они начали строить острог на месте разрушенной Чимги -Туры. Первоначально стрельцы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заки составляли большинство тюменского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ЮМЕНСКАЯ ОБ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ата образования - 14 августа 1944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рритория - 1435,2 тыс. км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тяженность с севера на юг - 2100 км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запада на восток - 1400 к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мывается водами Карского мор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раничит с Казахстаном, Республикой Коми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асноярским краем, Свердловской, Курганской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мской, Томской, Архангельской областям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дминистративный центр - г. Тюмень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стояние от Тюмени до Москвы - 2144 к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71640" y="115920"/>
            <a:ext cx="7116840" cy="5275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5280" y="5721480"/>
            <a:ext cx="82803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оицкий монастырь - первое каменное здание в го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84160" y="1052640"/>
            <a:ext cx="3216240" cy="424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0" y="1222920"/>
            <a:ext cx="403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 1986 году, в честь своего 400-лет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 за заслуги перед страной город был награжд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рденом Октябрьской Револю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74560" y="23004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 1867 по сегодняшний день звание «Почетный гражданин города Тюмени" получил около 50человек, среди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56360" y="1268280"/>
            <a:ext cx="1944720" cy="2449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2286000" cy="3019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492360" y="1413000"/>
            <a:ext cx="2286000" cy="3019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5805000"/>
            <a:ext cx="856908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рвье Рауль-Юрий (1909 - 1991) - легендарный геолог, который  руководил  поиском и открытием тюменской неф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280" y="5084640"/>
            <a:ext cx="18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Ю.А. Гага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27640" y="469908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.Ю.Эр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0420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51840" y="3998880"/>
            <a:ext cx="14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Ю.Гуля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208-08-1-1200x900"/>
          <p:cNvPicPr/>
          <p:nvPr/>
        </p:nvPicPr>
        <p:blipFill>
          <a:blip r:embed="rId1"/>
          <a:stretch/>
        </p:blipFill>
        <p:spPr>
          <a:xfrm>
            <a:off x="1547640" y="189000"/>
            <a:ext cx="5688360" cy="4265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79280" y="450864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больск.  Основан в 1587. В 1590 году первым в Сибири получил статус города. С конца XVI до XVIII века — главный военный, административный, политический и церковный центр Сибири. С 1708 года — город, центр Сибирской губернии, простиравшейся от Урала до Тихого оке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68360" y="476280"/>
            <a:ext cx="820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сква всячески поощряла здесь каменное строительство. В 1683—1686 году присланными из Москвы и Великого Устюга каменщиками с подмастерьями Герасимом Шарыпиным и Гаврилой Тютиным строится каменный Софийско-Успенский собо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4479840" y="32767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ФИЙСКИЙ СОБОР В ТОБОЛЬ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Файл:Софийский собор в Тобольске.jpg"/>
          <p:cNvPicPr/>
          <p:nvPr/>
        </p:nvPicPr>
        <p:blipFill>
          <a:blip r:embed="rId1"/>
          <a:stretch/>
        </p:blipFill>
        <p:spPr>
          <a:xfrm>
            <a:off x="762120" y="880920"/>
            <a:ext cx="761976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4479840" y="32767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БОЛЬСКИЙ КРЕМ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b4bba37fab78f8dcd1e93e00f8037d8c"/>
          <p:cNvPicPr/>
          <p:nvPr/>
        </p:nvPicPr>
        <p:blipFill>
          <a:blip r:embed="rId1"/>
          <a:stretch/>
        </p:blipFill>
        <p:spPr>
          <a:xfrm>
            <a:off x="468360" y="981000"/>
            <a:ext cx="81532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271868283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5843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897280" y="6256440"/>
            <a:ext cx="43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горная часть Тоболь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468360" y="476280"/>
            <a:ext cx="820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обо́льский кремль — единственный каменный кремль во всей Сибири, его памятники — уникальные образцы сибирского зодчества. Каждый этап строительства и каждый памятник Кремля являются вехами важнейших событий русской ис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50920" y="260280"/>
            <a:ext cx="47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792 году началось строительство колокольни по проекту Александра Гучева. К 1797 году строительство колокольни было завершено В 1809 году здесь были установлены куранты, изготовленные ямщиком Ильей Баяновым. На колокольне собора находилось 15 колоколов, в том числе и самый большой колокол Сибири весом 16 тонн. Так же на колокольне висел ссыльный угличский колок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Все о Тобольске - Соборная колокольня"/>
          <p:cNvPicPr/>
          <p:nvPr/>
        </p:nvPicPr>
        <p:blipFill>
          <a:blip r:embed="rId1"/>
          <a:stretch/>
        </p:blipFill>
        <p:spPr>
          <a:xfrm>
            <a:off x="324000" y="260280"/>
            <a:ext cx="3333600" cy="4438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24000" y="5373720"/>
            <a:ext cx="34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ота сооружения составляет 75 метр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ВЕРНЫЙ 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Картинка 237 из 617"/>
          <p:cNvPicPr/>
          <p:nvPr/>
        </p:nvPicPr>
        <p:blipFill>
          <a:blip r:embed="rId2"/>
          <a:stretch/>
        </p:blipFill>
        <p:spPr>
          <a:xfrm>
            <a:off x="1692360" y="1197000"/>
            <a:ext cx="6265800" cy="4641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716360" y="6093000"/>
            <a:ext cx="39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раница Европы и 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3714840" y="2857680"/>
            <a:ext cx="171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3714840" y="2857680"/>
            <a:ext cx="171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сыльный набатный колок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Тобольска начиналась знаменитая «сибирская ссылка». Первым ссыльным стал угличский колокол, поднявший народ на восстание после загадочной смерти царевича Дмитрия, младшего сына Ивана Грозного. Угличский колокол вернулся из тобольской ссылки только в 1892 году, после длительной переписки и получения разрешения императора </a:t>
            </a:r>
            <a:r>
              <a:rPr b="1" lang="ru-RU" sz="2000" spc="-1" strike="noStrike">
                <a:solidFill>
                  <a:srgbClr val="cc99ff"/>
                </a:solidFill>
                <a:latin typeface="Arial"/>
              </a:rPr>
              <a:t>Александра III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связи с приближающимся 300-летием ссыл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857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Картинка 1 из 44"/>
          <p:cNvPicPr/>
          <p:nvPr/>
        </p:nvPicPr>
        <p:blipFill>
          <a:blip r:embed="rId1"/>
          <a:stretch/>
        </p:blipFill>
        <p:spPr>
          <a:xfrm>
            <a:off x="826920" y="1268280"/>
            <a:ext cx="2395800" cy="3090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250px-SurikovMenshikovBerezovo"/>
          <p:cNvPicPr/>
          <p:nvPr/>
        </p:nvPicPr>
        <p:blipFill>
          <a:blip r:embed="rId2"/>
          <a:stretch/>
        </p:blipFill>
        <p:spPr>
          <a:xfrm>
            <a:off x="4572000" y="1268280"/>
            <a:ext cx="3672000" cy="3097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ЕТЛЕЙШИЙ КНЯЗЬ А.Д.МЕНЬШ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653000"/>
            <a:ext cx="849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Александр Данилович лишился всех своих титулов, чинов и богатств, а его местом ссылки стал город Берёзов Тобольской губернии. Жена его, княгиня Дарья Михайловна, бывшая когда-то любимицей самого Петра, скончалась по дороге к местам отбывания. Эпидемия оспы унесла жизнь его дочери, а 12 ноября 1729 года не стало и самого Александра Даниловича. Похоронили его возле алтаря им же возведенной церквушки.</a:t>
            </a: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больская ссы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торой четверти 19 в. в Тобольскую губернию ссылаются декабрис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ненков И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ятинский А.П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визин М.А. - Тобольс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равьев - Апостол М.И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щин И.И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ушкин И.Д. - Ялуторовск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о в губернию было сослано 36 декабр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Тобольский острог прошли и другие представители освободительных движений России – А.Н. Радищев, Ф.М. Достоевский, И.В.Петрашевский и многие друг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539640" y="4724280"/>
            <a:ext cx="8353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XX веке Тобольск получил известность как место ссылки последнего русского царя Николая II и его семьи. Из Тобольска семья была переведена в Екатеринбург, где и была расстреля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108000" y="1989000"/>
            <a:ext cx="813744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286000" y="-2319480"/>
            <a:ext cx="4572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684360" y="2781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AlexeiNicholas1917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835280" y="260280"/>
            <a:ext cx="59036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rcRect l="0" t="0" r="31" b="-85"/>
          <a:stretch/>
        </p:blipFill>
        <p:spPr>
          <a:xfrm>
            <a:off x="4067280" y="476280"/>
            <a:ext cx="4608360" cy="3384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8080" y="1423440"/>
            <a:ext cx="3716280" cy="3933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ериод Великой Отечественной войны, в июле 1941, тело В. И. Ленина было эвакуировано в Тюмень, а в апреле 1945 возвращено в Моск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3" descr="Картинка 771 из 4790"/>
          <p:cNvPicPr/>
          <p:nvPr/>
        </p:nvPicPr>
        <p:blipFill>
          <a:blip r:embed="rId2"/>
          <a:stretch/>
        </p:blipFill>
        <p:spPr>
          <a:xfrm>
            <a:off x="4500720" y="4005360"/>
            <a:ext cx="393840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анспор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8544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324000" y="33336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нссибирская железнодорожная магистраль (Трансси́б), Великий Сибирский Путь (историческое название) — железная дорога через Евразийский континент, соединяющая Москву (до революции — Санкт-Петербург) и Дальний Вост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ина магистрали 9288,2 км — это самая длинная железная дорога в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улярное сообщение между Санкт-Петербургом и  Владивостоком по железной дороге было установлено в июле 1903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43578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4217760" cy="2700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361800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324000" y="333360"/>
            <a:ext cx="8424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би́рский тракт (иначе: Московский тракт) — сухопутный транспортный путь между европейской частью России, Сибирью и Кита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стройство тракта началось в 1730 и было закончено в середине XIX века, до этого из-за отсутствия дорог в основном использовались речные п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бирский тракт шёл из Москвы через Казань,  Пермь,  Екатеринбург, Тюмень, Тобольск,  Томск, Енисейск, Иркутск,  Нерчинск до границы с Кита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текающая в Западной Сибири река Обь самая протяженная в России (5410 км) и вторая по протяженности в Азии. Река образуется на Алтае слиянием рек Бии и Катуни. На севере река Обь впадает в Карское море, образуя залив, который носит название Обской Губы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>
            <a:hlinkClick r:id="rId3"/>
          </p:cNvPr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5840-big"/>
          <p:cNvPicPr/>
          <p:nvPr/>
        </p:nvPicPr>
        <p:blipFill>
          <a:blip r:embed="rId4"/>
          <a:stretch/>
        </p:blipFill>
        <p:spPr>
          <a:xfrm>
            <a:off x="611280" y="1822320"/>
            <a:ext cx="806436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roschino3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3059280" y="2492280"/>
            <a:ext cx="5616360" cy="4032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s640x480"/>
          <p:cNvPicPr/>
          <p:nvPr/>
        </p:nvPicPr>
        <p:blipFill>
          <a:blip r:embed="rId2"/>
          <a:stretch/>
        </p:blipFill>
        <p:spPr>
          <a:xfrm>
            <a:off x="539640" y="404640"/>
            <a:ext cx="49453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059280" y="2276640"/>
            <a:ext cx="5851440" cy="43891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238720" cy="31431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79280" y="5554800"/>
            <a:ext cx="50659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эропорт Рощино находит в 13 км к западу от 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мышленность и сельское хозяй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346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запно вздрогнула земля. Взревела, загрохотала. О, что тут стало! Бомба! Бомба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юмень тогда полетела такая телеграмма: «21 сентября 1953 года в 21 час 30 минут на скважине № Р-1 Березовской буровой партии в момент подъема инструмента после разбуривания цементных пробок произошел внезапный газо-водяной выброс... Высота струи фонтана достигает 45— 50 метров...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было открыто первое в Западной Сибири газовое месторож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Березово хмао карта - найдено на форуме по картам, Доступно для загрузки"/>
          <p:cNvPicPr/>
          <p:nvPr/>
        </p:nvPicPr>
        <p:blipFill>
          <a:blip r:embed="rId1"/>
          <a:srcRect l="0" t="13122" r="0" b="0"/>
          <a:stretch/>
        </p:blipFill>
        <p:spPr>
          <a:xfrm>
            <a:off x="611280" y="3206880"/>
            <a:ext cx="4968720" cy="2931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&quot;Тоталь&quot; заявила о намерении серьезно заняться разведкой Баженовской свиты &quot; Информационное агентство МАНГАЗЕЯ"/>
          <p:cNvPicPr/>
          <p:nvPr/>
        </p:nvPicPr>
        <p:blipFill>
          <a:blip r:embed="rId2"/>
          <a:stretch/>
        </p:blipFill>
        <p:spPr>
          <a:xfrm>
            <a:off x="6300720" y="2997360"/>
            <a:ext cx="22114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11280" y="479880"/>
            <a:ext cx="78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том 1960 года мастер Урусов на реке Конде получил первый фонтан промышленной неф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через восемь месяцев на берегах реки Меги ударил нефтяной фонтан из скважины мастера Норк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059280" y="2060640"/>
            <a:ext cx="5572080" cy="39812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Урусов Семен Никтич, Герой Социалистического труда (1962), Почетный разведчик недр"/>
          <p:cNvPicPr/>
          <p:nvPr/>
        </p:nvPicPr>
        <p:blipFill>
          <a:blip r:embed="rId2"/>
          <a:stretch/>
        </p:blipFill>
        <p:spPr>
          <a:xfrm>
            <a:off x="611280" y="3284640"/>
            <a:ext cx="2001600" cy="27352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39640" y="6184800"/>
            <a:ext cx="76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УСОВ Семен Никитич, Герой Социалистического труда (196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Люди земли тюменско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pme"/>
          <p:cNvPicPr/>
          <p:nvPr/>
        </p:nvPicPr>
        <p:blipFill>
          <a:blip r:embed="rId1"/>
          <a:stretch/>
        </p:blipFill>
        <p:spPr>
          <a:xfrm>
            <a:off x="1069920" y="739800"/>
            <a:ext cx="1476360" cy="20955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"/>
          <p:cNvSpPr/>
          <p:nvPr/>
        </p:nvSpPr>
        <p:spPr>
          <a:xfrm>
            <a:off x="611280" y="3108240"/>
            <a:ext cx="784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митрий Иванович Менделеев. Всемирно известный ученый, автор периодической таблицы химических элементов, носящей его имя, Дмитрий Иванович Менделеев родился 27 января (8 февраля) 1834 года в семье директора Тобольской гимназии Ивана Павловича Менделе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0008-008-Blagorodnye-metally"/>
          <p:cNvPicPr/>
          <p:nvPr/>
        </p:nvPicPr>
        <p:blipFill>
          <a:blip r:embed="rId2"/>
          <a:stretch/>
        </p:blipFill>
        <p:spPr>
          <a:xfrm>
            <a:off x="4572000" y="26028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611280" y="3108240"/>
            <a:ext cx="784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тр Павлович Ершо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эт-сказочник - автор знаменитого "Конька-Горбунка" Петр Павлович Ершов родился 22 февраля (6 марта по новому стилю) 1815 год в деревне Безруковой Ишимского округа Тобольской губер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per"/>
          <p:cNvPicPr/>
          <p:nvPr/>
        </p:nvPicPr>
        <p:blipFill>
          <a:blip r:embed="rId1"/>
          <a:stretch/>
        </p:blipFill>
        <p:spPr>
          <a:xfrm>
            <a:off x="755640" y="620640"/>
            <a:ext cx="2016000" cy="2376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01958756"/>
          <p:cNvPicPr/>
          <p:nvPr/>
        </p:nvPicPr>
        <p:blipFill>
          <a:blip r:embed="rId2"/>
          <a:srcRect l="0" t="0" r="0" b="-88"/>
          <a:stretch/>
        </p:blipFill>
        <p:spPr>
          <a:xfrm>
            <a:off x="4140360" y="189000"/>
            <a:ext cx="38620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611280" y="310824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ександр Александрович Алябье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одился в 1787 году в Тобольске, в семье губернатора. Автор известного романса «Солове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pal"/>
          <p:cNvPicPr/>
          <p:nvPr/>
        </p:nvPicPr>
        <p:blipFill>
          <a:blip r:embed="rId1"/>
          <a:stretch/>
        </p:blipFill>
        <p:spPr>
          <a:xfrm>
            <a:off x="1258920" y="404640"/>
            <a:ext cx="1941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611280" y="3108240"/>
            <a:ext cx="784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асилий Григорьевич Пер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родился в Тобольске в 1833 году. В начале 1860-х годов появились знаменитые полотна художника ("Сельский крестный ход на Пасхе", "Проповедь в селе"). В.Г. Перов был одним из основателей Товарищества передвижных художественных выстав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ppe"/>
          <p:cNvPicPr/>
          <p:nvPr/>
        </p:nvPicPr>
        <p:blipFill>
          <a:blip r:embed="rId1"/>
          <a:stretch/>
        </p:blipFill>
        <p:spPr>
          <a:xfrm>
            <a:off x="1069920" y="260280"/>
            <a:ext cx="1933560" cy="2644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2413688"/>
          <p:cNvPicPr/>
          <p:nvPr/>
        </p:nvPicPr>
        <p:blipFill>
          <a:blip r:embed="rId2"/>
          <a:stretch/>
        </p:blipFill>
        <p:spPr>
          <a:xfrm>
            <a:off x="4643280" y="333360"/>
            <a:ext cx="35528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ВЕРНОЕ СИ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826920" y="29242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Картинка 277 из 617"/>
          <p:cNvPicPr/>
          <p:nvPr/>
        </p:nvPicPr>
        <p:blipFill>
          <a:blip r:embed="rId1"/>
          <a:stretch/>
        </p:blipFill>
        <p:spPr>
          <a:xfrm>
            <a:off x="1042920" y="1413000"/>
            <a:ext cx="684072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611280" y="310824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ипов Юрий Сергеевич- ученый математик, механик. Родился в Тобольске в 1936 году. Президент РАН (1991-2013 г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osipov"/>
          <p:cNvPicPr/>
          <p:nvPr/>
        </p:nvPicPr>
        <p:blipFill>
          <a:blip r:embed="rId1"/>
          <a:stretch/>
        </p:blipFill>
        <p:spPr>
          <a:xfrm>
            <a:off x="755640" y="333360"/>
            <a:ext cx="2016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2">
            <a:hlinkClick r:id="rId1"/>
          </p:cNvPr>
          <p:cNvSpPr/>
          <p:nvPr/>
        </p:nvSpPr>
        <p:spPr>
          <a:xfrm>
            <a:off x="3714840" y="2857680"/>
            <a:ext cx="171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>
            <a:hlinkClick r:id="rId2"/>
          </p:cNvPr>
          <p:cNvSpPr/>
          <p:nvPr/>
        </p:nvSpPr>
        <p:spPr>
          <a:xfrm>
            <a:off x="395280" y="3357720"/>
            <a:ext cx="81374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Алекса́ндр Гаврии́лович Абду́лов (29 мая 1953, Тобольск, Тюменская область, СССР — 3 января 2008, Москва, Россия) — советский и российский актёр театра и ки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i?id=85242591-20-72&amp;n=21"/>
          <p:cNvPicPr/>
          <p:nvPr/>
        </p:nvPicPr>
        <p:blipFill>
          <a:blip r:embed="rId3"/>
          <a:stretch/>
        </p:blipFill>
        <p:spPr>
          <a:xfrm>
            <a:off x="4427640" y="260280"/>
            <a:ext cx="4336920" cy="2943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3" descr="Рәсем"/>
          <p:cNvPicPr/>
          <p:nvPr/>
        </p:nvPicPr>
        <p:blipFill>
          <a:blip r:embed="rId4"/>
          <a:stretch/>
        </p:blipFill>
        <p:spPr>
          <a:xfrm>
            <a:off x="900000" y="115920"/>
            <a:ext cx="251136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2">
            <a:hlinkClick r:id="rId1"/>
          </p:cNvPr>
          <p:cNvSpPr/>
          <p:nvPr/>
        </p:nvSpPr>
        <p:spPr>
          <a:xfrm>
            <a:off x="3714840" y="2857680"/>
            <a:ext cx="171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>
            <a:hlinkClick r:id="rId2"/>
          </p:cNvPr>
          <p:cNvSpPr/>
          <p:nvPr/>
        </p:nvSpPr>
        <p:spPr>
          <a:xfrm>
            <a:off x="395280" y="3357720"/>
            <a:ext cx="81374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дия Николаевна Смирн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915 — 2007 гг.) — советская и российская актриса театра и кино, народная артистка ССС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%D0%96%D0%B5%D0%BD%D0%B8%D1%82%D1%8C%D0%B1%D0%B0_%D0%91%D0%B0%D0%BB%D1%8C%D0%B7%D0%B0%D0%BC%D0%B8%D0%BD%D0%BE%D0%B2%D0%B0_%D0%BA%D0%B0%D0%B4%D1%801"/>
          <p:cNvPicPr/>
          <p:nvPr/>
        </p:nvPicPr>
        <p:blipFill>
          <a:blip r:embed="rId3"/>
          <a:stretch/>
        </p:blipFill>
        <p:spPr>
          <a:xfrm>
            <a:off x="468360" y="260280"/>
            <a:ext cx="3672000" cy="3024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%D0%9B%D0%B8%D0%B4%D0%B8%D1%8F_%D0%A1%D0%BC%D0%B8%D1%80%D0%BD%D0%BE%D0%B2%D0%B0"/>
          <p:cNvPicPr/>
          <p:nvPr/>
        </p:nvPicPr>
        <p:blipFill>
          <a:blip r:embed="rId4"/>
          <a:stretch/>
        </p:blipFill>
        <p:spPr>
          <a:xfrm>
            <a:off x="5435640" y="260280"/>
            <a:ext cx="194472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анна Агузаро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284360" y="1267920"/>
            <a:ext cx="4475160" cy="524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а́нна Хаса́новна Агуза́рова (род. 7 июля 1962 года)   —бывшая вокалистка группы «Браво», сделавшая сольную карьеру. Родилась в посёлке Туртас Уватского района. Отец — осетин. Из-за обнаружения у Агузаровой паспорта на чужое имя в 1984 г. её помещают сначала в Бутырскую тюрьму, затем в Институт судебной психиатрии им. Сербского, где признают вменяемой, и высылают на принудительные работы в леспромхоз в Тюменской области на полтора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Жанна Агузарова.jpg"/>
          <p:cNvPicPr/>
          <p:nvPr/>
        </p:nvPicPr>
        <p:blipFill>
          <a:blip r:embed="rId1"/>
          <a:stretch/>
        </p:blipFill>
        <p:spPr>
          <a:xfrm>
            <a:off x="539640" y="1413000"/>
            <a:ext cx="3597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вва Мамон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492360" y="1413000"/>
            <a:ext cx="540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́вва Ива́нович Ма́монтов (1841, Ялуторовск — 1918, Абрамцево) — русский предприниматель и меценат. В 1870—1890 годах имение Абрамцево стало центром художественной жизни России. Здесь подолгу жили и работали русские художники (И. Е. Репин, М. М. Антокольский, В. М. Васнецов, В. А. Серов, М. А. Врубель, М. В. Нестеров, В. Д. Поленов, К. А. Коровин) и музыканты (Ф. И. Шаляпин и други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2" descr="115 лет ЗАО &quot;МЕТРОВАГОНМАШ&quot;"/>
          <p:cNvPicPr/>
          <p:nvPr/>
        </p:nvPicPr>
        <p:blipFill>
          <a:blip r:embed="rId1"/>
          <a:stretch/>
        </p:blipFill>
        <p:spPr>
          <a:xfrm>
            <a:off x="468360" y="1700280"/>
            <a:ext cx="28051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AutoShape 2">
            <a:hlinkClick r:id="rId1"/>
          </p:cNvPr>
          <p:cNvSpPr/>
          <p:nvPr/>
        </p:nvSpPr>
        <p:spPr>
          <a:xfrm>
            <a:off x="3714840" y="2857680"/>
            <a:ext cx="171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5">
            <a:hlinkClick r:id="rId2"/>
          </p:cNvPr>
          <p:cNvSpPr/>
          <p:nvPr/>
        </p:nvSpPr>
        <p:spPr>
          <a:xfrm>
            <a:off x="395280" y="3357720"/>
            <a:ext cx="81374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6" descr="Rodina_mat_zovet"/>
          <p:cNvPicPr/>
          <p:nvPr/>
        </p:nvPicPr>
        <p:blipFill>
          <a:blip r:embed="rId3"/>
          <a:stretch/>
        </p:blipFill>
        <p:spPr>
          <a:xfrm>
            <a:off x="826920" y="260280"/>
            <a:ext cx="1657440" cy="309744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7"/>
          <p:cNvSpPr/>
          <p:nvPr/>
        </p:nvSpPr>
        <p:spPr>
          <a:xfrm>
            <a:off x="2286000" y="-2319480"/>
            <a:ext cx="4572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3059280" y="0"/>
            <a:ext cx="56894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Fax"/>
              </a:rPr>
              <a:t>Николай Васильевич Никитин (15 декабря 1907, Тобольск — 3 марта 1973, Москва) — русский архитек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Fax"/>
              </a:rPr>
              <a:t>Н.В. Никитин разработал конструкции фундаментов и несущих каркасов следующих зд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Fax"/>
              </a:rPr>
              <a:t>Дворца Советов (проектная высота здания - 420 метров, до июля 1941 года был построен только фундамент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Fax"/>
              </a:rPr>
              <a:t>Здания МГУ на Ленинских (Воробьёвых) горах — главное здание высотой 240 метров на момент строительства было самым высоким зданием в Европе. Строительство шло с 1949 по 1953 г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Fax"/>
              </a:rPr>
              <a:t>Дворца культуры и науки в Варшаве — строительство которого проходило в 1952 — 1955 год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Fax"/>
              </a:rPr>
              <a:t>Центрального стадиона имени В. И. Ленина в Лужник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Fax"/>
              </a:rPr>
              <a:t>Монумента «Родина-мать зовёт!» в Волгограде — памятник высотой 85 метров и весом свыше 8 тысяч тон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Fax"/>
              </a:rPr>
              <a:t>Телевизионной башни в Останкино — строительство которой закончилось в 1967 году. Высота башни составляет 540 метров.</a:t>
            </a:r>
            <a:r>
              <a:rPr b="0" lang="en-US" sz="1800" spc="-1" strike="noStrike">
                <a:solidFill>
                  <a:srgbClr val="000000"/>
                </a:solidFill>
                <a:latin typeface="Lucida Fa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450px-TVtower_in_Ostankino"/>
          <p:cNvPicPr/>
          <p:nvPr/>
        </p:nvPicPr>
        <p:blipFill>
          <a:blip r:embed="rId4"/>
          <a:stretch/>
        </p:blipFill>
        <p:spPr>
          <a:xfrm>
            <a:off x="826920" y="3500280"/>
            <a:ext cx="1657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foto29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539640" y="476280"/>
            <a:ext cx="806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24000" y="1989000"/>
            <a:ext cx="84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́рий Алекса́ндрович Гуля́ев (9 сентября 1930, Тюмень — 1986, Москва) —певец, народный артист СССР (196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зитная карточка певца - песни «Знаете, каким он парнем был?», "Твоя нежность", "Созвездие Гагарина", «Русское поле», «На безымянной высот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уляев с огромным успехом так же пел русские народные песни «Из-за острова на стрежень» , «Вдоль по Питерской», "Метелица", "Утёс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исал ряд собственных песен, одна из которых — «Желаю Вам» (на стихи Роберта Рождественског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86_1108"/>
          <p:cNvPicPr/>
          <p:nvPr/>
        </p:nvPicPr>
        <p:blipFill>
          <a:blip r:embed="rId1"/>
          <a:stretch/>
        </p:blipFill>
        <p:spPr>
          <a:xfrm>
            <a:off x="395280" y="189000"/>
            <a:ext cx="27003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2">
            <a:hlinkClick r:id="rId1"/>
          </p:cNvPr>
          <p:cNvSpPr/>
          <p:nvPr/>
        </p:nvSpPr>
        <p:spPr>
          <a:xfrm>
            <a:off x="3714840" y="2857680"/>
            <a:ext cx="171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>
            <a:hlinkClick r:id="rId2"/>
          </p:cNvPr>
          <p:cNvSpPr/>
          <p:nvPr/>
        </p:nvSpPr>
        <p:spPr>
          <a:xfrm>
            <a:off x="395280" y="3357720"/>
            <a:ext cx="81374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2286000" y="-2319480"/>
            <a:ext cx="4572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684360" y="2781360"/>
            <a:ext cx="813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и́с Па́влович Грабо́в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та рождения: 26 мая 190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о рождения: Тобольск, Российская импе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та смерти: 196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о смерти: Фрунзе, Киргизия, СС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вестен как один из изобретателей телеви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8" descr="%D0%91%D0%BE%D1%80%D0%B8%D1%81_%D0%93%D1%80%D0%B0%D0%B1%D0%BE%D0%B2%D1%81%D0%BA%D0%B8%D0%B9_1928"/>
          <p:cNvPicPr/>
          <p:nvPr/>
        </p:nvPicPr>
        <p:blipFill>
          <a:blip r:embed="rId3"/>
          <a:stretch/>
        </p:blipFill>
        <p:spPr>
          <a:xfrm>
            <a:off x="4427640" y="260280"/>
            <a:ext cx="4105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pic_tt7_r"/>
          <p:cNvPicPr/>
          <p:nvPr/>
        </p:nvPicPr>
        <p:blipFill>
          <a:blip r:embed="rId1"/>
          <a:srcRect l="0" t="0" r="0" b="39"/>
          <a:stretch/>
        </p:blipFill>
        <p:spPr>
          <a:xfrm>
            <a:off x="324000" y="404640"/>
            <a:ext cx="2374920" cy="3311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RA8-117"/>
          <p:cNvPicPr/>
          <p:nvPr/>
        </p:nvPicPr>
        <p:blipFill>
          <a:blip r:embed="rId2"/>
          <a:stretch/>
        </p:blipFill>
        <p:spPr>
          <a:xfrm>
            <a:off x="5940360" y="260280"/>
            <a:ext cx="2521080" cy="352764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539640" y="3892680"/>
            <a:ext cx="828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иго́рий Ефи́мович Распу́тин  ( 1869 — 1916 гг.) — крестьянин села Покровское. Приобрёл всемирную известность благодаря своей близости к семье последнего российского императора Николая II. Имел репутацию «старца», прозорливца и целителя; по мнению некоторых современников, играл значительную роль в принятии кадровых и политических решений императ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i"/>
          <p:cNvPicPr/>
          <p:nvPr/>
        </p:nvPicPr>
        <p:blipFill>
          <a:blip r:embed="rId3"/>
          <a:stretch/>
        </p:blipFill>
        <p:spPr>
          <a:xfrm>
            <a:off x="3780000" y="549360"/>
            <a:ext cx="13334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род на полярном кру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Мойдан - Страница 452 - Dirt.ru - горный велосипед"/>
          <p:cNvPicPr/>
          <p:nvPr/>
        </p:nvPicPr>
        <p:blipFill>
          <a:blip r:embed="rId1"/>
          <a:stretch/>
        </p:blipFill>
        <p:spPr>
          <a:xfrm>
            <a:off x="2050920" y="1268280"/>
            <a:ext cx="4537080" cy="3403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08200" y="4941720"/>
            <a:ext cx="815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од был основан в 1595 году русскими казаками под именем Обдор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ственный город в мире, находящийся непосредственно на Полярном круге. Полярный день в Салехарде наблюдается месяц, с 7 июня по 7 июля, 31 сутки в году, верхний край солнца не опускается под горизонт. В Салехарде есть один из самых северных пляжей мира Температурный максимум- 33 градуса в ию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68360" y="54936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397px-Tyumen-elmarreich02"/>
          <p:cNvPicPr/>
          <p:nvPr/>
        </p:nvPicPr>
        <p:blipFill>
          <a:blip r:embed="rId1"/>
          <a:stretch/>
        </p:blipFill>
        <p:spPr>
          <a:xfrm>
            <a:off x="2681280" y="571680"/>
            <a:ext cx="3781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68360" y="54936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Безымянный"/>
          <p:cNvPicPr/>
          <p:nvPr/>
        </p:nvPicPr>
        <p:blipFill>
          <a:blip r:embed="rId1"/>
          <a:stretch/>
        </p:blipFill>
        <p:spPr>
          <a:xfrm>
            <a:off x="684360" y="1052640"/>
            <a:ext cx="7920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68360" y="54936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23d903de3228"/>
          <p:cNvPicPr/>
          <p:nvPr/>
        </p:nvPicPr>
        <p:blipFill>
          <a:blip r:embed="rId1"/>
          <a:stretch/>
        </p:blipFill>
        <p:spPr>
          <a:xfrm>
            <a:off x="826920" y="549360"/>
            <a:ext cx="74170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468360" y="54936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FF735001_60"/>
          <p:cNvPicPr/>
          <p:nvPr/>
        </p:nvPicPr>
        <p:blipFill>
          <a:blip r:embed="rId1"/>
          <a:stretch/>
        </p:blipFill>
        <p:spPr>
          <a:xfrm>
            <a:off x="2195640" y="476280"/>
            <a:ext cx="4608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468360" y="54936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c0dcdc7d481e"/>
          <p:cNvPicPr/>
          <p:nvPr/>
        </p:nvPicPr>
        <p:blipFill>
          <a:blip r:embed="rId1"/>
          <a:stretch/>
        </p:blipFill>
        <p:spPr>
          <a:xfrm>
            <a:off x="684360" y="620640"/>
            <a:ext cx="7632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просник по истории Тюме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рб Тюмени был утверждён Екатериной  Второй в 1785 году. В верхней части щита находится символика Тобольска - воинская арматура, знамена, барабаны, алебарды; в нижней - символика Тюмени - золотой дощаник в знак того, что «от сего города начинается плавание по рекам всей Сибири». А что такое дощаник?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щаник - большая плоскодонная лодка, на которой можно перевести много гру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близи, какого села и в каком году в Сибири забил первый нефтяной фонтан?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вый нефтяной фонтан ударил в июне 1960 года вблизи села Ша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63 году в Тюмени были созданы два новых института. Назовите их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1963 году в Тюмени были созданы два института – медицинский (ныне академия) и индустриальный (ныне нефтегазовый университ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ких годах семья Романовых находилась под арестом  в г. Тобольске?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1917-1918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указу, какого царя началось Строительство Тюме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овите выдающихся людей в истории России из Тюменской области (ученого, композитора, сказочника, артиста, певца, писателя, художника, политического деятеля, геолога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первые люди стали селиться в Западной Сибири?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5-20 тысяч лет назад в конце древнекаменного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686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племена заселили территорию Тюменской област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? племена ханты и манси (вогулы), ненцы (самоеды), селькупы (остяки). В конце первого тысячелетия н.э. на юге Тюменской области появляются тюркские племена, которые позднее сформировались в этническую общность - сибирские тата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был организатором похода отряда Ермака в Сибирь?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альские купцы и промышленники Строганов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1582 г. казаки начали поход против Сибирского ханства. 23 октября 1582 г. произошло решающее сражение с Кучумовскими войсками. В битве у Чувашского мыса ханские силы были разгромлены. Четыре года продолжался поход казаков в Сиби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у было поручено строительство города Тюмени?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В 1586 г. воеводами В. Сукиным и И. Мясным на р. Туре начато строительство острога, который впоследствии стал первым русским городом в Сибири - Тюме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каком городе был построен единственный в азиатской части страны Кремл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начала XVII в. на территорию Тюменской области высылают "государственных" преступников. А кто был первым сибирским ссыльны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? Угличской колок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кие два великих пути проходят через город Тюмен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честь какого революционного деятеля названа улица Пермяко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ем своеобразие национально-государственного устройства Тюменской области?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1930 г. на Обском Севере было образовано два национальных округа - Остяко-Вогульский и Ямало-Ненец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ая в стране область самая большая по территори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ходит ли по территории области граница между Европой и Ази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 тюменские коты связаны с историей Эрмитажа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феврале 1944 года тюменская милиция в течение двух недель собирала по городу котов и кошек для отправки в Эрмитаж (г. Ленинград), где за время блокады развелось множество грызунов, представлявших угрозу для произведений искусства. 238 «усатых стражей» было отправлено в северную столицу, где они дали начало новой популяции ленинградских кош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 связаны глава администрации города Тюмени и лорд-канцлер, хранитель печати Англии во времена Генриха VIII? Моор Александр Викторович и Томас Мор (1478, Лондон — 1535, Лондон) — английский юрист, лорд-канцлер, мыслитель, писатель, гуманист, святой Католической церк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 чьем памятнике написано – «от благодарной Тюмени»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амятник Раулю-Юрию Георгиевичу Эрвье — первооткрывателю тюменской неф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мый известный выпускники тюменского ПТУ №7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ерои Социалистического Труда С.Н. Урусов, Н.Д. Глеб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Салехард &quot; Города России &quot; Мир России. Достопримечательности городов России. История городов России. Регионы России"/>
          <p:cNvPicPr/>
          <p:nvPr/>
        </p:nvPicPr>
        <p:blipFill>
          <a:blip r:embed="rId1"/>
          <a:stretch/>
        </p:blipFill>
        <p:spPr>
          <a:xfrm>
            <a:off x="250920" y="189000"/>
            <a:ext cx="4248000" cy="3151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Проходной балл 2014 салехард на карте россии Поступаем вмест…"/>
          <p:cNvPicPr/>
          <p:nvPr/>
        </p:nvPicPr>
        <p:blipFill>
          <a:blip r:embed="rId2"/>
          <a:stretch/>
        </p:blipFill>
        <p:spPr>
          <a:xfrm>
            <a:off x="4140360" y="3429000"/>
            <a:ext cx="4703760" cy="3124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Прибыль ОАО &quot;Аэропорт Салехард&quot; выросла на 13,81% - Рамблер-Новости"/>
          <p:cNvPicPr/>
          <p:nvPr/>
        </p:nvPicPr>
        <p:blipFill>
          <a:blip r:embed="rId3"/>
          <a:stretch/>
        </p:blipFill>
        <p:spPr>
          <a:xfrm>
            <a:off x="4788000" y="115920"/>
            <a:ext cx="3984480" cy="2992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Салехард : Фото : Накануне.RU"/>
          <p:cNvPicPr/>
          <p:nvPr/>
        </p:nvPicPr>
        <p:blipFill>
          <a:blip r:embed="rId4"/>
          <a:stretch/>
        </p:blipFill>
        <p:spPr>
          <a:xfrm>
            <a:off x="179280" y="3500280"/>
            <a:ext cx="38512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1:39:16Z</dcterms:created>
  <dc:creator>Макаров Андрей Дмитриевич</dc:creator>
  <dc:description/>
  <dc:language>en-US</dc:language>
  <cp:lastModifiedBy>User</cp:lastModifiedBy>
  <dcterms:modified xsi:type="dcterms:W3CDTF">2015-07-09T09:48:52Z</dcterms:modified>
  <cp:revision>21</cp:revision>
  <dc:subject/>
  <dc:title>Тюменская облас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430000000000010250300207f7000400038000</vt:lpwstr>
  </property>
</Properties>
</file>