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C5A-EABA-43D7-AE4B-70CB8B95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76C-A2D8-4BA6-8D70-41C1CE9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638-9A05-4A19-92A8-ADA154D3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4F4-F18E-4B2B-8636-792BCB8D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99B-ACA9-441E-9153-9609260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56A-BE56-4DE9-AB26-3A6B03E3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29E-7A5C-4146-B194-F8EEE895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E61-00F2-433F-AC5C-5F30DBF0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49F-F6A1-4B4D-A008-810B30AE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9AD-84B3-4908-96F7-252AEB5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086-E815-4AE3-B25E-BC23728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C18-F2B0-4ED2-88E5-1F935A8B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BE0-A116-45EC-9F65-08C0C55E0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8d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7" descr=""/>
          <p:cNvPicPr/>
          <p:nvPr/>
        </p:nvPicPr>
        <p:blipFill>
          <a:blip r:embed="rId2"/>
          <a:stretch/>
        </p:blipFill>
        <p:spPr>
          <a:xfrm>
            <a:off x="500040" y="1017720"/>
            <a:ext cx="8229600" cy="36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500040" y="13572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амая  высокая  точка  заповедника  располагается  на  отрогах  цепи  сопок,  называемой Лакурским  хребтом, - 533  м над уровнем моря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ая  по  высоте  вершина – места  Тунгусской  катастрофы.  Её  абсолютная  высота – 521,8  м  над уровнем мор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пь  сопок  на кимчу  прорезана  долиной  ручья  Чургим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ующего  эффектный водопад  высотой  10 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2786040" y="109440"/>
            <a:ext cx="5870520" cy="13176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1214280" y="1143000"/>
            <a:ext cx="792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оведник расположен на южной границе распространения островной вечной мерзл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йон относится к области высокой континентальности  климата с характерными для нее большими амплитудами суточных и сезонных температур воздуха и почвы, малым количеством атмосферных осадков, преимущественно летних, и отчетливо выраженными периодами летней засу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егодовая температура воздуха на территории заповедника минус 6°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928800" y="207180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гетационный период длится 110—120 дней. Единственный безморозный месяц года — июль, и хотя средняя его температура 16°, днем в хорошую погоду она может подниматься до 30° 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имой температура достигает минус 55-58°. Количество дней с отрицательной температурой — 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6145200" y="255600"/>
            <a:ext cx="2754360" cy="1317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1714680" y="3214800"/>
            <a:ext cx="65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а занимают около 70 % площади заповедника. Болота занимают 15—20 %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660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428840" y="242892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ительный покров района образован, в первую очередь, лесами, а также заболоченными кустарниковыми сообществами и редколесьями, болотами, лугами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лохвойные леса в районе падения метеорита образованы сосной, лиственницей Гмелина и, в меньшей степени, лиственницей сибирской. Изредка в районе встречаются темнохвойные леса, состоящие из ели и ке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215040" y="571680"/>
            <a:ext cx="2792520" cy="1857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0" y="1071720"/>
            <a:ext cx="628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и обитания многих видов животных ограничены резко континентальным климатом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обитают соболь и горностай, лось и северный олень, медведь, лисица, росомах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водоплавающих птиц обычны чернеть хохлатая, гоголь, крохаль больш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сухопутных птиц встречаются кукша, рябчик, глухарь, тете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3643200" y="214200"/>
            <a:ext cx="5072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ПОВЕДНИКУ «ТУНГУССКИЙ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лся еще на Земле угол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шумных дорог вдалек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ерное, все, что на сердце сберег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отдал тунгусской тайг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десь столько ходил я тайгою без троп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нелегких маршрутах своих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десь воду студеную пил я взахлеб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речек прозрачных твои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ни, Заповедник, таежный народ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ю его в каждой строке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тех, кто летает, и тех, кто плыве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тех, кто бредет по тайге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лся еще на Земле уголо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шумных дорог вдалеке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ерное, все, что на сердце сберег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отдал тунгусской тайг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8720" y="221472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ников Виктор Мои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184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1214280" y="116676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для территории отмечено 145 видов птиц. По предварительным данным, в заповеднике и прилежащей части Подкаменной Тунгуски встречается более 30 видов ры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у же ихтиофауны составляет немногим больше десятка видов: ленок, тугун, хариус, щука, плотва, елец, язь, гольян озёрный, карась серебряный, налим, окунь, ёр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животных обычны лось, бурый медведь, соболь, глухарь, барсук, ры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71680" y="1000080"/>
            <a:ext cx="814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  МАРШРУТ  № 1   -   ПЕШИЙ.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По тропе Кулика  от с.Ванавара  до места падения метеорит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тяженность  87  км. ( в одну сторону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ршрут рассчитан на физически подготовленную группу, на 14 дн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тимальный период посещения – июнь -  первая половина сентяб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642960" y="35719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  МАРШРУТ  № 2   -   СМЕШАННЫЙ.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броска до кордона "Пристань" на вертолете МИ-8  (25 мин), далее пешком в "Эпицентр взрыва" (7 км.).  Возвращение в с.Ванавара  пешком до кордона Выезд (47 км), далее сплав на моторных лодках шитик по рекам Подкаменная Тунгуска, Чамба (77 км)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тяженность маршрута  47 км. пешком; 77 км. по вод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 группы:   5 – 10  челове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тимальный период посещения  июнь – ию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785880" y="642960"/>
            <a:ext cx="8072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оведник "Тунгусский" является природоохранной территорией федерального значения, где его сотрудниками осуществляются следующие  задачи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 осуществление охраны природных территорий в целях сохранения биологического разнообразия и поддержания в естественном состоянии охраняемых природных комплексов и объектов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организация и проведение научных исследований, включая ведение  Летописи природы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осуществление экологического мониторинга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экологическое просвещение населения, природоохранные акции, организация экологических лагерей, экологический туризм)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участие в государственной экологической экспертизе проектов и схем размещения хозяйственных и и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59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99720" y="2286000"/>
            <a:ext cx="764388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унгу́сский запове́дни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находится в центральной части Средне-Сибирского плоскогорья на территории Тунгусско-Чунского района Эвенкийского автономного округа (сегодня — Красноярский край). Заповедник был создан Постановлением Правительства РФ от 9 октября 1995 го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ая площадь заповедника 296 562 га. Площадь охранной зоны 20 241 га. Самая высокая точка заповедника располагается на отрогах цепи сопок, называемой Лакурским хребтом — 533 м над у. 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57200" y="-921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571680" y="1643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рия создания государственного природного заповедника "Тунгусский" неразрывно связана с историей изучения замечательного и до сих пор ещё до конца не расшифрованного природного явления, случившегося 30 июня 1908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этот день в междуречье Подкаменной Тунгуски и её правого притока Чуни (Южная Эвенкия), в 70 километрах к северо-западу от посёлка Ванавара произошёл сверхмощный взрыв (10-40 мегатонн) грандиозный взрыв космического объекта неустановленной природы, известного под названием "Тунгусский метеори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428840" y="307188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заповедания этого района стала особенно очевидной  в начале 70-х годов, когда возникла реальная угроза нарушения местных биоценозов вследствие широкомасштабных геологоразведочных работ, поисков нефти и газа, неограниченного ту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71760" y="15717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я сохранения района Тунгусского феномена для будущих поколений принадлежит Л.А. Кул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42920" y="142920"/>
            <a:ext cx="1285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0 июня 1908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этот день в междуречье Подкаменной Тунгуски и её правого притока Чуни (Южная Эвенкия), в 70 километрах к северо-западу от посёлка Ванавара произошёл сверхмощный взрыв (10-40 мегатонн) грандиозный взрыв космического объекта неустановленной природы, известного под названием "Тунгусский метеорит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642960" y="1714680"/>
            <a:ext cx="8072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же падения  Тунгусского метеорита началось только в 1927 году, когда была организована Академией наук специальная экспедиция под руководством Л.А.Ку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а экспедиция проложила путь к месту взрыва через глухую тайгу, где её участникам предстала грандиозная картина разрушений в тайге, и был найден центр лесного взры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785880" y="1857240"/>
            <a:ext cx="7929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временный  рельеф  заповедника  являетс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арактерным  для  междуречья  Подкаменной Тунгуски  и  её  самым  крупным  притоком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уни и  представляет  собой  невысокое  плато, сложенное  с  поверхности  рыхлыми  четвертичныминаносами  и  расчленённое  глубоко врезанными долинами рек    на  отдельные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огда  хребтообразно  удлинённые  плоские междуречь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3:10:32Z</dcterms:created>
  <dc:creator>Admin</dc:creator>
  <dc:description/>
  <dc:language>en-US</dc:language>
  <cp:lastModifiedBy>Грибан</cp:lastModifiedBy>
  <dcterms:modified xsi:type="dcterms:W3CDTF">2012-01-16T06:07:50Z</dcterms:modified>
  <cp:revision>23</cp:revision>
  <dc:subject/>
  <dc:title>   Тунгусский Заповедник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50300207f7000400038000</vt:lpwstr>
  </property>
</Properties>
</file>