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44B-99E4-4B71-A695-8BEC0782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B43-B69E-4633-92C2-B89F0486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279-530D-444E-9DDF-45A0A4F0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C3D-120E-422C-8A21-618A14A6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7F1-23C7-46FE-9F4A-616D0E0B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4F5-FB62-4153-BD6B-3C989333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910-2072-4908-BD88-6EF1FE3C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F54-C24E-41FD-A703-7CA94F86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ABF-0800-410C-92A4-65BB6546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647-29AC-411B-83CE-81DC25F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561-D1E0-488A-98B0-2D932B02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91D-1E99-46BF-9818-016E9797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3861-89A8-4C3A-B8E0-4B15071905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8d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7" descr=""/>
          <p:cNvPicPr/>
          <p:nvPr/>
        </p:nvPicPr>
        <p:blipFill>
          <a:blip r:embed="rId2"/>
          <a:stretch/>
        </p:blipFill>
        <p:spPr>
          <a:xfrm>
            <a:off x="500040" y="1017720"/>
            <a:ext cx="8229600" cy="36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500040" y="135720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амая  высокая  точка  заповедника  располагается  на  отрогах  цепи  сопок,  называемой Лакурским  хребтом, - 533  м над уровнем моря.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ая  по  высоте  вершина – места  Тунгусской  катастрофы.  Её  абсолютная  высота – 521,8  м  над уровнем мор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пь  сопок  на кимчу  прорезана  долиной  ручья  Чургим,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ующего  эффектный водопад  высотой  10 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Заголовок 1" descr=""/>
          <p:cNvPicPr/>
          <p:nvPr/>
        </p:nvPicPr>
        <p:blipFill>
          <a:blip r:embed="rId2"/>
          <a:stretch/>
        </p:blipFill>
        <p:spPr>
          <a:xfrm>
            <a:off x="2786040" y="109440"/>
            <a:ext cx="5870520" cy="13176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1214280" y="1143000"/>
            <a:ext cx="792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поведник расположен на южной границе распространения островной вечной мерзл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йон относится к области высокой континентальности  климата с характерными для нее большими амплитудами суточных и сезонных температур воздуха и почвы, малым количеством атмосферных осадков, преимущественно летних, и отчетливо выраженными периодами летней засу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егодовая температура воздуха на территории заповедника минус 6°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928800" y="2071800"/>
            <a:ext cx="7643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гетационный период длится 110—120 дней. Единственный безморозный месяц года — июль, и хотя средняя его температура 16°, днем в хорошую погоду она может подниматься до 30° и в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имой температура достигает минус 55-58°. Количество дней с отрицательной температурой — 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1" descr=""/>
          <p:cNvPicPr/>
          <p:nvPr/>
        </p:nvPicPr>
        <p:blipFill>
          <a:blip r:embed="rId2"/>
          <a:stretch/>
        </p:blipFill>
        <p:spPr>
          <a:xfrm>
            <a:off x="6145200" y="255600"/>
            <a:ext cx="2754360" cy="13176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1714680" y="3214800"/>
            <a:ext cx="65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а занимают около 70 % площади заповедника. Болота занимают 15—20 %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660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428840" y="2428920"/>
            <a:ext cx="75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ительный покров района образован, в первую очередь, лесами, а также заболоченными кустарниковыми сообществами и редколесьями, болотами, лугами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лохвойные леса в районе падения метеорита образованы сосной, лиственницей Гмелина и, в меньшей степени, лиственницей сибирской. Изредка в районе встречаются темнохвойные леса, состоящие из ели и ке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215040" y="571680"/>
            <a:ext cx="2792520" cy="18572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0" y="1071720"/>
            <a:ext cx="6286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сти обитания многих видов животных ограничены резко континентальным климатом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обитают соболь и горностай, лось и северный олень, медведь, лисица, росомаха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водоплавающих птиц обычны чернеть хохлатая, гоголь, крохаль больш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сухопутных птиц встречаются кукша, рябчик, глухарь, тетер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28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4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3643200" y="214200"/>
            <a:ext cx="5072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ПОВЕДНИКУ «ТУНГУССКИЙ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тался еще на Земле уголо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шумных дорог вдалек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верное, все, что на сердце сберег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отдал тунгусской тайг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десь столько ходил я тайгою без троп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нелегких маршрутах своих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десь воду студеную пил я взахлеб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 речек прозрачных твоих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рани, Заповедник, таежный народ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ю его в каждой строке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тех, кто летает, и тех, кто плыве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тех, кто бредет по тайге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тался еще на Земле уголок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шумных дорог вдалеке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верное, все, что на сердце сберег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отдал тунгусской тайг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18720" y="221472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ников Виктор Мои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2184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"/>
          <p:cNvSpPr/>
          <p:nvPr/>
        </p:nvSpPr>
        <p:spPr>
          <a:xfrm>
            <a:off x="1214280" y="1166760"/>
            <a:ext cx="764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астоящее время для территории отмечено 145 видов птиц. По предварительным данным, в заповеднике и прилежащей части Подкаменной Тунгуски встречается более 30 видов ры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у же ихтиофауны составляет немногим больше десятка видов: ленок, тугун, хариус, щука, плотва, елец, язь, гольян озёрный, карась серебряный, налим, окунь, ёр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животных обычны лось, бурый медведь, соболь, глухарь, барсук, ры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571680" y="1000080"/>
            <a:ext cx="81435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  МАРШРУТ  № 1   -   ПЕШИЙ. 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По тропе Кулика  от с.Ванавара  до места падения метеорит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тяженность  87  км. ( в одну сторону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ршрут рассчитан на физически подготовленную группу, на 14 дн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тимальный период посещения – июнь -  первая половина сентяб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642960" y="3571920"/>
            <a:ext cx="85010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  МАРШРУТ  № 2   -   СМЕШАННЫЙ. 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броска до кордона "Пристань" на вертолете МИ-8  (25 мин), далее пешком в "Эпицентр взрыва" (7 км.).  Возвращение в с.Ванавара  пешком до кордона Выезд (47 км), далее сплав на моторных лодках шитик по рекам Подкаменная Тунгуска, Чамба (77 км)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тяженность маршрута  47 км. пешком; 77 км. по вод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 группы:   5 – 10  челове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тимальный период посещения  июнь – ию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785880" y="642960"/>
            <a:ext cx="8072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поведник "Тунгусский" является природоохранной территорией федерального значения, где его сотрудниками осуществляются следующие  задачи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 осуществление охраны природных территорий в целях сохранения биологического разнообразия и поддержания в естественном состоянии охраняемых природных комплексов и объектов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организация и проведение научных исследований, включая ведение  Летописи природы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осуществление экологического мониторинга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экологическое просвещение населения, природоохранные акции, организация экологических лагерей, экологический туризм)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участие в государственной экологической экспертизе проектов и схем размещения хозяйственных и и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6598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999720" y="2286000"/>
            <a:ext cx="764388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унгу́сский запове́дник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находится в центральной части Средне-Сибирского плоскогорья на территории Тунгусско-Чунского района Эвенкийского автономного округа (сегодня — Красноярский край). Заповедник был создан Постановлением Правительства РФ от 9 октября 1995 го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ая площадь заповедника 296 562 га. Площадь охранной зоны 20 241 га. Самая высокая точка заповедника располагается на отрогах цепи сопок, называемой Лакурским хребтом — 533 м над у. 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57200" y="-9216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571680" y="1643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тория создания государственного природного заповедника "Тунгусский" неразрывно связана с историей изучения замечательного и до сих пор ещё до конца не расшифрованного природного явления, случившегося 30 июня 1908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этот день в междуречье Подкаменной Тунгуски и её правого притока Чуни (Южная Эвенкия), в 70 километрах к северо-западу от посёлка Ванавара произошёл сверхмощный взрыв (10-40 мегатонн) грандиозный взрыв космического объекта неустановленной природы, известного под названием "Тунгусский метеорит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428840" y="307188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обходимость заповедания этого района стала особенно очевидной  в начале 70-х годов, когда возникла реальная угроза нарушения местных биоценозов вследствие широкомасштабных геологоразведочных работ, поисков нефти и газа, неограниченного ту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1571760" y="157176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дея сохранения района Тунгусского феномена для будущих поколений принадлежит Л.А. Кул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142920" y="142920"/>
            <a:ext cx="1285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500040" y="164304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0 июня 1908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этот день в междуречье Подкаменной Тунгуски и её правого притока Чуни (Южная Эвенкия), в 70 километрах к северо-западу от посёлка Ванавара произошёл сверхмощный взрыв (10-40 мегатонн) грандиозный взрыв космического объекта неустановленной природы, известного под названием "Тунгусский метеорит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642960" y="1714680"/>
            <a:ext cx="8072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следование же падения  Тунгусского метеорита началось только в 1927 году, когда была организована Академией наук специальная экспедиция под руководством Л.А.Ку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а экспедиция проложила путь к месту взрыва через глухую тайгу, где её участникам предстала грандиозная картина разрушений в тайге, и был найден центр лесного взры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785880" y="1857240"/>
            <a:ext cx="7929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временный  рельеф  заповедника  являетс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арактерным  для  междуречья  Подкаменной Тунгуски  и  её  самым  крупным  притоком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уни и  представляет  собой  невысокое  плато, сложенное  с  поверхности  рыхлыми  четвертичныминаносами  и  расчленённое  глубоко врезанными долинами рек    на  отдельные,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огда  хребтообразно  удлинённые  плоские междуречь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3:10:32Z</dcterms:created>
  <dc:creator>Admin</dc:creator>
  <dc:description/>
  <dc:language>en-US</dc:language>
  <cp:lastModifiedBy>Грибан</cp:lastModifiedBy>
  <dcterms:modified xsi:type="dcterms:W3CDTF">2012-01-16T06:07:50Z</dcterms:modified>
  <cp:revision>23</cp:revision>
  <dc:subject/>
  <dc:title>   Тунгусский Заповедник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280000000000010250300207f7000400038000</vt:lpwstr>
  </property>
</Properties>
</file>