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FB4-3E95-41B7-86BB-8E94BDA6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2F2-4596-4331-8E5C-A5FB1BAE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64039-2823-481B-A60E-E810D43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574E9-D901-4139-A29B-9E6DD17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0C6A5-888D-4F67-B1C3-2A0F052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076B1-2552-4DED-84A2-62512AE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8888-6A7D-48C6-82CA-E8F10FE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BB930-12B4-4457-AD5C-B5073A8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B212F-A27A-4B84-A65B-BF5F19EC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6322D-C7ED-43C8-9831-58EF2291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F1114-2607-4163-8390-C421911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AAE4-5D67-4EA5-894F-95A07CE6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BEB-DA9D-4BFE-95C2-6F26DDA8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3B3A6-2983-43D8-BB9C-B9346A5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4FEF0-8FFB-4389-BA36-236FF38C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02D63-CEB3-47D9-9B72-3D168A05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8130A-FF7F-405D-85F7-82AED62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D8E09-EDB7-40BC-8209-4318CB1C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B9557-2200-47E7-A7D2-A59F7F7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EBA68-809D-4BCF-8CD9-CAB8EE2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22E2-E9FB-4FFA-8D03-F0E3CDF8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F104F-0A52-4A3D-85AF-F7C362C8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48F72-DF41-490A-8979-2DD0CF90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D3-9766-4728-AA08-6DF6FFB9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281DF-C98F-4722-B435-0BE2E68B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3A832-371C-4931-A00F-805509D4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C9E36-5982-40A1-8507-7E608F6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244A-366F-4389-9F8C-A47E7FE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99BA8-35F2-4B53-8BB2-F81309A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8D4E-3A0A-4AD3-ADE7-41310D7D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86012-77ED-450E-90D2-2C99E9DD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B40D-07D9-4368-A28C-733ADE8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618D-832C-40FF-8372-5D84C47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F322C-B932-4383-B659-C5C5D7F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5ECE-856A-4261-BBF1-2E9C07D9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594FD-348B-47CA-9B80-1E8B1F2A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6BB2-9C30-43F1-AECF-2EC70761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A182-14FD-4A3C-9BD1-CF82890A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2E58B-67DE-41E0-AB8A-002CCADB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FDBB2-571E-430B-94B3-8C05171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F4408-5B3C-481C-A669-E8B4455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2A8F4-44C4-4018-97D3-43DCE9AE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97F19-7A84-49D9-8544-D476E87E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4B05E-906E-41C2-82AA-0C2A04CF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16541-D3FB-4612-8EB2-1C48E03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900-3526-4483-9F46-0D5ECB53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32065-0828-45A6-84AE-FE5A538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89E9C-BA32-474D-A2BD-A495327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C6677-5BD3-40BE-A87B-3F5AFE6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1A355-ED48-46D3-B2FC-62555D4E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52936-3442-4938-95D2-72FF2E4E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1F8B-CF45-4716-A0BB-968D648C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EFD2-5E6D-4B54-A692-4E40463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C47D-6897-4B76-A484-A124DDA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175D-C925-416F-B026-CCBDB182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C22-D4D0-43F3-8B16-B9758D96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242-1161-442A-A2C2-95866204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5012-2DFD-4DE4-ADB5-CAC9858C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4740-946B-4E6E-B972-A9440B1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3551-7B42-4783-B421-BEC3BC7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2C2-6002-4DAC-9ED7-EF9F8962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EF1-D6F7-4E30-9FB2-97BA6227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A3B5-FA1E-4715-8802-9A5C7C0B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0F6D-DD5D-4CF4-A7DF-3820DF94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3CB0-0ACE-4554-937D-D986C34B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A0F3-6D34-47F8-9F0D-DA8DA70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B442-3CF4-4EC0-A0A2-22D9B717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789-BDB7-47BA-BC17-957EBB6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F132-B7B5-4353-8487-384B3E7E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1D0B-D210-4F0E-AEF8-C9055189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5B8D-82A0-4CE0-A7D2-EB8E441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3147-88AF-453D-A514-E0B214B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CA21-1DE3-427A-9F67-9E4584EC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B203-165B-4B58-8FCE-E4B290C7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5EE1-26C0-4F86-9327-A5C6B1B1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2487A-6752-4FBA-909D-C8669B57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7CB2D-D5FA-4CEC-B9D4-18028BC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BC57B-ED70-472D-970B-E6B1C54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26C-C433-4704-A2A6-2AA3B338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78565-4C62-4A1D-BAEA-B3191C3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A690D-5E65-41E9-9797-D79B6395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ACA2C-8B34-4D03-BFB8-01BCD5E5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EF43A-2CF5-4E95-BE05-27A6B918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412E6-C2CC-4470-B373-8246A28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2F41D-369B-4D0A-BE8D-08F569A9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CAF21-C674-4B83-AA62-0781301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5A678-1B1B-4EC5-B24D-E736DC77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A1365-45F6-4535-BDA9-FD60F6B9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FB06-9231-4D3B-9654-491D813F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08D-BAF1-4ADF-9F43-B1DD15E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6CB8B-DF2E-4421-A2D8-44E78A7D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B345-96B3-4F5B-AA84-5F8C17E2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8689-35E2-49DC-A005-9FE95CE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3146-50B1-47AD-90E6-B614655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99CBA-A124-4C85-8C95-7A66142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85464-5965-47F0-86F3-A99EFFC6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AA87-A673-40AF-A161-33CC3A0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AA337-9828-452C-B7B6-7911CF0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046CF-791A-47CA-8912-EC4EDF9A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44CC6-30DD-44CD-BA62-35CAE454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F8E-F3B2-4C87-8539-D45A411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87A8-0116-4762-9C3E-B941E3A5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F086-9F37-4D19-804F-A5CDDE99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F601B-3D60-4900-9CCC-E32534E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C2EF-F31B-428E-BF8B-718B49CE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EAFBE-37DA-4E42-886C-4760379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953E-7783-4483-A9B0-13116A3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E4A2-10AD-4A28-BB0A-FFCB5ED7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D0D1-C3D1-42D2-82D8-550AFED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CBCB-486A-4F69-A8BC-FD0EA3D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1F58-5E74-4524-913F-ECBBF50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D71-059F-4E4A-87B3-42DDA76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CC31F-511A-4AF1-AFF2-C7FB728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8C8C-2B86-43D7-BF87-762636E8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EC640-89D0-484B-8482-7AD343FF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907F4-B438-45B7-9C82-4507900B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9971-9DCB-4014-847E-963518D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A319D-CD96-4F7F-AA73-7992E0DD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E1191-3B94-4508-8480-BF58BE43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67F62-2C9A-4C07-8938-DA077BD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E9FD-69BC-4B02-B027-34994339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3092-CDBE-4662-AA06-262F3090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E81-857A-4009-88AA-07E6D8F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E3F9F-F709-4ED9-B1B7-FC70329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F991-92DD-4583-92D1-37D38B1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15681-BB04-49E3-BAB6-04ED392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094B-0937-4D4E-9A29-2A72809B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EA2A-7205-4F8C-87F9-DA181E28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1B32-1EB3-4250-9494-D124CD83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62920-89D9-4F45-9833-53EC1301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4F04-863D-4F27-9CAF-99F465C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1D74-E05E-4117-8290-475D92DC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22E6-7E61-4F05-B7D3-11B8B15D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3AB-2965-48A5-9766-B766212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46B0D-0767-4635-85F7-8667129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39FA-5694-4D3B-A3D0-1AE2BA4D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62888-CF7F-4CCC-AAC4-FE1F140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A0ED-AA79-4837-B303-956F0B2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CA4A-E0C6-4579-92BB-4784506B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91B6E-59C8-4115-A156-BAE0059E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0632E-8F82-4296-A6C2-9E163F05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F8EC6-C750-479D-8419-71B8F2BD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94A93-3448-4EAC-9CF8-64D84EC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85919-029F-488B-965D-6504C255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6522-1CF0-4E2C-9F45-0A45FFA56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2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99C5-F6E9-425E-BEDA-3CE7D2A946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B8D-C492-4659-A135-94C0D2D36D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6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9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D00-98C5-42D0-82D9-AEBEC4BE078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F9D-401D-4984-A1A7-001407863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107-817B-424B-9FF0-93273B2A3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8EB-DD45-40E0-AC4B-780CC6B9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C163-467F-446C-8894-546A1C621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0C4-7D59-4A3C-9C35-B66A2B19E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476-4D81-4973-B3BD-0C66109056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32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35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FCAF-995A-437D-A912-7304506409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AA35-BF36-4648-A5DC-557A2A6F47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teoweb.ru/" TargetMode="External"/><Relationship Id="rId2" Type="http://schemas.openxmlformats.org/officeDocument/2006/relationships/hyperlink" Target="http://www.meteoweb.ru/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hyperlink" Target="http://www.yandex.ru/" TargetMode="External"/><Relationship Id="rId5" Type="http://schemas.openxmlformats.org/officeDocument/2006/relationships/hyperlink" Target="http://www.google.com.ru/" TargetMode="External"/><Relationship Id="rId6" Type="http://schemas.openxmlformats.org/officeDocument/2006/relationships/hyperlink" Target="http://www.google.com.ru/" TargetMode="External"/><Relationship Id="rId7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Tahoma"/>
              </a:rPr>
              <a:t>ТУМ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ич Евг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омина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-10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Пят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После захода солнца нагретая за день земля остывает быстрее, чем воздух. Приповерхностные слои воздуха оказываются теплее; они начинают отдавать теплоту земле и, как следствие, охлаждаются. Возникает вечерний тум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50036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еобходимые для образования тумана услов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846720" y="3031920"/>
            <a:ext cx="7450560" cy="1390680"/>
            <a:chOff x="846720" y="3031920"/>
            <a:chExt cx="7450560" cy="1390680"/>
          </a:xfrm>
        </p:grpSpPr>
        <p:cxnSp>
          <p:nvCxnSpPr>
            <p:cNvPr id="696" name="_s101388"/>
            <p:cNvCxnSpPr>
              <a:stCxn id="697" idx="0"/>
              <a:endCxn id="698" idx="2"/>
            </p:cNvCxnSpPr>
            <p:nvPr/>
          </p:nvCxnSpPr>
          <p:spPr>
            <a:xfrm flipV="1" rot="16200000">
              <a:off x="5723280" y="2333520"/>
              <a:ext cx="229320" cy="2532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9" name="_s101387"/>
            <p:cNvCxnSpPr>
              <a:stCxn id="700" idx="0"/>
              <a:endCxn id="698" idx="2"/>
            </p:cNvCxnSpPr>
            <p:nvPr/>
          </p:nvCxnSpPr>
          <p:spPr>
            <a:xfrm flipV="1">
              <a:off x="4572000" y="348516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101386"/>
            <p:cNvCxnSpPr>
              <a:stCxn id="702" idx="0"/>
              <a:endCxn id="698" idx="2"/>
            </p:cNvCxnSpPr>
            <p:nvPr/>
          </p:nvCxnSpPr>
          <p:spPr>
            <a:xfrm flipH="1" flipV="1" rot="5400000">
              <a:off x="3192480" y="2334240"/>
              <a:ext cx="229320" cy="253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98" name="_s101382"/>
            <p:cNvSpPr/>
            <p:nvPr/>
          </p:nvSpPr>
          <p:spPr>
            <a:xfrm>
              <a:off x="4095360" y="3031920"/>
              <a:ext cx="952920" cy="45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ТУМАН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101383"/>
            <p:cNvSpPr/>
            <p:nvPr/>
          </p:nvSpPr>
          <p:spPr>
            <a:xfrm>
              <a:off x="8467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Яд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Конден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101384"/>
            <p:cNvSpPr/>
            <p:nvPr/>
          </p:nvSpPr>
          <p:spPr>
            <a:xfrm>
              <a:off x="33775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Одно из выше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Указанных услов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_s101385"/>
            <p:cNvSpPr/>
            <p:nvPr/>
          </p:nvSpPr>
          <p:spPr>
            <a:xfrm>
              <a:off x="5908320" y="3714480"/>
              <a:ext cx="2388960" cy="708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960" rIns="219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Перенасыщенны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Па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тносительная влажность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тельная влажность </a:t>
            </a:r>
            <a:r>
              <a:rPr b="0" lang="el-GR" sz="2800" spc="-1" strike="noStrike">
                <a:solidFill>
                  <a:srgbClr val="ffcc66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 данной температуре определяется как отношение давл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яных паров при этой температуре к давлению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ыщенных паров, соответствующих данной температуре: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=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/p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)10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ычно ее измеряют в процен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фиксированной температуре давление водяного пара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порционально его плотности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этому можно использовать формул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φ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=(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/</a:t>
            </a:r>
            <a:r>
              <a:rPr b="0" lang="el-GR" sz="2800" spc="-1" strike="noStrike">
                <a:solidFill>
                  <a:srgbClr val="ffcc00"/>
                </a:solidFill>
                <a:latin typeface="Tahoma"/>
              </a:rPr>
              <a:t>ρ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)10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бсолютная влаж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Плот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водяных паров, находящихся в воздухе при данной температуре, называют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абсолютной влажность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здух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для рассматриваемой температуры). Это есть общая масса водяных паров в единице объема воздуха в том или ином конкретном случа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ависимость плотности насыщенного пара от температуры (1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Н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042920" y="2349000"/>
            <a:ext cx="0" cy="3024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42920" y="5373720"/>
            <a:ext cx="648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482920" y="494136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482920" y="443664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482920" y="393336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2494080" y="338580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86200" y="508428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786200" y="4653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786200" y="414936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86200" y="364464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786200" y="321300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2920" y="357336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6200" y="357336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9384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7020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4656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922560" y="357336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98920" y="3573360"/>
            <a:ext cx="2872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48292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786200" y="278136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482920" y="2491920"/>
            <a:ext cx="0" cy="2890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785840" y="5229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4785840" y="4797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785840" y="4221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785840" y="3789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4785840" y="3357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785840" y="2924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785840" y="5013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4785840" y="4653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785840" y="4508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785840" y="4437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4785840" y="4365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785840" y="4292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785840" y="4149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785840" y="4076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785840" y="4005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785840" y="3933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785840" y="3860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785840" y="4581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785840" y="3716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785840" y="3645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785840" y="3573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785840" y="3500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785840" y="3429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85840" y="472428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785840" y="4869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5840" y="4941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785840" y="5157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785840" y="5084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4785840" y="3284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785840" y="321300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85840" y="314172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785840" y="3068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785840" y="299736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785840" y="5300640"/>
            <a:ext cx="180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482920" y="522936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482920" y="479736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482920" y="4292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482920" y="3860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82920" y="350028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482920" y="3068640"/>
            <a:ext cx="23032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-3131640" y="-1107000"/>
            <a:ext cx="8349840" cy="64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88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122200" y="515772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546200" y="515772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042560" y="5157720"/>
            <a:ext cx="358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</a:t>
            </a:r>
            <a:r>
              <a:rPr b="0" lang="el-GR" sz="3200" spc="-1" strike="noStrike">
                <a:solidFill>
                  <a:srgbClr val="2f1311"/>
                </a:solidFill>
                <a:latin typeface="Arial"/>
                <a:ea typeface="Arial"/>
              </a:rPr>
              <a:t>ρ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Т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  <a:ea typeface="Arial"/>
              </a:rPr>
              <a:t>0                        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116000" y="2349000"/>
            <a:ext cx="0" cy="2808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116000" y="5157720"/>
            <a:ext cx="5327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-2986920" y="-1037160"/>
            <a:ext cx="8206560" cy="61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8892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042920" y="4869000"/>
            <a:ext cx="144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042920" y="3716280"/>
            <a:ext cx="144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71640" y="5084640"/>
            <a:ext cx="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08000" y="371628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728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3716280"/>
            <a:ext cx="3585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2436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371628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292720" y="3716280"/>
            <a:ext cx="3589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03280" y="4869000"/>
            <a:ext cx="28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4869000"/>
            <a:ext cx="288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56000" y="4869000"/>
            <a:ext cx="36036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03640" y="4869000"/>
            <a:ext cx="504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95640" y="4869000"/>
            <a:ext cx="289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00720" y="4869000"/>
            <a:ext cx="43164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219640" y="486900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692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68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916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63528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28472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93236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651640" y="3716280"/>
            <a:ext cx="0" cy="1152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1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69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35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76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8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2589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33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40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47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54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90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97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0509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19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34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556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84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05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20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12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26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2411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484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62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00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77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98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313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276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341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78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067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4500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78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348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349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56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635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70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851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99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924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21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4356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4140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4284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4427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572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4643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716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485928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932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003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5076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4836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5219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5292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364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435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50872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58000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651640" y="486900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43280" y="4581000"/>
            <a:ext cx="0" cy="287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2843280" y="414972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843280" y="357300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572000" y="386064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0" y="4437000"/>
            <a:ext cx="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572000" y="3357720"/>
            <a:ext cx="0" cy="3585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843280" y="2997000"/>
            <a:ext cx="0" cy="431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572000" y="2924280"/>
            <a:ext cx="0" cy="288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 В. Тарасов. «Физика в природе». М.: «Просвещение»,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meteowe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google.co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дра конденсации- жидкие или твердые частички, взвешенные в атмосфере, на которых начинается конденсация водяного пара и образуются капельки облаков и туманов (ионы, капельки воды, пылинки, частички сажи и др.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08880" y="5827680"/>
            <a:ext cx="1633320" cy="468360"/>
          </a:xfrm>
          <a:custGeom>
            <a:avLst/>
            <a:gdLst>
              <a:gd name="textAreaLeft" fmla="*/ 285840 w 1633320"/>
              <a:gd name="textAreaRight" fmla="*/ 1184400 w 163332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00280" y="5634000"/>
            <a:ext cx="2149560" cy="10303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>
            <a:hlinkClick r:id="rId1" action="ppaction://hlinksldjump"/>
          </p:cNvPr>
          <p:cNvSpPr/>
          <p:nvPr/>
        </p:nvSpPr>
        <p:spPr>
          <a:xfrm>
            <a:off x="6012000" y="587700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очка росы- температура, до которой должен охладиться воздух при заданном давлении, чтобы содержащийся в нем водяной пар достиг состояния насыщения и начал конденсироваться. При относительной влажности 100% фактическая температура воздуха и точка росы совпадаю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">
            <a:hlinkClick r:id="rId1" action="ppaction://hlinksldjump"/>
          </p:cNvPr>
          <p:cNvSpPr/>
          <p:nvPr/>
        </p:nvSpPr>
        <p:spPr>
          <a:xfrm>
            <a:off x="6012000" y="5877000"/>
            <a:ext cx="1584360" cy="43164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тность перенасыщенного пара должна быть в несколько раз больше плотности насыщенного па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сыщенный водяной пар- это пар, находящийся над поверхностью воды, когда число молекул, покидающих за единицу времени жидкость, в среднем равно числу молекул воды, возвращающихся за то же время обрат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>
            <a:hlinkClick r:id="rId1" action="ppaction://hlinksldjump"/>
          </p:cNvPr>
          <p:cNvSpPr/>
          <p:nvPr/>
        </p:nvSpPr>
        <p:spPr>
          <a:xfrm>
            <a:off x="6156360" y="6165720"/>
            <a:ext cx="1584360" cy="43200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Бледнеет ночь… Туманов пелена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В лощинах и лугах становится белее,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Звучнее лес, безжизненней луна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И серебро росы на стеклах холоднее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И. А. Буни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8000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99"/>
                </a:solidFill>
                <a:latin typeface="Times New Roman"/>
              </a:rPr>
              <a:t>ЦЕЛЬ: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яснить, что же такое тум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ъяснить причины возникновения тума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знакомиться с различными видами туман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уман- скопление в приземном слое атмосферы взвешенных в воздухе мельчайших капель воды или ледяных кристаллов, образующихся в результате: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конденсации водяного пара при охлаждении воздуха ниже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точки росы 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(туманы охлаждения); или</a:t>
            </a:r>
            <a:br>
              <a:rPr sz="2800"/>
            </a:b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- испарения с более теплой испаряющей поверхности в холодный воздух над водоемами и влажными участками суши (туманы испарения) 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over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звестны разные виды туманов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53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положим, что у нас есть хорошо прогреваемый солнцем водоем. За ночь воздух над его поверхностью охлаждается в большей степени, чем сама вода, и его температура оказывается существенно ниже. Над водой возникает утренний тум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т туман весьма нестоек. Взойдет солнце, и он растает без сле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356000" cy="42274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Втор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Холодный воздух переносится ветром в горизонтальном направлении и оказывается над теплой водой. И тут же над водой появляется туман. Такой туман можно наблюдать, например, в Арктике, когда слои холодного воздуха над льдами перемещаются на открытую в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Трети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Теплый воздух переносится ветром в горизонтальном направлении и оказывается над холодной поверхностью. При этом он охлаждается, и в результате возникает туман. Такой туман образуется, например, когда воздушные массы, получившие теплоту от реки, перемещаются к покрытому снегом холодному бере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03848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Четверты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Находящиеся над нагретой водой теплые слои воздуха поднимаются по склону горы вверх и попадают в область относительно холодного воздуха. И уже там, наверху, в процессе охлаждения поднявшегося теплого воздуха образуется туман, который по склону горы опускается затем вниз, к 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5003640" cy="3213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1:55:32Z</dcterms:created>
  <dc:creator>DRAGON</dc:creator>
  <dc:description/>
  <dc:language>en-US</dc:language>
  <cp:lastModifiedBy>Учитель</cp:lastModifiedBy>
  <dcterms:modified xsi:type="dcterms:W3CDTF">2005-06-17T08:30:02Z</dcterms:modified>
  <cp:revision>31</cp:revision>
  <dc:subject/>
  <dc:title>ТУМ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a0000000000010243100207f6000400038000</vt:lpwstr>
  </property>
</Properties>
</file>