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E969-A67F-4177-A9D7-0F1D3890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C0B9-9067-4CCE-8983-D66F2CA4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388A0-B796-4E7D-93A7-93DBC467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9D948-7C71-4126-B502-7574151A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43CAF-B60E-4FA2-A68A-AD296C23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E6C2C-4449-4948-B6C7-526087C9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88D4A-FA7D-47F3-B7CF-399A8BB6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AA650-85C1-4DD0-8AE8-3268BAA5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D27CC-02FD-499C-8E5B-785E9586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47505-46A7-4CD3-AF5A-E8BD6AE6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D843C-1AC4-434B-9977-2B2657C2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7ABAA-6034-4355-91FE-FC42FAE5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E1E-F366-4037-AEAF-91591D35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3C56D-5144-4080-B61F-BB3E38B2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B4142-C0A7-4882-9488-85A3DD94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6BA48-28E9-447D-ABFD-324732A5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08732-A4ED-47CF-AD5D-E8AABFE7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10E76-FF4A-44A4-8D02-5BD3190C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2E1A7-1B3B-415B-B46A-F10ABF4D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4428E-7566-4C5A-B27A-02794F09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46FB3-119A-4D77-9972-F798D5F1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FA0AF-6E6A-4877-9212-74FA1BA7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D8AEB-6DC3-498C-9D73-CE413057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D7C-EC8E-4AFC-B256-30C1180B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CBA29-5220-41A4-814B-1C7B7E34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D8C5D-C568-49E5-B999-C587E7B0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4F4F0-D3D0-4EFD-85A3-BFAE3358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660E2-7369-4F74-A4EF-FA884F19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298EF-207F-44A9-B905-C5FB117A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4CC4A-9CA3-416C-92A0-2941EC7D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31B72-5578-4EF2-B674-C49D133D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69D6D-2624-4284-B0C9-3840746D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DCC92-4514-4957-AD41-9C9C2D8F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16238-4E24-4364-9B25-92AC7834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E5C0-02EF-4116-A8DA-CC4EDF93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4C1D6-63FD-4A34-99BB-2666FA65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AD2CE-A727-406E-BC32-2157B469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619E1-733F-41CF-BB90-5374DF66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74BF2-BBE9-476A-9779-DB471EA4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EACC7-55D6-4704-87EC-0EA9A3AC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52143-56DD-426E-BE88-CAFBEF68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DF65A-3280-4004-B3BC-52DDAD52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46B31-A6BA-4652-B9E8-7412CC69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C30B4-B8A8-4CFC-8225-0A86FDED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4FD7F-1F11-4C14-BB04-F778AE34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AE52-0DE6-46A7-A32B-34FE1430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5793D-0504-439B-8A92-ABBC85AA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52C7F-B275-469A-8830-56AC08E4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129B3-2444-4397-BC81-1E4EA3DB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0E32F-FF67-4B82-9602-6CB781BA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17F45-DC46-4137-B9CC-71BB0767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EDAB-1024-4159-B204-EED02B90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8024-E7C8-460D-96A9-132F211E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54EF-BBD7-4DB1-86F3-DA04F175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73A5-BDD8-400C-B95B-A2F92F08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F2F5-956C-4129-97EF-EDD9B947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376E-16DE-428C-A4A1-B38B4E37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A176-E625-4068-99A5-FD784113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623B-9824-4004-9853-F2A6A387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B2A5-CA73-4FF6-81D1-B9653223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194A-5393-49D7-BE5C-24335D0E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C3F8-7B69-4476-8EC0-DA2042C0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A3C1D-AE23-45DA-AF8A-4D6F661E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7565A-91F0-40BE-92D6-57519098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E47BC-F6C6-4A18-8A16-7CCE67BA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0E699-7762-4326-B8BC-A5465EE7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997E0-C05E-4548-9D71-D808DEB5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029D-E472-4175-91FF-5CF9E64C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9BDC3-5E63-46BD-8719-B510A8A8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56516-3DD4-431C-B1CB-3344E1B4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681D8-27A7-4C63-A558-B03CF8F0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A38E6-B5E9-491B-AFA1-FAD2D5E0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2B2F2-744C-44AF-B5C6-DE522C98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50235-3BB6-4453-94FE-D2EB167D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6F3B2-2DDA-4DC3-A836-4CA124B0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3B30D9-5648-4547-8003-94EB4FEC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907FC1-7481-413B-8090-7DB8980C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348C0C-CFC3-4C8A-86D3-E3D4EE9E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12F8-D044-4594-B2A8-B4F06E1D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BAAB02-A54D-4939-9F05-8A2D7ECF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84D0B1-9194-44E8-946F-7AAE378E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A64A6E-C964-4179-A5B2-D5075724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866B28-B242-4521-827E-20456866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531832-1C2F-4476-8CC7-B85DACC8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A1F8CC-A86C-4723-86D2-6F351932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B9C9AD-991F-4561-AEF0-00616A18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089A51-AA79-4B8D-B05A-29E92AF9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0832BE-AD8F-483D-9F2F-096376A1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47D20-BA62-4065-8B65-B3A6016C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13EC-E7EB-474C-B0D2-03A7CD60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DD03B-F772-47C4-9205-EF41E120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943CA-F925-4A1A-8D00-88A8F9B1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9ABC1-50CD-4B80-AFA9-848083FD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57BEE-04BC-480B-B525-72F7D06B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19394-E4BA-4763-B24D-5D38EDD1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3D664-0CB6-44C9-BD87-6DBC79AF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9AF96-982C-424C-9FA5-F551A440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117B4-0DD8-4A19-9F99-69982962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DF45B-F019-4374-8600-90CA31B3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6D2B9-0148-4133-955A-E173FB16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8B7-5ACE-43EE-ACC6-C7A629FD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0734A-ED06-4631-869F-8B45F68F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40DA2-4C8A-4AE6-88B4-727B859E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B84E4-15E7-4070-AA19-42B94C8B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F823D-AA64-4666-8D56-0439E304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B8723-19F5-4116-AD7B-828173E6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62BE9-11D0-4DA7-9180-2F3B1F98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EB982-18FA-4A30-A8D3-C71F1395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84D7C-22D4-454A-A87F-8ECB7796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DCF03-600D-490B-A0A6-4D927D69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C7E59-5D59-4FF7-95E0-C4BD8FD6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33E7-1519-44B8-B112-4D251F1E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998C2-0A05-4999-93FA-10483FC7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E3987-71D4-4502-990D-2F8AC2ED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D89EB-356B-4C84-9D33-3C922580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56E5D-12F6-4F4C-BFFB-F2267724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3B4C2-8E61-4BE1-A28E-7B6681BE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9BA3E-AA28-46C4-B59D-CD70835F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D4855-E118-4C83-B935-FEB68E79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617D9-C428-4DE5-B0DA-202AA67B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19A50-8DC7-45BF-897C-80E26DB5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6AC4E-69E8-48CF-B03C-8DA369E6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177F-34FE-484F-A5CE-D4E3E322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802C6-9199-4F0E-9ADC-43C5E3C8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4D051-747C-46C1-A6AE-FBCE33F4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FE8C3-3142-409E-A498-2C1BF856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65F09-55C6-4A09-8ADC-7FD8C11C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0F1CB-B74A-4544-B8DD-77E7B35A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68F28-4D52-4B77-9238-E6C5B25A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BAB7D-BC11-4004-84FF-A7FC825D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A1EB6-DB6B-4C58-BC1D-C79D266A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08609-67E4-49A5-B33D-D5D296FE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B5454-809B-454F-8BD8-23D92950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EDE8-432A-4A62-8CA7-A3F70988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86898-564D-462C-AEB4-8E268B82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92153-6F2A-48F4-B72D-2519261B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5F1A1-AAC2-4656-96F6-062AEF14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AEDED-0E71-44E5-868A-8694CE12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E6B1C-118B-46A8-9060-3E348C18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72126-FE3D-493C-B292-429D1518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A8471-F198-4795-80C0-1255DF7D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F2002-515E-4ECD-8417-5DC48423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9F043-1579-49BC-A6EA-F18FF884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2080C-3006-4BD2-ACE2-3F26D622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121.xml"/><Relationship Id="rId35" Type="http://schemas.openxmlformats.org/officeDocument/2006/relationships/slideLayout" Target="../slideLayouts/slideLayout122.xml"/><Relationship Id="rId36" Type="http://schemas.openxmlformats.org/officeDocument/2006/relationships/slideLayout" Target="../slideLayouts/slideLayout123.xml"/><Relationship Id="rId37" Type="http://schemas.openxmlformats.org/officeDocument/2006/relationships/slideLayout" Target="../slideLayouts/slideLayout124.xml"/><Relationship Id="rId38" Type="http://schemas.openxmlformats.org/officeDocument/2006/relationships/slideLayout" Target="../slideLayouts/slideLayout125.xml"/><Relationship Id="rId39" Type="http://schemas.openxmlformats.org/officeDocument/2006/relationships/slideLayout" Target="../slideLayouts/slideLayout126.xml"/><Relationship Id="rId40" Type="http://schemas.openxmlformats.org/officeDocument/2006/relationships/slideLayout" Target="../slideLayouts/slideLayout127.xml"/><Relationship Id="rId41" Type="http://schemas.openxmlformats.org/officeDocument/2006/relationships/slideLayout" Target="../slideLayouts/slideLayout128.xml"/><Relationship Id="rId42" Type="http://schemas.openxmlformats.org/officeDocument/2006/relationships/slideLayout" Target="../slideLayouts/slideLayout129.xml"/><Relationship Id="rId43" Type="http://schemas.openxmlformats.org/officeDocument/2006/relationships/slideLayout" Target="../slideLayouts/slideLayout130.xml"/><Relationship Id="rId44" Type="http://schemas.openxmlformats.org/officeDocument/2006/relationships/slideLayout" Target="../slideLayouts/slideLayout131.xml"/><Relationship Id="rId4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133.xml"/><Relationship Id="rId32" Type="http://schemas.openxmlformats.org/officeDocument/2006/relationships/slideLayout" Target="../slideLayouts/slideLayout134.xml"/><Relationship Id="rId33" Type="http://schemas.openxmlformats.org/officeDocument/2006/relationships/slideLayout" Target="../slideLayouts/slideLayout135.xml"/><Relationship Id="rId34" Type="http://schemas.openxmlformats.org/officeDocument/2006/relationships/slideLayout" Target="../slideLayouts/slideLayout136.xml"/><Relationship Id="rId35" Type="http://schemas.openxmlformats.org/officeDocument/2006/relationships/slideLayout" Target="../slideLayouts/slideLayout137.xml"/><Relationship Id="rId36" Type="http://schemas.openxmlformats.org/officeDocument/2006/relationships/slideLayout" Target="../slideLayouts/slideLayout138.xml"/><Relationship Id="rId37" Type="http://schemas.openxmlformats.org/officeDocument/2006/relationships/slideLayout" Target="../slideLayouts/slideLayout139.xml"/><Relationship Id="rId38" Type="http://schemas.openxmlformats.org/officeDocument/2006/relationships/slideLayout" Target="../slideLayouts/slideLayout140.xml"/><Relationship Id="rId39" Type="http://schemas.openxmlformats.org/officeDocument/2006/relationships/slideLayout" Target="../slideLayouts/slideLayout141.xml"/><Relationship Id="rId40" Type="http://schemas.openxmlformats.org/officeDocument/2006/relationships/slideLayout" Target="../slideLayouts/slideLayout142.xml"/><Relationship Id="rId41" Type="http://schemas.openxmlformats.org/officeDocument/2006/relationships/slideLayout" Target="../slideLayouts/slideLayout143.xml"/><Relationship Id="rId42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453E-D6AF-4D45-876E-85E261AC1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25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1873-E2D8-41BB-B3F9-C9DA6EEFFF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7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8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9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9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1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842E-CE44-4AC3-9C44-95DD39406D4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4"/>
    <p:sldLayoutId id="2147483780" r:id="rId35"/>
    <p:sldLayoutId id="2147483781" r:id="rId36"/>
    <p:sldLayoutId id="2147483782" r:id="rId37"/>
    <p:sldLayoutId id="2147483783" r:id="rId38"/>
    <p:sldLayoutId id="2147483784" r:id="rId39"/>
    <p:sldLayoutId id="2147483785" r:id="rId40"/>
    <p:sldLayoutId id="2147483786" r:id="rId41"/>
    <p:sldLayoutId id="2147483787" r:id="rId42"/>
    <p:sldLayoutId id="2147483788" r:id="rId43"/>
    <p:sldLayoutId id="2147483789" r:id="rId44"/>
    <p:sldLayoutId id="2147483790" r:id="rId4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6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7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7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8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9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1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4D0F-EC20-443A-835D-586F2438FF8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1"/>
    <p:sldLayoutId id="2147483793" r:id="rId32"/>
    <p:sldLayoutId id="2147483794" r:id="rId33"/>
    <p:sldLayoutId id="2147483795" r:id="rId34"/>
    <p:sldLayoutId id="2147483796" r:id="rId35"/>
    <p:sldLayoutId id="2147483797" r:id="rId36"/>
    <p:sldLayoutId id="2147483798" r:id="rId37"/>
    <p:sldLayoutId id="2147483799" r:id="rId38"/>
    <p:sldLayoutId id="2147483800" r:id="rId39"/>
    <p:sldLayoutId id="2147483801" r:id="rId40"/>
    <p:sldLayoutId id="2147483802" r:id="rId41"/>
    <p:sldLayoutId id="2147483803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92D7-4565-4E55-A285-434DEEF29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2468-FB5B-422F-9D5C-A609B789C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3662-A1C5-48AC-9A85-74ECE871A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D56E-6F0A-40DB-A771-6B7B0182E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4231-2377-459D-9E3A-B1411CB765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84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88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73E1-8BC8-4339-B438-8490A5654EA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32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35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C7C6-CBC3-42CC-97C9-C0D4BA42E08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8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5CBF-F9B4-42B1-AACD-836573695C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eteoweb.ru/" TargetMode="External"/><Relationship Id="rId2" Type="http://schemas.openxmlformats.org/officeDocument/2006/relationships/hyperlink" Target="http://www.meteoweb.ru/" TargetMode="External"/><Relationship Id="rId3" Type="http://schemas.openxmlformats.org/officeDocument/2006/relationships/hyperlink" Target="http://www.yandex.ru/" TargetMode="External"/><Relationship Id="rId4" Type="http://schemas.openxmlformats.org/officeDocument/2006/relationships/hyperlink" Target="http://www.yandex.ru/" TargetMode="External"/><Relationship Id="rId5" Type="http://schemas.openxmlformats.org/officeDocument/2006/relationships/hyperlink" Target="http://www.google.com.ru/" TargetMode="External"/><Relationship Id="rId6" Type="http://schemas.openxmlformats.org/officeDocument/2006/relationships/hyperlink" Target="http://www.google.com.ru/" TargetMode="External"/><Relationship Id="rId7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Tahoma"/>
              </a:rPr>
              <a:t>ТУМАН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лич Евг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ромина Екате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-10-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40384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Пяты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После захода солнца нагретая за день земля остывает быстрее, чем воздух. Приповерхностные слои воздуха оказываются теплее; они начинают отдавать теплоту земле и, как следствие, охлаждаются. Возникает вечерний тума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4500360" cy="4176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Необходимые для образования тумана условия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846720" y="3031920"/>
            <a:ext cx="7450560" cy="1390680"/>
            <a:chOff x="846720" y="3031920"/>
            <a:chExt cx="7450560" cy="1390680"/>
          </a:xfrm>
        </p:grpSpPr>
        <p:cxnSp>
          <p:nvCxnSpPr>
            <p:cNvPr id="696" name="_s101388"/>
            <p:cNvCxnSpPr>
              <a:stCxn id="697" idx="0"/>
              <a:endCxn id="698" idx="2"/>
            </p:cNvCxnSpPr>
            <p:nvPr/>
          </p:nvCxnSpPr>
          <p:spPr>
            <a:xfrm flipV="1" rot="16200000">
              <a:off x="5723280" y="2333520"/>
              <a:ext cx="229320" cy="2532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9" name="_s101387"/>
            <p:cNvCxnSpPr>
              <a:stCxn id="700" idx="0"/>
              <a:endCxn id="698" idx="2"/>
            </p:cNvCxnSpPr>
            <p:nvPr/>
          </p:nvCxnSpPr>
          <p:spPr>
            <a:xfrm flipV="1">
              <a:off x="4572000" y="3485160"/>
              <a:ext cx="180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1" name="_s101386"/>
            <p:cNvCxnSpPr>
              <a:stCxn id="702" idx="0"/>
              <a:endCxn id="698" idx="2"/>
            </p:cNvCxnSpPr>
            <p:nvPr/>
          </p:nvCxnSpPr>
          <p:spPr>
            <a:xfrm flipH="1" flipV="1" rot="5400000">
              <a:off x="3192480" y="2334240"/>
              <a:ext cx="229320" cy="2531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98" name="_s101382"/>
            <p:cNvSpPr/>
            <p:nvPr/>
          </p:nvSpPr>
          <p:spPr>
            <a:xfrm>
              <a:off x="4095360" y="3031920"/>
              <a:ext cx="952920" cy="453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ТУМАН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_s101383"/>
            <p:cNvSpPr/>
            <p:nvPr/>
          </p:nvSpPr>
          <p:spPr>
            <a:xfrm>
              <a:off x="846720" y="3714480"/>
              <a:ext cx="2388960" cy="7081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Ядр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Конденсац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_s101384"/>
            <p:cNvSpPr/>
            <p:nvPr/>
          </p:nvSpPr>
          <p:spPr>
            <a:xfrm>
              <a:off x="3377520" y="3714480"/>
              <a:ext cx="2388960" cy="7081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Одно из выше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Указанных услов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_s101385"/>
            <p:cNvSpPr/>
            <p:nvPr/>
          </p:nvSpPr>
          <p:spPr>
            <a:xfrm>
              <a:off x="5908320" y="3714480"/>
              <a:ext cx="2388960" cy="7081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Перенасыщенн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Пар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u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Относительная влажность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носительная влажность </a:t>
            </a:r>
            <a:r>
              <a:rPr b="0" lang="el-GR" sz="2800" spc="-1" strike="noStrike">
                <a:solidFill>
                  <a:srgbClr val="ffcc66"/>
                </a:solidFill>
                <a:latin typeface="Tahoma"/>
              </a:rPr>
              <a:t>φ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и данной температуре определяется как отношение давле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дяных паров при этой температуре к давлению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н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сыщенных паров, соответствующих данной температуре: </a:t>
            </a:r>
            <a:r>
              <a:rPr b="0" lang="el-GR" sz="2800" spc="-1" strike="noStrike">
                <a:solidFill>
                  <a:srgbClr val="ffcc00"/>
                </a:solidFill>
                <a:latin typeface="Tahoma"/>
              </a:rPr>
              <a:t>φ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=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/p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н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)10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ычно ее измеряют в процент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фиксированной температуре давление водяного пара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опорционально его плотности </a:t>
            </a:r>
            <a:r>
              <a:rPr b="0" lang="el-GR" sz="2800" spc="-1" strike="noStrike">
                <a:solidFill>
                  <a:srgbClr val="ffcc00"/>
                </a:solidFill>
                <a:latin typeface="Tahoma"/>
              </a:rPr>
              <a:t>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поэтому можно использовать формул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l-GR" sz="2800" spc="-1" strike="noStrike">
                <a:solidFill>
                  <a:srgbClr val="ffcc00"/>
                </a:solidFill>
                <a:latin typeface="Tahoma"/>
              </a:rPr>
              <a:t>φ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=(</a:t>
            </a:r>
            <a:r>
              <a:rPr b="0" lang="el-GR" sz="2800" spc="-1" strike="noStrike">
                <a:solidFill>
                  <a:srgbClr val="ffcc00"/>
                </a:solidFill>
                <a:latin typeface="Tahoma"/>
              </a:rPr>
              <a:t>ρ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/</a:t>
            </a:r>
            <a:r>
              <a:rPr b="0" lang="el-GR" sz="2800" spc="-1" strike="noStrike">
                <a:solidFill>
                  <a:srgbClr val="ffcc00"/>
                </a:solidFill>
                <a:latin typeface="Tahoma"/>
              </a:rPr>
              <a:t>ρ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н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)100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бсолютная влаж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Плотнос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водяных паров, находящихся в воздухе при данной температуре, называют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абсолютной влажностью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воздух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для рассматриваемой температуры). Это есть общая масса водяных паров в единице объема воздуха в том или ином конкретном случа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Зависимость плотности насыщенного пара от температуры (1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 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  <a:ea typeface="Arial"/>
              </a:rPr>
              <a:t>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  <a:ea typeface="Arial"/>
              </a:rPr>
              <a:t>ρ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Arial"/>
              </a:rPr>
              <a:t>0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  <a:ea typeface="Arial"/>
              </a:rPr>
              <a:t>ρ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Arial"/>
              </a:rPr>
              <a:t>Н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Т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Т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°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042920" y="2349000"/>
            <a:ext cx="0" cy="3024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042920" y="5373720"/>
            <a:ext cx="648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2482920" y="4941360"/>
            <a:ext cx="0" cy="358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482920" y="4436640"/>
            <a:ext cx="0" cy="358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482920" y="3933360"/>
            <a:ext cx="0" cy="358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2494080" y="3385800"/>
            <a:ext cx="0" cy="358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786200" y="5084280"/>
            <a:ext cx="0" cy="2890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786200" y="4653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4786200" y="4149360"/>
            <a:ext cx="0" cy="2890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786200" y="3644640"/>
            <a:ext cx="0" cy="360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4786200" y="3213000"/>
            <a:ext cx="0" cy="287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2920" y="3573360"/>
            <a:ext cx="28728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546200" y="3573360"/>
            <a:ext cx="432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193840" y="357336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770200" y="357336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346560" y="357336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922560" y="357336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498920" y="3573360"/>
            <a:ext cx="28728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2482920" y="292428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4786200" y="2781360"/>
            <a:ext cx="0" cy="287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2482920" y="2491920"/>
            <a:ext cx="0" cy="2890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4785840" y="522936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4785840" y="479736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4785840" y="422100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4785840" y="378936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4785840" y="335772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4785840" y="292428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4785840" y="501336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4785840" y="465300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4785840" y="450864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4785840" y="443700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4785840" y="436572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4785840" y="429264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4785840" y="414972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4785840" y="407664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4785840" y="400536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4785840" y="393372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4785840" y="386064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4785840" y="458136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4785840" y="371628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4785840" y="364500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4785840" y="357336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4785840" y="350028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4785840" y="342900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4785840" y="472428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4785840" y="486900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4785840" y="494172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4785840" y="515772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4785840" y="508464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4785840" y="328464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4785840" y="321300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4785840" y="314172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4785840" y="306864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4785840" y="299736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4785840" y="530064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2482920" y="5229360"/>
            <a:ext cx="23032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2482920" y="4797360"/>
            <a:ext cx="23032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482920" y="4292640"/>
            <a:ext cx="23032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2482920" y="3860640"/>
            <a:ext cx="23032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482920" y="3500280"/>
            <a:ext cx="23032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2482920" y="3068640"/>
            <a:ext cx="23032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-3131640" y="-1107000"/>
            <a:ext cx="8349840" cy="647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88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2122200" y="515772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1546200" y="5157720"/>
            <a:ext cx="432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1042560" y="5157720"/>
            <a:ext cx="35892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  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  <a:ea typeface="Arial"/>
              </a:rPr>
              <a:t>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 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  <a:ea typeface="Arial"/>
              </a:rPr>
              <a:t>ρ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 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  <a:ea typeface="Arial"/>
              </a:rPr>
              <a:t>ρ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Т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Arial"/>
              </a:rPr>
              <a:t>0                           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Т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°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1116000" y="2349000"/>
            <a:ext cx="0" cy="2808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116000" y="5157720"/>
            <a:ext cx="532764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-2986920" y="-1037160"/>
            <a:ext cx="8206560" cy="619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88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042920" y="4869000"/>
            <a:ext cx="144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042920" y="3716280"/>
            <a:ext cx="144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771640" y="5084640"/>
            <a:ext cx="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332000" y="371628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08000" y="3716280"/>
            <a:ext cx="432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627280" y="371628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76720" y="3716280"/>
            <a:ext cx="3585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924360" y="371628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572000" y="371628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292720" y="3716280"/>
            <a:ext cx="35892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403280" y="4869000"/>
            <a:ext cx="28908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979640" y="4869000"/>
            <a:ext cx="28872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556000" y="486900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203640" y="4869000"/>
            <a:ext cx="50472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995640" y="4869000"/>
            <a:ext cx="28908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500720" y="4869000"/>
            <a:ext cx="43164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219640" y="4869000"/>
            <a:ext cx="432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1692360" y="3716280"/>
            <a:ext cx="0" cy="1152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2268360" y="3716280"/>
            <a:ext cx="0" cy="1152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916360" y="3716280"/>
            <a:ext cx="0" cy="1152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3635280" y="3716280"/>
            <a:ext cx="0" cy="1152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4284720" y="3716280"/>
            <a:ext cx="0" cy="1152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4932360" y="3716280"/>
            <a:ext cx="0" cy="1152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5651640" y="3716280"/>
            <a:ext cx="0" cy="1152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619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1692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35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1763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1187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125892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1332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1403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1476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1547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1908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1979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205092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2195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2340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2556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2843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3059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3203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2124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2268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2411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484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2627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700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771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2916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2987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3132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327672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3419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3780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4067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450072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4788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3348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3492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3564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3635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3708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3851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3995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3924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4211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4356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4140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428472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4427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4572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4643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4716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4859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4932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5003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507672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5148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5219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529272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5364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5435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550872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5580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5651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2843280" y="4581000"/>
            <a:ext cx="0" cy="287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2843280" y="4149720"/>
            <a:ext cx="0" cy="287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2843280" y="3573000"/>
            <a:ext cx="0" cy="360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572000" y="3860640"/>
            <a:ext cx="0" cy="360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572000" y="4437000"/>
            <a:ext cx="0" cy="287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4572000" y="3357720"/>
            <a:ext cx="0" cy="3585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2843280" y="2997000"/>
            <a:ext cx="0" cy="431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4572000" y="292428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 В. Тарасов. «Физика в природе». М.: «Просвещение»,19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www.meteoweb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www.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www.google.com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ловар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Ядра конденсации- жидкие или твердые частички, взвешенные в атмосфере, на которых начинается конденсация водяного пара и образуются капельки облаков и туманов (ионы, капельки воды, пылинки, частички сажи и др.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608880" y="5827680"/>
            <a:ext cx="1633320" cy="468360"/>
          </a:xfrm>
          <a:custGeom>
            <a:avLst/>
            <a:gdLst>
              <a:gd name="textAreaLeft" fmla="*/ 285840 w 1633320"/>
              <a:gd name="textAreaRight" fmla="*/ 1184400 w 1633320"/>
              <a:gd name="textAreaTop" fmla="*/ 62640 h 468360"/>
              <a:gd name="textAreaBottom" fmla="*/ 405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500280" y="5634000"/>
            <a:ext cx="2149560" cy="103032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1030320"/>
              <a:gd name="textAreaBottom" fmla="*/ 1030680 h 1030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>
            <a:hlinkClick r:id="rId1" action="ppaction://hlinksldjump"/>
          </p:cNvPr>
          <p:cNvSpPr/>
          <p:nvPr/>
        </p:nvSpPr>
        <p:spPr>
          <a:xfrm>
            <a:off x="6012000" y="5877000"/>
            <a:ext cx="1584360" cy="43164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ловар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очка росы- температура, до которой должен охладиться воздух при заданном давлении, чтобы содержащийся в нем водяной пар достиг состояния насыщения и начал конденсироваться. При относительной влажности 100% фактическая температура воздуха и точка росы совпадаю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3" name="">
            <a:hlinkClick r:id="rId1" action="ppaction://hlinksldjump"/>
          </p:cNvPr>
          <p:cNvSpPr/>
          <p:nvPr/>
        </p:nvSpPr>
        <p:spPr>
          <a:xfrm>
            <a:off x="6012000" y="5877000"/>
            <a:ext cx="1584360" cy="43164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ловар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лотность перенасыщенного пара должна быть в несколько раз больше плотности насыщенного пар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сыщенный водяной пар- это пар, находящийся над поверхностью воды, когда число молекул, покидающих за единицу времени жидкость, в среднем равно числу молекул воды, возвращающихся за то же время обратн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6" name="">
            <a:hlinkClick r:id="rId1" action="ppaction://hlinksldjump"/>
          </p:cNvPr>
          <p:cNvSpPr/>
          <p:nvPr/>
        </p:nvSpPr>
        <p:spPr>
          <a:xfrm>
            <a:off x="6156360" y="6165720"/>
            <a:ext cx="1584360" cy="43200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ahoma"/>
              </a:rPr>
              <a:t>Бледнеет ночь… Туманов пелена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ahoma"/>
              </a:rPr>
              <a:t>В лощинах и лугах становится белее,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ahoma"/>
              </a:rPr>
              <a:t>Звучнее лес, безжизненней луна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ahoma"/>
              </a:rPr>
              <a:t>И серебро росы на стеклах холоднее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ahoma"/>
              </a:rPr>
              <a:t>                                                         </a:t>
            </a: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И. А. Бунин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1332000" y="2060640"/>
            <a:ext cx="6480000" cy="47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99"/>
                </a:solidFill>
                <a:latin typeface="Times New Roman"/>
              </a:rPr>
              <a:t>ЦЕЛЬ: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яснить, что же такое тум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ъяснить причины возникновения тума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знакомиться с различными видами туман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Туман- скопление в приземном слое атмосферы взвешенных в воздухе мельчайших капель воды или ледяных кристаллов, образующихся в результате: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конденсации водяного пара при охлаждении воздуха ниже 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точки росы </a:t>
            </a:r>
            <a:r>
              <a:rPr b="0" lang="en-US" sz="2800" spc="-1" strike="noStrike" u="sng">
                <a:solidFill>
                  <a:srgbClr val="e5ffff"/>
                </a:solidFill>
                <a:uFillTx/>
                <a:latin typeface="Tahoma"/>
              </a:rPr>
              <a:t>(туманы охлаждения); или</a:t>
            </a:r>
            <a:br>
              <a:rPr sz="2800"/>
            </a:br>
            <a:r>
              <a:rPr b="0" lang="en-US" sz="2800" spc="-1" strike="noStrike" u="sng">
                <a:solidFill>
                  <a:srgbClr val="e5ffff"/>
                </a:solidFill>
                <a:uFillTx/>
                <a:latin typeface="Tahoma"/>
              </a:rPr>
              <a:t>- испарения с более теплой испаряющей поверхности в холодный воздух над водоемами и влажными участками суши (туманы испарения) 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cover dir="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звестны разные виды туманов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4537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вы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едположим, что у нас есть хорошо прогреваемый солнцем водоем. За ночь воздух над его поверхностью охлаждается в большей степени, чем сама вода, и его температура оказывается существенно ниже. Над водой возникает утренний тум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т туман весьма нестоек. Взойдет солнце, и он растает без след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356000" cy="42274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Второ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Холодный воздух переносится ветром в горизонтальном направлении и оказывается над теплой водой. И тут же над водой появляется туман. Такой туман можно наблюдать, например, в Арктике, когда слои холодного воздуха над льдами перемещаются на открытую в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032360" cy="4104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40384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Трети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Теплый воздух переносится ветром в горизонтальном направлении и оказывается над холодной поверхностью. При этом он охлаждается, и в результате возникает туман. Такой туман образуется, например, когда воздушные массы, получившие теплоту от реки, перемещаются к покрытому снегом холодному берег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464000" cy="45370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4038480" cy="54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Четверты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Находящиеся над нагретой водой теплые слои воздуха поднимаются по склону горы вверх и попадают в область относительно холодного воздуха. И уже там, наверху, в процессе охлаждения поднявшегося теплого воздуха образуется туман, который по склону горы опускается затем вниз, к во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350028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3"/>
          <a:stretch/>
        </p:blipFill>
        <p:spPr>
          <a:xfrm>
            <a:off x="4140360" y="3645000"/>
            <a:ext cx="5003640" cy="3213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1:55:32Z</dcterms:created>
  <dc:creator>DRAGON</dc:creator>
  <dc:description/>
  <dc:language>en-US</dc:language>
  <cp:lastModifiedBy>Учитель</cp:lastModifiedBy>
  <dcterms:modified xsi:type="dcterms:W3CDTF">2005-06-17T08:30:02Z</dcterms:modified>
  <cp:revision>31</cp:revision>
  <dc:subject/>
  <dc:title>ТУМА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a0000000000010243100207f6000400038000</vt:lpwstr>
  </property>
</Properties>
</file>