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40E-71C8-43CD-A2EC-369DBC7A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46D-F5DD-4F11-B1C8-A0ACB4A1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BC155-F03D-4826-B335-454F8CF3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2540F-ACD5-4E7F-9212-0E4DADE4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6CC83-103B-40EE-82AB-AE78DB8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10511-8DC3-498D-8D8D-D9DFFEC7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94EEF-97A8-4159-9E83-AAC1349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D2E43-2ABB-412F-B5E4-827A49E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75B5E-9A0D-4E39-A2F0-76C0E6D4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5D234-5E28-47CE-854B-E048D515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08AE4-4246-4C6E-A829-8B20EED1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AF06F-CE8A-4BE6-9B35-80ADDE24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E31-2A90-4856-A4AB-49EA7B52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FE419-6E73-45BB-A491-111B01E3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76CD5-E78E-4664-87E2-8CF4EEC8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C132C-F8A3-44E6-A305-FB80C7D0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45EB0-780A-4A5F-89E0-25BD9F9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FCAD-9021-4F4B-A491-AAD65C60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B5767-852A-4748-97DF-0D6126B5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52965-6AD1-4C3F-862F-32951C35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1E50C-EBDB-48B3-BDEF-99CD065F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BDAD3-9E1C-407B-9B25-A57960C3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23DF2-E578-4244-BD06-EECC6C61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A2D-EFA7-4134-9780-C31DB352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331DE-3EEF-4C00-89B1-D0132293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CDA86-020D-40E6-A423-076E97AE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AA4BA-DABE-4FBC-9E8E-FE79C0A6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78469-EFE1-4451-9547-0C1A77C1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68A3F-58C6-4BA1-8F60-2B5D1F08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16207-6EBA-4E46-A054-76ADD85C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5A668-7508-4BB4-B062-92E0A312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DDB3C-1F29-4FC4-8BA3-7CF52BC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7F7B1-94DF-43FF-824F-EB73E33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EFE4A-32F8-4815-AD5F-1095E49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2148-6601-448C-BE26-36DEEB70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A5564-C133-42BC-9A6B-C46F8833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2ACDF-1F46-4425-8B2D-CCAF8520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948F5-E505-4098-A8C5-27410F35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0D382-68AA-4C99-A8A2-89E40EDE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18500-21FB-40DA-A590-F20AC99B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57681-A302-4B39-8FCD-4CE52150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E9F3D-F628-4F11-B381-CFD14CF7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F9541-B498-4547-8DE2-9345798E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64AC5-5890-4581-8863-EC75E89E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9B917-23E2-4623-A58D-34CEFE5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1F70-E5F3-4ECA-AB33-4DC605B5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A57A4-BB9C-421C-A4D8-0D21F3A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31AA2-BB9A-4B99-98BC-84B7244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CCEF2-D59A-4AB4-BDB2-722E388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4AC4D-1023-4ED4-A31F-4919C8D2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FC1DE-1F0F-4E9A-B834-68772E5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CCD-BFB5-4267-A7FB-F6F094FE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AFE7-38DF-448D-A128-47BDFF4A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8BF9-8A7F-4630-9A10-8C7CE3D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A21A-D9FB-4FC4-BFB3-8B568BF7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1FAD-C9F3-4548-9542-50596DB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7DA-F504-42D9-BDC7-2A427CF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F379-B198-47FD-98C4-2F30984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B45D-894B-46A4-A109-49DE910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9BE3-1588-4AF3-8583-844799C4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1BAE-AA53-4782-B70C-2B666F69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5C5-21B3-4E9B-8615-E395F0F6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9DC0-6B00-47B0-B2C6-17A4EE0C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69EE-9509-42E0-BAC1-C4BA0DC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77A5-6D35-4433-9227-10CA7A20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BB7E-69B1-4547-A177-41B422F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B06E-552B-40C0-9854-F8D6BBD8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462-2388-4E79-ADA6-4D28883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2086-561E-4740-91F0-44A2A07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5468-57BE-40D3-8A1A-D0B095DF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0EFF-6179-4E2C-97E2-FC8A1B98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E77D-8791-487C-B288-102531A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0D19-CF1B-4761-9420-85BC05C6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50A7-07C1-4093-80A0-047E05C6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3181-F61A-487B-ABD6-21DCE667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7A77E-DE5E-4134-BFF4-20047B08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01E3B-A67C-4BFD-95A1-64C12C3E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33D9A-26F7-4AEB-9DC4-B4A1C056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AA1-647D-47FD-A155-F406AFA6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6AC14-858A-4199-9D6D-24A1E529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2A401-9A04-49B1-B428-9138D58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A9C28-4FE6-45A4-A54E-1299B929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B687C-6AE9-478A-BB61-B554FD3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DFC4C-68ED-43AE-BC17-08F7B775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01F24-721B-4E3D-BC56-DCFD46FA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550A0-E6AA-4D2A-8099-FE582568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59D6E-939E-4E5B-9FF5-7B509ECB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6F96E-4071-4A3D-84C0-6182901B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BA2DC-A633-45D6-A7D7-FC157DE0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C3A-14CC-47D0-90FA-C84358F6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4A19-37F1-4211-9DAB-01EAD8B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2270-90B6-49EF-9013-ED66938A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2166-87A6-495C-8C95-20F3F3AE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E65F7-6933-4E03-B4F3-7CBBB149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4873-E847-4783-A8F0-12106CD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96A72-3370-4E1B-8820-2155E7C0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9E793-9EF7-4639-9544-4B71594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5119-F6E5-4AB9-85F6-313E2D5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563D5-E56F-4C5A-A845-067FA78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011B-A083-420D-BD4A-B8B74C64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87B-31E2-40B1-BBDD-535212DD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B1C2A-A4C1-40E8-A2B5-9E7C5E00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2F79D-9FCF-4E21-813B-1EFFF568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1864C-CAA8-45BC-9F45-67695E59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3A1ED-ACC1-476F-80EA-EAC330B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DFA3-7C44-4E60-97E0-5F0327E8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AA12-509F-47C2-A7C7-A344DC6A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9743-2D4E-4EDC-B0BE-8E0C80B1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C4FD4-EE4E-46C8-900E-AEF0556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DB3C0-5F2E-44E5-9EE3-D7920361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C55BC-1EB6-404E-BDA7-99A985C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27D-7EB3-42D1-815F-28BE5F7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8E32-8F44-472C-A4DB-99F02331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A6E8C-D5AA-423A-A0CF-6891A3F4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30CAC-CF4C-4DBD-AC75-16122D8D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23967-CA93-4083-8DEE-7C968D47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FA70-C04F-4C82-98E6-96B4FAC7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B69B2-9615-42A9-8124-94BD3CFE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68E32-7621-40E7-B11C-9289C025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5456-D2F7-42E4-B19F-3BEE0FD2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E5EF4-9E6B-4BA9-96FC-4028D9D9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787C7-C373-43C4-98E3-77CD5561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5FF-E76E-4ED2-B6DB-1B39550C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95DB-8D02-4D61-8E81-AE0222D5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EC99-DCDB-4EE6-B8F9-4A2542EA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D9BDB-6F02-42D4-A721-945529A3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D55F5-4A73-41AF-AE2D-91B27E22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81C0-9866-4CEA-B4A6-35F1B654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BBDA-153F-4B84-A5E1-B48A79C5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6001D-D86C-45AC-95E9-D7670E33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FF592-7E4E-4440-BEA2-C78BB607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A0722-0047-4ADB-A11C-42BEF142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180F4-562C-4E25-A5CA-6CFD8C4C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67F-7A24-47AB-8BAD-46E2DE7E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0EC4D-0B70-4AED-804B-F729434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69BF6-A425-48F3-BE22-14C2CED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5A2C-EC57-46BA-B984-A5211CE0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0CA2D-4F2E-49F8-914B-3186F8CB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252FB-8ED7-4BB6-AFB6-0E00111C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EBB60-FE8B-4F3C-A0ED-5B76A179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BA079-34DA-4E15-AA59-0DBD88EE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84980-4697-492A-AB6C-C2E7F71C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2C269-1BCB-4E69-91B6-4282359B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FB36D-B020-4DEE-BFEF-2DBE63A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6F3-3F9F-43C1-AD9E-15D63647B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2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4602-3B25-4DAC-B6F3-475A1E2337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7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3A60-B05D-4729-94F5-C9BCD711D97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6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AE15-D635-400B-B7CE-3E643077845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3FC1-2B50-4721-9C95-88D3910D9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81D4-FACB-4040-8A4D-F588CA9EB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02BE-4CA4-4CCC-82C6-98892983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965C-E0F6-4E6D-BCB7-D16A9E78E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E1C7-C435-4113-AFA0-5BCD5DD0C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87F3-A88C-4E79-82ED-C6B7F71919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3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3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0883-9E36-45F2-B964-5C76681004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F6C7-2EC7-492E-BCFC-B4B0772727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teoweb.ru/" TargetMode="External"/><Relationship Id="rId2" Type="http://schemas.openxmlformats.org/officeDocument/2006/relationships/hyperlink" Target="http://www.meteoweb.ru/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hyperlink" Target="http://www.yandex.ru/" TargetMode="External"/><Relationship Id="rId5" Type="http://schemas.openxmlformats.org/officeDocument/2006/relationships/hyperlink" Target="http://www.google.com.ru/" TargetMode="External"/><Relationship Id="rId6" Type="http://schemas.openxmlformats.org/officeDocument/2006/relationships/hyperlink" Target="http://www.google.com.ru/" TargetMode="External"/><Relationship Id="rId7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Tahoma"/>
              </a:rPr>
              <a:t>ТУМ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ич Евг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омина Екате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-10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Пят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После захода солнца нагретая за день земля остывает быстрее, чем воздух. Приповерхностные слои воздуха оказываются теплее; они начинают отдавать теплоту земле и, как следствие, охлаждаются. Возникает вечерний тум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500360" cy="41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еобходимые для образования тумана услов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846720" y="3031920"/>
            <a:ext cx="7450560" cy="1390680"/>
            <a:chOff x="846720" y="3031920"/>
            <a:chExt cx="7450560" cy="1390680"/>
          </a:xfrm>
        </p:grpSpPr>
        <p:cxnSp>
          <p:nvCxnSpPr>
            <p:cNvPr id="696" name="_s101388"/>
            <p:cNvCxnSpPr>
              <a:stCxn id="697" idx="0"/>
              <a:endCxn id="698" idx="2"/>
            </p:cNvCxnSpPr>
            <p:nvPr/>
          </p:nvCxnSpPr>
          <p:spPr>
            <a:xfrm flipV="1" rot="16200000">
              <a:off x="5723280" y="2333520"/>
              <a:ext cx="229320" cy="2532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9" name="_s101387"/>
            <p:cNvCxnSpPr>
              <a:stCxn id="700" idx="0"/>
              <a:endCxn id="698" idx="2"/>
            </p:cNvCxnSpPr>
            <p:nvPr/>
          </p:nvCxnSpPr>
          <p:spPr>
            <a:xfrm flipV="1">
              <a:off x="4572000" y="348516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101386"/>
            <p:cNvCxnSpPr>
              <a:stCxn id="702" idx="0"/>
              <a:endCxn id="698" idx="2"/>
            </p:cNvCxnSpPr>
            <p:nvPr/>
          </p:nvCxnSpPr>
          <p:spPr>
            <a:xfrm flipH="1" flipV="1" rot="5400000">
              <a:off x="3192480" y="2334240"/>
              <a:ext cx="229320" cy="2531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98" name="_s101382"/>
            <p:cNvSpPr/>
            <p:nvPr/>
          </p:nvSpPr>
          <p:spPr>
            <a:xfrm>
              <a:off x="4095360" y="3031920"/>
              <a:ext cx="952920" cy="453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ТУМА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101383"/>
            <p:cNvSpPr/>
            <p:nvPr/>
          </p:nvSpPr>
          <p:spPr>
            <a:xfrm>
              <a:off x="8467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Яд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Конден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101384"/>
            <p:cNvSpPr/>
            <p:nvPr/>
          </p:nvSpPr>
          <p:spPr>
            <a:xfrm>
              <a:off x="33775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Одно из выше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Указанных услов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_s101385"/>
            <p:cNvSpPr/>
            <p:nvPr/>
          </p:nvSpPr>
          <p:spPr>
            <a:xfrm>
              <a:off x="59083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Перенасыщен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Па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тносительная влажность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сительная влажность </a:t>
            </a:r>
            <a:r>
              <a:rPr b="0" lang="el-GR" sz="2800" spc="-1" strike="noStrike">
                <a:solidFill>
                  <a:srgbClr val="ffcc66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и данной температуре определяется как отношение давл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яных паров при этой температуре к давлению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ыщенных паров, соответствующих данной температуре: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=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/p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)1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ычно ее измеряют в процен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фиксированной температуре давление водяного пара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порционально его плотности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оэтому можно использовать формул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=(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/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)10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бсолютная влаж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Плот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водяных паров, находящихся в воздухе при данной температуре, называют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абсолютной влажность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здух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для рассматриваемой температуры). Это есть общая масса водяных паров в единице объема воздуха в том или ином конкретном случа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ависимость плотности насыщенного пара от температуры (1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Н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042920" y="2349000"/>
            <a:ext cx="0" cy="302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42920" y="5373720"/>
            <a:ext cx="648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482920" y="494136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482920" y="443664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482920" y="393336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494080" y="338580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786200" y="508428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786200" y="4653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786200" y="414936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86200" y="364464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786200" y="321300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2920" y="3573360"/>
            <a:ext cx="2872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46200" y="357336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9384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7020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34656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92256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98920" y="3573360"/>
            <a:ext cx="2872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482920" y="292428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786200" y="278136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482920" y="249192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785840" y="5229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4785840" y="4797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4785840" y="4221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785840" y="3789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4785840" y="3357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785840" y="2924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785840" y="5013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785840" y="4653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785840" y="4508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785840" y="4437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4785840" y="4365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785840" y="4292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785840" y="4149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785840" y="4076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785840" y="4005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785840" y="3933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785840" y="3860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785840" y="4581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785840" y="3716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785840" y="3645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785840" y="3573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785840" y="3500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785840" y="3429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785840" y="4724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785840" y="4869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5840" y="4941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785840" y="5157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785840" y="5084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785840" y="3284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785840" y="3213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785840" y="3141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785840" y="3068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785840" y="2997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785840" y="5300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2482920" y="522936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482920" y="479736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482920" y="4292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482920" y="3860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82920" y="350028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482920" y="3068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-3131640" y="-1107000"/>
            <a:ext cx="8349840" cy="64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88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122200" y="515772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546200" y="515772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042560" y="5157720"/>
            <a:ext cx="358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0                        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116000" y="2349000"/>
            <a:ext cx="0" cy="2808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116000" y="5157720"/>
            <a:ext cx="532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-2986920" y="-1037160"/>
            <a:ext cx="8206560" cy="619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88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042920" y="4869000"/>
            <a:ext cx="144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042920" y="3716280"/>
            <a:ext cx="144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771640" y="508464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33200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08000" y="371628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728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3716280"/>
            <a:ext cx="3585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92436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292720" y="3716280"/>
            <a:ext cx="358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03280" y="4869000"/>
            <a:ext cx="289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79640" y="4869000"/>
            <a:ext cx="288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56000" y="486900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03640" y="4869000"/>
            <a:ext cx="504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95640" y="4869000"/>
            <a:ext cx="289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00720" y="4869000"/>
            <a:ext cx="431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219640" y="486900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692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68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916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363528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428472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932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65164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1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169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35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76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18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2589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33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40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47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54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90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97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0509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19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234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556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84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05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20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12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26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2411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484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62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00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77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98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313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276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41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78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06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4500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478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34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349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56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635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70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51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399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924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21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356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140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4284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442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57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64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71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485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93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00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5076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14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21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292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36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43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508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58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65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843280" y="4581000"/>
            <a:ext cx="0" cy="287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2843280" y="414972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843280" y="357300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572000" y="386064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0" y="443700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572000" y="3357720"/>
            <a:ext cx="0" cy="3585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843280" y="2997000"/>
            <a:ext cx="0" cy="431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572000" y="292428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В. Тарасов. «Физика в природе». М.: «Просвещение»,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meteowe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google.co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Ядра конденсации- жидкие или твердые частички, взвешенные в атмосфере, на которых начинается конденсация водяного пара и образуются капельки облаков и туманов (ионы, капельки воды, пылинки, частички сажи и др.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08880" y="5827680"/>
            <a:ext cx="1633320" cy="468360"/>
          </a:xfrm>
          <a:custGeom>
            <a:avLst/>
            <a:gdLst>
              <a:gd name="textAreaLeft" fmla="*/ 285840 w 1633320"/>
              <a:gd name="textAreaRight" fmla="*/ 1184400 w 1633320"/>
              <a:gd name="textAreaTop" fmla="*/ 62640 h 468360"/>
              <a:gd name="textAreaBottom" fmla="*/ 405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500280" y="5634000"/>
            <a:ext cx="2149560" cy="10303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>
            <a:hlinkClick r:id="rId1" action="ppaction://hlinksldjump"/>
          </p:cNvPr>
          <p:cNvSpPr/>
          <p:nvPr/>
        </p:nvSpPr>
        <p:spPr>
          <a:xfrm>
            <a:off x="6012000" y="5877000"/>
            <a:ext cx="1584360" cy="43164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очка росы- температура, до которой должен охладиться воздух при заданном давлении, чтобы содержащийся в нем водяной пар достиг состояния насыщения и начал конденсироваться. При относительной влажности 100% фактическая температура воздуха и точка росы совпадаю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">
            <a:hlinkClick r:id="rId1" action="ppaction://hlinksldjump"/>
          </p:cNvPr>
          <p:cNvSpPr/>
          <p:nvPr/>
        </p:nvSpPr>
        <p:spPr>
          <a:xfrm>
            <a:off x="6012000" y="5877000"/>
            <a:ext cx="1584360" cy="43164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тность перенасыщенного пара должна быть в несколько раз больше плотности насыщенного па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сыщенный водяной пар- это пар, находящийся над поверхностью воды, когда число молекул, покидающих за единицу времени жидкость, в среднем равно числу молекул воды, возвращающихся за то же время обрат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>
            <a:hlinkClick r:id="rId1" action="ppaction://hlinksldjump"/>
          </p:cNvPr>
          <p:cNvSpPr/>
          <p:nvPr/>
        </p:nvSpPr>
        <p:spPr>
          <a:xfrm>
            <a:off x="6156360" y="6165720"/>
            <a:ext cx="1584360" cy="43200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Бледнеет ночь… Туманов пелена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В лощинах и лугах становится белее,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Звучнее лес, безжизненней луна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И серебро росы на стеклах холоднее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И. А. Бунин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48000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99"/>
                </a:solidFill>
                <a:latin typeface="Times New Roman"/>
              </a:rPr>
              <a:t>ЦЕЛЬ: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яснить, что же такое тум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ъяснить причины возникновения тума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знакомиться с различными видами туман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уман- скопление в приземном слое атмосферы взвешенных в воздухе мельчайших капель воды или ледяных кристаллов, образующихся в результате: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конденсации водяного пара при охлаждении воздуха ниже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точки росы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(туманы охлаждения); или</a:t>
            </a:r>
            <a:br>
              <a:rPr sz="2800"/>
            </a:b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- испарения с более теплой испаряющей поверхности в холодный воздух над водоемами и влажными участками суши (туманы испарения) 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cover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звестны разные виды туманов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53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положим, что у нас есть хорошо прогреваемый солнцем водоем. За ночь воздух над его поверхностью охлаждается в большей степени, чем сама вода, и его температура оказывается существенно ниже. Над водой возникает утренний тум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т туман весьма нестоек. Взойдет солнце, и он растает без сле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356000" cy="42274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Второ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Холодный воздух переносится ветром в горизонтальном направлении и оказывается над теплой водой. И тут же над водой появляется туман. Такой туман можно наблюдать, например, в Арктике, когда слои холодного воздуха над льдами перемещаются на открытую в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Трет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Теплый воздух переносится ветром в горизонтальном направлении и оказывается над холодной поверхностью. При этом он охлаждается, и в результате возникает туман. Такой туман образуется, например, когда воздушные массы, получившие теплоту от реки, перемещаются к покрытому снегом холодному бере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03848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Четверт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Находящиеся над нагретой водой теплые слои воздуха поднимаются по склону горы вверх и попадают в область относительно холодного воздуха. И уже там, наверху, в процессе охлаждения поднявшегося теплого воздуха образуется туман, который по склону горы опускается затем вниз, к в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50028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5003640" cy="3213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1:55:32Z</dcterms:created>
  <dc:creator>DRAGON</dc:creator>
  <dc:description/>
  <dc:language>en-US</dc:language>
  <cp:lastModifiedBy>Учитель</cp:lastModifiedBy>
  <dcterms:modified xsi:type="dcterms:W3CDTF">2005-06-17T08:30:02Z</dcterms:modified>
  <cp:revision>31</cp:revision>
  <dc:subject/>
  <dc:title>ТУМ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a0000000000010243100207f6000400038000</vt:lpwstr>
  </property>
</Properties>
</file>