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14.png" ContentType="image/png"/>
  <Override PartName="/ppt/media/image11.gif" ContentType="image/gif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53F-78AB-421F-91C3-B37BCB24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B662-0A4B-4158-B970-7D3D184F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A7D-EF4E-490C-A62F-5F25E5F6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DAF2-EC51-4130-A9A9-D08811E3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6F37-EC71-4816-B852-D7C8F0BA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C3FB-7D40-4AEC-99F6-F230996C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3C84-1D13-488F-AA8B-3CBF6276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3D82-29BD-4B49-8CF3-14243855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0782-FA0A-465D-B4A3-75630486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2EEE-32F0-47FC-A2E5-4602C79B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BD64-5547-44A6-8F25-3DE31073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3BF7-3E5B-48A8-842D-A00A1759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B226-9F45-4BFA-BAA8-FD261982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D734-5DA3-49A6-836A-B4CE8E3A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DBBA-65DB-4550-9630-9270BBCB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F8F8-D676-4A08-A329-33B4C865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19A1-B7A8-41EF-AED8-3B80AC63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CEFB-EBD5-48A8-A319-6B9979CA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C57-5F86-4702-828E-BEF82699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1FFA-BCF3-4918-89B7-1944BE33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5C9-8354-4D4E-98E9-04A87AE8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1BF-DF1E-41F1-9CB3-C4DFC07C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3E8C-E16B-44CF-A2AE-B87D48D0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6F2-00B6-4CA8-9E69-76D42A81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ABB8-37F3-424F-87E5-E62440CD7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1B67-6CD8-48F7-B0D8-00C4FFD6A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5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" Target="slide27.xml"/><Relationship Id="rId9" Type="http://schemas.openxmlformats.org/officeDocument/2006/relationships/slide" Target="slide30.xml"/><Relationship Id="rId10" Type="http://schemas.openxmlformats.org/officeDocument/2006/relationships/image" Target="../media/image3.png"/><Relationship Id="rId11" Type="http://schemas.openxmlformats.org/officeDocument/2006/relationships/slide" Target="slide18.xml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Тренажёр по краеведению.</a:t>
            </a:r>
            <a:br>
              <a:rPr sz="4400"/>
            </a:b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Мир природы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614628"/>
                </a:solidFill>
                <a:latin typeface="Arial"/>
              </a:rPr>
              <a:t>Полезные ископаемы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85920" y="485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втор: Коляда Елена Владими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БОУ ЯСОШ№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.Ярце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32" name="Управляющая кнопка: домой 4">
            <a:hlinkClick r:id="rId3" action="ppaction://hlinksldjump"/>
          </p:cNvPr>
          <p:cNvSpPr/>
          <p:nvPr/>
        </p:nvSpPr>
        <p:spPr>
          <a:xfrm>
            <a:off x="142920" y="6357960"/>
            <a:ext cx="542880" cy="357120"/>
          </a:xfrm>
          <a:custGeom>
            <a:avLst/>
            <a:gdLst>
              <a:gd name="textAreaLeft" fmla="*/ 23040 w 542880"/>
              <a:gd name="textAreaRight" fmla="*/ 519840 w 5428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2824" h="21600">
                <a:moveTo>
                  <a:pt x="0" y="0"/>
                </a:moveTo>
                <a:lnTo>
                  <a:pt x="32824" y="0"/>
                </a:lnTo>
                <a:lnTo>
                  <a:pt x="32824" y="21600"/>
                </a:lnTo>
                <a:lnTo>
                  <a:pt x="0" y="21600"/>
                </a:lnTo>
                <a:close/>
              </a:path>
              <a:path fill="lightenLess" w="32824" h="21600">
                <a:moveTo>
                  <a:pt x="0" y="0"/>
                </a:moveTo>
                <a:lnTo>
                  <a:pt x="32824" y="0"/>
                </a:lnTo>
                <a:lnTo>
                  <a:pt x="31424" y="1400"/>
                </a:lnTo>
                <a:lnTo>
                  <a:pt x="1400" y="1400"/>
                </a:lnTo>
                <a:close/>
              </a:path>
              <a:path fill="darken" w="32824" h="21600">
                <a:moveTo>
                  <a:pt x="32824" y="0"/>
                </a:moveTo>
                <a:lnTo>
                  <a:pt x="32824" y="21600"/>
                </a:lnTo>
                <a:lnTo>
                  <a:pt x="31424" y="20200"/>
                </a:lnTo>
                <a:lnTo>
                  <a:pt x="31424" y="1400"/>
                </a:lnTo>
                <a:close/>
              </a:path>
              <a:path fill="darkenLess" w="32824" h="21600">
                <a:moveTo>
                  <a:pt x="3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24" y="20200"/>
                </a:lnTo>
                <a:close/>
              </a:path>
              <a:path fill="lighten" w="3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24" h="21600">
                <a:moveTo>
                  <a:pt x="16412" y="3837"/>
                </a:moveTo>
                <a:lnTo>
                  <a:pt x="18988" y="6448"/>
                </a:lnTo>
                <a:lnTo>
                  <a:pt x="18988" y="4707"/>
                </a:lnTo>
                <a:lnTo>
                  <a:pt x="20764" y="4707"/>
                </a:lnTo>
                <a:lnTo>
                  <a:pt x="20764" y="8224"/>
                </a:lnTo>
                <a:lnTo>
                  <a:pt x="23375" y="10800"/>
                </a:lnTo>
                <a:lnTo>
                  <a:pt x="21721" y="10800"/>
                </a:lnTo>
                <a:lnTo>
                  <a:pt x="21721" y="17989"/>
                </a:lnTo>
                <a:lnTo>
                  <a:pt x="11103" y="17989"/>
                </a:lnTo>
                <a:lnTo>
                  <a:pt x="11103" y="10800"/>
                </a:lnTo>
                <a:lnTo>
                  <a:pt x="9449" y="10800"/>
                </a:lnTo>
                <a:close/>
              </a:path>
              <a:path fill="darkenLess" w="32824" h="21600">
                <a:moveTo>
                  <a:pt x="18988" y="6448"/>
                </a:moveTo>
                <a:lnTo>
                  <a:pt x="18988" y="4707"/>
                </a:lnTo>
                <a:lnTo>
                  <a:pt x="20764" y="4707"/>
                </a:lnTo>
                <a:lnTo>
                  <a:pt x="20764" y="8224"/>
                </a:lnTo>
                <a:close/>
              </a:path>
              <a:path fill="darkenLess" w="32824" h="21600">
                <a:moveTo>
                  <a:pt x="15489" y="14299"/>
                </a:moveTo>
                <a:lnTo>
                  <a:pt x="17335" y="14299"/>
                </a:lnTo>
                <a:lnTo>
                  <a:pt x="17335" y="17989"/>
                </a:lnTo>
                <a:lnTo>
                  <a:pt x="21721" y="17989"/>
                </a:lnTo>
                <a:lnTo>
                  <a:pt x="21721" y="10800"/>
                </a:lnTo>
                <a:lnTo>
                  <a:pt x="11103" y="10800"/>
                </a:lnTo>
                <a:lnTo>
                  <a:pt x="11103" y="17989"/>
                </a:lnTo>
                <a:lnTo>
                  <a:pt x="15489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35" name="Управляющая кнопка: домой 3">
            <a:hlinkClick r:id="rId2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4.</a:t>
            </a:r>
            <a:br>
              <a:rPr sz="2800"/>
            </a:b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Рыхлая порода, состоящая из округлых и угловатых зёрныш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TextBox 3" descr=""/>
          <p:cNvPicPr/>
          <p:nvPr/>
        </p:nvPicPr>
        <p:blipFill>
          <a:blip r:embed="rId1"/>
          <a:stretch/>
        </p:blipFill>
        <p:spPr>
          <a:xfrm>
            <a:off x="311040" y="2189160"/>
            <a:ext cx="2932200" cy="749160"/>
          </a:xfrm>
          <a:prstGeom prst="rect">
            <a:avLst/>
          </a:prstGeom>
          <a:ln w="0">
            <a:noFill/>
          </a:ln>
        </p:spPr>
      </p:pic>
      <p:pic>
        <p:nvPicPr>
          <p:cNvPr id="138" name="TextBox 4" descr=""/>
          <p:cNvPicPr/>
          <p:nvPr/>
        </p:nvPicPr>
        <p:blipFill>
          <a:blip r:embed="rId2"/>
          <a:stretch/>
        </p:blipFill>
        <p:spPr>
          <a:xfrm>
            <a:off x="2955960" y="3475080"/>
            <a:ext cx="1908000" cy="749160"/>
          </a:xfrm>
          <a:prstGeom prst="rect">
            <a:avLst/>
          </a:prstGeom>
          <a:ln w="0">
            <a:noFill/>
          </a:ln>
        </p:spPr>
      </p:pic>
      <p:pic>
        <p:nvPicPr>
          <p:cNvPr id="139" name="TextBox 5" descr=""/>
          <p:cNvPicPr/>
          <p:nvPr/>
        </p:nvPicPr>
        <p:blipFill>
          <a:blip r:embed="rId3"/>
          <a:stretch/>
        </p:blipFill>
        <p:spPr>
          <a:xfrm>
            <a:off x="5456160" y="2262240"/>
            <a:ext cx="3303720" cy="749160"/>
          </a:xfrm>
          <a:prstGeom prst="rect">
            <a:avLst/>
          </a:prstGeom>
          <a:ln w="0">
            <a:noFill/>
          </a:ln>
        </p:spPr>
      </p:pic>
      <p:pic>
        <p:nvPicPr>
          <p:cNvPr id="140" name="TextBox 6" descr=""/>
          <p:cNvPicPr/>
          <p:nvPr/>
        </p:nvPicPr>
        <p:blipFill>
          <a:blip r:embed="rId4"/>
          <a:stretch/>
        </p:blipFill>
        <p:spPr>
          <a:xfrm>
            <a:off x="596880" y="4621320"/>
            <a:ext cx="1494000" cy="742680"/>
          </a:xfrm>
          <a:prstGeom prst="rect">
            <a:avLst/>
          </a:prstGeom>
          <a:ln w="0">
            <a:noFill/>
          </a:ln>
        </p:spPr>
      </p:pic>
      <p:pic>
        <p:nvPicPr>
          <p:cNvPr id="141" name="TextBox 7" descr=""/>
          <p:cNvPicPr/>
          <p:nvPr/>
        </p:nvPicPr>
        <p:blipFill>
          <a:blip r:embed="rId5"/>
          <a:stretch/>
        </p:blipFill>
        <p:spPr>
          <a:xfrm>
            <a:off x="5883120" y="4621320"/>
            <a:ext cx="1901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45" name="Управляющая кнопка: домой 5">
            <a:hlinkClick r:id="rId3" action="ppaction://hlinksldjump"/>
          </p:cNvPr>
          <p:cNvSpPr/>
          <p:nvPr/>
        </p:nvSpPr>
        <p:spPr>
          <a:xfrm>
            <a:off x="214200" y="6215040"/>
            <a:ext cx="542880" cy="471600"/>
          </a:xfrm>
          <a:custGeom>
            <a:avLst/>
            <a:gdLst>
              <a:gd name="textAreaLeft" fmla="*/ 30240 w 542880"/>
              <a:gd name="textAreaRight" fmla="*/ 512640 w 5428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4862" h="21600">
                <a:moveTo>
                  <a:pt x="0" y="0"/>
                </a:moveTo>
                <a:lnTo>
                  <a:pt x="24862" y="0"/>
                </a:lnTo>
                <a:lnTo>
                  <a:pt x="24862" y="21600"/>
                </a:lnTo>
                <a:lnTo>
                  <a:pt x="0" y="21600"/>
                </a:lnTo>
                <a:close/>
              </a:path>
              <a:path fill="lightenLess" w="24862" h="21600">
                <a:moveTo>
                  <a:pt x="0" y="0"/>
                </a:moveTo>
                <a:lnTo>
                  <a:pt x="24862" y="0"/>
                </a:lnTo>
                <a:lnTo>
                  <a:pt x="23462" y="1400"/>
                </a:lnTo>
                <a:lnTo>
                  <a:pt x="1400" y="1400"/>
                </a:lnTo>
                <a:close/>
              </a:path>
              <a:path fill="darken" w="24862" h="21600">
                <a:moveTo>
                  <a:pt x="24862" y="0"/>
                </a:moveTo>
                <a:lnTo>
                  <a:pt x="24862" y="21600"/>
                </a:lnTo>
                <a:lnTo>
                  <a:pt x="23462" y="20200"/>
                </a:lnTo>
                <a:lnTo>
                  <a:pt x="23462" y="1400"/>
                </a:lnTo>
                <a:close/>
              </a:path>
              <a:path fill="darkenLess" w="24862" h="21600">
                <a:moveTo>
                  <a:pt x="24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2" y="20200"/>
                </a:lnTo>
                <a:close/>
              </a:path>
              <a:path fill="lighten" w="24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2" h="21600">
                <a:moveTo>
                  <a:pt x="12431" y="3837"/>
                </a:moveTo>
                <a:lnTo>
                  <a:pt x="15007" y="6448"/>
                </a:lnTo>
                <a:lnTo>
                  <a:pt x="15007" y="4707"/>
                </a:lnTo>
                <a:lnTo>
                  <a:pt x="16783" y="4707"/>
                </a:lnTo>
                <a:lnTo>
                  <a:pt x="16783" y="8224"/>
                </a:lnTo>
                <a:lnTo>
                  <a:pt x="19394" y="10800"/>
                </a:lnTo>
                <a:lnTo>
                  <a:pt x="17740" y="10800"/>
                </a:lnTo>
                <a:lnTo>
                  <a:pt x="17740" y="17989"/>
                </a:lnTo>
                <a:lnTo>
                  <a:pt x="7122" y="17989"/>
                </a:lnTo>
                <a:lnTo>
                  <a:pt x="7122" y="10800"/>
                </a:lnTo>
                <a:lnTo>
                  <a:pt x="5468" y="10800"/>
                </a:lnTo>
                <a:close/>
              </a:path>
              <a:path fill="darkenLess" w="24862" h="21600">
                <a:moveTo>
                  <a:pt x="15007" y="6448"/>
                </a:moveTo>
                <a:lnTo>
                  <a:pt x="15007" y="4707"/>
                </a:lnTo>
                <a:lnTo>
                  <a:pt x="16783" y="4707"/>
                </a:lnTo>
                <a:lnTo>
                  <a:pt x="16783" y="8224"/>
                </a:lnTo>
                <a:close/>
              </a:path>
              <a:path fill="darkenLess" w="24862" h="21600">
                <a:moveTo>
                  <a:pt x="11509" y="14299"/>
                </a:moveTo>
                <a:lnTo>
                  <a:pt x="13354" y="14299"/>
                </a:lnTo>
                <a:lnTo>
                  <a:pt x="13354" y="17989"/>
                </a:lnTo>
                <a:lnTo>
                  <a:pt x="17740" y="17989"/>
                </a:lnTo>
                <a:lnTo>
                  <a:pt x="17740" y="10800"/>
                </a:lnTo>
                <a:lnTo>
                  <a:pt x="7122" y="10800"/>
                </a:lnTo>
                <a:lnTo>
                  <a:pt x="7122" y="17989"/>
                </a:lnTo>
                <a:lnTo>
                  <a:pt x="11509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48" name="Управляющая кнопка: домой 3">
            <a:hlinkClick r:id="rId2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5.Землистая порода состоящая из очень мелких частичек легко размокает в воде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TextBox 3" descr=""/>
          <p:cNvPicPr/>
          <p:nvPr/>
        </p:nvPicPr>
        <p:blipFill>
          <a:blip r:embed="rId1"/>
          <a:stretch/>
        </p:blipFill>
        <p:spPr>
          <a:xfrm>
            <a:off x="384120" y="2189160"/>
            <a:ext cx="2560680" cy="7491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4" descr=""/>
          <p:cNvPicPr/>
          <p:nvPr/>
        </p:nvPicPr>
        <p:blipFill>
          <a:blip r:embed="rId2"/>
          <a:stretch/>
        </p:blipFill>
        <p:spPr>
          <a:xfrm>
            <a:off x="3597120" y="3621240"/>
            <a:ext cx="1766880" cy="742680"/>
          </a:xfrm>
          <a:prstGeom prst="rect">
            <a:avLst/>
          </a:prstGeom>
          <a:ln w="0">
            <a:noFill/>
          </a:ln>
        </p:spPr>
      </p:pic>
      <p:pic>
        <p:nvPicPr>
          <p:cNvPr id="152" name="TextBox 5" descr=""/>
          <p:cNvPicPr/>
          <p:nvPr/>
        </p:nvPicPr>
        <p:blipFill>
          <a:blip r:embed="rId3"/>
          <a:stretch/>
        </p:blipFill>
        <p:spPr>
          <a:xfrm>
            <a:off x="596880" y="5048280"/>
            <a:ext cx="1841400" cy="74916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 6" descr=""/>
          <p:cNvPicPr/>
          <p:nvPr/>
        </p:nvPicPr>
        <p:blipFill>
          <a:blip r:embed="rId4"/>
          <a:stretch/>
        </p:blipFill>
        <p:spPr>
          <a:xfrm>
            <a:off x="6456240" y="5048280"/>
            <a:ext cx="1724040" cy="74916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 7" descr=""/>
          <p:cNvPicPr/>
          <p:nvPr/>
        </p:nvPicPr>
        <p:blipFill>
          <a:blip r:embed="rId5"/>
          <a:stretch/>
        </p:blipFill>
        <p:spPr>
          <a:xfrm>
            <a:off x="6168960" y="2262240"/>
            <a:ext cx="18525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58" name="Управляющая кнопка: домой 4">
            <a:hlinkClick r:id="rId3" action="ppaction://hlinksldjump"/>
          </p:cNvPr>
          <p:cNvSpPr/>
          <p:nvPr/>
        </p:nvSpPr>
        <p:spPr>
          <a:xfrm>
            <a:off x="214200" y="6215040"/>
            <a:ext cx="542880" cy="500040"/>
          </a:xfrm>
          <a:custGeom>
            <a:avLst/>
            <a:gdLst>
              <a:gd name="textAreaLeft" fmla="*/ 32400 w 542880"/>
              <a:gd name="textAreaRight" fmla="*/ 510480 w 5428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3449" h="21600">
                <a:moveTo>
                  <a:pt x="0" y="0"/>
                </a:moveTo>
                <a:lnTo>
                  <a:pt x="23449" y="0"/>
                </a:lnTo>
                <a:lnTo>
                  <a:pt x="23449" y="21600"/>
                </a:lnTo>
                <a:lnTo>
                  <a:pt x="0" y="21600"/>
                </a:lnTo>
                <a:close/>
              </a:path>
              <a:path fill="lightenLess" w="23449" h="21600">
                <a:moveTo>
                  <a:pt x="0" y="0"/>
                </a:moveTo>
                <a:lnTo>
                  <a:pt x="23449" y="0"/>
                </a:lnTo>
                <a:lnTo>
                  <a:pt x="22049" y="1400"/>
                </a:lnTo>
                <a:lnTo>
                  <a:pt x="1400" y="1400"/>
                </a:lnTo>
                <a:close/>
              </a:path>
              <a:path fill="darken" w="23449" h="21600">
                <a:moveTo>
                  <a:pt x="23449" y="0"/>
                </a:moveTo>
                <a:lnTo>
                  <a:pt x="23449" y="21600"/>
                </a:lnTo>
                <a:lnTo>
                  <a:pt x="22049" y="20200"/>
                </a:lnTo>
                <a:lnTo>
                  <a:pt x="22049" y="1400"/>
                </a:lnTo>
                <a:close/>
              </a:path>
              <a:path fill="darkenLess" w="23449" h="21600">
                <a:moveTo>
                  <a:pt x="23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9" y="20200"/>
                </a:lnTo>
                <a:close/>
              </a:path>
              <a:path fill="lighten" w="23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9" h="21600">
                <a:moveTo>
                  <a:pt x="11725" y="3837"/>
                </a:moveTo>
                <a:lnTo>
                  <a:pt x="14301" y="6448"/>
                </a:lnTo>
                <a:lnTo>
                  <a:pt x="14301" y="4707"/>
                </a:lnTo>
                <a:lnTo>
                  <a:pt x="16076" y="4707"/>
                </a:lnTo>
                <a:lnTo>
                  <a:pt x="16076" y="8224"/>
                </a:lnTo>
                <a:lnTo>
                  <a:pt x="18688" y="10800"/>
                </a:lnTo>
                <a:lnTo>
                  <a:pt x="17034" y="10800"/>
                </a:lnTo>
                <a:lnTo>
                  <a:pt x="17034" y="17989"/>
                </a:lnTo>
                <a:lnTo>
                  <a:pt x="6415" y="17989"/>
                </a:lnTo>
                <a:lnTo>
                  <a:pt x="6415" y="10800"/>
                </a:lnTo>
                <a:lnTo>
                  <a:pt x="4762" y="10800"/>
                </a:lnTo>
                <a:close/>
              </a:path>
              <a:path fill="darkenLess" w="23449" h="21600">
                <a:moveTo>
                  <a:pt x="14301" y="6448"/>
                </a:moveTo>
                <a:lnTo>
                  <a:pt x="14301" y="4707"/>
                </a:lnTo>
                <a:lnTo>
                  <a:pt x="16076" y="4707"/>
                </a:lnTo>
                <a:lnTo>
                  <a:pt x="16076" y="8224"/>
                </a:lnTo>
                <a:close/>
              </a:path>
              <a:path fill="darkenLess" w="23449" h="21600">
                <a:moveTo>
                  <a:pt x="10802" y="14299"/>
                </a:moveTo>
                <a:lnTo>
                  <a:pt x="12647" y="14299"/>
                </a:lnTo>
                <a:lnTo>
                  <a:pt x="12647" y="17989"/>
                </a:lnTo>
                <a:lnTo>
                  <a:pt x="17034" y="17989"/>
                </a:lnTo>
                <a:lnTo>
                  <a:pt x="17034" y="10800"/>
                </a:lnTo>
                <a:lnTo>
                  <a:pt x="6415" y="10800"/>
                </a:lnTo>
                <a:lnTo>
                  <a:pt x="6415" y="17989"/>
                </a:lnTo>
                <a:lnTo>
                  <a:pt x="10802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61" name="Управляющая кнопка: домой 3">
            <a:hlinkClick r:id="rId2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6. </a:t>
            </a:r>
            <a:br>
              <a:rPr sz="2800"/>
            </a:b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Горючее полезное ископаемое.</a:t>
            </a:r>
            <a:br>
              <a:rPr sz="2800"/>
            </a:b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Образуется в болотах из остатков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TextBox 3" descr=""/>
          <p:cNvPicPr/>
          <p:nvPr/>
        </p:nvPicPr>
        <p:blipFill>
          <a:blip r:embed="rId1"/>
          <a:stretch/>
        </p:blipFill>
        <p:spPr>
          <a:xfrm>
            <a:off x="96840" y="1974960"/>
            <a:ext cx="3414600" cy="749160"/>
          </a:xfrm>
          <a:prstGeom prst="rect">
            <a:avLst/>
          </a:prstGeom>
          <a:ln w="0">
            <a:noFill/>
          </a:ln>
        </p:spPr>
      </p:pic>
      <p:pic>
        <p:nvPicPr>
          <p:cNvPr id="164" name="TextBox 4" descr=""/>
          <p:cNvPicPr/>
          <p:nvPr/>
        </p:nvPicPr>
        <p:blipFill>
          <a:blip r:embed="rId2"/>
          <a:stretch/>
        </p:blipFill>
        <p:spPr>
          <a:xfrm>
            <a:off x="5456160" y="1908000"/>
            <a:ext cx="3017880" cy="743040"/>
          </a:xfrm>
          <a:prstGeom prst="rect">
            <a:avLst/>
          </a:prstGeom>
          <a:ln w="0">
            <a:noFill/>
          </a:ln>
        </p:spPr>
      </p:pic>
      <p:pic>
        <p:nvPicPr>
          <p:cNvPr id="165" name="TextBox 5" descr=""/>
          <p:cNvPicPr/>
          <p:nvPr/>
        </p:nvPicPr>
        <p:blipFill>
          <a:blip r:embed="rId3"/>
          <a:stretch/>
        </p:blipFill>
        <p:spPr>
          <a:xfrm>
            <a:off x="2097000" y="3621240"/>
            <a:ext cx="4505400" cy="74268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 6" descr=""/>
          <p:cNvPicPr/>
          <p:nvPr/>
        </p:nvPicPr>
        <p:blipFill>
          <a:blip r:embed="rId4"/>
          <a:stretch/>
        </p:blipFill>
        <p:spPr>
          <a:xfrm>
            <a:off x="23760" y="5407200"/>
            <a:ext cx="3341880" cy="744480"/>
          </a:xfrm>
          <a:prstGeom prst="rect">
            <a:avLst/>
          </a:prstGeom>
          <a:ln w="0">
            <a:noFill/>
          </a:ln>
        </p:spPr>
      </p:pic>
      <p:pic>
        <p:nvPicPr>
          <p:cNvPr id="167" name="TextBox 7" descr=""/>
          <p:cNvPicPr/>
          <p:nvPr/>
        </p:nvPicPr>
        <p:blipFill>
          <a:blip r:embed="rId5"/>
          <a:stretch/>
        </p:blipFill>
        <p:spPr>
          <a:xfrm>
            <a:off x="6529320" y="5479920"/>
            <a:ext cx="172404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71" name="Управляющая кнопка: домой 4">
            <a:hlinkClick r:id="rId3" action="ppaction://hlinksldjump"/>
          </p:cNvPr>
          <p:cNvSpPr/>
          <p:nvPr/>
        </p:nvSpPr>
        <p:spPr>
          <a:xfrm>
            <a:off x="142920" y="6286680"/>
            <a:ext cx="471600" cy="399960"/>
          </a:xfrm>
          <a:custGeom>
            <a:avLst/>
            <a:gdLst>
              <a:gd name="textAreaLeft" fmla="*/ 25920 w 471600"/>
              <a:gd name="textAreaRight" fmla="*/ 445680 w 47160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12733" y="3837"/>
                </a:moveTo>
                <a:lnTo>
                  <a:pt x="15309" y="6448"/>
                </a:lnTo>
                <a:lnTo>
                  <a:pt x="15309" y="4707"/>
                </a:lnTo>
                <a:lnTo>
                  <a:pt x="17085" y="4707"/>
                </a:lnTo>
                <a:lnTo>
                  <a:pt x="17085" y="8224"/>
                </a:lnTo>
                <a:lnTo>
                  <a:pt x="19696" y="10800"/>
                </a:lnTo>
                <a:lnTo>
                  <a:pt x="18042" y="10800"/>
                </a:lnTo>
                <a:lnTo>
                  <a:pt x="18042" y="17989"/>
                </a:lnTo>
                <a:lnTo>
                  <a:pt x="7423" y="17989"/>
                </a:lnTo>
                <a:lnTo>
                  <a:pt x="7423" y="10800"/>
                </a:lnTo>
                <a:lnTo>
                  <a:pt x="5770" y="10800"/>
                </a:lnTo>
                <a:close/>
              </a:path>
              <a:path fill="darkenLess" w="25465" h="21600">
                <a:moveTo>
                  <a:pt x="15309" y="6448"/>
                </a:moveTo>
                <a:lnTo>
                  <a:pt x="15309" y="4707"/>
                </a:lnTo>
                <a:lnTo>
                  <a:pt x="17085" y="4707"/>
                </a:lnTo>
                <a:lnTo>
                  <a:pt x="17085" y="8224"/>
                </a:lnTo>
                <a:close/>
              </a:path>
              <a:path fill="darkenLess" w="25465" h="21600">
                <a:moveTo>
                  <a:pt x="11810" y="14299"/>
                </a:moveTo>
                <a:lnTo>
                  <a:pt x="13655" y="14299"/>
                </a:lnTo>
                <a:lnTo>
                  <a:pt x="13655" y="17989"/>
                </a:lnTo>
                <a:lnTo>
                  <a:pt x="18042" y="17989"/>
                </a:lnTo>
                <a:lnTo>
                  <a:pt x="18042" y="10800"/>
                </a:lnTo>
                <a:lnTo>
                  <a:pt x="7423" y="10800"/>
                </a:lnTo>
                <a:lnTo>
                  <a:pt x="7423" y="17989"/>
                </a:lnTo>
                <a:lnTo>
                  <a:pt x="11810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14628"/>
                </a:solidFill>
                <a:latin typeface="Arial"/>
              </a:rPr>
              <a:t>Номера вопр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>
            <a:hlinkClick r:id="rId1" action="ppaction://hlinksldjump"/>
          </p:cNvPr>
          <p:cNvSpPr/>
          <p:nvPr/>
        </p:nvSpPr>
        <p:spPr>
          <a:xfrm>
            <a:off x="431280" y="1357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>
            <a:hlinkClick r:id="rId2" action="ppaction://hlinksldjump"/>
          </p:cNvPr>
          <p:cNvSpPr/>
          <p:nvPr/>
        </p:nvSpPr>
        <p:spPr>
          <a:xfrm>
            <a:off x="431280" y="185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>
            <a:hlinkClick r:id="rId3" action="ppaction://hlinksldjump"/>
          </p:cNvPr>
          <p:cNvSpPr/>
          <p:nvPr/>
        </p:nvSpPr>
        <p:spPr>
          <a:xfrm>
            <a:off x="431280" y="235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>
            <a:hlinkClick r:id="rId4" action="ppaction://hlinksldjump"/>
          </p:cNvPr>
          <p:cNvSpPr/>
          <p:nvPr/>
        </p:nvSpPr>
        <p:spPr>
          <a:xfrm>
            <a:off x="431280" y="278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>
            <a:hlinkClick r:id="rId5" action="ppaction://hlinksldjump"/>
          </p:cNvPr>
          <p:cNvSpPr/>
          <p:nvPr/>
        </p:nvSpPr>
        <p:spPr>
          <a:xfrm>
            <a:off x="431280" y="32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>
            <a:hlinkClick r:id="rId6" action="ppaction://hlinksldjump"/>
          </p:cNvPr>
          <p:cNvSpPr/>
          <p:nvPr/>
        </p:nvSpPr>
        <p:spPr>
          <a:xfrm>
            <a:off x="431280" y="4143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>
            <a:hlinkClick r:id="rId7" action="ppaction://hlinksldjump"/>
          </p:cNvPr>
          <p:cNvSpPr/>
          <p:nvPr/>
        </p:nvSpPr>
        <p:spPr>
          <a:xfrm>
            <a:off x="43128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>
            <a:hlinkClick r:id="rId8" action="ppaction://hlinksldjump"/>
          </p:cNvPr>
          <p:cNvSpPr/>
          <p:nvPr/>
        </p:nvSpPr>
        <p:spPr>
          <a:xfrm>
            <a:off x="431280" y="5000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>
            <a:hlinkClick r:id="rId9" action="ppaction://hlinksldjump"/>
          </p:cNvPr>
          <p:cNvSpPr/>
          <p:nvPr/>
        </p:nvSpPr>
        <p:spPr>
          <a:xfrm>
            <a:off x="360720" y="5500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0"/>
          <a:stretch/>
        </p:blipFill>
        <p:spPr>
          <a:xfrm>
            <a:off x="3071880" y="1714680"/>
            <a:ext cx="5143320" cy="3857400"/>
          </a:xfrm>
          <a:prstGeom prst="rect">
            <a:avLst/>
          </a:prstGeom>
          <a:ln w="0">
            <a:noFill/>
          </a:ln>
        </p:spPr>
      </p:pic>
      <p:sp>
        <p:nvSpPr>
          <p:cNvPr id="95" name="TextBox 16">
            <a:hlinkClick r:id="rId11" action="ppaction://hlinksldjump"/>
          </p:cNvPr>
          <p:cNvSpPr/>
          <p:nvPr/>
        </p:nvSpPr>
        <p:spPr>
          <a:xfrm>
            <a:off x="431280" y="3714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74" name="Управляющая кнопка: домой 3">
            <a:hlinkClick r:id="rId2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7. </a:t>
            </a:r>
            <a:br>
              <a:rPr sz="2400"/>
            </a:b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Горючее ископаемое растительного происхождения, представляющее собой переходную форму от торфа к каменному уг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TextBox 3" descr=""/>
          <p:cNvPicPr/>
          <p:nvPr/>
        </p:nvPicPr>
        <p:blipFill>
          <a:blip r:embed="rId1"/>
          <a:stretch/>
        </p:blipFill>
        <p:spPr>
          <a:xfrm>
            <a:off x="96840" y="1974960"/>
            <a:ext cx="3414600" cy="749160"/>
          </a:xfrm>
          <a:prstGeom prst="rect">
            <a:avLst/>
          </a:prstGeom>
          <a:ln w="0">
            <a:noFill/>
          </a:ln>
        </p:spPr>
      </p:pic>
      <p:pic>
        <p:nvPicPr>
          <p:cNvPr id="177" name="TextBox 4" descr=""/>
          <p:cNvPicPr/>
          <p:nvPr/>
        </p:nvPicPr>
        <p:blipFill>
          <a:blip r:embed="rId2"/>
          <a:stretch/>
        </p:blipFill>
        <p:spPr>
          <a:xfrm>
            <a:off x="5456160" y="1908000"/>
            <a:ext cx="3017880" cy="743040"/>
          </a:xfrm>
          <a:prstGeom prst="rect">
            <a:avLst/>
          </a:prstGeom>
          <a:ln w="0">
            <a:noFill/>
          </a:ln>
        </p:spPr>
      </p:pic>
      <p:pic>
        <p:nvPicPr>
          <p:cNvPr id="178" name="TextBox 5" descr=""/>
          <p:cNvPicPr/>
          <p:nvPr/>
        </p:nvPicPr>
        <p:blipFill>
          <a:blip r:embed="rId3"/>
          <a:stretch/>
        </p:blipFill>
        <p:spPr>
          <a:xfrm>
            <a:off x="2097000" y="3621240"/>
            <a:ext cx="4505400" cy="74268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 6" descr=""/>
          <p:cNvPicPr/>
          <p:nvPr/>
        </p:nvPicPr>
        <p:blipFill>
          <a:blip r:embed="rId4"/>
          <a:stretch/>
        </p:blipFill>
        <p:spPr>
          <a:xfrm>
            <a:off x="23760" y="5407200"/>
            <a:ext cx="3341880" cy="744480"/>
          </a:xfrm>
          <a:prstGeom prst="rect">
            <a:avLst/>
          </a:prstGeom>
          <a:ln w="0">
            <a:noFill/>
          </a:ln>
        </p:spPr>
      </p:pic>
      <p:pic>
        <p:nvPicPr>
          <p:cNvPr id="180" name="TextBox 7" descr=""/>
          <p:cNvPicPr/>
          <p:nvPr/>
        </p:nvPicPr>
        <p:blipFill>
          <a:blip r:embed="rId5"/>
          <a:stretch/>
        </p:blipFill>
        <p:spPr>
          <a:xfrm>
            <a:off x="6529320" y="5479920"/>
            <a:ext cx="172404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84" name="Управляющая кнопка: домой 4">
            <a:hlinkClick r:id="rId3" action="ppaction://hlinksldjump"/>
          </p:cNvPr>
          <p:cNvSpPr/>
          <p:nvPr/>
        </p:nvSpPr>
        <p:spPr>
          <a:xfrm>
            <a:off x="214200" y="6215040"/>
            <a:ext cx="685800" cy="542880"/>
          </a:xfrm>
          <a:custGeom>
            <a:avLst/>
            <a:gdLst>
              <a:gd name="textAreaLeft" fmla="*/ 34920 w 685800"/>
              <a:gd name="textAreaRight" fmla="*/ 650880 w 68580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7283" h="21600">
                <a:moveTo>
                  <a:pt x="0" y="0"/>
                </a:moveTo>
                <a:lnTo>
                  <a:pt x="27283" y="0"/>
                </a:lnTo>
                <a:lnTo>
                  <a:pt x="27283" y="21600"/>
                </a:lnTo>
                <a:lnTo>
                  <a:pt x="0" y="21600"/>
                </a:lnTo>
                <a:close/>
              </a:path>
              <a:path fill="lightenLess" w="27283" h="21600">
                <a:moveTo>
                  <a:pt x="0" y="0"/>
                </a:moveTo>
                <a:lnTo>
                  <a:pt x="27283" y="0"/>
                </a:lnTo>
                <a:lnTo>
                  <a:pt x="25883" y="1400"/>
                </a:lnTo>
                <a:lnTo>
                  <a:pt x="1400" y="1400"/>
                </a:lnTo>
                <a:close/>
              </a:path>
              <a:path fill="darken" w="27283" h="21600">
                <a:moveTo>
                  <a:pt x="27283" y="0"/>
                </a:moveTo>
                <a:lnTo>
                  <a:pt x="27283" y="21600"/>
                </a:lnTo>
                <a:lnTo>
                  <a:pt x="25883" y="20200"/>
                </a:lnTo>
                <a:lnTo>
                  <a:pt x="25883" y="1400"/>
                </a:lnTo>
                <a:close/>
              </a:path>
              <a:path fill="darkenLess" w="27283" h="21600">
                <a:moveTo>
                  <a:pt x="27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83" y="20200"/>
                </a:lnTo>
                <a:close/>
              </a:path>
              <a:path fill="lighten" w="27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83" h="21600">
                <a:moveTo>
                  <a:pt x="13641" y="3837"/>
                </a:moveTo>
                <a:lnTo>
                  <a:pt x="16218" y="6448"/>
                </a:lnTo>
                <a:lnTo>
                  <a:pt x="16218" y="4707"/>
                </a:lnTo>
                <a:lnTo>
                  <a:pt x="17993" y="4707"/>
                </a:lnTo>
                <a:lnTo>
                  <a:pt x="17993" y="8224"/>
                </a:lnTo>
                <a:lnTo>
                  <a:pt x="20604" y="10800"/>
                </a:lnTo>
                <a:lnTo>
                  <a:pt x="18951" y="10800"/>
                </a:lnTo>
                <a:lnTo>
                  <a:pt x="18951" y="17989"/>
                </a:lnTo>
                <a:lnTo>
                  <a:pt x="8332" y="17989"/>
                </a:lnTo>
                <a:lnTo>
                  <a:pt x="8332" y="10800"/>
                </a:lnTo>
                <a:lnTo>
                  <a:pt x="6678" y="10800"/>
                </a:lnTo>
                <a:close/>
              </a:path>
              <a:path fill="darkenLess" w="27283" h="21600">
                <a:moveTo>
                  <a:pt x="16218" y="6448"/>
                </a:moveTo>
                <a:lnTo>
                  <a:pt x="16218" y="4707"/>
                </a:lnTo>
                <a:lnTo>
                  <a:pt x="17993" y="4707"/>
                </a:lnTo>
                <a:lnTo>
                  <a:pt x="17993" y="8224"/>
                </a:lnTo>
                <a:close/>
              </a:path>
              <a:path fill="darkenLess" w="27283" h="21600">
                <a:moveTo>
                  <a:pt x="12719" y="14299"/>
                </a:moveTo>
                <a:lnTo>
                  <a:pt x="14564" y="14299"/>
                </a:lnTo>
                <a:lnTo>
                  <a:pt x="14564" y="17989"/>
                </a:lnTo>
                <a:lnTo>
                  <a:pt x="18951" y="17989"/>
                </a:lnTo>
                <a:lnTo>
                  <a:pt x="18951" y="10800"/>
                </a:lnTo>
                <a:lnTo>
                  <a:pt x="8332" y="10800"/>
                </a:lnTo>
                <a:lnTo>
                  <a:pt x="8332" y="17989"/>
                </a:lnTo>
                <a:lnTo>
                  <a:pt x="12719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87" name="Управляющая кнопка: домой 3">
            <a:hlinkClick r:id="rId2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8. </a:t>
            </a:r>
            <a:br>
              <a:rPr sz="2400"/>
            </a:b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Это ил, состоящий из остатков растительных и животных организмов. Он является ближайшим родственником тор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TextBox 3" descr=""/>
          <p:cNvPicPr/>
          <p:nvPr/>
        </p:nvPicPr>
        <p:blipFill>
          <a:blip r:embed="rId1"/>
          <a:stretch/>
        </p:blipFill>
        <p:spPr>
          <a:xfrm>
            <a:off x="96840" y="1974960"/>
            <a:ext cx="3414600" cy="749160"/>
          </a:xfrm>
          <a:prstGeom prst="rect">
            <a:avLst/>
          </a:prstGeom>
          <a:ln w="0">
            <a:noFill/>
          </a:ln>
        </p:spPr>
      </p:pic>
      <p:pic>
        <p:nvPicPr>
          <p:cNvPr id="190" name="TextBox 4" descr=""/>
          <p:cNvPicPr/>
          <p:nvPr/>
        </p:nvPicPr>
        <p:blipFill>
          <a:blip r:embed="rId2"/>
          <a:stretch/>
        </p:blipFill>
        <p:spPr>
          <a:xfrm>
            <a:off x="5456160" y="1908000"/>
            <a:ext cx="3017880" cy="743040"/>
          </a:xfrm>
          <a:prstGeom prst="rect">
            <a:avLst/>
          </a:prstGeom>
          <a:ln w="0">
            <a:noFill/>
          </a:ln>
        </p:spPr>
      </p:pic>
      <p:pic>
        <p:nvPicPr>
          <p:cNvPr id="191" name="TextBox 5" descr=""/>
          <p:cNvPicPr/>
          <p:nvPr/>
        </p:nvPicPr>
        <p:blipFill>
          <a:blip r:embed="rId3"/>
          <a:stretch/>
        </p:blipFill>
        <p:spPr>
          <a:xfrm>
            <a:off x="2097000" y="3621240"/>
            <a:ext cx="4505400" cy="742680"/>
          </a:xfrm>
          <a:prstGeom prst="rect">
            <a:avLst/>
          </a:prstGeom>
          <a:ln w="0">
            <a:noFill/>
          </a:ln>
        </p:spPr>
      </p:pic>
      <p:pic>
        <p:nvPicPr>
          <p:cNvPr id="192" name="TextBox 6" descr=""/>
          <p:cNvPicPr/>
          <p:nvPr/>
        </p:nvPicPr>
        <p:blipFill>
          <a:blip r:embed="rId4"/>
          <a:stretch/>
        </p:blipFill>
        <p:spPr>
          <a:xfrm>
            <a:off x="23760" y="5407200"/>
            <a:ext cx="3341880" cy="744480"/>
          </a:xfrm>
          <a:prstGeom prst="rect">
            <a:avLst/>
          </a:prstGeom>
          <a:ln w="0">
            <a:noFill/>
          </a:ln>
        </p:spPr>
      </p:pic>
      <p:pic>
        <p:nvPicPr>
          <p:cNvPr id="193" name="TextBox 7" descr=""/>
          <p:cNvPicPr/>
          <p:nvPr/>
        </p:nvPicPr>
        <p:blipFill>
          <a:blip r:embed="rId5"/>
          <a:stretch/>
        </p:blipFill>
        <p:spPr>
          <a:xfrm>
            <a:off x="6456240" y="5407200"/>
            <a:ext cx="244980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97" name="Управляющая кнопка: домой 4"/>
          <p:cNvSpPr/>
          <p:nvPr/>
        </p:nvSpPr>
        <p:spPr>
          <a:xfrm>
            <a:off x="214200" y="6215040"/>
            <a:ext cx="471600" cy="471600"/>
          </a:xfrm>
          <a:custGeom>
            <a:avLst/>
            <a:gdLst>
              <a:gd name="textAreaLeft" fmla="*/ 30240 w 471600"/>
              <a:gd name="textAreaRight" fmla="*/ 441360 w 4716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00" name="Управляющая кнопка: домой 3"/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9. </a:t>
            </a:r>
            <a:br>
              <a:rPr sz="2400"/>
            </a:b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 этой породе находят различные окаменелости-раковины моллюсков, кости ящериц и другие остатки 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TextBox 3" descr=""/>
          <p:cNvPicPr/>
          <p:nvPr/>
        </p:nvPicPr>
        <p:blipFill>
          <a:blip r:embed="rId1"/>
          <a:stretch/>
        </p:blipFill>
        <p:spPr>
          <a:xfrm>
            <a:off x="2882880" y="3833640"/>
            <a:ext cx="3414600" cy="750960"/>
          </a:xfrm>
          <a:prstGeom prst="rect">
            <a:avLst/>
          </a:prstGeom>
          <a:ln w="0">
            <a:noFill/>
          </a:ln>
        </p:spPr>
      </p:pic>
      <p:pic>
        <p:nvPicPr>
          <p:cNvPr id="203" name="TextBox 4" descr=""/>
          <p:cNvPicPr/>
          <p:nvPr/>
        </p:nvPicPr>
        <p:blipFill>
          <a:blip r:embed="rId2"/>
          <a:stretch/>
        </p:blipFill>
        <p:spPr>
          <a:xfrm>
            <a:off x="5883120" y="5479920"/>
            <a:ext cx="3016440" cy="744840"/>
          </a:xfrm>
          <a:prstGeom prst="rect">
            <a:avLst/>
          </a:prstGeom>
          <a:ln w="0">
            <a:noFill/>
          </a:ln>
        </p:spPr>
      </p:pic>
      <p:pic>
        <p:nvPicPr>
          <p:cNvPr id="204" name="TextBox 5" descr=""/>
          <p:cNvPicPr/>
          <p:nvPr/>
        </p:nvPicPr>
        <p:blipFill>
          <a:blip r:embed="rId3"/>
          <a:stretch/>
        </p:blipFill>
        <p:spPr>
          <a:xfrm>
            <a:off x="171360" y="1762200"/>
            <a:ext cx="4503960" cy="749160"/>
          </a:xfrm>
          <a:prstGeom prst="rect">
            <a:avLst/>
          </a:prstGeom>
          <a:ln w="0">
            <a:noFill/>
          </a:ln>
        </p:spPr>
      </p:pic>
      <p:pic>
        <p:nvPicPr>
          <p:cNvPr id="205" name="TextBox 6" descr=""/>
          <p:cNvPicPr/>
          <p:nvPr/>
        </p:nvPicPr>
        <p:blipFill>
          <a:blip r:embed="rId4"/>
          <a:stretch/>
        </p:blipFill>
        <p:spPr>
          <a:xfrm>
            <a:off x="5095800" y="1762200"/>
            <a:ext cx="3341880" cy="749160"/>
          </a:xfrm>
          <a:prstGeom prst="rect">
            <a:avLst/>
          </a:prstGeom>
          <a:ln w="0">
            <a:noFill/>
          </a:ln>
        </p:spPr>
      </p:pic>
      <p:pic>
        <p:nvPicPr>
          <p:cNvPr id="206" name="TextBox 7" descr=""/>
          <p:cNvPicPr/>
          <p:nvPr/>
        </p:nvPicPr>
        <p:blipFill>
          <a:blip r:embed="rId5"/>
          <a:stretch/>
        </p:blipFill>
        <p:spPr>
          <a:xfrm>
            <a:off x="237960" y="5407200"/>
            <a:ext cx="28958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210" name="Управляющая кнопка: домой 4"/>
          <p:cNvSpPr/>
          <p:nvPr/>
        </p:nvSpPr>
        <p:spPr>
          <a:xfrm>
            <a:off x="214200" y="6286680"/>
            <a:ext cx="542880" cy="399960"/>
          </a:xfrm>
          <a:custGeom>
            <a:avLst/>
            <a:gdLst>
              <a:gd name="textAreaLeft" fmla="*/ 25920 w 542880"/>
              <a:gd name="textAreaRight" fmla="*/ 516960 w 5428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9312" h="21600">
                <a:moveTo>
                  <a:pt x="0" y="0"/>
                </a:moveTo>
                <a:lnTo>
                  <a:pt x="29312" y="0"/>
                </a:lnTo>
                <a:lnTo>
                  <a:pt x="29312" y="21600"/>
                </a:lnTo>
                <a:lnTo>
                  <a:pt x="0" y="21600"/>
                </a:lnTo>
                <a:close/>
              </a:path>
              <a:path fill="lightenLess" w="29312" h="21600">
                <a:moveTo>
                  <a:pt x="0" y="0"/>
                </a:moveTo>
                <a:lnTo>
                  <a:pt x="29312" y="0"/>
                </a:lnTo>
                <a:lnTo>
                  <a:pt x="27912" y="1400"/>
                </a:lnTo>
                <a:lnTo>
                  <a:pt x="1400" y="1400"/>
                </a:lnTo>
                <a:close/>
              </a:path>
              <a:path fill="darken" w="29312" h="21600">
                <a:moveTo>
                  <a:pt x="29312" y="0"/>
                </a:moveTo>
                <a:lnTo>
                  <a:pt x="29312" y="21600"/>
                </a:lnTo>
                <a:lnTo>
                  <a:pt x="27912" y="20200"/>
                </a:lnTo>
                <a:lnTo>
                  <a:pt x="27912" y="1400"/>
                </a:lnTo>
                <a:close/>
              </a:path>
              <a:path fill="darkenLess" w="29312" h="21600">
                <a:moveTo>
                  <a:pt x="29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2" y="20200"/>
                </a:lnTo>
                <a:close/>
              </a:path>
              <a:path fill="lighten" w="29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2" h="21600">
                <a:moveTo>
                  <a:pt x="14656" y="3837"/>
                </a:moveTo>
                <a:lnTo>
                  <a:pt x="17232" y="6448"/>
                </a:lnTo>
                <a:lnTo>
                  <a:pt x="17232" y="4707"/>
                </a:lnTo>
                <a:lnTo>
                  <a:pt x="19008" y="4707"/>
                </a:lnTo>
                <a:lnTo>
                  <a:pt x="19008" y="8224"/>
                </a:lnTo>
                <a:lnTo>
                  <a:pt x="21619" y="10800"/>
                </a:lnTo>
                <a:lnTo>
                  <a:pt x="19965" y="10800"/>
                </a:lnTo>
                <a:lnTo>
                  <a:pt x="19965" y="17989"/>
                </a:lnTo>
                <a:lnTo>
                  <a:pt x="9346" y="17989"/>
                </a:lnTo>
                <a:lnTo>
                  <a:pt x="9346" y="10800"/>
                </a:lnTo>
                <a:lnTo>
                  <a:pt x="7693" y="10800"/>
                </a:lnTo>
                <a:close/>
              </a:path>
              <a:path fill="darkenLess" w="29312" h="21600">
                <a:moveTo>
                  <a:pt x="17232" y="6448"/>
                </a:moveTo>
                <a:lnTo>
                  <a:pt x="17232" y="4707"/>
                </a:lnTo>
                <a:lnTo>
                  <a:pt x="19008" y="4707"/>
                </a:lnTo>
                <a:lnTo>
                  <a:pt x="19008" y="8224"/>
                </a:lnTo>
                <a:close/>
              </a:path>
              <a:path fill="darkenLess" w="29312" h="21600">
                <a:moveTo>
                  <a:pt x="13733" y="14299"/>
                </a:moveTo>
                <a:lnTo>
                  <a:pt x="15578" y="14299"/>
                </a:lnTo>
                <a:lnTo>
                  <a:pt x="15578" y="17989"/>
                </a:lnTo>
                <a:lnTo>
                  <a:pt x="19965" y="17989"/>
                </a:lnTo>
                <a:lnTo>
                  <a:pt x="19965" y="10800"/>
                </a:lnTo>
                <a:lnTo>
                  <a:pt x="9346" y="10800"/>
                </a:lnTo>
                <a:lnTo>
                  <a:pt x="9346" y="17989"/>
                </a:lnTo>
                <a:lnTo>
                  <a:pt x="13733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13" name="Управляющая кнопка: домой 3"/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643c14"/>
                </a:solidFill>
                <a:latin typeface="Times New Roman"/>
                <a:ea typeface="Times New Roman"/>
              </a:rPr>
              <a:t>Вопрос 1.</a:t>
            </a:r>
            <a:br>
              <a:rPr sz="2800"/>
            </a:br>
            <a:r>
              <a:rPr b="1" lang="ru-RU" sz="2800" spc="-1" strike="noStrike">
                <a:solidFill>
                  <a:srgbClr val="643c14"/>
                </a:solidFill>
                <a:latin typeface="Times New Roman"/>
                <a:ea typeface="Times New Roman"/>
              </a:rPr>
              <a:t>Осадочная порода образованная из мельчайших остатков животных и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TextBox 5" descr=""/>
          <p:cNvPicPr/>
          <p:nvPr/>
        </p:nvPicPr>
        <p:blipFill>
          <a:blip r:embed="rId1"/>
          <a:stretch/>
        </p:blipFill>
        <p:spPr>
          <a:xfrm>
            <a:off x="5810400" y="4979880"/>
            <a:ext cx="2827080" cy="74448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6" descr=""/>
          <p:cNvPicPr/>
          <p:nvPr/>
        </p:nvPicPr>
        <p:blipFill>
          <a:blip r:embed="rId2"/>
          <a:stretch/>
        </p:blipFill>
        <p:spPr>
          <a:xfrm>
            <a:off x="2955960" y="3333600"/>
            <a:ext cx="2895480" cy="75096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7" descr=""/>
          <p:cNvPicPr/>
          <p:nvPr/>
        </p:nvPicPr>
        <p:blipFill>
          <a:blip r:embed="rId3"/>
          <a:stretch/>
        </p:blipFill>
        <p:spPr>
          <a:xfrm>
            <a:off x="523800" y="2548080"/>
            <a:ext cx="1444680" cy="74916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8" descr=""/>
          <p:cNvPicPr/>
          <p:nvPr/>
        </p:nvPicPr>
        <p:blipFill>
          <a:blip r:embed="rId4"/>
          <a:stretch/>
        </p:blipFill>
        <p:spPr>
          <a:xfrm>
            <a:off x="237960" y="4906800"/>
            <a:ext cx="2449800" cy="74484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9" descr=""/>
          <p:cNvPicPr/>
          <p:nvPr/>
        </p:nvPicPr>
        <p:blipFill>
          <a:blip r:embed="rId5"/>
          <a:stretch/>
        </p:blipFill>
        <p:spPr>
          <a:xfrm>
            <a:off x="6529320" y="2620800"/>
            <a:ext cx="1724040" cy="744840"/>
          </a:xfrm>
          <a:prstGeom prst="rect">
            <a:avLst/>
          </a:prstGeom>
          <a:ln w="0">
            <a:noFill/>
          </a:ln>
        </p:spPr>
      </p:pic>
      <p:sp>
        <p:nvSpPr>
          <p:cNvPr id="102" name="Управляющая кнопка: домой 7">
            <a:hlinkClick r:id="rId6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10. </a:t>
            </a:r>
            <a:br>
              <a:rPr sz="2400"/>
            </a:br>
            <a:r>
              <a:rPr b="1" lang="ru-RU" sz="24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Что не относится к строительным материал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TextBox 3" descr=""/>
          <p:cNvPicPr/>
          <p:nvPr/>
        </p:nvPicPr>
        <p:blipFill>
          <a:blip r:embed="rId1"/>
          <a:stretch/>
        </p:blipFill>
        <p:spPr>
          <a:xfrm>
            <a:off x="2882880" y="3260880"/>
            <a:ext cx="2335320" cy="750600"/>
          </a:xfrm>
          <a:prstGeom prst="rect">
            <a:avLst/>
          </a:prstGeom>
          <a:ln w="0">
            <a:noFill/>
          </a:ln>
        </p:spPr>
      </p:pic>
      <p:pic>
        <p:nvPicPr>
          <p:cNvPr id="216" name="TextBox 4" descr=""/>
          <p:cNvPicPr/>
          <p:nvPr/>
        </p:nvPicPr>
        <p:blipFill>
          <a:blip r:embed="rId2"/>
          <a:stretch/>
        </p:blipFill>
        <p:spPr>
          <a:xfrm>
            <a:off x="5883120" y="5479920"/>
            <a:ext cx="2584440" cy="744840"/>
          </a:xfrm>
          <a:prstGeom prst="rect">
            <a:avLst/>
          </a:prstGeom>
          <a:ln w="0">
            <a:noFill/>
          </a:ln>
        </p:spPr>
      </p:pic>
      <p:pic>
        <p:nvPicPr>
          <p:cNvPr id="217" name="TextBox 5" descr=""/>
          <p:cNvPicPr/>
          <p:nvPr/>
        </p:nvPicPr>
        <p:blipFill>
          <a:blip r:embed="rId3"/>
          <a:stretch/>
        </p:blipFill>
        <p:spPr>
          <a:xfrm>
            <a:off x="884160" y="1762200"/>
            <a:ext cx="1444680" cy="749160"/>
          </a:xfrm>
          <a:prstGeom prst="rect">
            <a:avLst/>
          </a:prstGeom>
          <a:ln w="0">
            <a:noFill/>
          </a:ln>
        </p:spPr>
      </p:pic>
      <p:pic>
        <p:nvPicPr>
          <p:cNvPr id="218" name="TextBox 6" descr=""/>
          <p:cNvPicPr/>
          <p:nvPr/>
        </p:nvPicPr>
        <p:blipFill>
          <a:blip r:embed="rId4"/>
          <a:stretch/>
        </p:blipFill>
        <p:spPr>
          <a:xfrm>
            <a:off x="5595840" y="1835280"/>
            <a:ext cx="3340080" cy="742680"/>
          </a:xfrm>
          <a:prstGeom prst="rect">
            <a:avLst/>
          </a:prstGeom>
          <a:ln w="0">
            <a:noFill/>
          </a:ln>
        </p:spPr>
      </p:pic>
      <p:pic>
        <p:nvPicPr>
          <p:cNvPr id="219" name="TextBox 7" descr=""/>
          <p:cNvPicPr/>
          <p:nvPr/>
        </p:nvPicPr>
        <p:blipFill>
          <a:blip r:embed="rId5"/>
          <a:stretch/>
        </p:blipFill>
        <p:spPr>
          <a:xfrm>
            <a:off x="237960" y="5407200"/>
            <a:ext cx="301788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223" name="Управляющая кнопка: домой 5"/>
          <p:cNvSpPr/>
          <p:nvPr/>
        </p:nvSpPr>
        <p:spPr>
          <a:xfrm>
            <a:off x="285840" y="6215040"/>
            <a:ext cx="542880" cy="471600"/>
          </a:xfrm>
          <a:custGeom>
            <a:avLst/>
            <a:gdLst>
              <a:gd name="textAreaLeft" fmla="*/ 30240 w 542880"/>
              <a:gd name="textAreaRight" fmla="*/ 512640 w 5428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4862" h="21600">
                <a:moveTo>
                  <a:pt x="0" y="0"/>
                </a:moveTo>
                <a:lnTo>
                  <a:pt x="24862" y="0"/>
                </a:lnTo>
                <a:lnTo>
                  <a:pt x="24862" y="21600"/>
                </a:lnTo>
                <a:lnTo>
                  <a:pt x="0" y="21600"/>
                </a:lnTo>
                <a:close/>
              </a:path>
              <a:path fill="lightenLess" w="24862" h="21600">
                <a:moveTo>
                  <a:pt x="0" y="0"/>
                </a:moveTo>
                <a:lnTo>
                  <a:pt x="24862" y="0"/>
                </a:lnTo>
                <a:lnTo>
                  <a:pt x="23462" y="1400"/>
                </a:lnTo>
                <a:lnTo>
                  <a:pt x="1400" y="1400"/>
                </a:lnTo>
                <a:close/>
              </a:path>
              <a:path fill="darken" w="24862" h="21600">
                <a:moveTo>
                  <a:pt x="24862" y="0"/>
                </a:moveTo>
                <a:lnTo>
                  <a:pt x="24862" y="21600"/>
                </a:lnTo>
                <a:lnTo>
                  <a:pt x="23462" y="20200"/>
                </a:lnTo>
                <a:lnTo>
                  <a:pt x="23462" y="1400"/>
                </a:lnTo>
                <a:close/>
              </a:path>
              <a:path fill="darkenLess" w="24862" h="21600">
                <a:moveTo>
                  <a:pt x="24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2" y="20200"/>
                </a:lnTo>
                <a:close/>
              </a:path>
              <a:path fill="lighten" w="24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2" h="21600">
                <a:moveTo>
                  <a:pt x="12431" y="3837"/>
                </a:moveTo>
                <a:lnTo>
                  <a:pt x="15007" y="6448"/>
                </a:lnTo>
                <a:lnTo>
                  <a:pt x="15007" y="4707"/>
                </a:lnTo>
                <a:lnTo>
                  <a:pt x="16783" y="4707"/>
                </a:lnTo>
                <a:lnTo>
                  <a:pt x="16783" y="8224"/>
                </a:lnTo>
                <a:lnTo>
                  <a:pt x="19394" y="10800"/>
                </a:lnTo>
                <a:lnTo>
                  <a:pt x="17740" y="10800"/>
                </a:lnTo>
                <a:lnTo>
                  <a:pt x="17740" y="17989"/>
                </a:lnTo>
                <a:lnTo>
                  <a:pt x="7122" y="17989"/>
                </a:lnTo>
                <a:lnTo>
                  <a:pt x="7122" y="10800"/>
                </a:lnTo>
                <a:lnTo>
                  <a:pt x="5468" y="10800"/>
                </a:lnTo>
                <a:close/>
              </a:path>
              <a:path fill="darkenLess" w="24862" h="21600">
                <a:moveTo>
                  <a:pt x="15007" y="6448"/>
                </a:moveTo>
                <a:lnTo>
                  <a:pt x="15007" y="4707"/>
                </a:lnTo>
                <a:lnTo>
                  <a:pt x="16783" y="4707"/>
                </a:lnTo>
                <a:lnTo>
                  <a:pt x="16783" y="8224"/>
                </a:lnTo>
                <a:close/>
              </a:path>
              <a:path fill="darkenLess" w="24862" h="21600">
                <a:moveTo>
                  <a:pt x="11509" y="14299"/>
                </a:moveTo>
                <a:lnTo>
                  <a:pt x="13354" y="14299"/>
                </a:lnTo>
                <a:lnTo>
                  <a:pt x="13354" y="17989"/>
                </a:lnTo>
                <a:lnTo>
                  <a:pt x="17740" y="17989"/>
                </a:lnTo>
                <a:lnTo>
                  <a:pt x="17740" y="10800"/>
                </a:lnTo>
                <a:lnTo>
                  <a:pt x="7122" y="10800"/>
                </a:lnTo>
                <a:lnTo>
                  <a:pt x="7122" y="17989"/>
                </a:lnTo>
                <a:lnTo>
                  <a:pt x="11509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226" name="Управляющая кнопка: домой 3"/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Используемая литерату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57120" y="92880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А.Болотова. Азбука Смоленского края. Ч.1Мир природы-Смоленск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357120" y="2786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Используемые картин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одержимое 2"/>
          <p:cNvSpPr/>
          <p:nvPr/>
        </p:nvSpPr>
        <p:spPr>
          <a:xfrm>
            <a:off x="428760" y="3643200"/>
            <a:ext cx="8229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ariba.kz/news/legislation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лезные ископ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byfly.ws/page/83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arprod.ru/blog/otbor/1266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молод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06" name="Управляющая кнопка: домой 4">
            <a:hlinkClick r:id="rId3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09" name="Управляющая кнопка: домой 3">
            <a:hlinkClick r:id="rId2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Это разновидность известняка. </a:t>
            </a:r>
            <a:br>
              <a:rPr sz="2800"/>
            </a:b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Назван именем французского геолога Доломь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TextBox 3" descr=""/>
          <p:cNvPicPr/>
          <p:nvPr/>
        </p:nvPicPr>
        <p:blipFill>
          <a:blip r:embed="rId1"/>
          <a:stretch/>
        </p:blipFill>
        <p:spPr>
          <a:xfrm>
            <a:off x="311040" y="2189160"/>
            <a:ext cx="2932200" cy="74916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4" descr=""/>
          <p:cNvPicPr/>
          <p:nvPr/>
        </p:nvPicPr>
        <p:blipFill>
          <a:blip r:embed="rId2"/>
          <a:stretch/>
        </p:blipFill>
        <p:spPr>
          <a:xfrm>
            <a:off x="2955960" y="3475080"/>
            <a:ext cx="3090960" cy="74916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5" descr=""/>
          <p:cNvPicPr/>
          <p:nvPr/>
        </p:nvPicPr>
        <p:blipFill>
          <a:blip r:embed="rId3"/>
          <a:stretch/>
        </p:blipFill>
        <p:spPr>
          <a:xfrm>
            <a:off x="5456160" y="2262240"/>
            <a:ext cx="3303720" cy="749160"/>
          </a:xfrm>
          <a:prstGeom prst="rect">
            <a:avLst/>
          </a:prstGeom>
          <a:ln w="0">
            <a:noFill/>
          </a:ln>
        </p:spPr>
      </p:pic>
      <p:pic>
        <p:nvPicPr>
          <p:cNvPr id="114" name="TextBox 6" descr=""/>
          <p:cNvPicPr/>
          <p:nvPr/>
        </p:nvPicPr>
        <p:blipFill>
          <a:blip r:embed="rId4"/>
          <a:stretch/>
        </p:blipFill>
        <p:spPr>
          <a:xfrm>
            <a:off x="596880" y="4621320"/>
            <a:ext cx="1494000" cy="74268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7" descr=""/>
          <p:cNvPicPr/>
          <p:nvPr/>
        </p:nvPicPr>
        <p:blipFill>
          <a:blip r:embed="rId5"/>
          <a:stretch/>
        </p:blipFill>
        <p:spPr>
          <a:xfrm>
            <a:off x="5883120" y="4621320"/>
            <a:ext cx="287676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шибка. Подумай ещё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5572080" y="2928960"/>
            <a:ext cx="2857680" cy="2762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2019240" cy="3895560"/>
          </a:xfrm>
          <a:prstGeom prst="rect">
            <a:avLst/>
          </a:prstGeom>
          <a:ln w="0">
            <a:noFill/>
          </a:ln>
        </p:spPr>
      </p:pic>
      <p:sp>
        <p:nvSpPr>
          <p:cNvPr id="119" name="Управляющая кнопка: домой 4">
            <a:hlinkClick r:id="rId3" action="ppaction://hlinksldjump"/>
          </p:cNvPr>
          <p:cNvSpPr/>
          <p:nvPr/>
        </p:nvSpPr>
        <p:spPr>
          <a:xfrm>
            <a:off x="285840" y="6215040"/>
            <a:ext cx="542880" cy="500040"/>
          </a:xfrm>
          <a:custGeom>
            <a:avLst/>
            <a:gdLst>
              <a:gd name="textAreaLeft" fmla="*/ 32400 w 542880"/>
              <a:gd name="textAreaRight" fmla="*/ 510480 w 5428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3449" h="21600">
                <a:moveTo>
                  <a:pt x="0" y="0"/>
                </a:moveTo>
                <a:lnTo>
                  <a:pt x="23449" y="0"/>
                </a:lnTo>
                <a:lnTo>
                  <a:pt x="23449" y="21600"/>
                </a:lnTo>
                <a:lnTo>
                  <a:pt x="0" y="21600"/>
                </a:lnTo>
                <a:close/>
              </a:path>
              <a:path fill="lightenLess" w="23449" h="21600">
                <a:moveTo>
                  <a:pt x="0" y="0"/>
                </a:moveTo>
                <a:lnTo>
                  <a:pt x="23449" y="0"/>
                </a:lnTo>
                <a:lnTo>
                  <a:pt x="22049" y="1400"/>
                </a:lnTo>
                <a:lnTo>
                  <a:pt x="1400" y="1400"/>
                </a:lnTo>
                <a:close/>
              </a:path>
              <a:path fill="darken" w="23449" h="21600">
                <a:moveTo>
                  <a:pt x="23449" y="0"/>
                </a:moveTo>
                <a:lnTo>
                  <a:pt x="23449" y="21600"/>
                </a:lnTo>
                <a:lnTo>
                  <a:pt x="22049" y="20200"/>
                </a:lnTo>
                <a:lnTo>
                  <a:pt x="22049" y="1400"/>
                </a:lnTo>
                <a:close/>
              </a:path>
              <a:path fill="darkenLess" w="23449" h="21600">
                <a:moveTo>
                  <a:pt x="23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9" y="20200"/>
                </a:lnTo>
                <a:close/>
              </a:path>
              <a:path fill="lighten" w="23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9" h="21600">
                <a:moveTo>
                  <a:pt x="11725" y="3837"/>
                </a:moveTo>
                <a:lnTo>
                  <a:pt x="14301" y="6448"/>
                </a:lnTo>
                <a:lnTo>
                  <a:pt x="14301" y="4707"/>
                </a:lnTo>
                <a:lnTo>
                  <a:pt x="16076" y="4707"/>
                </a:lnTo>
                <a:lnTo>
                  <a:pt x="16076" y="8224"/>
                </a:lnTo>
                <a:lnTo>
                  <a:pt x="18688" y="10800"/>
                </a:lnTo>
                <a:lnTo>
                  <a:pt x="17034" y="10800"/>
                </a:lnTo>
                <a:lnTo>
                  <a:pt x="17034" y="17989"/>
                </a:lnTo>
                <a:lnTo>
                  <a:pt x="6415" y="17989"/>
                </a:lnTo>
                <a:lnTo>
                  <a:pt x="6415" y="10800"/>
                </a:lnTo>
                <a:lnTo>
                  <a:pt x="4762" y="10800"/>
                </a:lnTo>
                <a:close/>
              </a:path>
              <a:path fill="darkenLess" w="23449" h="21600">
                <a:moveTo>
                  <a:pt x="14301" y="6448"/>
                </a:moveTo>
                <a:lnTo>
                  <a:pt x="14301" y="4707"/>
                </a:lnTo>
                <a:lnTo>
                  <a:pt x="16076" y="4707"/>
                </a:lnTo>
                <a:lnTo>
                  <a:pt x="16076" y="8224"/>
                </a:lnTo>
                <a:close/>
              </a:path>
              <a:path fill="darkenLess" w="23449" h="21600">
                <a:moveTo>
                  <a:pt x="10802" y="14299"/>
                </a:moveTo>
                <a:lnTo>
                  <a:pt x="12647" y="14299"/>
                </a:lnTo>
                <a:lnTo>
                  <a:pt x="12647" y="17989"/>
                </a:lnTo>
                <a:lnTo>
                  <a:pt x="17034" y="17989"/>
                </a:lnTo>
                <a:lnTo>
                  <a:pt x="17034" y="10800"/>
                </a:lnTo>
                <a:lnTo>
                  <a:pt x="6415" y="10800"/>
                </a:lnTo>
                <a:lnTo>
                  <a:pt x="6415" y="17989"/>
                </a:lnTo>
                <a:lnTo>
                  <a:pt x="10802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ьно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158969910.gif"/>
          <p:cNvPicPr/>
          <p:nvPr/>
        </p:nvPicPr>
        <p:blipFill>
          <a:blip r:embed="rId1"/>
          <a:stretch/>
        </p:blipFill>
        <p:spPr>
          <a:xfrm>
            <a:off x="785880" y="2357280"/>
            <a:ext cx="7359480" cy="2714760"/>
          </a:xfrm>
          <a:prstGeom prst="rect">
            <a:avLst/>
          </a:prstGeom>
          <a:ln w="0">
            <a:noFill/>
          </a:ln>
        </p:spPr>
      </p:pic>
      <p:sp>
        <p:nvSpPr>
          <p:cNvPr id="122" name="Управляющая кнопка: домой 3">
            <a:hlinkClick r:id="rId2" action="ppaction://hlinksldjump"/>
          </p:cNvPr>
          <p:cNvSpPr/>
          <p:nvPr/>
        </p:nvSpPr>
        <p:spPr>
          <a:xfrm>
            <a:off x="214200" y="6215040"/>
            <a:ext cx="571680" cy="471600"/>
          </a:xfrm>
          <a:custGeom>
            <a:avLst/>
            <a:gdLst>
              <a:gd name="textAreaLeft" fmla="*/ 30240 w 571680"/>
              <a:gd name="textAreaRight" fmla="*/ 541440 w 57168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26180" h="21600">
                <a:moveTo>
                  <a:pt x="0" y="0"/>
                </a:moveTo>
                <a:lnTo>
                  <a:pt x="26180" y="0"/>
                </a:lnTo>
                <a:lnTo>
                  <a:pt x="26180" y="21600"/>
                </a:lnTo>
                <a:lnTo>
                  <a:pt x="0" y="21600"/>
                </a:lnTo>
                <a:close/>
              </a:path>
              <a:path fill="lightenLess" w="26180" h="21600">
                <a:moveTo>
                  <a:pt x="0" y="0"/>
                </a:moveTo>
                <a:lnTo>
                  <a:pt x="26180" y="0"/>
                </a:lnTo>
                <a:lnTo>
                  <a:pt x="24780" y="1400"/>
                </a:lnTo>
                <a:lnTo>
                  <a:pt x="1400" y="1400"/>
                </a:lnTo>
                <a:close/>
              </a:path>
              <a:path fill="darken" w="26180" h="21600">
                <a:moveTo>
                  <a:pt x="26180" y="0"/>
                </a:moveTo>
                <a:lnTo>
                  <a:pt x="26180" y="21600"/>
                </a:lnTo>
                <a:lnTo>
                  <a:pt x="24780" y="20200"/>
                </a:lnTo>
                <a:lnTo>
                  <a:pt x="24780" y="1400"/>
                </a:lnTo>
                <a:close/>
              </a:path>
              <a:path fill="darkenLess" w="26180" h="21600">
                <a:moveTo>
                  <a:pt x="26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80" y="20200"/>
                </a:lnTo>
                <a:close/>
              </a:path>
              <a:path fill="lighten" w="26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80" h="21600">
                <a:moveTo>
                  <a:pt x="13090" y="3837"/>
                </a:moveTo>
                <a:lnTo>
                  <a:pt x="15666" y="6448"/>
                </a:ln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lnTo>
                  <a:pt x="20053" y="10800"/>
                </a:lnTo>
                <a:lnTo>
                  <a:pt x="18399" y="10800"/>
                </a:lnTo>
                <a:lnTo>
                  <a:pt x="18399" y="17989"/>
                </a:lnTo>
                <a:lnTo>
                  <a:pt x="7781" y="17989"/>
                </a:lnTo>
                <a:lnTo>
                  <a:pt x="7781" y="10800"/>
                </a:lnTo>
                <a:lnTo>
                  <a:pt x="6127" y="10800"/>
                </a:lnTo>
                <a:close/>
              </a:path>
              <a:path fill="darkenLess" w="26180" h="21600">
                <a:moveTo>
                  <a:pt x="15666" y="6448"/>
                </a:moveTo>
                <a:lnTo>
                  <a:pt x="15666" y="4707"/>
                </a:lnTo>
                <a:lnTo>
                  <a:pt x="17442" y="4707"/>
                </a:lnTo>
                <a:lnTo>
                  <a:pt x="17442" y="8224"/>
                </a:lnTo>
                <a:close/>
              </a:path>
              <a:path fill="darkenLess" w="26180" h="21600">
                <a:moveTo>
                  <a:pt x="12168" y="14299"/>
                </a:moveTo>
                <a:lnTo>
                  <a:pt x="14013" y="14299"/>
                </a:lnTo>
                <a:lnTo>
                  <a:pt x="14013" y="17989"/>
                </a:lnTo>
                <a:lnTo>
                  <a:pt x="18399" y="17989"/>
                </a:lnTo>
                <a:lnTo>
                  <a:pt x="18399" y="10800"/>
                </a:lnTo>
                <a:lnTo>
                  <a:pt x="7781" y="10800"/>
                </a:lnTo>
                <a:lnTo>
                  <a:pt x="7781" y="17989"/>
                </a:lnTo>
                <a:lnTo>
                  <a:pt x="12168" y="17989"/>
                </a:lnTo>
                <a:close/>
              </a:path>
            </a:pathLst>
          </a:custGeom>
          <a:solidFill>
            <a:srgbClr val="e9bd91"/>
          </a:solidFill>
          <a:ln w="25560">
            <a:solidFill>
              <a:srgbClr val="ab8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Вопрос 3.</a:t>
            </a:r>
            <a:br>
              <a:rPr sz="2800"/>
            </a:b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Ценное сырьё для производства цемента.</a:t>
            </a:r>
            <a:br>
              <a:rPr sz="2800"/>
            </a:br>
            <a:r>
              <a:rPr b="1" lang="ru-RU" sz="2800" spc="-1" strike="noStrike">
                <a:solidFill>
                  <a:srgbClr val="614628"/>
                </a:solidFill>
                <a:latin typeface="Times New Roman"/>
                <a:ea typeface="Times New Roman"/>
              </a:rPr>
              <a:t>Является смесью известняка и гл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extBox 3" descr=""/>
          <p:cNvPicPr/>
          <p:nvPr/>
        </p:nvPicPr>
        <p:blipFill>
          <a:blip r:embed="rId1"/>
          <a:stretch/>
        </p:blipFill>
        <p:spPr>
          <a:xfrm>
            <a:off x="311040" y="2189160"/>
            <a:ext cx="2932200" cy="74916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4" descr=""/>
          <p:cNvPicPr/>
          <p:nvPr/>
        </p:nvPicPr>
        <p:blipFill>
          <a:blip r:embed="rId2"/>
          <a:stretch/>
        </p:blipFill>
        <p:spPr>
          <a:xfrm>
            <a:off x="2955960" y="3475080"/>
            <a:ext cx="3090960" cy="74916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5" descr=""/>
          <p:cNvPicPr/>
          <p:nvPr/>
        </p:nvPicPr>
        <p:blipFill>
          <a:blip r:embed="rId3"/>
          <a:stretch/>
        </p:blipFill>
        <p:spPr>
          <a:xfrm>
            <a:off x="5456160" y="2262240"/>
            <a:ext cx="3303720" cy="7491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6" descr=""/>
          <p:cNvPicPr/>
          <p:nvPr/>
        </p:nvPicPr>
        <p:blipFill>
          <a:blip r:embed="rId4"/>
          <a:stretch/>
        </p:blipFill>
        <p:spPr>
          <a:xfrm>
            <a:off x="450720" y="4694400"/>
            <a:ext cx="2500560" cy="74268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7" descr=""/>
          <p:cNvPicPr/>
          <p:nvPr/>
        </p:nvPicPr>
        <p:blipFill>
          <a:blip r:embed="rId5"/>
          <a:stretch/>
        </p:blipFill>
        <p:spPr>
          <a:xfrm>
            <a:off x="5883120" y="4621320"/>
            <a:ext cx="265752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9:06:36Z</dcterms:created>
  <dc:creator>админ</dc:creator>
  <dc:description/>
  <dc:language>en-US</dc:language>
  <cp:lastModifiedBy>Елена </cp:lastModifiedBy>
  <dcterms:modified xsi:type="dcterms:W3CDTF">2012-05-01T10:38:40Z</dcterms:modified>
  <cp:revision>18</cp:revision>
  <dc:subject/>
  <dc:title>Тренажёр по краеведению. Мир природы.  Полезные ископаемы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c110000000000010250300207f7000400038000</vt:lpwstr>
  </property>
</Properties>
</file>