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14.png" ContentType="image/png"/>
  <Override PartName="/ppt/media/image11.gif" ContentType="image/gif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0CA-7506-4C29-8111-ECDDEBE4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F8C-6643-4C8A-BA2E-8DF92E0B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00F-0C1F-4107-B443-A22E6D71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D28-31B2-4D34-AB2C-2088458C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7380-E58F-4F19-89A9-5907FCE4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A595-F71E-4520-A529-E3D50D2B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E5B1-B8E9-4E5B-A77C-F3F4199F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AB06-5B5D-41B1-BAE6-C6155FF0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C952-4285-45DB-A5BB-797A1632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5AA0-48DB-411B-AB8E-14E6086C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4314-CB52-4DD3-B5BB-1956F8B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48D-C735-4A25-95EF-F5967E57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2746-ADCC-43E7-9028-D77DAE87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089D-2E21-4D22-A79C-EEA01A2C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3DA5-2C5A-4B7A-A226-1FC26EBC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5E0B-E9E2-4135-8CE1-CC262D9D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6CA6-5003-49C3-8668-43D12ABB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BF1-F83F-4C32-BAD5-C4BE98CA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EC6-7E4B-460D-8AD2-69700D2E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ACD-1453-44A4-989A-33B2C52C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264-22F6-42C6-A605-F278C2C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B1D-C5FA-43E0-A64D-7E8488B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DC3-4FB9-453D-90E0-56FC92C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8EE-3691-45FA-AAEA-235ED43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EE97-457F-44CA-B6E1-C371EEF15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FCA3-0C7E-4219-864D-133C84FE8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" Target="slide27.xml"/><Relationship Id="rId9" Type="http://schemas.openxmlformats.org/officeDocument/2006/relationships/slide" Target="slide30.xml"/><Relationship Id="rId10" Type="http://schemas.openxmlformats.org/officeDocument/2006/relationships/image" Target="../media/image3.png"/><Relationship Id="rId11" Type="http://schemas.openxmlformats.org/officeDocument/2006/relationships/slide" Target="slide18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Тренажёр по краеведению.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Мир природы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14628"/>
                </a:solidFill>
                <a:latin typeface="Arial"/>
              </a:rPr>
              <a:t>Полезные ископаем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8592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втор: Коляда Еле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БОУ ЯСОШ№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Ярц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32" name="Управляющая кнопка: домой 4">
            <a:hlinkClick r:id="rId3" action="ppaction://hlinksldjump"/>
          </p:cNvPr>
          <p:cNvSpPr/>
          <p:nvPr/>
        </p:nvSpPr>
        <p:spPr>
          <a:xfrm>
            <a:off x="142920" y="6357960"/>
            <a:ext cx="542880" cy="357120"/>
          </a:xfrm>
          <a:custGeom>
            <a:avLst/>
            <a:gdLst>
              <a:gd name="textAreaLeft" fmla="*/ 23040 w 542880"/>
              <a:gd name="textAreaRight" fmla="*/ 519840 w 5428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2824" h="21600">
                <a:moveTo>
                  <a:pt x="0" y="0"/>
                </a:moveTo>
                <a:lnTo>
                  <a:pt x="32824" y="0"/>
                </a:lnTo>
                <a:lnTo>
                  <a:pt x="32824" y="21600"/>
                </a:lnTo>
                <a:lnTo>
                  <a:pt x="0" y="21600"/>
                </a:lnTo>
                <a:close/>
              </a:path>
              <a:path fill="lightenLess" w="32824" h="21600">
                <a:moveTo>
                  <a:pt x="0" y="0"/>
                </a:moveTo>
                <a:lnTo>
                  <a:pt x="32824" y="0"/>
                </a:lnTo>
                <a:lnTo>
                  <a:pt x="31424" y="1400"/>
                </a:lnTo>
                <a:lnTo>
                  <a:pt x="1400" y="1400"/>
                </a:lnTo>
                <a:close/>
              </a:path>
              <a:path fill="darken" w="32824" h="21600">
                <a:moveTo>
                  <a:pt x="32824" y="0"/>
                </a:moveTo>
                <a:lnTo>
                  <a:pt x="32824" y="21600"/>
                </a:lnTo>
                <a:lnTo>
                  <a:pt x="31424" y="20200"/>
                </a:lnTo>
                <a:lnTo>
                  <a:pt x="31424" y="1400"/>
                </a:lnTo>
                <a:close/>
              </a:path>
              <a:path fill="darkenLess" w="32824" h="21600">
                <a:moveTo>
                  <a:pt x="3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4" y="20200"/>
                </a:lnTo>
                <a:close/>
              </a:path>
              <a:path fill="lighten" w="3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4" h="21600">
                <a:moveTo>
                  <a:pt x="16412" y="3837"/>
                </a:moveTo>
                <a:lnTo>
                  <a:pt x="18988" y="6448"/>
                </a:lnTo>
                <a:lnTo>
                  <a:pt x="18988" y="4707"/>
                </a:lnTo>
                <a:lnTo>
                  <a:pt x="20764" y="4707"/>
                </a:lnTo>
                <a:lnTo>
                  <a:pt x="20764" y="8224"/>
                </a:lnTo>
                <a:lnTo>
                  <a:pt x="23375" y="10800"/>
                </a:lnTo>
                <a:lnTo>
                  <a:pt x="21721" y="10800"/>
                </a:lnTo>
                <a:lnTo>
                  <a:pt x="21721" y="17989"/>
                </a:lnTo>
                <a:lnTo>
                  <a:pt x="11103" y="17989"/>
                </a:lnTo>
                <a:lnTo>
                  <a:pt x="11103" y="10800"/>
                </a:lnTo>
                <a:lnTo>
                  <a:pt x="9449" y="10800"/>
                </a:lnTo>
                <a:close/>
              </a:path>
              <a:path fill="darkenLess" w="32824" h="21600">
                <a:moveTo>
                  <a:pt x="18988" y="6448"/>
                </a:moveTo>
                <a:lnTo>
                  <a:pt x="18988" y="4707"/>
                </a:lnTo>
                <a:lnTo>
                  <a:pt x="20764" y="4707"/>
                </a:lnTo>
                <a:lnTo>
                  <a:pt x="20764" y="8224"/>
                </a:lnTo>
                <a:close/>
              </a:path>
              <a:path fill="darkenLess" w="32824" h="21600">
                <a:moveTo>
                  <a:pt x="15489" y="14299"/>
                </a:moveTo>
                <a:lnTo>
                  <a:pt x="17335" y="14299"/>
                </a:lnTo>
                <a:lnTo>
                  <a:pt x="17335" y="17989"/>
                </a:lnTo>
                <a:lnTo>
                  <a:pt x="21721" y="17989"/>
                </a:lnTo>
                <a:lnTo>
                  <a:pt x="21721" y="10800"/>
                </a:lnTo>
                <a:lnTo>
                  <a:pt x="11103" y="10800"/>
                </a:lnTo>
                <a:lnTo>
                  <a:pt x="11103" y="17989"/>
                </a:lnTo>
                <a:lnTo>
                  <a:pt x="1548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4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Рыхлая порода, состоящая из округлых и угловатых зёрны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TextBox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2932200" cy="749160"/>
          </a:xfrm>
          <a:prstGeom prst="rect">
            <a:avLst/>
          </a:prstGeom>
          <a:ln w="0">
            <a:noFill/>
          </a:ln>
        </p:spPr>
      </p:pic>
      <p:pic>
        <p:nvPicPr>
          <p:cNvPr id="138" name="TextBox 4" descr=""/>
          <p:cNvPicPr/>
          <p:nvPr/>
        </p:nvPicPr>
        <p:blipFill>
          <a:blip r:embed="rId2"/>
          <a:stretch/>
        </p:blipFill>
        <p:spPr>
          <a:xfrm>
            <a:off x="2955960" y="3475080"/>
            <a:ext cx="1908000" cy="74916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3"/>
          <a:stretch/>
        </p:blipFill>
        <p:spPr>
          <a:xfrm>
            <a:off x="5456160" y="2262240"/>
            <a:ext cx="3303720" cy="749160"/>
          </a:xfrm>
          <a:prstGeom prst="rect">
            <a:avLst/>
          </a:prstGeom>
          <a:ln w="0">
            <a:noFill/>
          </a:ln>
        </p:spPr>
      </p:pic>
      <p:pic>
        <p:nvPicPr>
          <p:cNvPr id="140" name="TextBox 6" descr=""/>
          <p:cNvPicPr/>
          <p:nvPr/>
        </p:nvPicPr>
        <p:blipFill>
          <a:blip r:embed="rId4"/>
          <a:stretch/>
        </p:blipFill>
        <p:spPr>
          <a:xfrm>
            <a:off x="596880" y="4621320"/>
            <a:ext cx="1494000" cy="742680"/>
          </a:xfrm>
          <a:prstGeom prst="rect">
            <a:avLst/>
          </a:prstGeom>
          <a:ln w="0">
            <a:noFill/>
          </a:ln>
        </p:spPr>
      </p:pic>
      <p:pic>
        <p:nvPicPr>
          <p:cNvPr id="141" name="TextBox 7" descr=""/>
          <p:cNvPicPr/>
          <p:nvPr/>
        </p:nvPicPr>
        <p:blipFill>
          <a:blip r:embed="rId5"/>
          <a:stretch/>
        </p:blipFill>
        <p:spPr>
          <a:xfrm>
            <a:off x="5883120" y="4621320"/>
            <a:ext cx="1901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домой 5">
            <a:hlinkClick r:id="rId3" action="ppaction://hlinksldjump"/>
          </p:cNvPr>
          <p:cNvSpPr/>
          <p:nvPr/>
        </p:nvSpPr>
        <p:spPr>
          <a:xfrm>
            <a:off x="214200" y="6215040"/>
            <a:ext cx="542880" cy="471600"/>
          </a:xfrm>
          <a:custGeom>
            <a:avLst/>
            <a:gdLst>
              <a:gd name="textAreaLeft" fmla="*/ 30240 w 542880"/>
              <a:gd name="textAreaRight" fmla="*/ 512640 w 5428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4862" h="21600">
                <a:moveTo>
                  <a:pt x="0" y="0"/>
                </a:moveTo>
                <a:lnTo>
                  <a:pt x="24862" y="0"/>
                </a:lnTo>
                <a:lnTo>
                  <a:pt x="24862" y="21600"/>
                </a:lnTo>
                <a:lnTo>
                  <a:pt x="0" y="21600"/>
                </a:lnTo>
                <a:close/>
              </a:path>
              <a:path fill="lightenLess" w="24862" h="21600">
                <a:moveTo>
                  <a:pt x="0" y="0"/>
                </a:moveTo>
                <a:lnTo>
                  <a:pt x="24862" y="0"/>
                </a:lnTo>
                <a:lnTo>
                  <a:pt x="23462" y="1400"/>
                </a:lnTo>
                <a:lnTo>
                  <a:pt x="1400" y="1400"/>
                </a:lnTo>
                <a:close/>
              </a:path>
              <a:path fill="darken" w="24862" h="21600">
                <a:moveTo>
                  <a:pt x="24862" y="0"/>
                </a:moveTo>
                <a:lnTo>
                  <a:pt x="24862" y="21600"/>
                </a:lnTo>
                <a:lnTo>
                  <a:pt x="23462" y="20200"/>
                </a:lnTo>
                <a:lnTo>
                  <a:pt x="23462" y="1400"/>
                </a:lnTo>
                <a:close/>
              </a:path>
              <a:path fill="darkenLess" w="24862" h="21600">
                <a:moveTo>
                  <a:pt x="24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2" y="20200"/>
                </a:lnTo>
                <a:close/>
              </a:path>
              <a:path fill="lighten" w="24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2" h="21600">
                <a:moveTo>
                  <a:pt x="12431" y="3837"/>
                </a:moveTo>
                <a:lnTo>
                  <a:pt x="15007" y="6448"/>
                </a:ln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lnTo>
                  <a:pt x="19394" y="10800"/>
                </a:lnTo>
                <a:lnTo>
                  <a:pt x="17740" y="10800"/>
                </a:lnTo>
                <a:lnTo>
                  <a:pt x="17740" y="17989"/>
                </a:lnTo>
                <a:lnTo>
                  <a:pt x="7122" y="17989"/>
                </a:lnTo>
                <a:lnTo>
                  <a:pt x="7122" y="10800"/>
                </a:lnTo>
                <a:lnTo>
                  <a:pt x="5468" y="10800"/>
                </a:lnTo>
                <a:close/>
              </a:path>
              <a:path fill="darkenLess" w="24862" h="21600">
                <a:moveTo>
                  <a:pt x="15007" y="6448"/>
                </a:move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close/>
              </a:path>
              <a:path fill="darkenLess" w="24862" h="21600">
                <a:moveTo>
                  <a:pt x="11509" y="14299"/>
                </a:moveTo>
                <a:lnTo>
                  <a:pt x="13354" y="14299"/>
                </a:lnTo>
                <a:lnTo>
                  <a:pt x="13354" y="17989"/>
                </a:lnTo>
                <a:lnTo>
                  <a:pt x="17740" y="17989"/>
                </a:lnTo>
                <a:lnTo>
                  <a:pt x="17740" y="10800"/>
                </a:lnTo>
                <a:lnTo>
                  <a:pt x="7122" y="10800"/>
                </a:lnTo>
                <a:lnTo>
                  <a:pt x="7122" y="17989"/>
                </a:lnTo>
                <a:lnTo>
                  <a:pt x="1150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5.Землистая порода состоящая из очень мелких частичек легко размокает в вод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extBox 3" descr=""/>
          <p:cNvPicPr/>
          <p:nvPr/>
        </p:nvPicPr>
        <p:blipFill>
          <a:blip r:embed="rId1"/>
          <a:stretch/>
        </p:blipFill>
        <p:spPr>
          <a:xfrm>
            <a:off x="384120" y="2189160"/>
            <a:ext cx="2560680" cy="7491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4" descr=""/>
          <p:cNvPicPr/>
          <p:nvPr/>
        </p:nvPicPr>
        <p:blipFill>
          <a:blip r:embed="rId2"/>
          <a:stretch/>
        </p:blipFill>
        <p:spPr>
          <a:xfrm>
            <a:off x="3597120" y="3621240"/>
            <a:ext cx="1766880" cy="74268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 5" descr=""/>
          <p:cNvPicPr/>
          <p:nvPr/>
        </p:nvPicPr>
        <p:blipFill>
          <a:blip r:embed="rId3"/>
          <a:stretch/>
        </p:blipFill>
        <p:spPr>
          <a:xfrm>
            <a:off x="596880" y="5048280"/>
            <a:ext cx="1841400" cy="7491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6" descr=""/>
          <p:cNvPicPr/>
          <p:nvPr/>
        </p:nvPicPr>
        <p:blipFill>
          <a:blip r:embed="rId4"/>
          <a:stretch/>
        </p:blipFill>
        <p:spPr>
          <a:xfrm>
            <a:off x="6456240" y="5048280"/>
            <a:ext cx="1724040" cy="7491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7" descr=""/>
          <p:cNvPicPr/>
          <p:nvPr/>
        </p:nvPicPr>
        <p:blipFill>
          <a:blip r:embed="rId5"/>
          <a:stretch/>
        </p:blipFill>
        <p:spPr>
          <a:xfrm>
            <a:off x="6168960" y="2262240"/>
            <a:ext cx="18525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Управляющая кнопка: домой 4">
            <a:hlinkClick r:id="rId3" action="ppaction://hlinksldjump"/>
          </p:cNvPr>
          <p:cNvSpPr/>
          <p:nvPr/>
        </p:nvSpPr>
        <p:spPr>
          <a:xfrm>
            <a:off x="214200" y="6215040"/>
            <a:ext cx="542880" cy="500040"/>
          </a:xfrm>
          <a:custGeom>
            <a:avLst/>
            <a:gdLst>
              <a:gd name="textAreaLeft" fmla="*/ 32400 w 542880"/>
              <a:gd name="textAreaRight" fmla="*/ 510480 w 542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11725" y="3837"/>
                </a:moveTo>
                <a:lnTo>
                  <a:pt x="14301" y="6448"/>
                </a:ln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lnTo>
                  <a:pt x="18688" y="10800"/>
                </a:lnTo>
                <a:lnTo>
                  <a:pt x="17034" y="10800"/>
                </a:lnTo>
                <a:lnTo>
                  <a:pt x="17034" y="17989"/>
                </a:lnTo>
                <a:lnTo>
                  <a:pt x="6415" y="17989"/>
                </a:lnTo>
                <a:lnTo>
                  <a:pt x="6415" y="10800"/>
                </a:lnTo>
                <a:lnTo>
                  <a:pt x="4762" y="10800"/>
                </a:lnTo>
                <a:close/>
              </a:path>
              <a:path fill="darkenLess" w="23449" h="21600">
                <a:moveTo>
                  <a:pt x="14301" y="6448"/>
                </a:move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close/>
              </a:path>
              <a:path fill="darkenLess" w="23449" h="21600">
                <a:moveTo>
                  <a:pt x="10802" y="14299"/>
                </a:moveTo>
                <a:lnTo>
                  <a:pt x="12647" y="14299"/>
                </a:lnTo>
                <a:lnTo>
                  <a:pt x="12647" y="17989"/>
                </a:lnTo>
                <a:lnTo>
                  <a:pt x="17034" y="17989"/>
                </a:lnTo>
                <a:lnTo>
                  <a:pt x="17034" y="10800"/>
                </a:lnTo>
                <a:lnTo>
                  <a:pt x="6415" y="10800"/>
                </a:lnTo>
                <a:lnTo>
                  <a:pt x="6415" y="17989"/>
                </a:lnTo>
                <a:lnTo>
                  <a:pt x="10802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61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6. 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Горючее полезное ископаемое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Образуется в болотах из остатков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extBox 3" descr=""/>
          <p:cNvPicPr/>
          <p:nvPr/>
        </p:nvPicPr>
        <p:blipFill>
          <a:blip r:embed="rId1"/>
          <a:stretch/>
        </p:blipFill>
        <p:spPr>
          <a:xfrm>
            <a:off x="96840" y="1974960"/>
            <a:ext cx="3414600" cy="7491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 4" descr=""/>
          <p:cNvPicPr/>
          <p:nvPr/>
        </p:nvPicPr>
        <p:blipFill>
          <a:blip r:embed="rId2"/>
          <a:stretch/>
        </p:blipFill>
        <p:spPr>
          <a:xfrm>
            <a:off x="5456160" y="1908000"/>
            <a:ext cx="3017880" cy="74304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5" descr=""/>
          <p:cNvPicPr/>
          <p:nvPr/>
        </p:nvPicPr>
        <p:blipFill>
          <a:blip r:embed="rId3"/>
          <a:stretch/>
        </p:blipFill>
        <p:spPr>
          <a:xfrm>
            <a:off x="2097000" y="3621240"/>
            <a:ext cx="4505400" cy="74268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6" descr=""/>
          <p:cNvPicPr/>
          <p:nvPr/>
        </p:nvPicPr>
        <p:blipFill>
          <a:blip r:embed="rId4"/>
          <a:stretch/>
        </p:blipFill>
        <p:spPr>
          <a:xfrm>
            <a:off x="23760" y="5407200"/>
            <a:ext cx="3341880" cy="74448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7" descr=""/>
          <p:cNvPicPr/>
          <p:nvPr/>
        </p:nvPicPr>
        <p:blipFill>
          <a:blip r:embed="rId5"/>
          <a:stretch/>
        </p:blipFill>
        <p:spPr>
          <a:xfrm>
            <a:off x="6529320" y="5479920"/>
            <a:ext cx="17240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71" name="Управляющая кнопка: домой 4">
            <a:hlinkClick r:id="rId3" action="ppaction://hlinksldjump"/>
          </p:cNvPr>
          <p:cNvSpPr/>
          <p:nvPr/>
        </p:nvSpPr>
        <p:spPr>
          <a:xfrm>
            <a:off x="142920" y="6286680"/>
            <a:ext cx="471600" cy="399960"/>
          </a:xfrm>
          <a:custGeom>
            <a:avLst/>
            <a:gdLst>
              <a:gd name="textAreaLeft" fmla="*/ 25920 w 471600"/>
              <a:gd name="textAreaRight" fmla="*/ 445680 w 4716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12733" y="3837"/>
                </a:moveTo>
                <a:lnTo>
                  <a:pt x="15309" y="6448"/>
                </a:lnTo>
                <a:lnTo>
                  <a:pt x="15309" y="4707"/>
                </a:lnTo>
                <a:lnTo>
                  <a:pt x="17085" y="4707"/>
                </a:lnTo>
                <a:lnTo>
                  <a:pt x="17085" y="8224"/>
                </a:lnTo>
                <a:lnTo>
                  <a:pt x="19696" y="10800"/>
                </a:lnTo>
                <a:lnTo>
                  <a:pt x="18042" y="10800"/>
                </a:lnTo>
                <a:lnTo>
                  <a:pt x="18042" y="17989"/>
                </a:lnTo>
                <a:lnTo>
                  <a:pt x="7423" y="17989"/>
                </a:lnTo>
                <a:lnTo>
                  <a:pt x="7423" y="10800"/>
                </a:lnTo>
                <a:lnTo>
                  <a:pt x="5770" y="10800"/>
                </a:lnTo>
                <a:close/>
              </a:path>
              <a:path fill="darkenLess" w="25465" h="21600">
                <a:moveTo>
                  <a:pt x="15309" y="6448"/>
                </a:moveTo>
                <a:lnTo>
                  <a:pt x="15309" y="4707"/>
                </a:lnTo>
                <a:lnTo>
                  <a:pt x="17085" y="4707"/>
                </a:lnTo>
                <a:lnTo>
                  <a:pt x="17085" y="8224"/>
                </a:lnTo>
                <a:close/>
              </a:path>
              <a:path fill="darkenLess" w="25465" h="21600">
                <a:moveTo>
                  <a:pt x="11810" y="14299"/>
                </a:moveTo>
                <a:lnTo>
                  <a:pt x="13655" y="14299"/>
                </a:lnTo>
                <a:lnTo>
                  <a:pt x="13655" y="17989"/>
                </a:lnTo>
                <a:lnTo>
                  <a:pt x="18042" y="17989"/>
                </a:lnTo>
                <a:lnTo>
                  <a:pt x="18042" y="10800"/>
                </a:lnTo>
                <a:lnTo>
                  <a:pt x="7423" y="10800"/>
                </a:lnTo>
                <a:lnTo>
                  <a:pt x="7423" y="17989"/>
                </a:lnTo>
                <a:lnTo>
                  <a:pt x="11810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4628"/>
                </a:solidFill>
                <a:latin typeface="Arial"/>
              </a:rPr>
              <a:t>Номера вопр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>
            <a:hlinkClick r:id="rId1" action="ppaction://hlinksldjump"/>
          </p:cNvPr>
          <p:cNvSpPr/>
          <p:nvPr/>
        </p:nvSpPr>
        <p:spPr>
          <a:xfrm>
            <a:off x="431280" y="135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>
            <a:hlinkClick r:id="rId2" action="ppaction://hlinksldjump"/>
          </p:cNvPr>
          <p:cNvSpPr/>
          <p:nvPr/>
        </p:nvSpPr>
        <p:spPr>
          <a:xfrm>
            <a:off x="43128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>
            <a:hlinkClick r:id="rId3" action="ppaction://hlinksldjump"/>
          </p:cNvPr>
          <p:cNvSpPr/>
          <p:nvPr/>
        </p:nvSpPr>
        <p:spPr>
          <a:xfrm>
            <a:off x="431280" y="235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>
            <a:hlinkClick r:id="rId4" action="ppaction://hlinksldjump"/>
          </p:cNvPr>
          <p:cNvSpPr/>
          <p:nvPr/>
        </p:nvSpPr>
        <p:spPr>
          <a:xfrm>
            <a:off x="43128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>
            <a:hlinkClick r:id="rId5" action="ppaction://hlinksldjump"/>
          </p:cNvPr>
          <p:cNvSpPr/>
          <p:nvPr/>
        </p:nvSpPr>
        <p:spPr>
          <a:xfrm>
            <a:off x="43128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>
            <a:hlinkClick r:id="rId6" action="ppaction://hlinksldjump"/>
          </p:cNvPr>
          <p:cNvSpPr/>
          <p:nvPr/>
        </p:nvSpPr>
        <p:spPr>
          <a:xfrm>
            <a:off x="43128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>
            <a:hlinkClick r:id="rId7" action="ppaction://hlinksldjump"/>
          </p:cNvPr>
          <p:cNvSpPr/>
          <p:nvPr/>
        </p:nvSpPr>
        <p:spPr>
          <a:xfrm>
            <a:off x="43128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>
            <a:hlinkClick r:id="rId8" action="ppaction://hlinksldjump"/>
          </p:cNvPr>
          <p:cNvSpPr/>
          <p:nvPr/>
        </p:nvSpPr>
        <p:spPr>
          <a:xfrm>
            <a:off x="431280" y="500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>
            <a:hlinkClick r:id="rId9" action="ppaction://hlinksldjump"/>
          </p:cNvPr>
          <p:cNvSpPr/>
          <p:nvPr/>
        </p:nvSpPr>
        <p:spPr>
          <a:xfrm>
            <a:off x="360720" y="550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0"/>
          <a:stretch/>
        </p:blipFill>
        <p:spPr>
          <a:xfrm>
            <a:off x="3071880" y="1714680"/>
            <a:ext cx="5143320" cy="3857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6">
            <a:hlinkClick r:id="rId11" action="ppaction://hlinksldjump"/>
          </p:cNvPr>
          <p:cNvSpPr/>
          <p:nvPr/>
        </p:nvSpPr>
        <p:spPr>
          <a:xfrm>
            <a:off x="431280" y="3714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7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Горючее ископаемое растительного происхождения, представляющее собой переходную форму от торфа к каменному уг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TextBox 3" descr=""/>
          <p:cNvPicPr/>
          <p:nvPr/>
        </p:nvPicPr>
        <p:blipFill>
          <a:blip r:embed="rId1"/>
          <a:stretch/>
        </p:blipFill>
        <p:spPr>
          <a:xfrm>
            <a:off x="96840" y="1974960"/>
            <a:ext cx="3414600" cy="7491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4" descr=""/>
          <p:cNvPicPr/>
          <p:nvPr/>
        </p:nvPicPr>
        <p:blipFill>
          <a:blip r:embed="rId2"/>
          <a:stretch/>
        </p:blipFill>
        <p:spPr>
          <a:xfrm>
            <a:off x="5456160" y="1908000"/>
            <a:ext cx="3017880" cy="74304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5" descr=""/>
          <p:cNvPicPr/>
          <p:nvPr/>
        </p:nvPicPr>
        <p:blipFill>
          <a:blip r:embed="rId3"/>
          <a:stretch/>
        </p:blipFill>
        <p:spPr>
          <a:xfrm>
            <a:off x="2097000" y="3621240"/>
            <a:ext cx="4505400" cy="74268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6" descr=""/>
          <p:cNvPicPr/>
          <p:nvPr/>
        </p:nvPicPr>
        <p:blipFill>
          <a:blip r:embed="rId4"/>
          <a:stretch/>
        </p:blipFill>
        <p:spPr>
          <a:xfrm>
            <a:off x="23760" y="5407200"/>
            <a:ext cx="3341880" cy="7444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7" descr=""/>
          <p:cNvPicPr/>
          <p:nvPr/>
        </p:nvPicPr>
        <p:blipFill>
          <a:blip r:embed="rId5"/>
          <a:stretch/>
        </p:blipFill>
        <p:spPr>
          <a:xfrm>
            <a:off x="6529320" y="5479920"/>
            <a:ext cx="17240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омой 4">
            <a:hlinkClick r:id="rId3" action="ppaction://hlinksldjump"/>
          </p:cNvPr>
          <p:cNvSpPr/>
          <p:nvPr/>
        </p:nvSpPr>
        <p:spPr>
          <a:xfrm>
            <a:off x="214200" y="6215040"/>
            <a:ext cx="685800" cy="542880"/>
          </a:xfrm>
          <a:custGeom>
            <a:avLst/>
            <a:gdLst>
              <a:gd name="textAreaLeft" fmla="*/ 34920 w 685800"/>
              <a:gd name="textAreaRight" fmla="*/ 650880 w 6858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7283" h="21600">
                <a:moveTo>
                  <a:pt x="0" y="0"/>
                </a:moveTo>
                <a:lnTo>
                  <a:pt x="27283" y="0"/>
                </a:lnTo>
                <a:lnTo>
                  <a:pt x="27283" y="21600"/>
                </a:lnTo>
                <a:lnTo>
                  <a:pt x="0" y="21600"/>
                </a:lnTo>
                <a:close/>
              </a:path>
              <a:path fill="lightenLess" w="27283" h="21600">
                <a:moveTo>
                  <a:pt x="0" y="0"/>
                </a:moveTo>
                <a:lnTo>
                  <a:pt x="27283" y="0"/>
                </a:lnTo>
                <a:lnTo>
                  <a:pt x="25883" y="1400"/>
                </a:lnTo>
                <a:lnTo>
                  <a:pt x="1400" y="1400"/>
                </a:lnTo>
                <a:close/>
              </a:path>
              <a:path fill="darken" w="27283" h="21600">
                <a:moveTo>
                  <a:pt x="27283" y="0"/>
                </a:moveTo>
                <a:lnTo>
                  <a:pt x="27283" y="21600"/>
                </a:lnTo>
                <a:lnTo>
                  <a:pt x="25883" y="20200"/>
                </a:lnTo>
                <a:lnTo>
                  <a:pt x="25883" y="1400"/>
                </a:lnTo>
                <a:close/>
              </a:path>
              <a:path fill="darkenLess" w="27283" h="21600">
                <a:moveTo>
                  <a:pt x="27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3" y="20200"/>
                </a:lnTo>
                <a:close/>
              </a:path>
              <a:path fill="lighten" w="27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3" h="21600">
                <a:moveTo>
                  <a:pt x="13641" y="3837"/>
                </a:moveTo>
                <a:lnTo>
                  <a:pt x="16218" y="6448"/>
                </a:lnTo>
                <a:lnTo>
                  <a:pt x="16218" y="4707"/>
                </a:lnTo>
                <a:lnTo>
                  <a:pt x="17993" y="4707"/>
                </a:lnTo>
                <a:lnTo>
                  <a:pt x="17993" y="8224"/>
                </a:lnTo>
                <a:lnTo>
                  <a:pt x="20604" y="10800"/>
                </a:lnTo>
                <a:lnTo>
                  <a:pt x="18951" y="10800"/>
                </a:lnTo>
                <a:lnTo>
                  <a:pt x="18951" y="17989"/>
                </a:lnTo>
                <a:lnTo>
                  <a:pt x="8332" y="17989"/>
                </a:lnTo>
                <a:lnTo>
                  <a:pt x="8332" y="10800"/>
                </a:lnTo>
                <a:lnTo>
                  <a:pt x="6678" y="10800"/>
                </a:lnTo>
                <a:close/>
              </a:path>
              <a:path fill="darkenLess" w="27283" h="21600">
                <a:moveTo>
                  <a:pt x="16218" y="6448"/>
                </a:moveTo>
                <a:lnTo>
                  <a:pt x="16218" y="4707"/>
                </a:lnTo>
                <a:lnTo>
                  <a:pt x="17993" y="4707"/>
                </a:lnTo>
                <a:lnTo>
                  <a:pt x="17993" y="8224"/>
                </a:lnTo>
                <a:close/>
              </a:path>
              <a:path fill="darkenLess" w="27283" h="21600">
                <a:moveTo>
                  <a:pt x="12719" y="14299"/>
                </a:moveTo>
                <a:lnTo>
                  <a:pt x="14564" y="14299"/>
                </a:lnTo>
                <a:lnTo>
                  <a:pt x="14564" y="17989"/>
                </a:lnTo>
                <a:lnTo>
                  <a:pt x="18951" y="17989"/>
                </a:lnTo>
                <a:lnTo>
                  <a:pt x="18951" y="10800"/>
                </a:lnTo>
                <a:lnTo>
                  <a:pt x="8332" y="10800"/>
                </a:lnTo>
                <a:lnTo>
                  <a:pt x="8332" y="17989"/>
                </a:lnTo>
                <a:lnTo>
                  <a:pt x="1271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87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8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Это ил, состоящий из остатков растительных и животных организмов. Он является ближайшим родственником тор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extBox 3" descr=""/>
          <p:cNvPicPr/>
          <p:nvPr/>
        </p:nvPicPr>
        <p:blipFill>
          <a:blip r:embed="rId1"/>
          <a:stretch/>
        </p:blipFill>
        <p:spPr>
          <a:xfrm>
            <a:off x="96840" y="1974960"/>
            <a:ext cx="3414600" cy="7491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 4" descr=""/>
          <p:cNvPicPr/>
          <p:nvPr/>
        </p:nvPicPr>
        <p:blipFill>
          <a:blip r:embed="rId2"/>
          <a:stretch/>
        </p:blipFill>
        <p:spPr>
          <a:xfrm>
            <a:off x="5456160" y="1908000"/>
            <a:ext cx="3017880" cy="74304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 5" descr=""/>
          <p:cNvPicPr/>
          <p:nvPr/>
        </p:nvPicPr>
        <p:blipFill>
          <a:blip r:embed="rId3"/>
          <a:stretch/>
        </p:blipFill>
        <p:spPr>
          <a:xfrm>
            <a:off x="2097000" y="3621240"/>
            <a:ext cx="4505400" cy="74268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 6" descr=""/>
          <p:cNvPicPr/>
          <p:nvPr/>
        </p:nvPicPr>
        <p:blipFill>
          <a:blip r:embed="rId4"/>
          <a:stretch/>
        </p:blipFill>
        <p:spPr>
          <a:xfrm>
            <a:off x="23760" y="5407200"/>
            <a:ext cx="3341880" cy="74448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7" descr=""/>
          <p:cNvPicPr/>
          <p:nvPr/>
        </p:nvPicPr>
        <p:blipFill>
          <a:blip r:embed="rId5"/>
          <a:stretch/>
        </p:blipFill>
        <p:spPr>
          <a:xfrm>
            <a:off x="6456240" y="5407200"/>
            <a:ext cx="244980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домой 4"/>
          <p:cNvSpPr/>
          <p:nvPr/>
        </p:nvSpPr>
        <p:spPr>
          <a:xfrm>
            <a:off x="214200" y="6215040"/>
            <a:ext cx="471600" cy="471600"/>
          </a:xfrm>
          <a:custGeom>
            <a:avLst/>
            <a:gdLst>
              <a:gd name="textAreaLeft" fmla="*/ 30240 w 471600"/>
              <a:gd name="textAreaRight" fmla="*/ 441360 w 4716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00" name="Управляющая кнопка: домой 3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9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 этой породе находят различные окаменелости-раковины моллюсков, кости ящериц и другие остатки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" descr=""/>
          <p:cNvPicPr/>
          <p:nvPr/>
        </p:nvPicPr>
        <p:blipFill>
          <a:blip r:embed="rId1"/>
          <a:stretch/>
        </p:blipFill>
        <p:spPr>
          <a:xfrm>
            <a:off x="2882880" y="3833640"/>
            <a:ext cx="3414600" cy="7509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 4" descr=""/>
          <p:cNvPicPr/>
          <p:nvPr/>
        </p:nvPicPr>
        <p:blipFill>
          <a:blip r:embed="rId2"/>
          <a:stretch/>
        </p:blipFill>
        <p:spPr>
          <a:xfrm>
            <a:off x="5883120" y="5479920"/>
            <a:ext cx="3016440" cy="74484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5" descr=""/>
          <p:cNvPicPr/>
          <p:nvPr/>
        </p:nvPicPr>
        <p:blipFill>
          <a:blip r:embed="rId3"/>
          <a:stretch/>
        </p:blipFill>
        <p:spPr>
          <a:xfrm>
            <a:off x="171360" y="1762200"/>
            <a:ext cx="4503960" cy="74916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6" descr=""/>
          <p:cNvPicPr/>
          <p:nvPr/>
        </p:nvPicPr>
        <p:blipFill>
          <a:blip r:embed="rId4"/>
          <a:stretch/>
        </p:blipFill>
        <p:spPr>
          <a:xfrm>
            <a:off x="5095800" y="1762200"/>
            <a:ext cx="3341880" cy="7491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 7" descr=""/>
          <p:cNvPicPr/>
          <p:nvPr/>
        </p:nvPicPr>
        <p:blipFill>
          <a:blip r:embed="rId5"/>
          <a:stretch/>
        </p:blipFill>
        <p:spPr>
          <a:xfrm>
            <a:off x="237960" y="5407200"/>
            <a:ext cx="28958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домой 4"/>
          <p:cNvSpPr/>
          <p:nvPr/>
        </p:nvSpPr>
        <p:spPr>
          <a:xfrm>
            <a:off x="214200" y="6286680"/>
            <a:ext cx="542880" cy="399960"/>
          </a:xfrm>
          <a:custGeom>
            <a:avLst/>
            <a:gdLst>
              <a:gd name="textAreaLeft" fmla="*/ 25920 w 542880"/>
              <a:gd name="textAreaRight" fmla="*/ 516960 w 542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9312" h="21600">
                <a:moveTo>
                  <a:pt x="0" y="0"/>
                </a:moveTo>
                <a:lnTo>
                  <a:pt x="29312" y="0"/>
                </a:lnTo>
                <a:lnTo>
                  <a:pt x="29312" y="21600"/>
                </a:lnTo>
                <a:lnTo>
                  <a:pt x="0" y="21600"/>
                </a:lnTo>
                <a:close/>
              </a:path>
              <a:path fill="lightenLess" w="29312" h="21600">
                <a:moveTo>
                  <a:pt x="0" y="0"/>
                </a:moveTo>
                <a:lnTo>
                  <a:pt x="29312" y="0"/>
                </a:lnTo>
                <a:lnTo>
                  <a:pt x="27912" y="1400"/>
                </a:lnTo>
                <a:lnTo>
                  <a:pt x="1400" y="1400"/>
                </a:lnTo>
                <a:close/>
              </a:path>
              <a:path fill="darken" w="29312" h="21600">
                <a:moveTo>
                  <a:pt x="29312" y="0"/>
                </a:moveTo>
                <a:lnTo>
                  <a:pt x="29312" y="21600"/>
                </a:lnTo>
                <a:lnTo>
                  <a:pt x="27912" y="20200"/>
                </a:lnTo>
                <a:lnTo>
                  <a:pt x="27912" y="1400"/>
                </a:lnTo>
                <a:close/>
              </a:path>
              <a:path fill="darkenLess" w="29312" h="21600">
                <a:moveTo>
                  <a:pt x="29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2" y="20200"/>
                </a:lnTo>
                <a:close/>
              </a:path>
              <a:path fill="lighten" w="29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2" h="21600">
                <a:moveTo>
                  <a:pt x="14656" y="3837"/>
                </a:moveTo>
                <a:lnTo>
                  <a:pt x="17232" y="6448"/>
                </a:lnTo>
                <a:lnTo>
                  <a:pt x="17232" y="4707"/>
                </a:lnTo>
                <a:lnTo>
                  <a:pt x="19008" y="4707"/>
                </a:lnTo>
                <a:lnTo>
                  <a:pt x="19008" y="8224"/>
                </a:lnTo>
                <a:lnTo>
                  <a:pt x="21619" y="10800"/>
                </a:lnTo>
                <a:lnTo>
                  <a:pt x="19965" y="10800"/>
                </a:lnTo>
                <a:lnTo>
                  <a:pt x="19965" y="17989"/>
                </a:lnTo>
                <a:lnTo>
                  <a:pt x="9346" y="17989"/>
                </a:lnTo>
                <a:lnTo>
                  <a:pt x="9346" y="10800"/>
                </a:lnTo>
                <a:lnTo>
                  <a:pt x="7693" y="10800"/>
                </a:lnTo>
                <a:close/>
              </a:path>
              <a:path fill="darkenLess" w="29312" h="21600">
                <a:moveTo>
                  <a:pt x="17232" y="6448"/>
                </a:moveTo>
                <a:lnTo>
                  <a:pt x="17232" y="4707"/>
                </a:lnTo>
                <a:lnTo>
                  <a:pt x="19008" y="4707"/>
                </a:lnTo>
                <a:lnTo>
                  <a:pt x="19008" y="8224"/>
                </a:lnTo>
                <a:close/>
              </a:path>
              <a:path fill="darkenLess" w="29312" h="21600">
                <a:moveTo>
                  <a:pt x="13733" y="14299"/>
                </a:moveTo>
                <a:lnTo>
                  <a:pt x="15578" y="14299"/>
                </a:lnTo>
                <a:lnTo>
                  <a:pt x="15578" y="17989"/>
                </a:lnTo>
                <a:lnTo>
                  <a:pt x="19965" y="17989"/>
                </a:lnTo>
                <a:lnTo>
                  <a:pt x="19965" y="10800"/>
                </a:lnTo>
                <a:lnTo>
                  <a:pt x="9346" y="10800"/>
                </a:lnTo>
                <a:lnTo>
                  <a:pt x="9346" y="17989"/>
                </a:lnTo>
                <a:lnTo>
                  <a:pt x="13733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13" name="Управляющая кнопка: домой 3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43c14"/>
                </a:solidFill>
                <a:latin typeface="Times New Roman"/>
                <a:ea typeface="Times New Roman"/>
              </a:rPr>
              <a:t>Вопрос 1.</a:t>
            </a:r>
            <a:br>
              <a:rPr sz="2800"/>
            </a:br>
            <a:r>
              <a:rPr b="1" lang="ru-RU" sz="2800" spc="-1" strike="noStrike">
                <a:solidFill>
                  <a:srgbClr val="643c14"/>
                </a:solidFill>
                <a:latin typeface="Times New Roman"/>
                <a:ea typeface="Times New Roman"/>
              </a:rPr>
              <a:t>Осадочная порода образованная из мельчайших остатков животных 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Box 5" descr=""/>
          <p:cNvPicPr/>
          <p:nvPr/>
        </p:nvPicPr>
        <p:blipFill>
          <a:blip r:embed="rId1"/>
          <a:stretch/>
        </p:blipFill>
        <p:spPr>
          <a:xfrm>
            <a:off x="5810400" y="4979880"/>
            <a:ext cx="2827080" cy="744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6" descr=""/>
          <p:cNvPicPr/>
          <p:nvPr/>
        </p:nvPicPr>
        <p:blipFill>
          <a:blip r:embed="rId2"/>
          <a:stretch/>
        </p:blipFill>
        <p:spPr>
          <a:xfrm>
            <a:off x="2955960" y="3333600"/>
            <a:ext cx="2895480" cy="75096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7" descr=""/>
          <p:cNvPicPr/>
          <p:nvPr/>
        </p:nvPicPr>
        <p:blipFill>
          <a:blip r:embed="rId3"/>
          <a:stretch/>
        </p:blipFill>
        <p:spPr>
          <a:xfrm>
            <a:off x="523800" y="2548080"/>
            <a:ext cx="1444680" cy="749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8" descr=""/>
          <p:cNvPicPr/>
          <p:nvPr/>
        </p:nvPicPr>
        <p:blipFill>
          <a:blip r:embed="rId4"/>
          <a:stretch/>
        </p:blipFill>
        <p:spPr>
          <a:xfrm>
            <a:off x="237960" y="4906800"/>
            <a:ext cx="2449800" cy="74484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9" descr=""/>
          <p:cNvPicPr/>
          <p:nvPr/>
        </p:nvPicPr>
        <p:blipFill>
          <a:blip r:embed="rId5"/>
          <a:stretch/>
        </p:blipFill>
        <p:spPr>
          <a:xfrm>
            <a:off x="6529320" y="2620800"/>
            <a:ext cx="1724040" cy="74484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7">
            <a:hlinkClick r:id="rId6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10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Что не относится к строительным материал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TextBox 3" descr=""/>
          <p:cNvPicPr/>
          <p:nvPr/>
        </p:nvPicPr>
        <p:blipFill>
          <a:blip r:embed="rId1"/>
          <a:stretch/>
        </p:blipFill>
        <p:spPr>
          <a:xfrm>
            <a:off x="2882880" y="3260880"/>
            <a:ext cx="2335320" cy="7506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4" descr=""/>
          <p:cNvPicPr/>
          <p:nvPr/>
        </p:nvPicPr>
        <p:blipFill>
          <a:blip r:embed="rId2"/>
          <a:stretch/>
        </p:blipFill>
        <p:spPr>
          <a:xfrm>
            <a:off x="5883120" y="5479920"/>
            <a:ext cx="2584440" cy="74484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5" descr=""/>
          <p:cNvPicPr/>
          <p:nvPr/>
        </p:nvPicPr>
        <p:blipFill>
          <a:blip r:embed="rId3"/>
          <a:stretch/>
        </p:blipFill>
        <p:spPr>
          <a:xfrm>
            <a:off x="884160" y="1762200"/>
            <a:ext cx="1444680" cy="7491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6" descr=""/>
          <p:cNvPicPr/>
          <p:nvPr/>
        </p:nvPicPr>
        <p:blipFill>
          <a:blip r:embed="rId4"/>
          <a:stretch/>
        </p:blipFill>
        <p:spPr>
          <a:xfrm>
            <a:off x="5595840" y="1835280"/>
            <a:ext cx="3340080" cy="74268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7" descr=""/>
          <p:cNvPicPr/>
          <p:nvPr/>
        </p:nvPicPr>
        <p:blipFill>
          <a:blip r:embed="rId5"/>
          <a:stretch/>
        </p:blipFill>
        <p:spPr>
          <a:xfrm>
            <a:off x="237960" y="5407200"/>
            <a:ext cx="30178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223" name="Управляющая кнопка: домой 5"/>
          <p:cNvSpPr/>
          <p:nvPr/>
        </p:nvSpPr>
        <p:spPr>
          <a:xfrm>
            <a:off x="285840" y="6215040"/>
            <a:ext cx="542880" cy="471600"/>
          </a:xfrm>
          <a:custGeom>
            <a:avLst/>
            <a:gdLst>
              <a:gd name="textAreaLeft" fmla="*/ 30240 w 542880"/>
              <a:gd name="textAreaRight" fmla="*/ 512640 w 5428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4862" h="21600">
                <a:moveTo>
                  <a:pt x="0" y="0"/>
                </a:moveTo>
                <a:lnTo>
                  <a:pt x="24862" y="0"/>
                </a:lnTo>
                <a:lnTo>
                  <a:pt x="24862" y="21600"/>
                </a:lnTo>
                <a:lnTo>
                  <a:pt x="0" y="21600"/>
                </a:lnTo>
                <a:close/>
              </a:path>
              <a:path fill="lightenLess" w="24862" h="21600">
                <a:moveTo>
                  <a:pt x="0" y="0"/>
                </a:moveTo>
                <a:lnTo>
                  <a:pt x="24862" y="0"/>
                </a:lnTo>
                <a:lnTo>
                  <a:pt x="23462" y="1400"/>
                </a:lnTo>
                <a:lnTo>
                  <a:pt x="1400" y="1400"/>
                </a:lnTo>
                <a:close/>
              </a:path>
              <a:path fill="darken" w="24862" h="21600">
                <a:moveTo>
                  <a:pt x="24862" y="0"/>
                </a:moveTo>
                <a:lnTo>
                  <a:pt x="24862" y="21600"/>
                </a:lnTo>
                <a:lnTo>
                  <a:pt x="23462" y="20200"/>
                </a:lnTo>
                <a:lnTo>
                  <a:pt x="23462" y="1400"/>
                </a:lnTo>
                <a:close/>
              </a:path>
              <a:path fill="darkenLess" w="24862" h="21600">
                <a:moveTo>
                  <a:pt x="24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2" y="20200"/>
                </a:lnTo>
                <a:close/>
              </a:path>
              <a:path fill="lighten" w="24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2" h="21600">
                <a:moveTo>
                  <a:pt x="12431" y="3837"/>
                </a:moveTo>
                <a:lnTo>
                  <a:pt x="15007" y="6448"/>
                </a:ln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lnTo>
                  <a:pt x="19394" y="10800"/>
                </a:lnTo>
                <a:lnTo>
                  <a:pt x="17740" y="10800"/>
                </a:lnTo>
                <a:lnTo>
                  <a:pt x="17740" y="17989"/>
                </a:lnTo>
                <a:lnTo>
                  <a:pt x="7122" y="17989"/>
                </a:lnTo>
                <a:lnTo>
                  <a:pt x="7122" y="10800"/>
                </a:lnTo>
                <a:lnTo>
                  <a:pt x="5468" y="10800"/>
                </a:lnTo>
                <a:close/>
              </a:path>
              <a:path fill="darkenLess" w="24862" h="21600">
                <a:moveTo>
                  <a:pt x="15007" y="6448"/>
                </a:move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close/>
              </a:path>
              <a:path fill="darkenLess" w="24862" h="21600">
                <a:moveTo>
                  <a:pt x="11509" y="14299"/>
                </a:moveTo>
                <a:lnTo>
                  <a:pt x="13354" y="14299"/>
                </a:lnTo>
                <a:lnTo>
                  <a:pt x="13354" y="17989"/>
                </a:lnTo>
                <a:lnTo>
                  <a:pt x="17740" y="17989"/>
                </a:lnTo>
                <a:lnTo>
                  <a:pt x="17740" y="10800"/>
                </a:lnTo>
                <a:lnTo>
                  <a:pt x="7122" y="10800"/>
                </a:lnTo>
                <a:lnTo>
                  <a:pt x="7122" y="17989"/>
                </a:lnTo>
                <a:lnTo>
                  <a:pt x="1150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26" name="Управляющая кнопка: домой 3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Используем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7120" y="92880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Болотова. Азбука Смоленского края. Ч.1Мир природы-Смоленск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35712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Используемые картин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одержимое 2"/>
          <p:cNvSpPr/>
          <p:nvPr/>
        </p:nvSpPr>
        <p:spPr>
          <a:xfrm>
            <a:off x="428760" y="364320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ariba.kz/news/legislation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лезные 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yfly.ws/page/8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arprod.ru/blog/otbor/1266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олод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домой 4">
            <a:hlinkClick r:id="rId3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09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Это разновидность известняка. 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Назван именем французского геолога Доломь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extBox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2932200" cy="74916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4" descr=""/>
          <p:cNvPicPr/>
          <p:nvPr/>
        </p:nvPicPr>
        <p:blipFill>
          <a:blip r:embed="rId2"/>
          <a:stretch/>
        </p:blipFill>
        <p:spPr>
          <a:xfrm>
            <a:off x="2955960" y="3475080"/>
            <a:ext cx="3090960" cy="7491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5" descr=""/>
          <p:cNvPicPr/>
          <p:nvPr/>
        </p:nvPicPr>
        <p:blipFill>
          <a:blip r:embed="rId3"/>
          <a:stretch/>
        </p:blipFill>
        <p:spPr>
          <a:xfrm>
            <a:off x="5456160" y="2262240"/>
            <a:ext cx="3303720" cy="74916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6" descr=""/>
          <p:cNvPicPr/>
          <p:nvPr/>
        </p:nvPicPr>
        <p:blipFill>
          <a:blip r:embed="rId4"/>
          <a:stretch/>
        </p:blipFill>
        <p:spPr>
          <a:xfrm>
            <a:off x="596880" y="4621320"/>
            <a:ext cx="1494000" cy="74268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7" descr=""/>
          <p:cNvPicPr/>
          <p:nvPr/>
        </p:nvPicPr>
        <p:blipFill>
          <a:blip r:embed="rId5"/>
          <a:stretch/>
        </p:blipFill>
        <p:spPr>
          <a:xfrm>
            <a:off x="5883120" y="4621320"/>
            <a:ext cx="28767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57208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омой 4">
            <a:hlinkClick r:id="rId3" action="ppaction://hlinksldjump"/>
          </p:cNvPr>
          <p:cNvSpPr/>
          <p:nvPr/>
        </p:nvSpPr>
        <p:spPr>
          <a:xfrm>
            <a:off x="285840" y="6215040"/>
            <a:ext cx="542880" cy="500040"/>
          </a:xfrm>
          <a:custGeom>
            <a:avLst/>
            <a:gdLst>
              <a:gd name="textAreaLeft" fmla="*/ 32400 w 542880"/>
              <a:gd name="textAreaRight" fmla="*/ 510480 w 542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11725" y="3837"/>
                </a:moveTo>
                <a:lnTo>
                  <a:pt x="14301" y="6448"/>
                </a:ln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lnTo>
                  <a:pt x="18688" y="10800"/>
                </a:lnTo>
                <a:lnTo>
                  <a:pt x="17034" y="10800"/>
                </a:lnTo>
                <a:lnTo>
                  <a:pt x="17034" y="17989"/>
                </a:lnTo>
                <a:lnTo>
                  <a:pt x="6415" y="17989"/>
                </a:lnTo>
                <a:lnTo>
                  <a:pt x="6415" y="10800"/>
                </a:lnTo>
                <a:lnTo>
                  <a:pt x="4762" y="10800"/>
                </a:lnTo>
                <a:close/>
              </a:path>
              <a:path fill="darkenLess" w="23449" h="21600">
                <a:moveTo>
                  <a:pt x="14301" y="6448"/>
                </a:move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close/>
              </a:path>
              <a:path fill="darkenLess" w="23449" h="21600">
                <a:moveTo>
                  <a:pt x="10802" y="14299"/>
                </a:moveTo>
                <a:lnTo>
                  <a:pt x="12647" y="14299"/>
                </a:lnTo>
                <a:lnTo>
                  <a:pt x="12647" y="17989"/>
                </a:lnTo>
                <a:lnTo>
                  <a:pt x="17034" y="17989"/>
                </a:lnTo>
                <a:lnTo>
                  <a:pt x="17034" y="10800"/>
                </a:lnTo>
                <a:lnTo>
                  <a:pt x="6415" y="10800"/>
                </a:lnTo>
                <a:lnTo>
                  <a:pt x="6415" y="17989"/>
                </a:lnTo>
                <a:lnTo>
                  <a:pt x="10802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22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3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Ценное сырьё для производства цемента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Является смесью известняка и г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2932200" cy="74916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4" descr=""/>
          <p:cNvPicPr/>
          <p:nvPr/>
        </p:nvPicPr>
        <p:blipFill>
          <a:blip r:embed="rId2"/>
          <a:stretch/>
        </p:blipFill>
        <p:spPr>
          <a:xfrm>
            <a:off x="2955960" y="3475080"/>
            <a:ext cx="3090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5" descr=""/>
          <p:cNvPicPr/>
          <p:nvPr/>
        </p:nvPicPr>
        <p:blipFill>
          <a:blip r:embed="rId3"/>
          <a:stretch/>
        </p:blipFill>
        <p:spPr>
          <a:xfrm>
            <a:off x="5456160" y="2262240"/>
            <a:ext cx="3303720" cy="7491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6" descr=""/>
          <p:cNvPicPr/>
          <p:nvPr/>
        </p:nvPicPr>
        <p:blipFill>
          <a:blip r:embed="rId4"/>
          <a:stretch/>
        </p:blipFill>
        <p:spPr>
          <a:xfrm>
            <a:off x="450720" y="4694400"/>
            <a:ext cx="2500560" cy="74268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7" descr=""/>
          <p:cNvPicPr/>
          <p:nvPr/>
        </p:nvPicPr>
        <p:blipFill>
          <a:blip r:embed="rId5"/>
          <a:stretch/>
        </p:blipFill>
        <p:spPr>
          <a:xfrm>
            <a:off x="5883120" y="4621320"/>
            <a:ext cx="2657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9:06:36Z</dcterms:created>
  <dc:creator>админ</dc:creator>
  <dc:description/>
  <dc:language>en-US</dc:language>
  <cp:lastModifiedBy>Елена </cp:lastModifiedBy>
  <dcterms:modified xsi:type="dcterms:W3CDTF">2012-05-01T10:38:40Z</dcterms:modified>
  <cp:revision>18</cp:revision>
  <dc:subject/>
  <dc:title>Тренажёр по краеведению. Мир природы.  Полезные ископаемы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10000000000010250300207f7000400038000</vt:lpwstr>
  </property>
</Properties>
</file>