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1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9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46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5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359-995C-416A-BB41-E7C50CA6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5E3-655E-4D2D-99EE-5E1E7DD4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D46-A70D-452C-B58C-211CA125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CCF-664A-4484-AE31-8E48F4DD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053F-947C-4A43-B613-86D50D7B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5DC-6104-4897-8F7C-4DC1DA31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27C9-9FDA-4EB6-A579-3EE841A6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9625-8715-4145-8C97-3273CE3F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3E08-B986-470E-B270-85F8A11A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AE03-4F8B-48F9-9D5B-DB9F5C63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3ECB-8613-4DB7-8DE8-9D4E6B8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41F-32BD-4D1B-AD31-84A94D3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F5C7-B836-46DE-98C7-4DECB1E7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5DE3-1D95-4804-B67E-285B45BE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B77E-5C04-4487-9BD0-DB7B1694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7BB5-1C52-4986-8636-3D726001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C6EF-10C2-4BD5-9BCF-8F31B357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E75-3DA4-4760-8D67-E4DCE918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765-71AD-43BC-B65C-9D8CF074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7E7-21E7-49E7-B5A6-E802BFA8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41E-11F2-4A00-8140-95C660B1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F31-CB3A-479C-A071-64C13BF5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0D5-8B33-4C36-845B-4E5096DB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3A7-81B6-407C-B3F7-8FE87CA5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A2BA-9AF7-4F91-B017-1FD81FDA8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7A45-84F1-4644-9107-4CC1E447A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13.gif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image" Target="../media/image13.gif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image" Target="../media/image13.gif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19.xml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8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gif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2.xml"/><Relationship Id="rId3" Type="http://schemas.openxmlformats.org/officeDocument/2006/relationships/image" Target="../media/image21.jpeg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1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1.xml"/><Relationship Id="rId3" Type="http://schemas.openxmlformats.org/officeDocument/2006/relationships/image" Target="../media/image13.gif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4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4.xml"/><Relationship Id="rId3" Type="http://schemas.openxmlformats.org/officeDocument/2006/relationships/image" Target="../media/image13.gif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7.xml"/><Relationship Id="rId3" Type="http://schemas.openxmlformats.org/officeDocument/2006/relationships/image" Target="../media/image13.gif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1.xm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0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0.xml"/><Relationship Id="rId3" Type="http://schemas.openxmlformats.org/officeDocument/2006/relationships/image" Target="../media/image13.gif"/><Relationship Id="rId4" Type="http://schemas.openxmlformats.org/officeDocument/2006/relationships/slide" Target="slide33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4.xml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4.xm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3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3.xml"/><Relationship Id="rId3" Type="http://schemas.openxmlformats.org/officeDocument/2006/relationships/image" Target="../media/image13.gif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" Target="slide38.xml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6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6.xml"/><Relationship Id="rId3" Type="http://schemas.openxmlformats.org/officeDocument/2006/relationships/image" Target="../media/image13.gif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37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9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9.xml"/><Relationship Id="rId3" Type="http://schemas.openxmlformats.org/officeDocument/2006/relationships/image" Target="../media/image13.gif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2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2.xml"/><Relationship Id="rId3" Type="http://schemas.openxmlformats.org/officeDocument/2006/relationships/image" Target="../media/image13.gif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6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46.xml"/><Relationship Id="rId6" Type="http://schemas.openxmlformats.org/officeDocument/2006/relationships/slide" Target="slide46.xml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5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5.xml"/><Relationship Id="rId3" Type="http://schemas.openxmlformats.org/officeDocument/2006/relationships/image" Target="../media/image13.gif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slide" Target="slide49.xm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8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8.xml"/><Relationship Id="rId3" Type="http://schemas.openxmlformats.org/officeDocument/2006/relationships/image" Target="../media/image13.gif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52.xml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1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1.xml"/><Relationship Id="rId3" Type="http://schemas.openxmlformats.org/officeDocument/2006/relationships/image" Target="../media/image13.gif"/><Relationship Id="rId4" Type="http://schemas.openxmlformats.org/officeDocument/2006/relationships/slide" Target="slide54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5.xml"/><Relationship Id="rId3" Type="http://schemas.openxmlformats.org/officeDocument/2006/relationships/slide" Target="slide55.xml"/><Relationship Id="rId4" Type="http://schemas.openxmlformats.org/officeDocument/2006/relationships/slide" Target="slide55.xml"/><Relationship Id="rId5" Type="http://schemas.openxmlformats.org/officeDocument/2006/relationships/slide" Target="slide55.xml"/><Relationship Id="rId6" Type="http://schemas.openxmlformats.org/officeDocument/2006/relationships/slide" Target="slide56.xm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4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4.xml"/><Relationship Id="rId3" Type="http://schemas.openxmlformats.org/officeDocument/2006/relationships/image" Target="../media/image13.gif"/><Relationship Id="rId4" Type="http://schemas.openxmlformats.org/officeDocument/2006/relationships/slide" Target="slide57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58.xml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slide" Target="slide58.xml"/><Relationship Id="rId6" Type="http://schemas.openxmlformats.org/officeDocument/2006/relationships/slide" Target="slide58.xml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7.xml"/><Relationship Id="rId3" Type="http://schemas.openxmlformats.org/officeDocument/2006/relationships/image" Target="../media/image13.gif"/><Relationship Id="rId4" Type="http://schemas.openxmlformats.org/officeDocument/2006/relationships/slide" Target="slide60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62.xml"/><Relationship Id="rId3" Type="http://schemas.openxmlformats.org/officeDocument/2006/relationships/slide" Target="slide61.xml"/><Relationship Id="rId4" Type="http://schemas.openxmlformats.org/officeDocument/2006/relationships/slide" Target="slide61.xml"/><Relationship Id="rId5" Type="http://schemas.openxmlformats.org/officeDocument/2006/relationships/slide" Target="slide61.xml"/><Relationship Id="rId6" Type="http://schemas.openxmlformats.org/officeDocument/2006/relationships/slide" Target="slide61.xml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0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0.xml"/><Relationship Id="rId3" Type="http://schemas.openxmlformats.org/officeDocument/2006/relationships/image" Target="../media/image13.gif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64.xml"/><Relationship Id="rId3" Type="http://schemas.openxmlformats.org/officeDocument/2006/relationships/slide" Target="slide64.xml"/><Relationship Id="rId4" Type="http://schemas.openxmlformats.org/officeDocument/2006/relationships/slide" Target="slide64.xml"/><Relationship Id="rId5" Type="http://schemas.openxmlformats.org/officeDocument/2006/relationships/slide" Target="slide65.xml"/><Relationship Id="rId6" Type="http://schemas.openxmlformats.org/officeDocument/2006/relationships/slide" Target="slide64.xm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3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3.xml"/><Relationship Id="rId3" Type="http://schemas.openxmlformats.org/officeDocument/2006/relationships/image" Target="../media/image13.gif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67.xml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slide" Target="slide67.xm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390680" y="1792440"/>
            <a:ext cx="6710400" cy="1993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85920" y="428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Автор: Коляда Еле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МБОУ ЯСОШ№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Г.Ярц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25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7"/>
          <a:stretch/>
        </p:blipFill>
        <p:spPr>
          <a:xfrm>
            <a:off x="4714920" y="1571760"/>
            <a:ext cx="31971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7"/>
          <a:stretch/>
        </p:blipFill>
        <p:spPr>
          <a:xfrm>
            <a:off x="4429080" y="1857240"/>
            <a:ext cx="395604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домой 3">
            <a:hlinkClick r:id="rId4" action="ppaction://hlinksldjump"/>
          </p:cNvPr>
          <p:cNvSpPr/>
          <p:nvPr/>
        </p:nvSpPr>
        <p:spPr>
          <a:xfrm>
            <a:off x="800100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7"/>
          <a:stretch/>
        </p:blipFill>
        <p:spPr>
          <a:xfrm>
            <a:off x="4643280" y="2143080"/>
            <a:ext cx="3189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м необходимо ответить на 24 вопроса. Прочитайте задание. Выберите после него ответ и нажмите на него. Если ответ правильный, то появится слайд со словом                                 Вам необходимо нажать на домик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ы появился следующий вопрос. Если  вы ответили неправильно, то появится слайд со словами «Ошибка! Попробуй ещё! Вам необходимо нажать на красный крест            , чтобы вернуться на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ждый правильный ответ на вопрос оценивается в 1 бал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вы набрали  24 балла,     то вы отлично знакомы с растениями Смолен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набрали  от 23 до 20 баллов, то вы хорошо знаете растения Смолен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набрали меньшее количество, то вам необходимо поупражняться ещ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158969910.gif"/>
          <p:cNvPicPr/>
          <p:nvPr/>
        </p:nvPicPr>
        <p:blipFill>
          <a:blip r:embed="rId2"/>
          <a:stretch/>
        </p:blipFill>
        <p:spPr>
          <a:xfrm>
            <a:off x="2714760" y="2286000"/>
            <a:ext cx="1355760" cy="50004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омой 4">
            <a:hlinkClick r:id="rId3" action="ppaction://hlinksldjump"/>
          </p:cNvPr>
          <p:cNvSpPr/>
          <p:nvPr/>
        </p:nvSpPr>
        <p:spPr>
          <a:xfrm>
            <a:off x="7929720" y="2357280"/>
            <a:ext cx="285480" cy="3286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328680"/>
              <a:gd name="textAreaBottom" fmla="*/ 310320 h 328680"/>
            </a:gdLst>
            <a:ahLst/>
            <a:rect l="textAreaLeft" t="textAreaTop" r="textAreaRight" b="textAreaBottom"/>
            <a:pathLst>
              <a:path w="21600" h="24864">
                <a:moveTo>
                  <a:pt x="0" y="0"/>
                </a:moveTo>
                <a:lnTo>
                  <a:pt x="21600" y="0"/>
                </a:lnTo>
                <a:lnTo>
                  <a:pt x="21600" y="24864"/>
                </a:lnTo>
                <a:lnTo>
                  <a:pt x="0" y="24864"/>
                </a:lnTo>
                <a:close/>
              </a:path>
              <a:path fill="lightenLess" w="21600" h="248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4">
                <a:moveTo>
                  <a:pt x="21600" y="0"/>
                </a:moveTo>
                <a:lnTo>
                  <a:pt x="21600" y="24864"/>
                </a:lnTo>
                <a:lnTo>
                  <a:pt x="20200" y="23464"/>
                </a:lnTo>
                <a:lnTo>
                  <a:pt x="20200" y="1400"/>
                </a:lnTo>
                <a:close/>
              </a:path>
              <a:path fill="darkenLess" w="21600" h="24864">
                <a:moveTo>
                  <a:pt x="21600" y="24864"/>
                </a:moveTo>
                <a:lnTo>
                  <a:pt x="0" y="24864"/>
                </a:lnTo>
                <a:lnTo>
                  <a:pt x="1400" y="23464"/>
                </a:lnTo>
                <a:lnTo>
                  <a:pt x="20200" y="23464"/>
                </a:lnTo>
                <a:close/>
              </a:path>
              <a:path fill="lighten" w="21600" h="24864">
                <a:moveTo>
                  <a:pt x="0" y="248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4"/>
                </a:lnTo>
                <a:close/>
              </a:path>
              <a:path fill="darken" w="21600" h="24864">
                <a:moveTo>
                  <a:pt x="10800" y="5469"/>
                </a:moveTo>
                <a:lnTo>
                  <a:pt x="13376" y="8080"/>
                </a:lnTo>
                <a:lnTo>
                  <a:pt x="13376" y="6340"/>
                </a:lnTo>
                <a:lnTo>
                  <a:pt x="15152" y="6340"/>
                </a:lnTo>
                <a:lnTo>
                  <a:pt x="15152" y="9856"/>
                </a:lnTo>
                <a:lnTo>
                  <a:pt x="17763" y="12432"/>
                </a:lnTo>
                <a:lnTo>
                  <a:pt x="16109" y="12432"/>
                </a:lnTo>
                <a:lnTo>
                  <a:pt x="16109" y="19622"/>
                </a:lnTo>
                <a:lnTo>
                  <a:pt x="5491" y="19622"/>
                </a:lnTo>
                <a:lnTo>
                  <a:pt x="5491" y="12432"/>
                </a:lnTo>
                <a:lnTo>
                  <a:pt x="3837" y="12432"/>
                </a:lnTo>
                <a:close/>
              </a:path>
              <a:path fill="darkenLess" w="21600" h="24864">
                <a:moveTo>
                  <a:pt x="13376" y="8080"/>
                </a:moveTo>
                <a:lnTo>
                  <a:pt x="13376" y="6340"/>
                </a:lnTo>
                <a:lnTo>
                  <a:pt x="15152" y="6340"/>
                </a:lnTo>
                <a:lnTo>
                  <a:pt x="15152" y="9856"/>
                </a:lnTo>
                <a:close/>
              </a:path>
              <a:path fill="darkenLess" w="21600" h="24864">
                <a:moveTo>
                  <a:pt x="9877" y="15931"/>
                </a:moveTo>
                <a:lnTo>
                  <a:pt x="11723" y="15931"/>
                </a:lnTo>
                <a:lnTo>
                  <a:pt x="11723" y="19622"/>
                </a:lnTo>
                <a:lnTo>
                  <a:pt x="16109" y="19622"/>
                </a:lnTo>
                <a:lnTo>
                  <a:pt x="16109" y="12432"/>
                </a:lnTo>
                <a:lnTo>
                  <a:pt x="5491" y="12432"/>
                </a:lnTo>
                <a:lnTo>
                  <a:pt x="5491" y="19622"/>
                </a:lnTo>
                <a:lnTo>
                  <a:pt x="9877" y="1962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14840" y="3214800"/>
            <a:ext cx="35712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369280" cy="1384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71320" y="2357280"/>
            <a:ext cx="35715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чер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3"/>
          <a:stretch/>
        </p:blipFill>
        <p:spPr>
          <a:xfrm>
            <a:off x="4214880" y="2571840"/>
            <a:ext cx="4108320" cy="2585880"/>
          </a:xfrm>
          <a:prstGeom prst="rect">
            <a:avLst/>
          </a:prstGeom>
          <a:ln w="0">
            <a:noFill/>
          </a:ln>
        </p:spPr>
      </p:pic>
      <p:sp>
        <p:nvSpPr>
          <p:cNvPr id="168" name="Содержимое 2"/>
          <p:cNvSpPr/>
          <p:nvPr/>
        </p:nvSpPr>
        <p:spPr>
          <a:xfrm>
            <a:off x="642960" y="17146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ястребинка волос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одержимое 2"/>
          <p:cNvSpPr/>
          <p:nvPr/>
        </p:nvSpPr>
        <p:spPr>
          <a:xfrm>
            <a:off x="571680" y="3071880"/>
            <a:ext cx="3571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можжев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одержимое 2"/>
          <p:cNvSpPr/>
          <p:nvPr/>
        </p:nvSpPr>
        <p:spPr>
          <a:xfrm>
            <a:off x="571680" y="3857760"/>
            <a:ext cx="3571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одержимое 2"/>
          <p:cNvSpPr/>
          <p:nvPr/>
        </p:nvSpPr>
        <p:spPr>
          <a:xfrm>
            <a:off x="571680" y="4714920"/>
            <a:ext cx="3571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 action="ppaction://hlinksldjump"/>
              </a:rPr>
              <a:t>вере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77" name="Управляющая кнопка: домой 3">
            <a:hlinkClick r:id="rId4" action="ppaction://hlinksldjump"/>
          </p:cNvPr>
          <p:cNvSpPr/>
          <p:nvPr/>
        </p:nvSpPr>
        <p:spPr>
          <a:xfrm>
            <a:off x="8072280" y="59292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28400" y="1785960"/>
            <a:ext cx="2500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м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2"/>
          <p:cNvSpPr/>
          <p:nvPr/>
        </p:nvSpPr>
        <p:spPr>
          <a:xfrm>
            <a:off x="500040" y="242892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500040" y="3143160"/>
            <a:ext cx="2500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кру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500040" y="39290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ши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одержимое 2"/>
          <p:cNvSpPr/>
          <p:nvPr/>
        </p:nvSpPr>
        <p:spPr>
          <a:xfrm>
            <a:off x="500040" y="4643280"/>
            <a:ext cx="2500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о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7"/>
          <a:stretch/>
        </p:blipFill>
        <p:spPr>
          <a:xfrm>
            <a:off x="3714840" y="1928880"/>
            <a:ext cx="3814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90" name="Управляющая кнопка: домой 3">
            <a:hlinkClick r:id="rId4" action="ppaction://hlinksldjump"/>
          </p:cNvPr>
          <p:cNvSpPr/>
          <p:nvPr/>
        </p:nvSpPr>
        <p:spPr>
          <a:xfrm>
            <a:off x="778680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304920" y="42084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28760" y="1785600"/>
            <a:ext cx="33573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герань ле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500040" y="2500200"/>
            <a:ext cx="4357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дудник 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одержимое 2"/>
          <p:cNvSpPr/>
          <p:nvPr/>
        </p:nvSpPr>
        <p:spPr>
          <a:xfrm>
            <a:off x="500040" y="3286080"/>
            <a:ext cx="4000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любка двули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держимое 2"/>
          <p:cNvSpPr/>
          <p:nvPr/>
        </p:nvSpPr>
        <p:spPr>
          <a:xfrm>
            <a:off x="571680" y="4000680"/>
            <a:ext cx="5072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ныть обыкно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держимое 2"/>
          <p:cNvSpPr/>
          <p:nvPr/>
        </p:nvSpPr>
        <p:spPr>
          <a:xfrm>
            <a:off x="571680" y="4643280"/>
            <a:ext cx="46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зеленчук жё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7"/>
          <a:stretch/>
        </p:blipFill>
        <p:spPr>
          <a:xfrm>
            <a:off x="5214960" y="1643040"/>
            <a:ext cx="2924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03" name="Управляющая кнопка: домой 3">
            <a:hlinkClick r:id="rId4" action="ppaction://hlinksldjump"/>
          </p:cNvPr>
          <p:cNvSpPr/>
          <p:nvPr/>
        </p:nvSpPr>
        <p:spPr>
          <a:xfrm>
            <a:off x="8001000" y="57150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981360" y="1643040"/>
            <a:ext cx="31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можжев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968760" y="235728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листвен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983880" y="3071880"/>
            <a:ext cx="16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к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034640" y="392904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>
            <a:hlinkClick r:id="rId6" action="ppaction://hlinksldjump"/>
          </p:cNvPr>
          <p:cNvSpPr/>
          <p:nvPr/>
        </p:nvSpPr>
        <p:spPr>
          <a:xfrm>
            <a:off x="1033560" y="4786200"/>
            <a:ext cx="27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зелёный 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8"/>
          <a:stretch/>
        </p:blipFill>
        <p:spPr>
          <a:xfrm>
            <a:off x="4286160" y="2643120"/>
            <a:ext cx="37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грушанка круглоли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зелёные 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майник дву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одержимое 2"/>
          <p:cNvSpPr/>
          <p:nvPr/>
        </p:nvSpPr>
        <p:spPr>
          <a:xfrm>
            <a:off x="428760" y="4429080"/>
            <a:ext cx="4357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кис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7"/>
          <a:stretch/>
        </p:blipFill>
        <p:spPr>
          <a:xfrm>
            <a:off x="5643720" y="2143080"/>
            <a:ext cx="28526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16" name="Управляющая кнопка: домой 3">
            <a:hlinkClick r:id="rId4" action="ppaction://hlinksldjump"/>
          </p:cNvPr>
          <p:cNvSpPr/>
          <p:nvPr/>
        </p:nvSpPr>
        <p:spPr>
          <a:xfrm>
            <a:off x="8001000" y="57150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00040" y="1499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одержимое 2"/>
          <p:cNvSpPr/>
          <p:nvPr/>
        </p:nvSpPr>
        <p:spPr>
          <a:xfrm>
            <a:off x="357120" y="228600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428760" y="307188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ятлик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одержимое 2"/>
          <p:cNvSpPr/>
          <p:nvPr/>
        </p:nvSpPr>
        <p:spPr>
          <a:xfrm>
            <a:off x="428760" y="3857760"/>
            <a:ext cx="442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500040" y="4643280"/>
            <a:ext cx="4000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ысячели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7"/>
          <a:stretch/>
        </p:blipFill>
        <p:spPr>
          <a:xfrm>
            <a:off x="5214960" y="1643040"/>
            <a:ext cx="2928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29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грушанка круглолис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зелёные м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майник дву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кис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7"/>
          <a:stretch/>
        </p:blipFill>
        <p:spPr>
          <a:xfrm>
            <a:off x="5500800" y="2857680"/>
            <a:ext cx="27255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42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92920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7"/>
          <a:stretch/>
        </p:blipFill>
        <p:spPr>
          <a:xfrm>
            <a:off x="5572080" y="2643120"/>
            <a:ext cx="2679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55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7"/>
          <a:stretch/>
        </p:blipFill>
        <p:spPr>
          <a:xfrm>
            <a:off x="4357800" y="2286000"/>
            <a:ext cx="4000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68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857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одержимое 2"/>
          <p:cNvSpPr/>
          <p:nvPr/>
        </p:nvSpPr>
        <p:spPr>
          <a:xfrm>
            <a:off x="285840" y="2428920"/>
            <a:ext cx="5572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7"/>
          <a:stretch/>
        </p:blipFill>
        <p:spPr>
          <a:xfrm>
            <a:off x="4429080" y="250020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81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92920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ы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остёр безо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овсяниц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одержимое 2"/>
          <p:cNvSpPr/>
          <p:nvPr/>
        </p:nvSpPr>
        <p:spPr>
          <a:xfrm>
            <a:off x="428760" y="307188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7"/>
          <a:stretch/>
        </p:blipFill>
        <p:spPr>
          <a:xfrm>
            <a:off x="5143680" y="1714680"/>
            <a:ext cx="32511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Управляющая кнопка: домой 3">
            <a:hlinkClick r:id="rId3" action="ppaction://hlinksldjump"/>
          </p:cNvPr>
          <p:cNvSpPr/>
          <p:nvPr/>
        </p:nvSpPr>
        <p:spPr>
          <a:xfrm>
            <a:off x="8001000" y="59292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94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бело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ивец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о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7"/>
          <a:srcRect l="0" t="0" r="0" b="128"/>
          <a:stretch/>
        </p:blipFill>
        <p:spPr>
          <a:xfrm>
            <a:off x="5000760" y="228600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71500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бело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ивец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о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7"/>
          <a:stretch/>
        </p:blipFill>
        <p:spPr>
          <a:xfrm>
            <a:off x="4500720" y="2286000"/>
            <a:ext cx="3524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омой 3">
            <a:hlinkClick r:id="rId4" action="ppaction://hlinksldjump"/>
          </p:cNvPr>
          <p:cNvSpPr/>
          <p:nvPr/>
        </p:nvSpPr>
        <p:spPr>
          <a:xfrm>
            <a:off x="7500960" y="578628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щучка дерни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бело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сивец луг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о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7"/>
          <a:stretch/>
        </p:blipFill>
        <p:spPr>
          <a:xfrm>
            <a:off x="4500720" y="2643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33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92920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107720" y="4857840"/>
            <a:ext cx="9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в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040400" y="24289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листвен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049760" y="1500120"/>
            <a:ext cx="14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036440" y="321480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124280" y="4071960"/>
            <a:ext cx="31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можжев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агу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фу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7"/>
          <a:stretch/>
        </p:blipFill>
        <p:spPr>
          <a:xfrm>
            <a:off x="4000680" y="2786040"/>
            <a:ext cx="37605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44" name="Управляющая кнопка: домой 4">
            <a:hlinkClick r:id="rId5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47" name="Управляющая кнопка: домой 3">
            <a:hlinkClick r:id="rId4" action="ppaction://hlinksldjump"/>
          </p:cNvPr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агу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фу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7"/>
          <a:stretch/>
        </p:blipFill>
        <p:spPr>
          <a:xfrm>
            <a:off x="3500280" y="2286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58" name="Управляющая кнопка: домой 4">
            <a:hlinkClick r:id="rId5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3" descr="158969910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61" name="Управляющая кнопка: домой 3">
            <a:hlinkClick r:id="rId4" action="ppaction://hlinksldjump"/>
          </p:cNvPr>
          <p:cNvSpPr/>
          <p:nvPr/>
        </p:nvSpPr>
        <p:spPr>
          <a:xfrm>
            <a:off x="7929720" y="5857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8498160" cy="1384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багу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м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фун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6"/>
          <a:stretch/>
        </p:blipFill>
        <p:spPr>
          <a:xfrm>
            <a:off x="4000680" y="2714760"/>
            <a:ext cx="361620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72" name="Управляющая кнопка: домой 4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75" name="Управляющая кнопка: домой 3"/>
          <p:cNvSpPr/>
          <p:nvPr/>
        </p:nvSpPr>
        <p:spPr>
          <a:xfrm>
            <a:off x="7929720" y="5857920"/>
            <a:ext cx="571320" cy="471600"/>
          </a:xfrm>
          <a:custGeom>
            <a:avLst/>
            <a:gdLst>
              <a:gd name="textAreaLeft" fmla="*/ 30240 w 571320"/>
              <a:gd name="textAreaRight" fmla="*/ 541080 w 57132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64" h="21600">
                <a:moveTo>
                  <a:pt x="0" y="0"/>
                </a:moveTo>
                <a:lnTo>
                  <a:pt x="26164" y="0"/>
                </a:lnTo>
                <a:lnTo>
                  <a:pt x="26164" y="21600"/>
                </a:lnTo>
                <a:lnTo>
                  <a:pt x="0" y="21600"/>
                </a:lnTo>
                <a:close/>
              </a:path>
              <a:path fill="lightenLess" w="26164" h="21600">
                <a:moveTo>
                  <a:pt x="0" y="0"/>
                </a:moveTo>
                <a:lnTo>
                  <a:pt x="26164" y="0"/>
                </a:lnTo>
                <a:lnTo>
                  <a:pt x="24764" y="1400"/>
                </a:lnTo>
                <a:lnTo>
                  <a:pt x="1400" y="1400"/>
                </a:lnTo>
                <a:close/>
              </a:path>
              <a:path fill="darken" w="26164" h="21600">
                <a:moveTo>
                  <a:pt x="26164" y="0"/>
                </a:moveTo>
                <a:lnTo>
                  <a:pt x="26164" y="21600"/>
                </a:lnTo>
                <a:lnTo>
                  <a:pt x="24764" y="20200"/>
                </a:lnTo>
                <a:lnTo>
                  <a:pt x="24764" y="1400"/>
                </a:lnTo>
                <a:close/>
              </a:path>
              <a:path fill="darkenLess" w="26164" h="21600">
                <a:moveTo>
                  <a:pt x="26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64" y="20200"/>
                </a:lnTo>
                <a:close/>
              </a:path>
              <a:path fill="lighten" w="26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64" h="21600">
                <a:moveTo>
                  <a:pt x="13082" y="3837"/>
                </a:moveTo>
                <a:lnTo>
                  <a:pt x="15658" y="6448"/>
                </a:ln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lnTo>
                  <a:pt x="20045" y="10800"/>
                </a:lnTo>
                <a:lnTo>
                  <a:pt x="18391" y="10800"/>
                </a:lnTo>
                <a:lnTo>
                  <a:pt x="18391" y="17989"/>
                </a:lnTo>
                <a:lnTo>
                  <a:pt x="7773" y="17989"/>
                </a:lnTo>
                <a:lnTo>
                  <a:pt x="7773" y="10800"/>
                </a:lnTo>
                <a:lnTo>
                  <a:pt x="6119" y="10800"/>
                </a:lnTo>
                <a:close/>
              </a:path>
              <a:path fill="darkenLess" w="26164" h="21600">
                <a:moveTo>
                  <a:pt x="15658" y="6448"/>
                </a:moveTo>
                <a:lnTo>
                  <a:pt x="15658" y="4707"/>
                </a:lnTo>
                <a:lnTo>
                  <a:pt x="17434" y="4707"/>
                </a:lnTo>
                <a:lnTo>
                  <a:pt x="17434" y="8224"/>
                </a:lnTo>
                <a:close/>
              </a:path>
              <a:path fill="darkenLess" w="26164" h="21600">
                <a:moveTo>
                  <a:pt x="12159" y="14299"/>
                </a:moveTo>
                <a:lnTo>
                  <a:pt x="14005" y="14299"/>
                </a:lnTo>
                <a:lnTo>
                  <a:pt x="14005" y="17989"/>
                </a:lnTo>
                <a:lnTo>
                  <a:pt x="18391" y="17989"/>
                </a:lnTo>
                <a:lnTo>
                  <a:pt x="18391" y="10800"/>
                </a:lnTo>
                <a:lnTo>
                  <a:pt x="7773" y="10800"/>
                </a:lnTo>
                <a:lnTo>
                  <a:pt x="7773" y="17989"/>
                </a:lnTo>
                <a:lnTo>
                  <a:pt x="1215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е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на луг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с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85" name="Управляющая кнопка: домой 4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388" name="Управляющая кнопка: домой 3"/>
          <p:cNvSpPr/>
          <p:nvPr/>
        </p:nvSpPr>
        <p:spPr>
          <a:xfrm>
            <a:off x="800100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356760" y="3714840"/>
            <a:ext cx="4357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одержимое 2"/>
          <p:cNvSpPr/>
          <p:nvPr/>
        </p:nvSpPr>
        <p:spPr>
          <a:xfrm>
            <a:off x="428760" y="2357280"/>
            <a:ext cx="5572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ерань ле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одержимое 2"/>
          <p:cNvSpPr/>
          <p:nvPr/>
        </p:nvSpPr>
        <p:spPr>
          <a:xfrm>
            <a:off x="428760" y="435780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одержимое 2"/>
          <p:cNvSpPr/>
          <p:nvPr/>
        </p:nvSpPr>
        <p:spPr>
          <a:xfrm>
            <a:off x="428760" y="5000760"/>
            <a:ext cx="4357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уз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одержимое 2"/>
          <p:cNvSpPr/>
          <p:nvPr/>
        </p:nvSpPr>
        <p:spPr>
          <a:xfrm>
            <a:off x="428760" y="3071880"/>
            <a:ext cx="55004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28624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3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398" name="Управляющая кнопка: домой 4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домой 3"/>
          <p:cNvSpPr/>
          <p:nvPr/>
        </p:nvSpPr>
        <p:spPr>
          <a:xfrm>
            <a:off x="7858080" y="585792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Круглая лента лицом вверх 4"/>
          <p:cNvSpPr/>
          <p:nvPr/>
        </p:nvSpPr>
        <p:spPr>
          <a:xfrm>
            <a:off x="857160" y="285840"/>
            <a:ext cx="7429680" cy="976680"/>
          </a:xfrm>
          <a:custGeom>
            <a:avLst/>
            <a:gdLst>
              <a:gd name="textAreaLeft" fmla="*/ 1857240 w 7429680"/>
              <a:gd name="textAreaRight" fmla="*/ 5572440 w 7429680"/>
              <a:gd name="textAreaTop" fmla="*/ 28800 h 976680"/>
              <a:gd name="textAreaBottom" fmla="*/ 732600 h 97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осчитай, на сколько вопросов ты ответил правиль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tretch/>
        </p:blipFill>
        <p:spPr>
          <a:xfrm>
            <a:off x="500040" y="128592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4000680" y="4714920"/>
            <a:ext cx="1425240" cy="928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6858000" y="435780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56760" y="257184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.А.Болотова. Азбука Смоленского края. Ч.1Мир природы -Смоленск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633240" y="658800"/>
            <a:ext cx="8242560" cy="13460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158969910.gif"/>
          <p:cNvPicPr/>
          <p:nvPr/>
        </p:nvPicPr>
        <p:blipFill>
          <a:blip r:embed="rId2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Управляющая кнопка: домой 3">
            <a:hlinkClick r:id="rId3" action="ppaction://hlinksldjump"/>
          </p:cNvPr>
          <p:cNvSpPr/>
          <p:nvPr/>
        </p:nvSpPr>
        <p:spPr>
          <a:xfrm>
            <a:off x="7858080" y="578628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242200" cy="1384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14240" y="4428720"/>
            <a:ext cx="31435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зал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одержимое 2"/>
          <p:cNvSpPr/>
          <p:nvPr/>
        </p:nvSpPr>
        <p:spPr>
          <a:xfrm>
            <a:off x="714240" y="3643200"/>
            <a:ext cx="3143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сух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держимое 2"/>
          <p:cNvSpPr/>
          <p:nvPr/>
        </p:nvSpPr>
        <p:spPr>
          <a:xfrm>
            <a:off x="785880" y="2786040"/>
            <a:ext cx="3143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низ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одержимое 2"/>
          <p:cNvSpPr/>
          <p:nvPr/>
        </p:nvSpPr>
        <p:spPr>
          <a:xfrm>
            <a:off x="714240" y="2000160"/>
            <a:ext cx="3143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травя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одержимое 2"/>
          <p:cNvSpPr/>
          <p:nvPr/>
        </p:nvSpPr>
        <p:spPr>
          <a:xfrm>
            <a:off x="642960" y="5214960"/>
            <a:ext cx="3143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цв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админ</cp:lastModifiedBy>
  <dcterms:modified xsi:type="dcterms:W3CDTF">2012-05-08T19:16:5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260000000000010250300207f7000400038000</vt:lpwstr>
  </property>
</Properties>
</file>