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924-1E2C-45CA-88B4-909488AE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946-2EFC-4798-8E9D-1AEB602B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0D1-CDCE-4568-9379-3F011CA6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C81-077E-42EE-9A7D-FA301BBB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0398-2F09-4AAE-8E9B-0D1CC993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B463-DF3A-47D9-8D5D-F0CFBD6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DD6-017D-42C8-A6E3-4E0F7F83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CC94-3F49-47F8-B710-2A82B118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C6DE-CBF9-4A8C-8A7C-A8A20D53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A825-5583-47B4-A928-6B2EAC46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435A-3DA0-46D6-B092-B9ECEFBC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A58-BA65-4598-BCC3-64912AEB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424F-05F4-4F20-AACF-F4D2BE3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03F-7195-4C30-A9D0-9E4EC69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6E0C-CD9A-4957-832F-ADCD64F2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5FD6-F4B1-4C4D-95D9-42054456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23C5-11EC-4E31-9F26-828C4812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23E-DC9E-4E7D-9D66-02C8BC74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52B-E6E6-49B9-B470-28BC8DB1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2D9-8060-49A8-99F7-95CE8F7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C38-08F5-4BF9-BB74-FD3A11E3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5A7-62FE-4FA4-8812-CD3C680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202-A9F9-4AC5-8F53-B20D9AF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BD4-CA0B-4F21-B4BE-DAF90209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994-F685-4B92-A0C8-1C41D8D06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94F8-40A5-4E66-8527-DDFF5CB0E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rnnews.ru/img/news/170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zdlines.narod.ru/4/547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stat11.privet.ru/lr/082d5b47e101276fca0be74f4bcb273e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static.24.ua/images/0/4/4396/853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img-fotki.yandex.ru/get/3206/rkr22.8/0_b37_da6ca98f_XL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-45900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ный комплек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Картинка 3 из 3111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836640"/>
            <a:ext cx="4356000" cy="2671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Картинка 1 из 7877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03640" y="765000"/>
            <a:ext cx="3691080" cy="27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 из 594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24000" y="2924280"/>
            <a:ext cx="5077080" cy="2676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Картинка 1 из 6236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а 12 из 211684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796000" y="4344840"/>
            <a:ext cx="3348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убопровод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и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граничения в перевозимой проду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дорогое строитель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651120" cy="422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24360" y="2924280"/>
            <a:ext cx="4876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здуш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Быстр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мещение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ая 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граничения по массе в перевоз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5248440" cy="361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348000" y="3429000"/>
            <a:ext cx="52484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утрипроизводственный   Магистра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68360" y="981000"/>
            <a:ext cx="18720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98100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5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транспор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52720" y="1628280"/>
            <a:ext cx="102963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земный  водный  воздушный электронный трубопровод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автомобильный         - речн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железнодорож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гужевой                   - морск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42560" y="765000"/>
            <a:ext cx="1297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00360" y="765000"/>
            <a:ext cx="287280" cy="1222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692280"/>
            <a:ext cx="730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692280"/>
            <a:ext cx="57600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620640"/>
            <a:ext cx="10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лезнодорож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зк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хватка подвижного сост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Трудность в строительстве доро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а на 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Картинка 57 из 83480"/>
          <p:cNvPicPr/>
          <p:nvPr/>
        </p:nvPicPr>
        <p:blipFill>
          <a:blip r:embed="rId2"/>
          <a:stretch/>
        </p:blipFill>
        <p:spPr>
          <a:xfrm>
            <a:off x="324000" y="18900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 из 105"/>
          <p:cNvPicPr/>
          <p:nvPr/>
        </p:nvPicPr>
        <p:blipFill>
          <a:blip r:embed="rId3"/>
          <a:stretch/>
        </p:blipFill>
        <p:spPr>
          <a:xfrm>
            <a:off x="3924360" y="2924280"/>
            <a:ext cx="50767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томобиль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ая себестоимость перевоз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евозки на небольшие рассто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отсутствие качественных дор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высокая скорость перевоз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изкая себестоимость перевозки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Картинка 2 из 21759"/>
          <p:cNvPicPr/>
          <p:nvPr/>
        </p:nvPicPr>
        <p:blipFill>
          <a:blip r:embed="rId2"/>
          <a:stretch/>
        </p:blipFill>
        <p:spPr>
          <a:xfrm>
            <a:off x="0" y="0"/>
            <a:ext cx="5076720" cy="30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45 из 21759"/>
          <p:cNvPicPr/>
          <p:nvPr/>
        </p:nvPicPr>
        <p:blipFill>
          <a:blip r:embed="rId3"/>
          <a:stretch/>
        </p:blipFill>
        <p:spPr>
          <a:xfrm>
            <a:off x="4067280" y="3048120"/>
            <a:ext cx="4895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д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наличие естественных водных пу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перевозка на дальние расстояния крупных гру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изкая скор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иуроченность к водным объек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нерегулярность сооб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4808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2712960"/>
            <a:ext cx="56516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8:24:23Z</dcterms:created>
  <dc:creator>настя</dc:creator>
  <dc:description/>
  <dc:language>en-US</dc:language>
  <cp:lastModifiedBy>настя</cp:lastModifiedBy>
  <dcterms:modified xsi:type="dcterms:W3CDTF">2010-02-15T20:15:53Z</dcterms:modified>
  <cp:revision>2</cp:revision>
  <dc:subject/>
  <dc:title>Транспортный комплекс</dc:title>
</cp:coreProperties>
</file>