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C49-F9A8-455A-9974-6D8993D6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A69-C306-40AB-A7E3-7BB5A323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16A-4230-4218-B153-479E696C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435-D20E-44E3-82C5-6B5741E7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F66A-4B37-485F-A793-7EBE903B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9DA2-A944-4DDE-BC95-FBD888A3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3599-3814-4F15-AA32-095E1C1B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8AE9-3985-4BA6-88F4-207DD4A2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879A-B2D2-478F-AAC9-AF086E5A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EBA6-5B77-4F00-B551-13C6E67E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76DE-B892-4432-A8C5-A62402A2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E4C-5937-4002-B7EC-343834F6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BC5E-73E8-4468-9B65-AAAB5E5E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52BB-AC57-4550-86D7-8E6A9296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5F7F-4F7E-404D-AF54-3AA77A5F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2984-30BC-4E10-9487-40BC7B90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2E6A-F2B8-4153-85D9-D2D080DF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61F-5D4E-4110-87DA-3A296C5C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2DE-1C43-4DD5-9C33-A314E549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23F-7DC2-4765-94E9-BAEE44E5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958-B310-4533-B370-F8CF7BD9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630-086B-4342-94EB-C15AA3F0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4C7-0A6A-4CD9-86A5-2C1EE619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783-4C95-41B5-AD54-6F18D4D6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7E7D-AD87-4878-945A-9F80A77617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4753-E8A2-4A53-8A20-B6353C20D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rnnews.ru/img/news/170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zdlines.narod.ru/4/547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stat11.privet.ru/lr/082d5b47e101276fca0be74f4bcb273e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static.24.ua/images/0/4/4396/853.jpg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img-fotki.yandex.ru/get/3206/rkr22.8/0_b37_da6ca98f_XL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анспортный комплек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Картинка 3 из 3111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836640"/>
            <a:ext cx="4356000" cy="2671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1 из 7877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3640" y="765000"/>
            <a:ext cx="3691080" cy="277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 из 5944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24000" y="2924280"/>
            <a:ext cx="5077080" cy="2676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Картинка 1 из 6236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Картинка 12 из 211684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796000" y="4344840"/>
            <a:ext cx="334800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убопровод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низкая себестоимость перевоз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перевозки на большие рассто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граничения в перевозимой прод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дорогое строитель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651120" cy="4221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24360" y="2924280"/>
            <a:ext cx="48769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здуш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Быстрая скорость перево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Перемещение на большие рассто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ая стоимость перевоз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граничения по массе в перевоз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5248440" cy="3610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348000" y="3429000"/>
            <a:ext cx="52484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нутрипроизводственный   Магистра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68360" y="981000"/>
            <a:ext cx="18720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981000"/>
            <a:ext cx="2016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5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ды транспор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252720" y="1628280"/>
            <a:ext cx="102963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земный  водный  воздушный электронный трубопровод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автомобильный         - речн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железнодорож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гужевой                   - морск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042560" y="765000"/>
            <a:ext cx="1297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700360" y="765000"/>
            <a:ext cx="287280" cy="122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692280"/>
            <a:ext cx="7308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692280"/>
            <a:ext cx="57600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620640"/>
            <a:ext cx="1079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елезнодорож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изкая скорость перево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ехватка подвижного сост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Трудность в строительстве доро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Перевозка на большие рассто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Низкая себестоимость перево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Картинка 57 из 83480"/>
          <p:cNvPicPr/>
          <p:nvPr/>
        </p:nvPicPr>
        <p:blipFill>
          <a:blip r:embed="rId2"/>
          <a:stretch/>
        </p:blipFill>
        <p:spPr>
          <a:xfrm>
            <a:off x="324000" y="18900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1 из 105"/>
          <p:cNvPicPr/>
          <p:nvPr/>
        </p:nvPicPr>
        <p:blipFill>
          <a:blip r:embed="rId3"/>
          <a:stretch/>
        </p:blipFill>
        <p:spPr>
          <a:xfrm>
            <a:off x="3924360" y="2924280"/>
            <a:ext cx="50767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томобиль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ая себестоимость перевоз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евозки на небольшие рассто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тсутствие качественных дор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высокая скорость перево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низкая себестоимость перевозки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Картинка 2 из 21759"/>
          <p:cNvPicPr/>
          <p:nvPr/>
        </p:nvPicPr>
        <p:blipFill>
          <a:blip r:embed="rId2"/>
          <a:stretch/>
        </p:blipFill>
        <p:spPr>
          <a:xfrm>
            <a:off x="0" y="0"/>
            <a:ext cx="5076720" cy="30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45 из 21759"/>
          <p:cNvPicPr/>
          <p:nvPr/>
        </p:nvPicPr>
        <p:blipFill>
          <a:blip r:embed="rId3"/>
          <a:stretch/>
        </p:blipFill>
        <p:spPr>
          <a:xfrm>
            <a:off x="4067280" y="3048120"/>
            <a:ext cx="4895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д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наличие естественных водных пу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перевозка на дальние расстояния крупных груз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изкая скор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иуроченность к водным объект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ерегулярность сооб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248080" cy="2590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2712960"/>
            <a:ext cx="56516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8:24:23Z</dcterms:created>
  <dc:creator>настя</dc:creator>
  <dc:description/>
  <dc:language>en-US</dc:language>
  <cp:lastModifiedBy>настя</cp:lastModifiedBy>
  <dcterms:modified xsi:type="dcterms:W3CDTF">2010-02-15T20:15:53Z</dcterms:modified>
  <cp:revision>2</cp:revision>
  <dc:subject/>
  <dc:title>Транспортный комплекс</dc:title>
</cp:coreProperties>
</file>