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1DA-D0AB-4B48-AC33-5016BFB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168-4D55-4B66-AB11-D32425D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A71-BF13-470C-BFFD-20D83DE5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940-40AF-4685-BA3F-AD28B367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5CDA-87B7-4DF3-850E-E69129C8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CC6-E4F3-4049-A1D5-0061910C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93E-0C35-49C7-8CAB-4A5838F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579-C063-48D7-BD86-D4CDDD0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6088-325A-45F3-B027-4BE1749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FE6-3C73-4A41-8822-351B5E75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C34-0057-43B4-A152-41DB12C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7EA-FF7A-484E-AF62-72C6E421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DDA-2080-4232-8114-13ACCA2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1DAC-70EA-486B-AFF5-FA15451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E485-1E17-419F-BDB6-A499759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035-C241-414A-9504-F4E8924A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C35-6F50-410B-ACBF-F43A2EC3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3C4-8DED-4A2E-8617-0DAC7758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376-CD0E-4BC5-AFBB-2ADD161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69F-6255-42AD-AF10-B9D741F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D73-04B8-46AB-9368-BCEE0DD2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004-2387-4F42-AA71-6CF0821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DF5-F64D-4A00-AD6E-AB6BD0C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249-7691-4238-9BBB-D405194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3D6-5221-43E6-B1A8-FB1F3934F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BBD-AA30-4AAF-B33A-29DC29806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rnnews.ru/img/news/170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zdlines.narod.ru/4/547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stat11.privet.ru/lr/082d5b47e101276fca0be74f4bcb273e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static.24.ua/images/0/4/4396/853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g-fotki.yandex.ru/get/3206/rkr22.8/0_b37_da6ca98f_XL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комплек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Картинка 3 из 31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836640"/>
            <a:ext cx="4356000" cy="2671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 из 7877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765000"/>
            <a:ext cx="3691080" cy="27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594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2924280"/>
            <a:ext cx="5077080" cy="2676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Картинка 1 из 6236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12 из 211684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6000" y="4344840"/>
            <a:ext cx="3348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бопро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и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в перевозимой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орогое строи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651120" cy="422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24360" y="2924280"/>
            <a:ext cx="4876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душ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Быстр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мещение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по массе в перевоз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5248440" cy="361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348000" y="3429000"/>
            <a:ext cx="5248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ипроизводственный   Магистра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68360" y="981000"/>
            <a:ext cx="1872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98100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5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транспор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52720" y="1628280"/>
            <a:ext cx="102963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земный  водный  воздушный электронный трубопров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автомобильный         - реч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железнодорож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гужевой                   - мор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42560" y="765000"/>
            <a:ext cx="1297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00360" y="765000"/>
            <a:ext cx="287280" cy="122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692280"/>
            <a:ext cx="730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692280"/>
            <a:ext cx="57600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620640"/>
            <a:ext cx="10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езнодорож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хватка подвижного сост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рудность в строительстве дор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57 из 83480"/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 из 105"/>
          <p:cNvPicPr/>
          <p:nvPr/>
        </p:nvPicPr>
        <p:blipFill>
          <a:blip r:embed="rId3"/>
          <a:stretch/>
        </p:blipFill>
        <p:spPr>
          <a:xfrm>
            <a:off x="3924360" y="2924280"/>
            <a:ext cx="5076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ь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евозки на не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тсутствие качественных дор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высо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Картинка 2 из 21759"/>
          <p:cNvPicPr/>
          <p:nvPr/>
        </p:nvPicPr>
        <p:blipFill>
          <a:blip r:embed="rId2"/>
          <a:stretch/>
        </p:blipFill>
        <p:spPr>
          <a:xfrm>
            <a:off x="0" y="0"/>
            <a:ext cx="5076720" cy="30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45 из 21759"/>
          <p:cNvPicPr/>
          <p:nvPr/>
        </p:nvPicPr>
        <p:blipFill>
          <a:blip r:embed="rId3"/>
          <a:stretch/>
        </p:blipFill>
        <p:spPr>
          <a:xfrm>
            <a:off x="4067280" y="3048120"/>
            <a:ext cx="4895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аличие естественных водных пу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дальние расстояния крупных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уроченность к водным объек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регулярность сооб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4808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2712960"/>
            <a:ext cx="565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8:24:23Z</dcterms:created>
  <dc:creator>настя</dc:creator>
  <dc:description/>
  <dc:language>en-US</dc:language>
  <cp:lastModifiedBy>настя</cp:lastModifiedBy>
  <dcterms:modified xsi:type="dcterms:W3CDTF">2010-02-15T20:15:53Z</dcterms:modified>
  <cp:revision>2</cp:revision>
  <dc:subject/>
  <dc:title>Транспортный комплекс</dc:title>
</cp:coreProperties>
</file>