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B4B7-DBFA-4ED1-A85F-80095052BE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191D-2F47-4DD4-8AA1-18013B7640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1145-8F10-4474-82A0-B01BB83F2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D839-16A3-442D-8E0B-E0ADE442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D8FF-2440-428B-965A-DFC4291E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BD1A-7E51-47E7-9219-9E65D7493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FD74-FAE7-48F6-90C2-3680F96E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4CA7-DE48-4852-94F0-F3B02272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8328-95FB-4A2F-AF3C-59C76477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B342-3B37-469F-B618-DD5AF13E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29CB-79A9-4266-9B8B-70E3B347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FE75-1CED-4941-9F8B-7A6ED8ED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074A-CF95-4D1F-8FB0-D4A3E8AD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4CAB-676C-4A69-BD6E-EA14B869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94F7-2CB6-4C5B-9E62-0E0929554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7640"/>
            <a:ext cx="6400800" cy="17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91240" y="357120"/>
            <a:ext cx="856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0253f"/>
                </a:solidFill>
                <a:latin typeface="Calibri"/>
              </a:rPr>
              <a:t>Транспорт в нашем город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~PP1634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Admin\Рабочий стол\IMG_1924.jpg"/>
          <p:cNvPicPr/>
          <p:nvPr/>
        </p:nvPicPr>
        <p:blipFill>
          <a:blip r:embed="rId2"/>
          <a:stretch/>
        </p:blipFill>
        <p:spPr>
          <a:xfrm>
            <a:off x="-396720" y="-171360"/>
            <a:ext cx="9540720" cy="727236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0" y="214200"/>
            <a:ext cx="897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10253f"/>
                </a:solidFill>
                <a:latin typeface="Calibri"/>
              </a:rPr>
              <a:t>Транспорт в нашем город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253f"/>
                </a:solidFill>
                <a:latin typeface="Arial"/>
              </a:rPr>
              <a:t>Инфраструктурный</a:t>
            </a:r>
            <a:r>
              <a:rPr b="1" lang="en-US" sz="4000" spc="-1" strike="noStrike">
                <a:solidFill>
                  <a:srgbClr val="10253f"/>
                </a:solidFill>
                <a:latin typeface="Arial"/>
              </a:rPr>
              <a:t> комплек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99640" y="1700280"/>
            <a:ext cx="741708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Третичный сектор подразделяется на две относительно самостоятельные ча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1) коммуникационную систему (транспорт и связь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2) Сферу обслуживания (торговля, культура, наука, образование и п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Виды транспорта: железнодорожный,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морской, речной, трубопроводный,  гужевой, электронный, авиационный, автомоби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~PP1350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760" y="285480"/>
            <a:ext cx="335736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7375e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В нашем городке есть автомобильный и железнодорожный транспорт.  В железнодорожный вид транспорта входят электропоезда, товарные поезда, тепловозы, АДМ.  В автомобильный вид транспорта входят грузовые и легковые автомобили, строительная техника, мотоциклы, автобусы. Ещё есть информационный вид транспор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F:\Изображение 193.jpg"/>
          <p:cNvPicPr/>
          <p:nvPr/>
        </p:nvPicPr>
        <p:blipFill>
          <a:blip r:embed="rId1"/>
          <a:stretch/>
        </p:blipFill>
        <p:spPr>
          <a:xfrm>
            <a:off x="3492360" y="404640"/>
            <a:ext cx="5437440" cy="5688360"/>
          </a:xfrm>
          <a:prstGeom prst="rect">
            <a:avLst/>
          </a:prstGeom>
          <a:ln w="0">
            <a:noFill/>
          </a:ln>
        </p:spPr>
      </p:pic>
      <p:pic>
        <p:nvPicPr>
          <p:cNvPr id="61" name="~PP364.WAV" descr=""/>
          <p:cNvPicPr/>
          <p:nvPr/>
        </p:nvPicPr>
        <p:blipFill>
          <a:blip r:embed="rId2"/>
          <a:stretch/>
        </p:blipFill>
        <p:spPr>
          <a:xfrm>
            <a:off x="8358120" y="6143760"/>
            <a:ext cx="500040" cy="3571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0253f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10253f"/>
                </a:solidFill>
                <a:latin typeface="Arial"/>
              </a:rPr>
              <a:t>Востребованный транспор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Наиболее востребован автомобильный транспорт, который используется для перевозки пассажиров и грузов как внутри городка так и за преде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Последнее время сильно увеличилось количество автомобилей. Проблемой для этого транспорта является плохое дорожное покрытие. К сожалению, в настоящее время в автомобилях используются двигатели внутреннего сгорания хоть и в этом есть прогресс: стали применять инжекторный впрыск топлива и фильтры, очищающие выхлопные газ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Глобальная проблема  любой страны, не исключая нашего городка, загрязнение окружающей среды. Поэтому начали активно разрабатывать альтернативный вид топлива и экологически чистые двигатели, работающие на электричестве с применением аккумуляторов и солнечных батар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     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~PP2910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0253f"/>
                </a:solidFill>
                <a:latin typeface="Arial"/>
              </a:rPr>
              <a:t>Как можно улучшить автомобильный вид транспорт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17375e"/>
                </a:solidFill>
                <a:latin typeface="Arial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Вопрос касающийся всех людей: </a:t>
            </a:r>
            <a:r>
              <a:rPr b="1" lang="ru-RU" sz="2400" spc="-1" strike="noStrike" u="sng">
                <a:solidFill>
                  <a:srgbClr val="17375e"/>
                </a:solidFill>
                <a:uFillTx/>
                <a:latin typeface="Arial"/>
              </a:rPr>
              <a:t>Как можно улучшить автомобильный вид транспор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Многие ученые думают над этим вопросом, но они только могли создать аккумуляторы и солнечные батареи, работающие от электричества</a:t>
            </a: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Documents and Settings\Admin\Рабочий стол\IMG_1922.jpg"/>
          <p:cNvPicPr/>
          <p:nvPr/>
        </p:nvPicPr>
        <p:blipFill>
          <a:blip r:embed="rId1"/>
          <a:stretch/>
        </p:blipFill>
        <p:spPr>
          <a:xfrm>
            <a:off x="179280" y="1844640"/>
            <a:ext cx="4537080" cy="4308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10253f"/>
                </a:solidFill>
                <a:uFillTx/>
                <a:latin typeface="Arial"/>
              </a:rPr>
              <a:t>Ответ первого прохожег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360" y="1773360"/>
            <a:ext cx="41274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7375e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Надо больше выпускать транспорт на аккумуляторах и солнечных батареях или вообще их не выпускать. А лучше всего пусть снова появится гужевой транспорт. Он же сейчас встречается очень редко</a:t>
            </a:r>
            <a:r>
              <a:rPr b="0" lang="en-US" sz="2600" spc="-1" strike="noStrike">
                <a:solidFill>
                  <a:srgbClr val="17375e"/>
                </a:solidFill>
                <a:latin typeface="Arial"/>
              </a:rPr>
              <a:t>.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~PP2062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Documents and Settings\Admin\Рабочий стол\IMG_1923.jpg"/>
          <p:cNvPicPr/>
          <p:nvPr/>
        </p:nvPicPr>
        <p:blipFill>
          <a:blip r:embed="rId2"/>
          <a:stretch/>
        </p:blipFill>
        <p:spPr>
          <a:xfrm>
            <a:off x="4140360" y="1557360"/>
            <a:ext cx="4752720" cy="43927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newsflash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10253f"/>
                </a:solidFill>
                <a:uFillTx/>
                <a:latin typeface="Arial"/>
              </a:rPr>
              <a:t>Ответ второго прохожег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~PP497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250920" y="1557360"/>
            <a:ext cx="3960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«Больше внедрять в общественную жизнь спортивных снаряжений. Заниматься здоровым образом жизни. Больше отдыхать на природе и заниматься спортом. И просто быть здоровым человеко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D:\пароход\bike2.bmp"/>
          <p:cNvPicPr/>
          <p:nvPr/>
        </p:nvPicPr>
        <p:blipFill>
          <a:blip r:embed="rId2"/>
          <a:stretch/>
        </p:blipFill>
        <p:spPr>
          <a:xfrm>
            <a:off x="4356000" y="1628640"/>
            <a:ext cx="4179960" cy="439272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newsflash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0253f"/>
                </a:solidFill>
                <a:latin typeface="Arial"/>
              </a:rPr>
              <a:t>Главная задача транспор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Коммуникационная система охватывает транспорт и связь. Её главная задача - перемещение в пространстве людей, информации, энергии и различных груз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Все виды транспорта делятся на две группы. Специализированные виды перемещают лишь определённые грузы (нефть, газ, электроэнергию). А универсальные перевозят и людей, и различные гру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Главная задача транспорта – крепко связывать между собой разные звенья хозяйства и множество стран. Любой вид транспорта такую задачу решить не может, поэтому все виды транспорта взаимодействуют друг с другом. Так они образуют совокупность всех видов транспор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~PP2732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09-11-17T14:21:12Z</dcterms:modified>
  <cp:revision>26</cp:revision>
  <dc:subject/>
  <dc:title>Транспорт в моём городке</dc:title>
</cp:coreProperties>
</file>