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10B52-DDA2-4D25-BF2A-8FD46C2B75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9022E-D73C-42EE-B2DD-04D8ED5AE7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7BC5-D321-4AED-BB6E-308F943FD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FAC4-9E2C-4E01-9005-11A5EE2F6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FE1E-1FBC-41F4-ABE1-7EA13D880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A9FE-5905-4397-9554-39C91FBA4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EFE3-5C92-4B4C-9B80-C92D74F68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2428-F520-4CFE-95F0-86DC25FAD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7AD5-1F1D-4DC2-A5DC-8E5EA13EE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7897-C0BC-4352-8465-2605062B1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1231-C691-48CE-8421-FBA13F7E3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0A39-C6F2-4EAB-8513-673F7391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C147-4C37-4022-A28E-9735BCF8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F9E8-A8B0-4B22-AE19-D8693AAC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1F2E8-906E-46FF-B344-41D96ACD84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7640"/>
            <a:ext cx="6400800" cy="17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291240" y="357120"/>
            <a:ext cx="856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0253f"/>
                </a:solidFill>
                <a:latin typeface="Calibri"/>
              </a:rPr>
              <a:t>Транспорт в нашем городк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~PP1634.WAV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Documents and Settings\Admin\Рабочий стол\IMG_1924.jpg"/>
          <p:cNvPicPr/>
          <p:nvPr/>
        </p:nvPicPr>
        <p:blipFill>
          <a:blip r:embed="rId2"/>
          <a:stretch/>
        </p:blipFill>
        <p:spPr>
          <a:xfrm>
            <a:off x="-396720" y="-171360"/>
            <a:ext cx="9540720" cy="727236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>
            <a:off x="0" y="214200"/>
            <a:ext cx="8972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10253f"/>
                </a:solidFill>
                <a:latin typeface="Calibri"/>
              </a:rPr>
              <a:t>Транспорт в нашем городк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0253f"/>
                </a:solidFill>
                <a:latin typeface="Arial"/>
              </a:rPr>
              <a:t>Инфраструктурный</a:t>
            </a:r>
            <a:r>
              <a:rPr b="1" lang="en-US" sz="4000" spc="-1" strike="noStrike">
                <a:solidFill>
                  <a:srgbClr val="10253f"/>
                </a:solidFill>
                <a:latin typeface="Arial"/>
              </a:rPr>
              <a:t> комплек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899640" y="1700280"/>
            <a:ext cx="7417080" cy="42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Третичный сектор подразделяется на две относительно самостоятельные част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1) коммуникационную систему (транспорт и связь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2) Сферу обслуживания (торговля, культура, наука, образование и п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Виды транспорта: железнодорожный,</a:t>
            </a:r>
            <a:r>
              <a:rPr b="1" lang="en-US" sz="2400" spc="-1" strike="noStrike">
                <a:solidFill>
                  <a:srgbClr val="17375e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морской, речной, трубопроводный,  гужевой, электронный, авиационный, автомобиль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~PP1350.WAV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newsflash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28760" y="285480"/>
            <a:ext cx="3357360" cy="58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7375e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</a:rPr>
              <a:t>В нашем городке есть автомобильный и железнодорожный транспорт.  В железнодорожный вид транспорта входят электропоезда, товарные поезда, тепловозы, АДМ.  В автомобильный вид транспорта входят грузовые и легковые автомобили, строительная техника, мотоциклы, автобусы. Ещё есть информационный вид транспор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F:\Изображение 193.jpg"/>
          <p:cNvPicPr/>
          <p:nvPr/>
        </p:nvPicPr>
        <p:blipFill>
          <a:blip r:embed="rId1"/>
          <a:stretch/>
        </p:blipFill>
        <p:spPr>
          <a:xfrm>
            <a:off x="3492360" y="404640"/>
            <a:ext cx="5437440" cy="5688360"/>
          </a:xfrm>
          <a:prstGeom prst="rect">
            <a:avLst/>
          </a:prstGeom>
          <a:ln w="0">
            <a:noFill/>
          </a:ln>
        </p:spPr>
      </p:pic>
      <p:pic>
        <p:nvPicPr>
          <p:cNvPr id="61" name="~PP364.WAV" descr=""/>
          <p:cNvPicPr/>
          <p:nvPr/>
        </p:nvPicPr>
        <p:blipFill>
          <a:blip r:embed="rId2"/>
          <a:stretch/>
        </p:blipFill>
        <p:spPr>
          <a:xfrm>
            <a:off x="8358120" y="6143760"/>
            <a:ext cx="500040" cy="3571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newsflash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0253f"/>
                </a:solidFill>
                <a:latin typeface="Arial"/>
              </a:rPr>
              <a:t>     </a:t>
            </a:r>
            <a:r>
              <a:rPr b="1" lang="ru-RU" sz="4000" spc="-1" strike="noStrike">
                <a:solidFill>
                  <a:srgbClr val="10253f"/>
                </a:solidFill>
                <a:latin typeface="Arial"/>
              </a:rPr>
              <a:t>Востребованный транспор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</a:rPr>
              <a:t>Наиболее востребован автомобильный транспорт, который используется для перевозки пассажиров и грузов как внутри городка так и за предел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17375e"/>
                </a:solidFill>
                <a:latin typeface="Arial"/>
              </a:rPr>
              <a:t>Последнее время сильно увеличилось количество автомобилей. Проблемой для этого транспорта является плохое дорожное покрытие. К сожалению, в настоящее время в автомобилях используются двигатели внутреннего сгорания хоть и в этом есть прогресс: стали применять инжекторный впрыск топлива и фильтры, очищающие выхлопные газ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</a:rPr>
              <a:t>Глобальная проблема  любой страны, не исключая нашего городка, загрязнение окружающей среды. Поэтому начали активно разрабатывать альтернативный вид топлива и экологически чистые двигатели, работающие на электричестве с применением аккумуляторов и солнечных батар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</a:rPr>
              <a:t>     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~PP2910.WAV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newsflash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0253f"/>
                </a:solidFill>
                <a:latin typeface="Arial"/>
              </a:rPr>
              <a:t>Как можно улучшить автомобильный вид транспорт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7375e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17375e"/>
                </a:solidFill>
                <a:latin typeface="Arial"/>
              </a:rPr>
              <a:t>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Вопрос касающийся всех людей: </a:t>
            </a:r>
            <a:r>
              <a:rPr b="1" lang="ru-RU" sz="2400" spc="-1" strike="noStrike" u="sng">
                <a:solidFill>
                  <a:srgbClr val="17375e"/>
                </a:solidFill>
                <a:uFillTx/>
                <a:latin typeface="Arial"/>
              </a:rPr>
              <a:t>Как можно улучшить автомобильный вид транспор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17375e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Многие ученые думают над этим вопросом, но они только могли создать аккумуляторы и солнечные батареи, работающие от электричества</a:t>
            </a:r>
            <a:r>
              <a:rPr b="0" lang="ru-RU" sz="2600" spc="-1" strike="noStrike">
                <a:solidFill>
                  <a:srgbClr val="17375e"/>
                </a:solidFill>
                <a:latin typeface="Arial"/>
              </a:rPr>
              <a:t>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C:\Documents and Settings\Admin\Рабочий стол\IMG_1922.jpg"/>
          <p:cNvPicPr/>
          <p:nvPr/>
        </p:nvPicPr>
        <p:blipFill>
          <a:blip r:embed="rId1"/>
          <a:stretch/>
        </p:blipFill>
        <p:spPr>
          <a:xfrm>
            <a:off x="179280" y="1844640"/>
            <a:ext cx="4537080" cy="43084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10253f"/>
                </a:solidFill>
                <a:uFillTx/>
                <a:latin typeface="Arial"/>
              </a:rPr>
              <a:t>Ответ первого прохожег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-360" y="1773360"/>
            <a:ext cx="412740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7375e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17375e"/>
                </a:solidFill>
                <a:latin typeface="Arial"/>
              </a:rPr>
              <a:t>Надо больше выпускать транспорт на аккумуляторах и солнечных батареях или вообще их не выпускать. А лучше всего пусть снова появится гужевой транспорт. Он же сейчас встречается очень редко</a:t>
            </a:r>
            <a:r>
              <a:rPr b="0" lang="en-US" sz="2600" spc="-1" strike="noStrike">
                <a:solidFill>
                  <a:srgbClr val="17375e"/>
                </a:solidFill>
                <a:latin typeface="Arial"/>
              </a:rPr>
              <a:t>.»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~PP2062.WAV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C:\Documents and Settings\Admin\Рабочий стол\IMG_1923.jpg"/>
          <p:cNvPicPr/>
          <p:nvPr/>
        </p:nvPicPr>
        <p:blipFill>
          <a:blip r:embed="rId2"/>
          <a:stretch/>
        </p:blipFill>
        <p:spPr>
          <a:xfrm>
            <a:off x="4140360" y="1557360"/>
            <a:ext cx="4752720" cy="43927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newsflash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10253f"/>
                </a:solidFill>
                <a:uFillTx/>
                <a:latin typeface="Arial"/>
              </a:rPr>
              <a:t>Ответ второго прохожег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~PP497.WAV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250920" y="1557360"/>
            <a:ext cx="3960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Arial"/>
              </a:rPr>
              <a:t>«Больше внедрять в общественную жизнь спортивных снаряжений. Заниматься здоровым образом жизни. Больше отдыхать на природе и заниматься спортом. И просто быть здоровым человеком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D:\пароход\bike2.bmp"/>
          <p:cNvPicPr/>
          <p:nvPr/>
        </p:nvPicPr>
        <p:blipFill>
          <a:blip r:embed="rId2"/>
          <a:stretch/>
        </p:blipFill>
        <p:spPr>
          <a:xfrm>
            <a:off x="4356000" y="1628640"/>
            <a:ext cx="4179960" cy="439272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newsflash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0253f"/>
                </a:solidFill>
                <a:latin typeface="Arial"/>
              </a:rPr>
              <a:t>Главная задача транспор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17375e"/>
                </a:solidFill>
                <a:latin typeface="Arial"/>
              </a:rPr>
              <a:t>Коммуникационная система охватывает транспорт и связь. Её главная задача - перемещение в пространстве людей, информации, энергии и различных груз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17375e"/>
                </a:solidFill>
                <a:latin typeface="Arial"/>
              </a:rPr>
              <a:t>Все виды транспорта делятся на две группы. Специализированные виды перемещают лишь определённые грузы (нефть, газ, электроэнергию). А универсальные перевозят и людей, и различные груз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17375e"/>
                </a:solidFill>
                <a:latin typeface="Arial"/>
              </a:rPr>
              <a:t>Главная задача транспорта – крепко связывать между собой разные звенья хозяйства и множество стран. Любой вид транспорта такую задачу решить не может, поэтому все виды транспорта взаимодействуют друг с другом. Так они образуют совокупность всех видов транспор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~PP2732.WAV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newsflash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oner-XP</cp:lastModifiedBy>
  <dcterms:modified xsi:type="dcterms:W3CDTF">2009-11-17T14:21:12Z</dcterms:modified>
  <cp:revision>26</cp:revision>
  <dc:subject/>
  <dc:title>Транспорт в моём городке</dc:title>
</cp:coreProperties>
</file>