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6C2-60D3-4F72-9768-8343D7E0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1F2-6605-416D-91C1-F12CBA14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D7B-1A37-4910-BA8F-F40B8E25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3C4-BEAD-4EAC-82A5-5D77467B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92A2-FF8C-49A4-94AC-267E43FC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B12D-D77E-4A6E-8867-138438B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3283-11F0-480E-A53E-B5F56D51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BDDE-0F28-4181-91DE-35FB1B9C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C02B-36B1-42F9-860A-740FF1AE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CEA-D823-423E-8CA4-5B7CF1C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E0D2-2823-4B53-8BB6-7CCE762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2F9-C549-4101-B4A1-720A21EE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FAED-427B-4ED8-B878-83C55AD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4498-8D18-4AF7-B789-88F92F8D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8B2B-0E57-4E0B-822E-87863F45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9EC-F555-48E0-A674-322D40A0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6A5-77A4-4C60-9EFD-5A1CE71D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6687E-7C01-4B46-83F3-BE7FB157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0C9EF-064D-47A0-90DD-33FE3CE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F3DC1-DC3B-4259-A3FD-9693CF0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2A889-6C3C-42EC-AF2C-9E76FB19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2E86F-6E72-465E-8B33-A2C741D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AF5-8BFB-4A9F-8214-F943795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6ACFC-281C-4524-936B-0E391DB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4559B-C2D5-43F9-BEAE-9D48553E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26321-5658-488D-B986-9D76935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B4BDA-6AB0-487D-9EDC-49B8FDB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23B58-8B00-406D-98E6-7F578580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65FF2-9FB8-409F-802B-062A034C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4BC5C-0B68-4141-BC7E-05C06EA6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8A7B-E82C-4EC5-823D-1459C29F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200B-C4AC-4434-9C7E-2351ECAC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C458-1264-474D-AA62-019BF0A3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7B8-F764-4BAC-8AB0-B5C1CFBA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CEC79-53E8-4310-BC46-FB5C9F0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FF09-5965-41EB-89B8-966BE9D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5BAA-64B2-4445-AF50-1E9AA64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A357-A046-4ACB-B3F5-DC601B5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905B-5FFA-4474-A44C-518D7A12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6F71-91A2-4F6C-926B-00A9C328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3775-2E69-4833-8F35-F761B3E0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973E-C544-43B6-8038-285269A0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A642-E211-4CA4-8E8F-C015648D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A8274-4075-44FE-BEAF-E38077D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2D2-BC47-41F8-BF81-912E40C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DB5A5-1128-4014-ACD6-704505F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8EBC4-C716-4EA0-83B9-DF6DD12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E9BF1-57DC-49BE-95BA-8EE56B63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E77A3-657A-481B-B52C-7CC60181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1F879-B343-4C5A-8220-60227D6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0C5DA-01D9-4B5B-A62F-DA5CDE7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8FC7D-D99A-4999-B7F5-58B2AF8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59FAC-4CBF-49D1-9829-1F7906D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45960-D14C-4F22-BB71-61593D70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67965-7ED7-4A16-8322-6951F175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B67-66A2-4370-8BC5-AC0DEF9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A7832-CDAB-45BA-BE22-85586117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6038C-94F8-4CB0-AC09-8E873735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4BDDC-BA18-4AE0-835D-1AD48AF1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0A708-B2FB-45BD-93C8-1E7E448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B17F8-987F-4077-BD07-810E0D6E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8CA9A-C43C-4AA9-9C36-347ED29E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25799-E6EB-4A7E-A718-CEF98BE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61FE5-D584-497A-BB79-E266CED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237F1-AAD9-4944-90CD-3C922B1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71AD-23FB-4999-9BB0-40E1BD6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E8B-5412-4E46-8BA3-4193285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9AF4B-143C-4823-BE38-BA42E78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29954-69F2-4990-B0B4-84B82969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CCFB3-CF24-45DC-BD1E-55B32D8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0043C-94AD-43FE-A1EA-82C8E36E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F61E7-9B39-41B2-B41B-98A2A244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5CD31-1CA6-4B52-B36B-D445D5B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A2925-6062-4CD6-81E7-09E4238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FB398-26E2-4E55-A011-DC1C09F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81587-77E2-42DE-A2AE-42947DE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BFFCB-9176-4825-A312-D6E5542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0BD-B645-43B0-B1B1-8DDF911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3FD50-0DBD-4E2A-A9F5-D7991DB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A184A-8030-4F37-AEB5-587E1FD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73961-EB5D-443A-9575-AD3EBF4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61E13-A30D-46AE-9E5B-7DDB150D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982C5-9126-44A8-9D9C-8E5D084F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F24-A934-457C-AEEC-BFEB4AA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193-F416-41E8-81E3-3CCC9EC4C7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C40B-AE08-4B9F-BEFC-9347F70748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8D1E-1B47-4BA7-8ECE-FC787BFB94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3F55-A544-4D1D-8EF8-20C759DE81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4C87-F2E0-4798-9DF7-EC98EA07FC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E31D-13C8-4AD1-B880-5FBDD5FB04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39F8-480C-42A4-AD43-FEB35C426C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ТРАНСПОРТ  САРАТОВСКОЙ ОБЛА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42940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857160" y="1817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648972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новные пристани на Волге — Саратов, Маркс, Вольск, Балаково и Хвалынск. Волга связывает Саратовскую область с важными экономическими районами страны: каналом имени Москвы — с промышленным центром РФ, через Каму — с Западным Уралом, Волго-Донским каналом имени В. И. Ленина —с Ростовом, водной системой Волго-Балт — с Прибалтикой и Беломорь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Волге Саратовская область отгружает хлеб, цемент, нефть, оборудование и получает значительное количество товарных грузов: сульфат для завода технического стекла, камень-ракушечник с Каспия, гравий из Ейска, металл, лес из Карелии.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стани на Волге за последнее время реконструированы, а набережные городов изменили свой облик. Особенно красиво выглядит в Саратове набережная Космонавтов с пассажирским речным вокзалом, где останавливаются белоснежные туристские теплохо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a7007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ПРИСТАНЬ У ГОРОДА САРАТ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852480" y="1832040"/>
            <a:ext cx="6676920" cy="441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ольшое развитие получил автомобильный и авиационный транспорт. По территории нашей области проходит несколько дорог республиканского значения с улучшенным покрытием: Саратов —Балашов —Воронеж; Саратов — Пенза; Сызрань — Саратов — Волгоград; Самара— Энгельс — Волгоград; Саратов — Ртищево-Тамбов; Балашов —Ртищево. Кроме того, имеется 27 автодорог областного знач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втомобильный транспорт обслуживает межрайонные перевозки. Один из крупнейших мостов в Европе — мост через Волгу — соединяет Саратов с Энгельсом и всем  Заволжье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МОСТ ЧЕРЕЗ ВОЛГУ ОТ САРАТОВА К ЭНГЕЛЬС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71760" y="237960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4762440" cy="35053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5143680" y="1500120"/>
            <a:ext cx="350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казатель  плотности автодорог составляет в среднем по области 91 км на 1ооо км², изменяясь от 32 км в екатерининском до 191 км в Саратовском  район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ольшинство грузов в пределах области перевозится  автомобильным транспорт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361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14880" y="1600200"/>
            <a:ext cx="3713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й автомобиль появился на улицах Саратова в 1900 го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е автотранспортные предприятия  были организованы в  начале 20-х годов в Саратове,  Аткарске, Балашове, Вольск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14200" y="2500200"/>
            <a:ext cx="38577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77880" y="1600200"/>
            <a:ext cx="702612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ТРУБОПРО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457360" cy="4143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928960" y="1600200"/>
            <a:ext cx="5572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 началось с октября 1942 года, когда по 16 км газопроводу природный газ из Елшанского  месторождения  был подан на Саратовскую электростан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йчас трубопроводная система включает 22 тысячи км газопроводов и 1000 км нефтепрово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лавные направления: Самара -Тихорецк, Самара- Лисичанс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территории Саратовской области развиты все виды транспорта: железнодорожный, водный, автогужевой, воздушный и трубопровод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ршенно изменился железнодорожный транспорт в наши дни. Увеличилась дорожная сеть, свыше 70 процентов перевозок осуществляется тепловозами. Производится реконструкция железнодорожных путей и станций, автоматизация и автоблокиров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ТРУБОПРО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области  развит трубопроводный транспорт. После окончания Великой Отечественной войны был построен первый крупный газопровод в СССР Саратов — Москва протяженностью 843 километра. К газопроводу Саратовского узла позже был подключен 100-километровый газопровод Степное — Саратов, который идет через Волгу, и газопровод Жирное (Волгоградская область) — Кологривовка. Природный газ транспортируется по трубам и в город цементников — Вольск, и в город химиков — Балаково, и в другие города и населенные пункты области, расположенные вблизи газовых магистралей. Крупнейшая газовая магистраль Саратов — Череповец (Вологодская область) проложена через такие промышленные центры, как Пенза, Саранск, Нижний Новгород, Иваново, Владимир, Ярославль. Теперь промышленность и население этих городов пользуются удобным и дешевым топлив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Через область пролегает трансконтинентальный газопровод Средняя Азия —Центр с двумя мощными газокомпрессорными станциями — в Александровом Гае и Петровске. Будут использованы трубы увеличенного диаметр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овая трасса магистрального нефтепровода Сызрань – Саратов _ Волгоград – Туапсе, протяженностью 1600 к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ИАЦИОН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рез Саратов проходят многие транзитные авиалинии, связывающие Саратов с Москвой, Волгоградом, Самарой, Пензой, курортами Кавказа и Крыма, а также со многими районами области. Воздушный транспорт используется для перевозки пассажиров, почты, для оказания срочной медицинской помощи; в сельском хозяйстве — для внесения удобрений на поля и для борьбы с насекомыми-вредителями и грызунами, с лесными пожар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6572160" y="357120"/>
            <a:ext cx="1619280" cy="138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4762440" cy="32101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ИАЦИОН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2560" y="1600200"/>
            <a:ext cx="8001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1935 года осуществляются пассажирск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возки на линии Москва – Сара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САРАТОВ – КРУПНЫЙ ТРАНСПОРТНЫЙ УЗ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6215040" cy="4286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43080"/>
            <a:ext cx="68295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лавной железнодорожной магистралью области является транзитная линия Москва —Саратов — Оренбург. Эта дорога связывает Саратов с Москвой, Уралом, Сибирью, Средней Аз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станции Урбах идет железная дорога на Астрахань и Северный Кавказ. На юге Правобережья проходит железнодорожная линия Тамбов — Балашов — Камышин, связывающая юго-западные районы области с Моск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3757680" cy="2357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270320" y="1428840"/>
            <a:ext cx="45165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троительство  мостового перехода через реку Волгу в Саратове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ело в том, что существующий железнодорожный мост является одним из элементов транспортного коридора «Север – Юг», связывая заволжские районы Саратовской, Волгоградской и Астраханской областей, а также республики Средней Азии и Казахстана с Центральной Россией. Кроме того, мост выполняет роль связующего звена между Саратовским железнодорожным узлом и внеклассной сортировочной станцией сетевого значения Анисовк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оответственно, нормы проектирования – образца 1925 года. По грузоподъемности мост отнесен к пятой, самой низкой категории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14200" y="4357800"/>
            <a:ext cx="37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ина – 1800 метров, а построен он был еще в прошлом столетии, в 1929 – 1934 годы, по проекту мостового бюро Народного комиссариата путей сообщени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 западе области в меридиональном направлении проходит транзитная железнодорожная линия Пенза-Харьков. Эта дорога связывает Саратовскую область с Украиной и Средним Поволжье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доль побережья Волги идет железная дорога Волгоград — Саратов — Казань. Роль этой дороги особенно возрастает зимой, когда Волга замерзает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 территории области имеется, кроме того, несколько железнодорожных веток, соединяющих отдельные районы с основными железнодорожными магистралями. От станции Аткарск (на линии Саратов — Москва) отходят две железнодорожные ветки: Аткарск — Вольск и Аткарск — Лысые Горы - Калининск. На линии Саратов — Оренбург от Ершова построена ветка на Пугаче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едавно построена железнодорожная ветка Пугачев— Балаково. В южной части Заволжья от станции Красный Кут (на линии Урбах — Астрахань) идет ветка на Александров Гай. Строится железная дорога через Александров Гай в Среднюю Азию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2920" y="160020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железным дорогам переправляется часть грузов: станки, машины, нефтепродукты, мебель, мука, продукты животновод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 других районов — Волгограда, Урала, Ульяновской области — область получает металл, химикаты, каменный уголь, стекольный песо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иболее крупным железнодорожным узлом является станция Саратов. Здесь пересекаются основные железнодорожные линии: Москва — Саратов — Оренбург и Волгоград — Казан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Саратовском узле электрифицировано пригородное железнодорожное движение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2738160" cy="235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572080" y="392904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менее важный железнодорожный узел — станция Балашов. Через него проходят железнодорожные линии Пенза — Харьков и Тамбов — Камышин. Электрифицирован железнодорожный участок Пенза — Ртищево—Поворино. Поезда здесь переведены на электрическую тягу. Станция Балашов — важный пункт погрузки зерна, муки, комбикормов и растительного мас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ым центром погрузки цемента является станция Вольск. В ближайшем будущем железная дорога через плотину свяжет ее с городом Балаково и Заволжь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й транспорт наиболее экономичен, так как перевозка грузов водой обходится в 2—3 раза дешевле, чем железной дорогой. Главной водной магистралью является Волг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чной флот заметно изменился. Новые, в основном трехпалубные, пассажирские теплоходы отличаются техническим совершенством, комфортабельностью, красотой. Изменился и грузовой флот. Вместо деревянных барж, буксируемых тягачами, теперь ходят по волжским просторам самоходные танкеры, имеющие большую скорость и вместим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643800" y="285840"/>
            <a:ext cx="190476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35:30Z</dcterms:created>
  <dc:creator>Loner-XP</dc:creator>
  <dc:description/>
  <dc:language>en-US</dc:language>
  <cp:lastModifiedBy>Loner-XP</cp:lastModifiedBy>
  <dcterms:modified xsi:type="dcterms:W3CDTF">2010-04-12T20:00:35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40000000000010250300207f7000400038000</vt:lpwstr>
  </property>
</Properties>
</file>