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5AE-9EF4-4CE0-BA2B-DD2F70E1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F71-5BC5-493B-82C0-5EAB1810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DFD-E546-4ED9-93C2-12731EDE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52A-8455-4DED-B7FD-2926CE99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6CAE-06CB-4A3C-962D-E232AD94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41CC-E99E-4365-92E0-8DD38C09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D981-A7EE-4036-A3B8-2E038F3F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0006-03C4-4CA5-8519-4CBBC99F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4727-17C0-4A22-8E29-6EA3806E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2506-E27A-4E62-8A6D-EFCC8F97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11C4-9224-4E3A-A906-A9442304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332-7BCD-4E55-8D77-61F44001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BD80-E9BA-47E0-A628-69AE8DC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31A6-E08E-4EEF-9831-B657D8F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AF8B-3452-41AA-843D-5556A24E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56AE-B7EA-425F-84C7-5CFD19EC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F18B-9B56-4B86-9756-88442E01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0803C-2EAF-4AEA-A5F5-F9A0979E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BE84C-AA6D-4201-88ED-608AF36D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54CE6-16EB-4F5D-AD3F-00C2AD3B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28DE1-3F58-49B4-834C-68CA26A9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B240E-BA8A-4589-9424-751D5DE8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ABE-DD9E-4CAF-8186-757D42C9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39832-7239-4764-8628-49843E0C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6D440-125F-431D-9224-6CEEE47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28A04-FFE3-4728-83EB-6C026CB9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B5623-5906-48A0-BDB3-EAEAC675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6C20B-6CD2-4CD8-9284-85E5F82A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D8853-C416-4193-B3B6-A5A95C00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37833-0916-48D5-89AE-CD10C2DF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5A55-E94F-41E1-A956-470989F2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B6FE4-9BC8-4C25-9B9B-C27D9339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371F0-9CF8-47CD-8EEF-7E2B5A19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958-8641-4693-99C4-B0376A2F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3F09-118A-4CC8-9493-294566B2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72E5E-1B33-49D1-A822-85D1086F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DA49-A457-4EAD-A29F-2FE8AC01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672B3-C543-4765-A673-968DFF5E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4DD7-9580-4AE0-9097-CE82ABBA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BED1-A463-430E-92B0-619115B9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F0FD-1C80-405E-A99E-D3774531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EC096-F4C8-42A9-83B3-2FDFA249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4617B-9F6D-4E82-B576-069DE08D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9E89A-15A3-4F15-9986-50822802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41C-9714-4EF6-AC56-1B8D2E2E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80F56-A92C-4F05-BB85-B11AEEC8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53E95-EE58-46DA-AF58-40FF3127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0E701-8D96-4707-815F-C866D0B1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B363F-0FB7-49FA-860C-44A03EFD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E56BC-F809-4038-9D4F-2138C815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5F389-DA78-41FD-85A2-F7D68069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71021-CA2F-4A9E-9489-6161C4E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D0ABD-7919-4868-AC51-5F81ED44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A4672-9F20-4442-9F71-7C3E9817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4D35E-09BC-4C73-ABDC-0E1BB1DB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F11-84EF-4B53-9A3A-D4005055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7CA7E-3914-40F8-B502-834BE939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79802-B83F-47E8-B1FB-958660F9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5E389-A6DD-43E7-BA0A-952709AD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91732-A972-4726-AC8C-C3AD0DF3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33012-AB07-465C-B7CA-2CD4870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48671-744F-426F-AEA6-BD9884E3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97D20-5A30-4A16-A9A5-F2B967C0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CB773-B195-4535-8D39-ED2C53C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D4D8E-6858-45BE-8963-F2985EB0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1C55B-3A12-4A14-B3FC-E7835D6B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5BC-4D0A-4F51-819B-042684DE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1123A-B2E1-4F2B-9EDE-B8011AA1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88496-10DA-4818-A599-93EAC026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729C2-D3CE-4107-9ABD-504A0D53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DB31F-4F1D-4754-A96A-45C3FC01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46F1F-B2E3-4EE0-8886-97F26010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171F6-5579-4E77-B274-8470B774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69A8A-3D4E-4B58-85E6-5A9996EC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55C30-1A84-4E8E-B297-782E002C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E8831-C09F-456B-9BB3-17FA220C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F0F37-4496-45A8-851E-EAC30270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B16-3D0C-4ECB-973D-7FC96CB7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7DC8A-9657-41C0-8AE4-8CF99378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57BDE0-9A32-4EEA-B528-853BF0B6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70122-BE1B-49F9-B11F-6CF7E136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67D69-459A-4244-900F-EA636272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CBE8F-D997-4021-A0A4-FA3206F7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C10-BDC8-44CD-8DDB-689E8FB4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EAE1-9356-4AEF-9257-DB38792237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CA1B-C2E0-4B98-9996-28E19007F2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A996-61A3-4453-AE20-33ECBFDD4B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0D85-F7C6-42D6-9D25-DA5D445374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E030-4A67-4E78-B1DB-FD0861DE0C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B8F6-B70E-4C63-A17D-C739385F75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B5A-A8C6-4C3E-A047-19FE75D474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75c01"/>
                </a:solidFill>
                <a:latin typeface="Century Schoolbook"/>
              </a:rPr>
              <a:t>ТРАНСПОРТ  САРАТОВСКОЙ ОБЛАСТ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285840" y="1557360"/>
            <a:ext cx="8429400" cy="498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857160" y="1817640"/>
            <a:ext cx="6667560" cy="443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946080" y="1600200"/>
            <a:ext cx="6489720" cy="487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сновные пристани на Волге — Саратов, Маркс, Вольск, Балаково и Хвалынск. Волга связывает Саратовскую область с важными экономическими районами страны: каналом имени Москвы — с промышленным центром РФ, через Каму — с Западным Уралом, Волго-Донским каналом имени В. И. Ленина —с Ростовом, водной системой Волго-Балт — с Прибалтикой и Беломорье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Волге Саратовская область отгружает хлеб, цемент, нефть, оборудование и получает значительное количество товарных грузов: сульфат для завода технического стекла, камень-ракушечник с Каспия, гравий из Ейска, металл, лес из Карелии..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стани на Волге за последнее время реконструированы, а набережные городов изменили свой облик. Особенно красиво выглядит в Саратове набережная Космонавтов с пассажирским речным вокзалом, где останавливаются белоснежные туристские теплоход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a7007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ПРИСТАНЬ У ГОРОДА САРАТ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852480" y="1832040"/>
            <a:ext cx="6676920" cy="441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ольшое развитие получил автомобильный и авиационный транспорт. По территории нашей области проходит несколько дорог республиканского значения с улучшенным покрытием: Саратов —Балашов —Воронеж; Саратов — Пенза; Сызрань — Саратов — Волгоград; Самара— Энгельс — Волгоград; Саратов — Ртищево-Тамбов; Балашов —Ртищево. Кроме того, имеется 27 автодорог областного знач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втомобильный транспорт обслуживает межрайонные перевозки. Один из крупнейших мостов в Европе — мост через Волгу — соединяет Саратов с Энгельсом и всем  Заволжье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МОСТ ЧЕРЕЗ ВОЛГУ ОТ САРАТОВА К ЭНГЕЛЬС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571760" y="2379600"/>
            <a:ext cx="5238720" cy="331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4762440" cy="3505320"/>
          </a:xfrm>
          <a:prstGeom prst="rect">
            <a:avLst/>
          </a:prstGeom>
          <a:ln w="0">
            <a:noFill/>
          </a:ln>
        </p:spPr>
      </p:pic>
      <p:sp>
        <p:nvSpPr>
          <p:cNvPr id="390" name="TextBox 6"/>
          <p:cNvSpPr/>
          <p:nvPr/>
        </p:nvSpPr>
        <p:spPr>
          <a:xfrm>
            <a:off x="5143680" y="1500120"/>
            <a:ext cx="350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казатель  плотности автодорог составляет в среднем по области 91 км на 1ооо км², изменяясь от 32 км в екатерининском до 191 км в Саратовском  района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Большинство грузов в пределах области перевозится  автомобильным транспорт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361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214880" y="1600200"/>
            <a:ext cx="3713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вый автомобиль появился на улицах Саратова в 1900 год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вые автотранспортные предприятия  были организованы в  начале 20-х годов в Саратове,  Аткарске, Балашове, Вольск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14200" y="2500200"/>
            <a:ext cx="38577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ТОМОБИЛЬ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77880" y="1600200"/>
            <a:ext cx="7026120" cy="487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ТРУБОПРО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2457360" cy="4143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2928960" y="1600200"/>
            <a:ext cx="5572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 началось с октября 1942 года, когда по 16 км газопроводу природный газ из Елшанского  месторождения  был подан на Саратовскую электростан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йчас трубопроводная система включает 22 тысячи км газопроводов и 1000 км нефтепровод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лавные направления: Самара -Тихорецк, Самара- Лисичанс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территории Саратовской области развиты все виды транспорта: железнодорожный, водный, автогужевой, воздушный и трубопроводны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ршенно изменился железнодорожный транспорт в наши дни. Увеличилась дорожная сеть, свыше 70 процентов перевозок осуществляется тепловозами. Производится реконструкция железнодорожных путей и станций, автоматизация и автоблокиров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ТРУБОПРОВОД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области  развит трубопроводный транспорт. После окончания Великой Отечественной войны был построен первый крупный газопровод в СССР Саратов — Москва протяженностью 843 километра. К газопроводу Саратовского узла позже был подключен 100-километровый газопровод Степное — Саратов, который идет через Волгу, и газопровод Жирное (Волгоградская область) — Кологривовка. Природный газ транспортируется по трубам и в город цементников — Вольск, и в город химиков — Балаково, и в другие города и населенные пункты области, расположенные вблизи газовых магистралей. Крупнейшая газовая магистраль Саратов — Череповец (Вологодская область) проложена через такие промышленные центры, как Пенза, Саранск, Нижний Новгород, Иваново, Владимир, Ярославль. Теперь промышленность и население этих городов пользуются удобным и дешевым топлив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Через область пролегает трансконтинентальный газопровод Средняя Азия —Центр с двумя мощными газокомпрессорными станциями — в Александровом Гае и Петровске. Будут использованы трубы увеличенного диаметр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Новая трасса магистрального нефтепровода Сызрань – Саратов _ Волгоград – Туапсе, протяженностью 1600 к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ИАЦИОН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рез Саратов проходят многие транзитные авиалинии, связывающие Саратов с Москвой, Волгоградом, Самарой, Пензой, курортами Кавказа и Крыма, а также со многими районами области. Воздушный транспорт используется для перевозки пассажиров, почты, для оказания срочной медицинской помощи; в сельском хозяйстве — для внесения удобрений на поля и для борьбы с насекомыми-вредителями и грызунами, с лесными пожар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6572160" y="357120"/>
            <a:ext cx="1619280" cy="138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4762440" cy="32101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АВИАЦИОН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2560" y="1600200"/>
            <a:ext cx="80010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1935 года осуществляются пассажирск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возки на линии Москва – Сара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САРАТОВ – КРУПНЫЙ ТРАНСПОРТНЫЙ УЗЕ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71680" y="2143080"/>
            <a:ext cx="6215040" cy="42861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143080"/>
            <a:ext cx="682956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лавной железнодорожной магистралью области является транзитная линия Москва —Саратов — Оренбург. Эта дорога связывает Саратов с Москвой, Уралом, Сибирью, Средней Ази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 станции Урбах идет железная дорога на Астрахань и Северный Кавказ. На юге Правобережья проходит железнодорожная линия Тамбов — Балашов — Камышин, связывающая юго-западные районы области с Моск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3757680" cy="23572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270320" y="1428840"/>
            <a:ext cx="451656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троительство  мостового перехода через реку Волгу в Саратове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ело в том, что существующий железнодорожный мост является одним из элементов транспортного коридора «Север – Юг», связывая заволжские районы Саратовской, Волгоградской и Астраханской областей, а также республики Средней Азии и Казахстана с Центральной Россией. Кроме того, мост выполняет роль связующего звена между Саратовским железнодорожным узлом и внеклассной сортировочной станцией сетевого значения Анисовк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оответственно, нормы проектирования – образца 1925 года. По грузоподъемности мост отнесен к пятой, самой низкой категории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214200" y="4357800"/>
            <a:ext cx="378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лина – 1800 метров, а построен он был еще в прошлом столетии, в 1929 – 1934 годы, по проекту мостового бюро Народного комиссариата путей сообщения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а западе области в меридиональном направлении проходит транзитная железнодорожная линия Пенза-Харьков. Эта дорога связывает Саратовскую область с Украиной и Средним Поволжьем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доль побережья Волги идет железная дорога Волгоград — Саратов — Казань. Роль этой дороги особенно возрастает зимой, когда Волга замерзает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а территории области имеется, кроме того, несколько железнодорожных веток, соединяющих отдельные районы с основными железнодорожными магистралями. От станции Аткарск (на линии Саратов — Москва) отходят две железнодорожные ветки: Аткарск — Вольск и Аткарск — Лысые Горы - Калининск. На линии Саратов — Оренбург от Ершова построена ветка на Пугачев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Недавно построена железнодорожная ветка Пугачев— Балаково. В южной части Заволжья от станции Красный Кут (на линии Урбах — Астрахань) идет ветка на Александров Гай. Строится железная дорога через Александров Гай в Среднюю Азию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2920" y="160020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 железным дорогам переправляется часть грузов: станки, машины, нефтепродукты, мебель, мука, продукты животноводств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з других районов — Волгограда, Урала, Ульяновской области — область получает металл, химикаты, каменный уголь, стекольный песо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иболее крупным железнодорожным узлом является станция Саратов. Здесь пересекаются основные железнодорожные линии: Москва — Саратов — Оренбург и Волгоград — Казан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 Саратовском узле электрифицировано пригородное железнодорожное движение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5500800" y="1428840"/>
            <a:ext cx="2738160" cy="2357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5572080" y="3929040"/>
            <a:ext cx="285768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ЖЕЛЕЗНОДОРОЖНЫЙ ТРАН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менее важный железнодорожный узел — станция Балашов. Через него проходят железнодорожные линии Пенза — Харьков и Тамбов — Камышин. Электрифицирован железнодорожный участок Пенза — Ртищево—Поворино. Поезда здесь переведены на электрическую тягу. Станция Балашов — важный пункт погрузки зерна, муки, комбикормов и растительного масл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упным центром погрузки цемента является станция Вольск. В ближайшем будущем железная дорога через плотину свяжет ее с городом Балаково и Заволжь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75c01"/>
                </a:solidFill>
                <a:latin typeface="Century Schoolbook"/>
              </a:rPr>
              <a:t>ВОДНЫЙ ТРАНСПОРТ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дный транспорт наиболее экономичен, так как перевозка грузов водой обходится в 2—3 раза дешевле, чем железной дорогой. Главной водной магистралью является Волг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чной флот заметно изменился. Новые, в основном трехпалубные, пассажирские теплоходы отличаются техническим совершенством, комфортабельностью, красотой. Изменился и грузовой флот. Вместо деревянных барж, буксируемых тягачами, теперь ходят по волжским просторам самоходные танкеры, имеющие большую скорость и вместим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643800" y="285840"/>
            <a:ext cx="190476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35:30Z</dcterms:created>
  <dc:creator>Loner-XP</dc:creator>
  <dc:description/>
  <dc:language>en-US</dc:language>
  <cp:lastModifiedBy>Loner-XP</cp:lastModifiedBy>
  <dcterms:modified xsi:type="dcterms:W3CDTF">2010-04-12T20:00:35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40000000000010250300207f7000400038000</vt:lpwstr>
  </property>
</Properties>
</file>