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D15-C53E-49F8-AD7B-7854BB9F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934-ED94-4BF2-AC25-D50C5500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DB7-C11D-4203-A786-8AB73386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036-61AA-4887-8B25-78A20D38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8A08-C95C-4C47-B8F7-E572B3A5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C717-545E-42A8-9BFE-8E68B3FF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B7F6-EDD3-40D8-AA3E-AB164C6C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9C2F-5184-458E-BF62-4A52172C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A5C7-13BE-4811-9659-43BB11A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046A-D987-4674-805B-5F5FEC81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90A7-6CD3-4506-83B6-F04631ED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166-E0A3-4023-8251-2EE0C48A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14EA-5A33-4EA6-B372-D9F410A5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2837-4EC3-4F07-99FA-7002F52E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0A18-8D68-4589-A19F-2D6B3DCF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3B83-729E-411E-8624-1712F995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E106-9306-47F2-A341-AE02856F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4E049-AE8D-4406-B981-89D21958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906A5-CD8F-434C-86CB-EE9FECFC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B8F11-565B-4550-A039-889FDCA4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BB7D4-7DED-428D-9A03-8A78845B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F29B0-EBCA-496C-9905-D9E1CEC0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2A8-102E-476F-83D1-E0155F02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F7FBD-6671-420A-A7F8-B2C9B678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C74F7-9AEF-458D-9086-53457D7C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60C58-1F75-4734-B330-6B8B3968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414DC-9AA4-417F-801D-D74AF57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50701-06D7-45CC-994C-EA475382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EC057-0033-44AD-B8BF-24E0DD8F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55F3E-5EB7-42C9-BB5B-4D793D07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AF15-7652-414A-A8DA-679004DE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54F6-014D-462A-85E5-7B18BBB6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BC83-078B-4013-9F27-AA2B0DBE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5E7-6761-4385-88DA-D891D09B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6040-9018-48F1-9331-28C62194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7AD5-E28C-48F6-A053-97B33C5E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CDA5C-4296-42EE-A881-32FB1EE4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A5E9D-A781-45E7-BCAD-0DB36BD0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9D2B-8724-40E9-902C-21923AA3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CE2E4-CABC-46C6-AFE3-0B41BF3D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2AB4C-9C60-4A65-8767-5121E10E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A8C39-2DBD-448F-961D-BDD0CAA0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E4AFC-35EF-40A8-A1CB-F61CA0DC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C76C41-3412-426F-8460-B5BA9961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C5B-BE02-49D0-A334-A5BF77B1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66A48-953A-486F-8B40-E01C1774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D74F0-3454-4592-9BE2-5A6ADF05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CE989-2585-47DB-AD20-AC78500F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58A55-3E7B-4167-A1C6-52444CBA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D94B2-D4A8-441A-A555-5AD53ABF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CDAF8-88D3-429E-866F-07D0F3A6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9939B-7B41-446C-ABB2-7B86E536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86D59-E2A2-49AD-A039-B1B8300B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FC888-F5E3-4E1E-BA93-5FED4822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19E35-4941-47A7-8CC7-70902E7D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A28-6D23-47A4-ABE8-A6658A4D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6D12D-7F47-4B63-A1AC-CB9EDCA3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E54F7-1CE0-4057-90A6-BBFC1D8F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7D6EF-50C8-433E-8EF4-28A34802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59AA4-34CF-478C-862A-5BD186D2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9C9B4-6DE1-4511-8365-2E69687E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29DC9-3E7B-474C-A1B3-F6CC3C23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81688-AC05-44FD-8906-1D15C521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E733B-D883-4D1F-A4F2-C4C9B23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0AF20-D8BE-448D-B880-D8E2458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A00CCA-404F-485D-9A6A-BD325FB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EBC-1C01-49FA-9092-F1A8F3CE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BA46B-A0D1-4D2A-AAE1-032702B6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7C18B-E4E0-4F4B-B8A8-5C732F94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7F568-9366-4137-B10A-6385AB1C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AC2A0-99EA-41A4-B291-D513CCFF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8D7A0F-16C0-4A55-9750-8A3A5E9A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76ED7-CB1E-4764-A170-46A21277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DE845F-E0A8-4A8B-8E25-E89865B6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BF738-3E4D-404E-B492-AD9596DB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546EA-CFB4-459F-A162-C1C5D9B2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E3575-4C8C-4590-A11C-7AD43CE4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065-7690-4AFC-A70D-A62FC735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8790A-7280-4BB2-868A-5773BEDD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2953B-2357-4E3D-B240-0E41CEC5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70144D-991E-4BD5-B1BD-6DFA00D9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759E9-77AF-4BFB-9544-559F7C6D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6B023-360B-40C9-805D-2E17FFEE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C9C-9AE8-416B-9971-8A321F31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79B3-9E67-451B-B496-72B208324A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0793-B17C-4D18-8742-3937009D85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FB86-F214-47BC-A25D-D3FA583793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140D-2C58-413B-B6CF-0F8811DF5D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1859-68BB-4D5A-B71D-0361512BF8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1B5C-E5C9-44C3-A9BC-B5F233B5B1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3FE9-FA40-426A-980C-4FB56B0519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ТРАНСПОРТ  САРАТОВСКОЙ ОБЛАСТ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285840" y="1557360"/>
            <a:ext cx="8429400" cy="498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857160" y="1817640"/>
            <a:ext cx="6667560" cy="443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946080" y="1600200"/>
            <a:ext cx="6489720" cy="487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новные пристани на Волге — Саратов, Маркс, Вольск, Балаково и Хвалынск. Волга связывает Саратовскую область с важными экономическими районами страны: каналом имени Москвы — с промышленным центром РФ, через Каму — с Западным Уралом, Волго-Донским каналом имени В. И. Ленина —с Ростовом, водной системой Волго-Балт — с Прибалтикой и Беломорье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Волге Саратовская область отгружает хлеб, цемент, нефть, оборудование и получает значительное количество товарных грузов: сульфат для завода технического стекла, камень-ракушечник с Каспия, гравий из Ейска, металл, лес из Карелии..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стани на Волге за последнее время реконструированы, а набережные городов изменили свой облик. Особенно красиво выглядит в Саратове набережная Космонавтов с пассажирским речным вокзалом, где останавливаются белоснежные туристские теплоход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a7007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ПРИСТАНЬ У ГОРОДА САРАТ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852480" y="1832040"/>
            <a:ext cx="6676920" cy="441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ольшое развитие получил автомобильный и авиационный транспорт. По территории нашей области проходит несколько дорог республиканского значения с улучшенным покрытием: Саратов —Балашов —Воронеж; Саратов — Пенза; Сызрань — Саратов — Волгоград; Самара— Энгельс — Волгоград; Саратов — Ртищево-Тамбов; Балашов —Ртищево. Кроме того, имеется 27 автодорог областного знач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втомобильный транспорт обслуживает межрайонные перевозки. Один из крупнейших мостов в Европе — мост через Волгу — соединяет Саратов с Энгельсом и всем  Заволжье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МОСТ ЧЕРЕЗ ВОЛГУ ОТ САРАТОВА К ЭНГЕЛЬС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571760" y="2379600"/>
            <a:ext cx="5238720" cy="331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4762440" cy="3505320"/>
          </a:xfrm>
          <a:prstGeom prst="rect">
            <a:avLst/>
          </a:prstGeom>
          <a:ln w="0">
            <a:noFill/>
          </a:ln>
        </p:spPr>
      </p:pic>
      <p:sp>
        <p:nvSpPr>
          <p:cNvPr id="390" name="TextBox 6"/>
          <p:cNvSpPr/>
          <p:nvPr/>
        </p:nvSpPr>
        <p:spPr>
          <a:xfrm>
            <a:off x="5143680" y="1500120"/>
            <a:ext cx="3500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казатель  плотности автодорог составляет в среднем по области 91 км на 1ооо км², изменяясь от 32 км в екатерининском до 191 км в Саратовском  района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ольшинство грузов в пределах области перевозится  автомобильным транспорт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361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214880" y="1600200"/>
            <a:ext cx="3713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вый автомобиль появился на улицах Саратова в 1900 год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вые автотранспортные предприятия  были организованы в  начале 20-х годов в Саратове,  Аткарске, Балашове, Вольск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14200" y="2500200"/>
            <a:ext cx="38577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77880" y="1600200"/>
            <a:ext cx="7026120" cy="487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ТРУБОПРО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2457360" cy="4143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2928960" y="1600200"/>
            <a:ext cx="5572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 началось с октября 1942 года, когда по 16 км газопроводу природный газ из Елшанского  месторождения  был подан на Саратовскую электростан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йчас трубопроводная система включает 22 тысячи км газопроводов и 1000 км нефтепровод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лавные направления: Самара -Тихорецк, Самара- Лисичанс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территории Саратовской области развиты все виды транспорта: железнодорожный, водный, автогужевой, воздушный и трубопроводны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ршенно изменился железнодорожный транспорт в наши дни. Увеличилась дорожная сеть, свыше 70 процентов перевозок осуществляется тепловозами. Производится реконструкция железнодорожных путей и станций, автоматизация и автоблокиров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ТРУБОПРО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области  развит трубопроводный транспорт. После окончания Великой Отечественной войны был построен первый крупный газопровод в СССР Саратов — Москва протяженностью 843 километра. К газопроводу Саратовского узла позже был подключен 100-километровый газопровод Степное — Саратов, который идет через Волгу, и газопровод Жирное (Волгоградская область) — Кологривовка. Природный газ транспортируется по трубам и в город цементников — Вольск, и в город химиков — Балаково, и в другие города и населенные пункты области, расположенные вблизи газовых магистралей. Крупнейшая газовая магистраль Саратов — Череповец (Вологодская область) проложена через такие промышленные центры, как Пенза, Саранск, Нижний Новгород, Иваново, Владимир, Ярославль. Теперь промышленность и население этих городов пользуются удобным и дешевым топливо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Через область пролегает трансконтинентальный газопровод Средняя Азия —Центр с двумя мощными газокомпрессорными станциями — в Александровом Гае и Петровске. Будут использованы трубы увеличенного диаметр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Новая трасса магистрального нефтепровода Сызрань – Саратов _ Волгоград – Туапсе, протяженностью 1600 к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ИАЦИОН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рез Саратов проходят многие транзитные авиалинии, связывающие Саратов с Москвой, Волгоградом, Самарой, Пензой, курортами Кавказа и Крыма, а также со многими районами области. Воздушный транспорт используется для перевозки пассажиров, почты, для оказания срочной медицинской помощи; в сельском хозяйстве — для внесения удобрений на поля и для борьбы с насекомыми-вредителями и грызунами, с лесными пожар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6572160" y="357120"/>
            <a:ext cx="1619280" cy="138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4762440" cy="32101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ИАЦИОН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2560" y="1600200"/>
            <a:ext cx="80010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1935 года осуществляются пассажирск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возки на линии Москва – Сара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САРАТОВ – КРУПНЫЙ ТРАНСПОРТНЫЙ УЗЕ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571680" y="2143080"/>
            <a:ext cx="6215040" cy="42861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143080"/>
            <a:ext cx="682956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лавной железнодорожной магистралью области является транзитная линия Москва —Саратов — Оренбург. Эта дорога связывает Саратов с Москвой, Уралом, Сибирью, Средней Ази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станции Урбах идет железная дорога на Астрахань и Северный Кавказ. На юге Правобережья проходит железнодорожная линия Тамбов — Балашов — Камышин, связывающая юго-западные районы области с Моск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3757680" cy="23572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270320" y="1428840"/>
            <a:ext cx="451656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троительство  мостового перехода через реку Волгу в Саратове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ело в том, что существующий железнодорожный мост является одним из элементов транспортного коридора «Север – Юг», связывая заволжские районы Саратовской, Волгоградской и Астраханской областей, а также республики Средней Азии и Казахстана с Центральной Россией. Кроме того, мост выполняет роль связующего звена между Саратовским железнодорожным узлом и внеклассной сортировочной станцией сетевого значения Анисовк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оответственно, нормы проектирования – образца 1925 года. По грузоподъемности мост отнесен к пятой, самой низкой категории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214200" y="4357800"/>
            <a:ext cx="37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лина – 1800 метров, а построен он был еще в прошлом столетии, в 1929 – 1934 годы, по проекту мостового бюро Народного комиссариата путей сообщения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а западе области в меридиональном направлении проходит транзитная железнодорожная линия Пенза-Харьков. Эта дорога связывает Саратовскую область с Украиной и Средним Поволжьем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Вдоль побережья Волги идет железная дорога Волгоград — Саратов — Казань. Роль этой дороги особенно возрастает зимой, когда Волга замерзает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а территории области имеется, кроме того, несколько железнодорожных веток, соединяющих отдельные районы с основными железнодорожными магистралями. От станции Аткарск (на линии Саратов — Москва) отходят две железнодорожные ветки: Аткарск — Вольск и Аткарск — Лысые Горы - Калининск. На линии Саратов — Оренбург от Ершова построена ветка на Пугаче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едавно построена железнодорожная ветка Пугачев— Балаково. В южной части Заволжья от станции Красный Кут (на линии Урбах — Астрахань) идет ветка на Александров Гай. Строится железная дорога через Александров Гай в Среднюю Азию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2920" y="160020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железным дорогам переправляется часть грузов: станки, машины, нефтепродукты, мебель, мука, продукты животноводств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з других районов — Волгограда, Урала, Ульяновской области — область получает металл, химикаты, каменный уголь, стекольный песок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иболее крупным железнодорожным узлом является станция Саратов. Здесь пересекаются основные железнодорожные линии: Москва — Саратов — Оренбург и Волгоград — Казан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 Саратовском узле электрифицировано пригородное железнодорожное движение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5500800" y="1428840"/>
            <a:ext cx="2738160" cy="2357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5572080" y="3929040"/>
            <a:ext cx="285768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менее важный железнодорожный узел — станция Балашов. Через него проходят железнодорожные линии Пенза — Харьков и Тамбов — Камышин. Электрифицирован железнодорожный участок Пенза — Ртищево—Поворино. Поезда здесь переведены на электрическую тягу. Станция Балашов — важный пункт погрузки зерна, муки, комбикормов и растительного масл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упным центром погрузки цемента является станция Вольск. В ближайшем будущем железная дорога через плотину свяжет ее с городом Балаково и Заволжь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дный транспорт наиболее экономичен, так как перевозка грузов водой обходится в 2—3 раза дешевле, чем железной дорогой. Главной водной магистралью является Волг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чной флот заметно изменился. Новые, в основном трехпалубные, пассажирские теплоходы отличаются техническим совершенством, комфортабельностью, красотой. Изменился и грузовой флот. Вместо деревянных барж, буксируемых тягачами, теперь ходят по волжским просторам самоходные танкеры, имеющие большую скорость и вместим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643800" y="285840"/>
            <a:ext cx="190476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35:30Z</dcterms:created>
  <dc:creator>Loner-XP</dc:creator>
  <dc:description/>
  <dc:language>en-US</dc:language>
  <cp:lastModifiedBy>Loner-XP</cp:lastModifiedBy>
  <dcterms:modified xsi:type="dcterms:W3CDTF">2010-04-12T20:00:35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40000000000010250300207f7000400038000</vt:lpwstr>
  </property>
</Properties>
</file>