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7EA6-3538-4E60-9E43-323EEBDA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9B5A-65C4-4B95-8086-92DB7E83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0C7EE-C952-4211-A8A7-684A7719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50601C-E82A-46AF-A455-9D2DF999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18248-B3DE-4F8D-BEE8-BD7F28A2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C1A1F-129F-4BC8-9E6F-5501D37F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3BC3D-B20A-456D-9EFD-8AE33307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D9E911-0D35-4B07-8062-E2278A84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1FED58-AA93-4635-A026-90F83869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9CA7C-EDD2-472D-A498-EA0E9B8F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6C1567-BFA3-4A98-AC20-C35958C3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5778F8-F9AE-4C52-A2FB-78E1833C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DF3-9493-4488-B727-2394018C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F3A747-FF57-43E8-B50B-67628345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33573-0F59-4C2E-BD96-B5FAB43E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355A93-6768-4110-9452-EC026354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AC6D2-A369-4B2E-BF98-1BA5DE91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8BFEFC-F4ED-4C7A-AA1A-E42AD1FA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37390F-298B-4E6C-B90E-C5B334B5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8B9BEE-1D2A-46AD-8148-5FD5FB9E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676070-C6B0-4629-A624-59DF421B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A62359-029F-4034-A09D-C77BA8B0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D83B6B-DB53-473E-BAC8-05B6D018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161-9C58-45DB-9FEF-E7B5A102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16D9D2-50B0-4095-8937-72D07284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0CC98-1B6A-4846-988C-51B24C8C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AB88C-372C-488D-8141-7CD9ECC1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6EF69-B474-464C-8722-BD39797E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79C01-25C2-490F-9F6A-45D1B066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24D84-1D8A-4F0F-A6D5-4A9E6536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DE516-86E6-469B-B435-75274985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1CFB8-83DB-4C7B-AC45-9A627C3C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F2C73-5BB5-4FAF-8FC4-569550B2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0E580-468F-47C8-BC00-C837FE26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7656-7D7D-4925-9925-8D8B7168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9A736-3B53-412C-97DF-3170E30E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4CF07-4729-4DA8-AC89-24F5D598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80E59-30BC-4F81-A343-35B54761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3A36DA-400C-4C34-B703-B7DA9111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8CADBF-C7D8-443B-86DD-9EDEBB94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EB26C8-DFD8-4A47-A297-1C200CFB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105D1-70B9-488F-9DF8-7337965C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83AE6C-FE44-4B0B-8B06-EDC0A4A0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761248-4083-48FF-8F76-22A15B3D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28D55E-1F51-4708-A854-69971C0A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D6BD-6C3A-44F7-A0D6-5AB4284F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3EDBD-543C-4AE3-AA24-ADE1B847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7B42E1-3DFB-49D9-81AF-B862FB9F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E64DE8-0B80-4AA2-983E-9B6BC68C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C7879-A534-4FBF-A9BC-8A6397FF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1C1BA6-2D7F-4A6F-BF62-303FFE4A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8DED-5619-49F1-A471-84474AAA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ACB6-13BC-4C02-9011-83F74B25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537A-AC46-4499-9A6A-D40971DB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D597-7B06-446A-B692-7487E58E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828A-8BA8-4AFB-A412-508217DA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C7A-E4D1-4999-9A2A-432B3DED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9356-A54B-479B-B080-7E83132C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FEB5-A92B-4496-84A3-CD948B87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6C9A-1F23-4A0E-B3EF-A51A451F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A36D-FA96-48C2-8571-16AC5AB3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969D-E513-4224-9A56-3A9EDAD9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B34C5-9F10-4E19-A854-B6AA1727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9E433-FCFA-4CAC-9F21-FC61ADBF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BF17D-4F4E-4BAE-8A29-5933C282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BADE8-2BD1-43FC-A06D-857F052B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95DE1-469B-41F1-A38B-3B7BCEAC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D6E-7BB0-4371-BB0D-7CD10420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8E959-9D5A-4F73-A1C6-58560E76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8FCF0-678D-4F71-A6AB-C152F239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1AE09-3E5E-44D1-A433-3EE6EAA4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71E51-1F9F-4360-BECB-15A236D8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B9DAD-D21B-4440-AA4B-30B08D25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A0D85-D5CA-4C40-8F29-3905E7FC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2AC61-E478-4216-BB49-AA70A1BE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8B902-30D5-4DF7-AAE8-B748F228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B154C-E0CF-4B3D-9D23-943C0071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7F920-0175-409F-8D63-C9C2CF18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5DF-1DE8-414A-8000-E65FD939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A0E99-9479-4C0B-BE00-B3437194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375BD-FDC0-4872-8D53-292EDA97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95050-5AE1-461B-8D9B-65CBB02A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756FD-5D17-4DAB-99AF-9BEC1368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77D8F-0917-4CD0-9065-175A18BC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A9BB5-A7F7-43EF-8967-886C0302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9ED7C-F4FB-49D6-A7A7-DEA28941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1B22D-DDB7-49FA-BDE6-7F4EE72D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592CB-4F06-4272-B5F4-33D1656E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90356-7FB2-4E9E-97A0-14888B15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7C7-178C-4561-AE30-33153D3B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5350D-EA25-4BA2-9308-737FB6AC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9BCA1-D08F-41B3-91BE-22CEF784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9109D-0BFB-4F35-AABF-E8EBD5E2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1EA62-AF91-45EF-92F5-4FAC5E24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B1986-FC35-4D8C-AA87-7CD71923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5749C-64B9-47D6-B7A8-004FB589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F2B10-89D2-4EE2-BD89-27BC2005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EF8C1-5B9B-42CF-AC20-643FFBB1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67AF7-7967-456B-A90C-53B48476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5D2AC-5CE2-4C6F-AD49-2FFBB800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F44-74D7-4C24-B11B-3D0172B0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59B5C-2BBE-4BFC-9D2A-232CF35E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D23FF-E439-4A4C-913F-D1BDE96A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D18A6-0E59-454C-B161-36069EC5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72F89-DB22-4ABE-BEB9-BD9D57CA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4389D-7855-4A26-949B-EF0F25B8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799A5-5149-47B3-91DE-25DFD8D2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E6E9E-4DD1-465F-BABD-9AA0C5F1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41879-91DC-48C0-BD1E-1F19C26E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EA3E0-FB26-42B1-8EFA-B441C7CD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CA444-837B-4631-BA75-554B4DB5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D133-B31B-4B54-ABD7-9D0FAECC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46E08-15AB-40CA-8FF6-6A0E89A0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EBDDE-A334-48CD-93A6-6ED4B2B5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C1E62-AE51-407C-AD75-9D17B153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18259-BED1-4D31-93C9-A04182AB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E415A-7F4F-4106-8E11-B8509D8C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1DB04-52BA-4379-838C-C16E7CC1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9A96A-8CC6-4245-9259-7CD59C50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08163-E7E4-48F1-A54A-83043419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5AE3E-A9FC-4074-B851-49F3AA62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9731F-5BD3-43A2-B8E0-80A7CCBA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B53-3640-472E-9A09-814865B1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D7200-48A0-42D4-9EC0-8EDDB248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625A9-1F43-41A8-99A1-1C4F7436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EB335-0CC1-42B1-86EA-19965163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5E830-17B3-4BD0-9FA3-67556D6A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61D1E-0427-4D8D-B04B-7CD6430E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7D297-630E-459C-B600-D22E4D42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4B7E7-0166-4138-8A2A-2BADC2E2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F3413-1B4F-471E-BC5A-303D9364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E7955-7F49-435D-A1DB-2F54A5A3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34F18-4CCB-4F4F-AE39-9488927B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3F2A-997F-4A56-9EF7-43D10069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179B3-2F2E-454B-9AA5-E0AC5E4F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5E5FD-804B-4556-B5FB-FBB3989F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11B3C-A01E-4FD8-B51C-50651864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7F115-78FB-4EDD-92A9-127BAFC0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5D1B4-85E1-451A-A6A3-1E73D108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EAED9-9D94-437C-A343-8CCCFFA8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72EA7-29C7-496C-87AD-62933711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A8AFF-2A58-42A2-8947-B0FC4B25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1A069-E187-4D6F-891B-85E3C45D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780F8-4292-4B5D-A0E6-83B64FD7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DA25-F9C2-4700-AFD2-1351ECD5DBE2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6B54-4DD2-4833-9062-10D2388F1737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0283-44B1-4E7F-B0B5-DA6AAD2CCF80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0E52-3B1C-4CA2-BFB1-0B032C7D0443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A665-56F4-4C4B-9270-EFFA85D6037D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CADC-C945-409B-97D1-1D8B96E58DC8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6A5E-916E-4BD1-99DF-AAA058469339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5790-DB24-417D-A914-643F0607E0C7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D8BC-86E2-4BF2-BFDD-4B50D9BFAB10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BF4A-3A51-4FFE-A01D-931FCBFC15CF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304D-BD42-4926-8DB1-9873F7FE415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DE7B-E3AC-454B-80DF-EB657F2DDAB1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2;&#1088;&#1072;&#1090;&#1086;&#1074;&#1089;&#1082;&#1072;&#1103;_&#1043;&#1069;&#1057;" TargetMode="External"/><Relationship Id="rId2" Type="http://schemas.openxmlformats.org/officeDocument/2006/relationships/hyperlink" Target="http://ru.wikipedia.org/wiki/&#1050;&#1080;&#1083;&#1086;&#1074;&#1072;&#1090;&#1090;-&#1095;&#1072;&#1089;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14200"/>
            <a:ext cx="8534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92d050"/>
                </a:solidFill>
                <a:latin typeface="Georgia"/>
              </a:rPr>
              <a:t>Топливно-энергетический комплекс Саратовской области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7" name="Рисунок 3" descr=""/>
          <p:cNvPicPr/>
          <p:nvPr/>
        </p:nvPicPr>
        <p:blipFill>
          <a:blip r:embed="rId1"/>
          <a:stretch/>
        </p:blipFill>
        <p:spPr>
          <a:xfrm>
            <a:off x="3071880" y="1785960"/>
            <a:ext cx="3500280" cy="2690640"/>
          </a:xfrm>
          <a:prstGeom prst="rect">
            <a:avLst/>
          </a:prstGeom>
          <a:ln w="0">
            <a:noFill/>
          </a:ln>
        </p:spPr>
      </p:pic>
      <p:pic>
        <p:nvPicPr>
          <p:cNvPr id="608" name="Содержимое 7" descr="Флаг Саратовской области"/>
          <p:cNvPicPr/>
          <p:nvPr/>
        </p:nvPicPr>
        <p:blipFill>
          <a:blip r:embed="rId2"/>
          <a:stretch/>
        </p:blipFill>
        <p:spPr>
          <a:xfrm>
            <a:off x="285840" y="1357200"/>
            <a:ext cx="2428920" cy="1619280"/>
          </a:xfrm>
          <a:prstGeom prst="rect">
            <a:avLst/>
          </a:prstGeom>
          <a:ln w="0">
            <a:noFill/>
          </a:ln>
        </p:spPr>
      </p:pic>
      <p:pic>
        <p:nvPicPr>
          <p:cNvPr id="609" name="Рисунок 8" descr="Герб Саратовской &#10;области"/>
          <p:cNvPicPr/>
          <p:nvPr/>
        </p:nvPicPr>
        <p:blipFill>
          <a:blip r:embed="rId3"/>
          <a:stretch/>
        </p:blipFill>
        <p:spPr>
          <a:xfrm>
            <a:off x="7143840" y="1500120"/>
            <a:ext cx="1428840" cy="1619280"/>
          </a:xfrm>
          <a:prstGeom prst="rect">
            <a:avLst/>
          </a:prstGeom>
          <a:ln w="0">
            <a:noFill/>
          </a:ln>
        </p:spPr>
      </p:pic>
      <p:sp>
        <p:nvSpPr>
          <p:cNvPr id="610" name="TextBox 9"/>
          <p:cNvSpPr/>
          <p:nvPr/>
        </p:nvSpPr>
        <p:spPr>
          <a:xfrm>
            <a:off x="500040" y="5072040"/>
            <a:ext cx="85010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ефтегазодобывающа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ефтеперерабатывающа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лектроэнергетическа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предприятиях комплекса трудятся 25 тысяч человек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428720" y="285480"/>
            <a:ext cx="442908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На Саратовской ГЭС реализуется программа энергосбережения на период до 2009-2012 гг. Она предусматривает комплекс работ по повышению эффективности использования водных ресурсов, снижению собственного потребления электроэнергии ГЭС и потерь на рынке, внедрению инноваций в области энергосбережения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8" name="Содержимое 4" descr=""/>
          <p:cNvPicPr/>
          <p:nvPr/>
        </p:nvPicPr>
        <p:blipFill>
          <a:blip r:embed="rId1"/>
          <a:stretch/>
        </p:blipFill>
        <p:spPr>
          <a:xfrm>
            <a:off x="571680" y="285840"/>
            <a:ext cx="3571560" cy="25002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2"/>
          <a:stretch/>
        </p:blipFill>
        <p:spPr>
          <a:xfrm>
            <a:off x="642960" y="2928960"/>
            <a:ext cx="3571920" cy="2714760"/>
          </a:xfrm>
          <a:prstGeom prst="rect">
            <a:avLst/>
          </a:prstGeom>
          <a:ln w="0">
            <a:noFill/>
          </a:ln>
        </p:spPr>
      </p:pic>
      <p:sp>
        <p:nvSpPr>
          <p:cNvPr id="640" name="TextBox 12"/>
          <p:cNvSpPr/>
          <p:nvPr/>
        </p:nvSpPr>
        <p:spPr>
          <a:xfrm>
            <a:off x="428760" y="59292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аталитический теплогенератор разработка ученых СГУ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Балаковская АЭС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301680" y="21985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3" descr=""/>
          <p:cNvPicPr/>
          <p:nvPr/>
        </p:nvPicPr>
        <p:blipFill>
          <a:blip r:embed="rId2"/>
          <a:stretch/>
        </p:blipFill>
        <p:spPr>
          <a:xfrm>
            <a:off x="4800600" y="2367000"/>
            <a:ext cx="403848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"/>
          <p:cNvPicPr/>
          <p:nvPr/>
        </p:nvPicPr>
        <p:blipFill>
          <a:blip r:embed="rId1"/>
          <a:stretch/>
        </p:blipFill>
        <p:spPr>
          <a:xfrm>
            <a:off x="2190600" y="1943280"/>
            <a:ext cx="4762800" cy="2971800"/>
          </a:xfrm>
          <a:prstGeom prst="rect">
            <a:avLst/>
          </a:prstGeom>
          <a:ln w="0">
            <a:noFill/>
          </a:ln>
        </p:spPr>
      </p:pic>
      <p:sp>
        <p:nvSpPr>
          <p:cNvPr id="645" name="TextBox 2"/>
          <p:cNvSpPr/>
          <p:nvPr/>
        </p:nvSpPr>
        <p:spPr>
          <a:xfrm>
            <a:off x="928800" y="50720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933c"/>
                </a:solidFill>
                <a:latin typeface="Georgia"/>
              </a:rPr>
              <a:t>4</a:t>
            </a:r>
            <a:r>
              <a:rPr b="0" lang="ru-RU" sz="3600" spc="-1" strike="noStrike">
                <a:solidFill>
                  <a:srgbClr val="77933c"/>
                </a:solidFill>
                <a:latin typeface="Georgia"/>
              </a:rPr>
              <a:t> энергоблок Балаковской АЭС после ремонт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2"/>
          <p:cNvSpPr/>
          <p:nvPr/>
        </p:nvSpPr>
        <p:spPr>
          <a:xfrm>
            <a:off x="500040" y="37548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годня все предприятия энергетики работают в стабильном, устойчивом режиме, выполняя плановые задания по производству, транспортировке электрической и тепловой энергии. Они обеспечивают надежное и стабильное энергоснабжение потребителей области, постоянно проводят модернизацию и реконструкцию оборудования, улучшая качество представляемых услуг потребителям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1"/>
          <p:cNvSpPr/>
          <p:nvPr/>
        </p:nvSpPr>
        <p:spPr>
          <a:xfrm>
            <a:off x="285840" y="300960"/>
            <a:ext cx="84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целом генерирующими предприятиями Саратовской области выработка электроэнергии за 2006 год составила 41,2 млрд. киловатт/часов или 102,8% к аналогичному периоду прошлого года. Выработка тепловой энергии - 9381,4 тыс. Гкал тепловой энергии. Объем реализованной продукции и услуг по отрасли достиг 31,2 млрд. рублей инвестиций в основной капитал - 3378,4 млн. руб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нергетические предприятия области обслуживают более 64 тыс. км электрических сетей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1"/>
          <p:cNvSpPr/>
          <p:nvPr/>
        </p:nvSpPr>
        <p:spPr>
          <a:xfrm>
            <a:off x="500040" y="435600"/>
            <a:ext cx="8429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ными задачами "Комплекса системных мер по повышению надежности электроснабжения потребителей Саратовской области на период до 2010 года" стали: обновление структуры действующих мощностей (проект предполагает замену оборудования со сроком эксплуатации более 35 лет), обеспечение электроэнергией новых потребителей за счет расширения существующих сетевых мощностей (с учетом реализации приоритетных национальных проектов и областных целевых программ) и обеспечение надежности функционирования электросет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a44d"/>
                </a:solidFill>
                <a:latin typeface="Georgia"/>
              </a:rPr>
              <a:t>ГАЗОТРАНСПОРТНЫЕ  И ГАЗОРАСПРЕДЕЛИТЕЛЬНЫЕ ПРЕДПРИЯТИЯ</a:t>
            </a:r>
            <a:endParaRPr b="0" lang="en-US" sz="24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 территории области ведут деятельность 1 предприятие транспортировки газа по магистральным трубопроводам - ООО "Югтрансгаз" ОАО "Газпром" и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газораспределительных организаций различных форм собственности, эксплуатируются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32 тыс. км газовых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сетей, в том числе: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5350 км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- принадлежащих ОАО "Газпром";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13421,3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км - принадлежащих газораспределительным организациям;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2084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км - имеющих областную принадлежность;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1587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км - имеющих муниципальную принадлежность;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2753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км - находящихся в собственности организаций;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6804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км - не имеющих балансовой принадлежности, оформляются в областную и муниципальную собственность.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1"/>
          <p:cNvSpPr/>
          <p:nvPr/>
        </p:nvSpPr>
        <p:spPr>
          <a:xfrm flipV="1" rot="10800000">
            <a:off x="142560" y="879120"/>
            <a:ext cx="8613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основном инвестиционные средства были направлены на техническое перевооружение системы магистральных газопроводов, станций подземного хранения газа. Наиболее яркими достижениями предприятий трубопроводного транспорта в 2006 году стали: ввод в эксплуатацию газопровода Починки-Изобильное-Северо-Ставропольское ПХГ на участке Петровск-Фролово и компрессорной станции "Новопетровская", которые позволят ООО "Югтрансгаз" увеличить товаротранспортную работу на 10 %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Прямоугольник 1"/>
          <p:cNvSpPr/>
          <p:nvPr/>
        </p:nvSpPr>
        <p:spPr>
          <a:xfrm>
            <a:off x="357120" y="214200"/>
            <a:ext cx="80726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опливно-энергетический комплекс должен быть обращен, прежде всего, к конечному потребителю, содействовать экономическому развитию региона, формированию благоприятного инвестиционного климата в област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держивающим фактором являются ограничения в подключении к энергоресурсам новых потребителей, их расточительный расход, высокий износ энергетических мощностей. необходимо реформирование энергетического комплекса, обновление основных фондов предприятий энергетики и газораспределения, ввод в действие новых генерирующих мощностей, создание и внедрение энергосберегающих технологий, которые позволят обеспечить надежную и безопасную работу ТЭК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Основная доля в электропотреблении: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ъём потребления электрической энергии  составляет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1 млрд.кВт*ч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ммунально-бытовая сфера-32%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омышленность- 24%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ранспорт и связь-15%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i="1" lang="ru-RU" sz="3000" spc="-1" strike="noStrike">
                <a:solidFill>
                  <a:srgbClr val="88a44d"/>
                </a:solidFill>
                <a:latin typeface="Georgia"/>
              </a:rPr>
              <a:t>Полезные ископаемые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2" name="Прямоугольник 4"/>
          <p:cNvSpPr/>
          <p:nvPr/>
        </p:nvSpPr>
        <p:spPr>
          <a:xfrm>
            <a:off x="142920" y="1571760"/>
            <a:ext cx="88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Georgia"/>
              </a:rPr>
              <a:t>В области разведано более 40 малых нефтяных и газовых (значительны Степновское и Урицкое) месторождений, при неизученности основной части перспективных районов. Разведано множество месторождений горючих сланцев, в том числе крупное Озинкско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Рисунок 5" descr="Карта Саратовской области"/>
          <p:cNvPicPr/>
          <p:nvPr/>
        </p:nvPicPr>
        <p:blipFill>
          <a:blip r:embed="rId1"/>
          <a:stretch/>
        </p:blipFill>
        <p:spPr>
          <a:xfrm>
            <a:off x="642960" y="3429000"/>
            <a:ext cx="4643280" cy="2571840"/>
          </a:xfrm>
          <a:prstGeom prst="rect">
            <a:avLst/>
          </a:prstGeom>
          <a:ln w="0">
            <a:noFill/>
          </a:ln>
        </p:spPr>
      </p:pic>
      <p:sp>
        <p:nvSpPr>
          <p:cNvPr id="614" name="Параллелограмм 6"/>
          <p:cNvSpPr/>
          <p:nvPr/>
        </p:nvSpPr>
        <p:spPr>
          <a:xfrm>
            <a:off x="4429080" y="4714920"/>
            <a:ext cx="285840" cy="71280"/>
          </a:xfrm>
          <a:prstGeom prst="parallelogram">
            <a:avLst>
              <a:gd name="adj" fmla="val 25063"/>
            </a:avLst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Трапеция 7"/>
          <p:cNvSpPr/>
          <p:nvPr/>
        </p:nvSpPr>
        <p:spPr>
          <a:xfrm>
            <a:off x="3071880" y="4357800"/>
            <a:ext cx="142920" cy="214200"/>
          </a:xfrm>
          <a:prstGeom prst="pie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Трапеция 8"/>
          <p:cNvSpPr/>
          <p:nvPr/>
        </p:nvSpPr>
        <p:spPr>
          <a:xfrm>
            <a:off x="2143080" y="4357800"/>
            <a:ext cx="142920" cy="214200"/>
          </a:xfrm>
          <a:prstGeom prst="pie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Трапеция 9"/>
          <p:cNvSpPr/>
          <p:nvPr/>
        </p:nvSpPr>
        <p:spPr>
          <a:xfrm>
            <a:off x="2428920" y="4286160"/>
            <a:ext cx="142920" cy="214560"/>
          </a:xfrm>
          <a:prstGeom prst="pie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TextBox 11"/>
          <p:cNvSpPr/>
          <p:nvPr/>
        </p:nvSpPr>
        <p:spPr>
          <a:xfrm>
            <a:off x="5429160" y="3643200"/>
            <a:ext cx="3357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уммарные  извлекаемые запасы составляют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810 млн т нефти 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,2 трлн.м³ газ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Трапеция 12"/>
          <p:cNvSpPr/>
          <p:nvPr/>
        </p:nvSpPr>
        <p:spPr>
          <a:xfrm>
            <a:off x="3143160" y="4429080"/>
            <a:ext cx="142920" cy="214200"/>
          </a:xfrm>
          <a:prstGeom prst="pie">
            <a:avLst/>
          </a:prstGeom>
          <a:solidFill>
            <a:srgbClr val="ffffff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Трапеция 13"/>
          <p:cNvSpPr/>
          <p:nvPr/>
        </p:nvSpPr>
        <p:spPr>
          <a:xfrm>
            <a:off x="2071800" y="4286160"/>
            <a:ext cx="142920" cy="214560"/>
          </a:xfrm>
          <a:prstGeom prst="pie">
            <a:avLst/>
          </a:prstGeom>
          <a:solidFill>
            <a:srgbClr val="ffffff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Трапеция 14"/>
          <p:cNvSpPr/>
          <p:nvPr/>
        </p:nvSpPr>
        <p:spPr>
          <a:xfrm>
            <a:off x="2571840" y="4286160"/>
            <a:ext cx="142920" cy="214560"/>
          </a:xfrm>
          <a:prstGeom prst="pie">
            <a:avLst/>
          </a:prstGeom>
          <a:solidFill>
            <a:srgbClr val="ffffff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Линии электропередач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tretch/>
        </p:blipFill>
        <p:spPr>
          <a:xfrm>
            <a:off x="888840" y="1527120"/>
            <a:ext cx="73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ТЭК области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егодня топливно-энергетический комплекс Саратовской области представляет собой высокоразвитую многоуровневую систему генерирующих и сетевых мощностей, а также газотранспорта и газораспределения. На территории области развиты практически все освоенные виды энергогенераций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атомная станция, гидроэлектростанция, а также комбинированные источники энергии - теплоэлектроцентрали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На долю ТЭК приходится: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36% выпускаемой продукции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22 % налоговых поступлений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20% основных производственных фондов области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Добыча нефти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25" name="Picture 4" descr=""/>
          <p:cNvPicPr/>
          <p:nvPr/>
        </p:nvPicPr>
        <p:blipFill>
          <a:blip r:embed="rId1"/>
          <a:stretch/>
        </p:blipFill>
        <p:spPr>
          <a:xfrm>
            <a:off x="1063800" y="1527120"/>
            <a:ext cx="6980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нефтепроводы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4762440" cy="34862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3" descr=""/>
          <p:cNvPicPr/>
          <p:nvPr/>
        </p:nvPicPr>
        <p:blipFill>
          <a:blip r:embed="rId2"/>
          <a:stretch/>
        </p:blipFill>
        <p:spPr>
          <a:xfrm>
            <a:off x="5286240" y="3071880"/>
            <a:ext cx="36435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ПРЕДПРИЯТИЯ ЭНЕРГЕТИКИ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42560" y="1285560"/>
            <a:ext cx="4429080" cy="50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аратовская энергосистема создана в 1943 году, объединив Саратовскую ГРЭС мощностью 47,5 тыс. кВт, Саратовскую ТЭЦ-1 мощностью 12 тыс. кВт, район высоковольтных электрических сетей, обслуживающих 9 подстанций 35 кВ общей мощностью 9,3 тыс. кВА, и 184 км линий электропередач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357880" y="1500120"/>
            <a:ext cx="3214800" cy="4786560"/>
          </a:xfrm>
          <a:prstGeom prst="rect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5357880" y="1500120"/>
            <a:ext cx="3214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214200" y="95040"/>
            <a:ext cx="8715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Times New Roman"/>
              </a:rPr>
              <a:t>В настоящее время, энергетический комплекс области, является крупнейшим в России и включает в себя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жнее - Волжское предприятие магистральных электрических сетей филиала ОАО "ФСК"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илиал Концерна "Росэнергоатом" Балаковская АЭС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АО "ГидроОГК" ОАО "Саратовская ГЭС"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АО "Волжская территориальная генерирующая компания"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АО "Волжская межрегиональная распределительная компания""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АО "Облкоммунэнерго"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К ООО "Саратовские городские электрические сети"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О "Независимая электросетевая компания"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"/>
          <p:cNvSpPr/>
          <p:nvPr/>
        </p:nvSpPr>
        <p:spPr>
          <a:xfrm flipV="1" rot="10800000">
            <a:off x="213840" y="1374120"/>
            <a:ext cx="8643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щая установленная мощность энергосистемы приближается к 7,0 тыс. мегаватт, что позволяет вырабатывать в год более 41 млрд. киловатт-часов электрической энергии. По 70 тыс. километров электрических и кабельных сетей различного напряжения подается электрическая энергия потребителям - предприятиям и жителям нашей области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88a44d"/>
                </a:solidFill>
                <a:latin typeface="Georgia"/>
              </a:rPr>
              <a:t>Гидроэнергопотенциал области реализуется на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Саратовской ГЭС</a:t>
            </a:r>
            <a:r>
              <a:rPr b="0" lang="ru-RU" sz="2800" spc="-1" strike="noStrike">
                <a:solidFill>
                  <a:srgbClr val="88a44d"/>
                </a:solidFill>
                <a:latin typeface="Georgia"/>
              </a:rPr>
              <a:t> в среднегодовом размере около </a:t>
            </a:r>
            <a:br>
              <a:rPr sz="2800"/>
            </a:br>
            <a:r>
              <a:rPr b="1" lang="ru-RU" sz="2800" spc="-1" strike="noStrike">
                <a:solidFill>
                  <a:srgbClr val="77933c"/>
                </a:solidFill>
                <a:latin typeface="Georgia"/>
              </a:rPr>
              <a:t>5,4</a:t>
            </a:r>
            <a:r>
              <a:rPr b="0" lang="ru-RU" sz="2800" spc="-1" strike="noStrike">
                <a:solidFill>
                  <a:srgbClr val="77933c"/>
                </a:solidFill>
                <a:latin typeface="Georgia"/>
              </a:rPr>
              <a:t> млрд</a:t>
            </a:r>
            <a:r>
              <a:rPr b="0" lang="ru-RU" sz="2800" spc="-1" strike="noStrike">
                <a:solidFill>
                  <a:srgbClr val="88a44d"/>
                </a:solidFill>
                <a:latin typeface="Georgia"/>
              </a:rPr>
              <a:t>.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кВт·ч</a:t>
            </a:r>
            <a:r>
              <a:rPr b="0" lang="ru-RU" sz="2800" spc="-1" strike="noStrike">
                <a:solidFill>
                  <a:srgbClr val="88a44d"/>
                </a:solidFill>
                <a:latin typeface="Georgia"/>
              </a:rPr>
              <a:t> электроэнергии.</a:t>
            </a:r>
            <a:endParaRPr b="0" lang="en-US" sz="28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3"/>
          <a:stretch/>
        </p:blipFill>
        <p:spPr>
          <a:xfrm>
            <a:off x="1000080" y="1928880"/>
            <a:ext cx="7143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3:34:04Z</dcterms:created>
  <dc:creator>Loner-XP</dc:creator>
  <dc:description/>
  <dc:language>en-US</dc:language>
  <cp:lastModifiedBy>Loner-XP</cp:lastModifiedBy>
  <dcterms:modified xsi:type="dcterms:W3CDTF">2011-04-08T18:25:06Z</dcterms:modified>
  <cp:revision>18</cp:revision>
  <dc:subject/>
  <dc:title>     Топливно-энергетический комплекс Саратовской обла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130000000000010250300207f7000400038000</vt:lpwstr>
  </property>
</Properties>
</file>