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599-F52D-4216-B741-CB75C704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39C-3A18-4E38-A66D-32C83C0E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11DD4-A330-4EAC-817B-098D744C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4AD8B-B157-4852-B033-2CC631C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E1D4D-9861-41F3-9D54-BAEC1651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3BE1C-FAC2-4A2D-9B0B-DF8CA7F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1BB7E-9245-4A90-9587-1F640C9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BE382-7D91-4FC2-A29C-E76FE6D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B6EFA-C881-40C5-8E03-75FC228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E20EB-8ADE-4EC5-8121-EAD3AB4F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02A75-8408-4C54-99C8-1A22D7FA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8E269-C30A-40B7-A003-7A99544B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36A-010E-40AE-B037-D134C27F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BDEFE-FBD1-4E7B-936E-B5576E11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2A0CF-C880-48BE-9E51-65C71F7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CF560-3A15-4CC9-B474-79EF290B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DE1DC-5B1A-4880-939B-07F068D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B1206-7C8E-420D-A4B0-8CE3BCF5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F3C95-C2D3-4619-83F6-14B3044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675CD-D426-4EB3-BA27-38774C8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26D69-7F77-4C73-A439-C0CF114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18AE4-ECAB-43DF-9A1D-D43B6DE2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17962-1AF8-4E5B-9EBF-9A1FBE45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A50-C770-47D6-AD4B-59E3114D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D75DF-635B-4C25-99B9-BB123E9F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556B3-B975-4747-BA68-D55BDB92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DEC0-4E97-43B5-9EE7-7C8072A8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96384-00F1-4C28-BAB0-9F9E1B6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C780C-A826-443E-846D-4F2358B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D24F2-96AB-49E6-9C32-8515685B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360F4-7B87-4E1C-8A63-B5104E90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9F913-2BED-4149-8451-255B85D0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BD721-7617-4AF1-888E-AA9FB5CC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750DC-B5C3-4956-9BA7-BA5B7A4B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3E2-42C2-4485-B0B4-3A49A5F1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87DF0-03A5-4C46-ADDF-E589676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7D3BE-EE58-4D76-873E-123003DD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399C1-9F3B-4794-87C5-5DD572B7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F4DE1-CC6E-4E23-B008-715BDDD2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20794-9AF2-45DD-A0E3-7444550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A0271-6F7C-4442-AF81-F31E41C9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D0D23-0E9B-40D2-86A8-C43694AC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27F4A-A5E7-4AE3-B21F-5B929558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21ED9-F359-481A-BC14-1D77F7D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15432-A996-4D6D-9C78-2537F096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F787-F43C-4A7F-871A-6CF7487B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02E2C-A570-4069-95AC-5864A17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7E1CA-9D3D-4261-BBA5-2BAE9E1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A017B-32B4-4B36-B3FC-973A80D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0572D-526B-4419-9E09-4D603B03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69B9D-8B39-4302-A4F5-C5052C52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349-A5D6-4591-A02A-6C0DAF94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1BA9-9777-4B4F-BCBC-7525F9D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A88-CDCA-4883-905A-64BE73E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07F7-7729-4007-8834-05E81915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AF72-0003-4C70-AEFA-747EB899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E48-F530-4356-9D68-DFBFB674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B8DB-B233-497E-A841-E0F2456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AE9A-6416-4A0F-A0C9-E6A34AC6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BB1C-EE29-475B-AE71-78C568D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D5AC-8B4E-473D-B345-EACC70DD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E5AD-D2E7-45D9-B6D1-CA08F36F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CF28-DADD-4407-9499-7A6B4F1C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1661-2EBD-434C-AE3E-11AD488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CA79-05A7-4368-B029-D2ABE4B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43CC-5D69-4C71-92D0-9FBF8474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5A96-60AB-43F0-B39D-AD69AD1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E48-4888-4474-8C55-BE2BD94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8F81-7697-4713-BFFF-F35DB3EB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10D0-2B14-4030-B460-82E932C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F3FB-870A-4331-B2EA-2451272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0C7A-5949-4E02-AA9E-C308EBB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5CE8-497E-4602-8391-FCD414D4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20FB-7B46-4292-AD14-5CA01BEF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5081E-8D9B-4428-9C5C-1C356F34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7B735-B4F0-40C3-800F-39AA60FE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18FB-623C-4F29-A4F5-91D113EF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1EF8-1E97-41F0-8F5C-835E5055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780-4A1F-4549-A5E1-E3EDD02E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B6A2-18D7-4DDC-8D72-F90A737C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966A-24C4-46BB-BD97-C807F121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C63F-442D-4C9C-A7BD-0616D384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5555D-E741-4878-82AF-C35A819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06AB-94BE-4DE3-9AB8-2113FCF3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D181-F88A-486C-B9D0-B0BC624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8C29-F821-4B4E-9CD4-8FC8A585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4366-2918-48C8-9F42-E1F487BE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7667C-3AC0-4073-AC48-FEEE7812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D71F-3ED2-44AE-9706-8A66D27F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06C-CF64-4527-B770-CC97BBBF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A72D-74A8-40C2-B3BA-51FCD023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AA007-F4BF-40E3-AFF2-C2BEDD08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0C2E-692D-4A91-8877-60414EF6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E1D6-B4BE-44C2-8CB8-C5E86EEE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2B5E-4C0D-4E6F-A5A0-0FD499BA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5CED-0B4E-4517-B6C6-4B924C3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D39CB-3A7C-49B5-9E79-D95FA586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4B05-658F-4BAF-B11F-CE36CF6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0E667-C466-45CD-BC83-BDC8EF1B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C990-23CA-4968-92AF-526ECC4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720-5BD8-4EBE-B429-4527E7A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25FC4-BA72-4C66-96EC-26A4A691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2F3C7-CD28-43DC-8D30-DF39B214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B265A-8703-4E49-8E80-76FC84A7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1AB3B-4C7E-4AC7-8B96-CDEAD4F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B60C3-A454-4319-850F-079269A3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06F8-004A-46FB-BA81-9C185559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EA14-104A-4DAD-90B1-046D290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18417-1872-4593-B49C-E51EF58E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FD774-B552-40BE-AED1-443178F5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4E2E-216E-4526-B593-2E666B57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317-EAF2-416B-8446-1FB7016D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C773-EC7E-4932-AD7D-8449D48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9501-BD1E-47B5-A2E4-65FF0F05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000AB-A010-4F79-9BB8-BF25C288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1F0BA-7953-43DD-9D66-A072034D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ECCE4-6C19-47F9-B6BF-2D62BD7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BE710-9C8F-47D5-8E08-8BE68A2B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62D0D-0683-46FB-82A7-63A6D46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8C51-8EAE-4ADC-BADF-51046A3D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F2DCB-463A-45CF-94B6-CF2C7646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9DEDF-A29E-4D2B-A848-A1A1FAC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600-6714-4EA2-8A55-61E7174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A2CF-4D0E-4935-8E4F-0C41215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2FC0D-D215-442B-82EA-E59EC69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3BB22-CC02-4388-9ED5-EECDE096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C412-C9DE-4BB8-BE14-0491C755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C2847-DA75-468C-A460-8CB38A8E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4EF5D-C7AE-40E8-8E73-8243AECB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8E3D0-8DD6-4939-B878-344DA541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699DD-B026-4A6D-9630-090711BE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A9AC-B613-47DA-97E8-CC3595B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A461-2565-4249-A626-0CBF4FCB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839-4585-4BED-8604-5562E8F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5D28-9E69-44ED-AE42-92447C5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4F65-B08C-46F4-8AA1-F46BF37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89B4-0140-430F-A8F6-1D68961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F9CAD-6AEE-4209-BF4C-B81F96C7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93100-8C00-4176-9D3D-4625546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60A5D-E2B4-4A23-A8CF-260A8EEE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1A7A-C3C2-4FC1-8C06-675C4687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A5BBB-6A87-450F-86C6-0BC10AE2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A0129-1B3A-4392-AEC2-1E303E34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88ED2-395B-4E89-BCFE-72F3118B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B463-B087-44DF-9618-85A432D7530A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3F4A-29E5-4632-B9C5-C6F8FDB0BA2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57CC-E72C-4CF5-BCA7-54B3A4827A94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5999-5D6B-498A-AE1D-AAB8CEC99355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F54-F47A-45B5-B629-E849C829B369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7964-E013-4DE9-B26F-262940DF309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66E4-BDE0-46E2-8A88-16BCA3F0F674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7714-90A1-49AA-BC48-6CDCD6274133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178C-3AE9-4C35-AC5B-CACCCF77479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5C7-E64E-417A-B275-AC3717FB72CB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5372-BB21-4104-8B97-B3CC3F73C1D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E81-A609-4C4E-ACF4-5ABBE0E8D3A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8;&#1072;&#1090;&#1086;&#1074;&#1089;&#1082;&#1072;&#1103;_&#1043;&#1069;&#1057;" TargetMode="External"/><Relationship Id="rId2" Type="http://schemas.openxmlformats.org/officeDocument/2006/relationships/hyperlink" Target="http://ru.wikipedia.org/wiki/&#1050;&#1080;&#1083;&#1086;&#1074;&#1072;&#1090;&#1090;-&#1095;&#1072;&#1089;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14200"/>
            <a:ext cx="8534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92d050"/>
                </a:solidFill>
                <a:latin typeface="Georgia"/>
              </a:rPr>
              <a:t>Топливно-энергетический комплекс Саратовской области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7" name="Рисунок 3" descr=""/>
          <p:cNvPicPr/>
          <p:nvPr/>
        </p:nvPicPr>
        <p:blipFill>
          <a:blip r:embed="rId1"/>
          <a:stretch/>
        </p:blipFill>
        <p:spPr>
          <a:xfrm>
            <a:off x="3071880" y="1785960"/>
            <a:ext cx="3500280" cy="2690640"/>
          </a:xfrm>
          <a:prstGeom prst="rect">
            <a:avLst/>
          </a:prstGeom>
          <a:ln w="0">
            <a:noFill/>
          </a:ln>
        </p:spPr>
      </p:pic>
      <p:pic>
        <p:nvPicPr>
          <p:cNvPr id="608" name="Содержимое 7" descr="Флаг Саратовской области"/>
          <p:cNvPicPr/>
          <p:nvPr/>
        </p:nvPicPr>
        <p:blipFill>
          <a:blip r:embed="rId2"/>
          <a:stretch/>
        </p:blipFill>
        <p:spPr>
          <a:xfrm>
            <a:off x="28584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8" descr="Герб Саратовской &#10;области"/>
          <p:cNvPicPr/>
          <p:nvPr/>
        </p:nvPicPr>
        <p:blipFill>
          <a:blip r:embed="rId3"/>
          <a:stretch/>
        </p:blipFill>
        <p:spPr>
          <a:xfrm>
            <a:off x="7143840" y="1500120"/>
            <a:ext cx="1428840" cy="1619280"/>
          </a:xfrm>
          <a:prstGeom prst="rect">
            <a:avLst/>
          </a:prstGeom>
          <a:ln w="0">
            <a:noFill/>
          </a:ln>
        </p:spPr>
      </p:pic>
      <p:sp>
        <p:nvSpPr>
          <p:cNvPr id="610" name="TextBox 9"/>
          <p:cNvSpPr/>
          <p:nvPr/>
        </p:nvSpPr>
        <p:spPr>
          <a:xfrm>
            <a:off x="500040" y="5072040"/>
            <a:ext cx="8501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фтегазодобывающ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ефтеперерабатывающ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лектроэнергетическ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предприятиях комплекса трудятся 25 тысяч челове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428720" y="285480"/>
            <a:ext cx="44290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 Саратовской ГЭС реализуется программа энергосбережения на период до 2009-2012 гг. Она предусматривает комплекс работ по повышению эффективности использования водных ресурсов, снижению собственного потребления электроэнергии ГЭС и потерь на рынке, внедрению инноваций в области энергосбережения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Содержимое 4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3571560" cy="2500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642960" y="2928960"/>
            <a:ext cx="3571920" cy="271476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428760" y="5929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талитический теплогенератор разработка ученых СГ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Балаковская АЭС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301680" y="2198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4800600" y="2367000"/>
            <a:ext cx="40384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2190600" y="1943280"/>
            <a:ext cx="4762800" cy="29718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2"/>
          <p:cNvSpPr/>
          <p:nvPr/>
        </p:nvSpPr>
        <p:spPr>
          <a:xfrm>
            <a:off x="928800" y="50720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Georgia"/>
              </a:rPr>
              <a:t>4</a:t>
            </a:r>
            <a:r>
              <a:rPr b="0" lang="ru-RU" sz="3600" spc="-1" strike="noStrike">
                <a:solidFill>
                  <a:srgbClr val="77933c"/>
                </a:solidFill>
                <a:latin typeface="Georgia"/>
              </a:rPr>
              <a:t> энергоблок Балаковской АЭС после ремонт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500040" y="37548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годня все предприятия энергетики работают в стабильном, устойчивом режиме, выполняя плановые задания по производству, транспортировке электрической и тепловой энергии. Они обеспечивают надежное и стабильное энергоснабжение потребителей области, постоянно проводят модернизацию и реконструкцию оборудования, улучшая качество представляемых услуг потребителя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"/>
          <p:cNvSpPr/>
          <p:nvPr/>
        </p:nvSpPr>
        <p:spPr>
          <a:xfrm>
            <a:off x="285840" y="30096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целом генерирующими предприятиями Саратовской области выработка электроэнергии за 2006 год составила 41,2 млрд. киловатт/часов или 102,8% к аналогичному периоду прошлого года. Выработка тепловой энергии - 9381,4 тыс. Гкал тепловой энергии. Объем реализованной продукции и услуг по отрасли достиг 31,2 млрд. рублей инвестиций в основной капитал - 3378,4 млн. руб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етические предприятия области обслуживают более 64 тыс. км электрических сете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500040" y="43560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ми задачами "Комплекса системных мер по повышению надежности электроснабжения потребителей Саратовской области на период до 2010 года" стали: обновление структуры действующих мощностей (проект предполагает замену оборудования со сроком эксплуатации более 35 лет), обеспечение электроэнергией новых потребителей за счет расширения существующих сетевых мощностей (с учетом реализации приоритетных национальных проектов и областных целевых программ) и обеспечение надежности функционирования электросе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44d"/>
                </a:solidFill>
                <a:latin typeface="Georgia"/>
              </a:rPr>
              <a:t>ГАЗОТРАНСПОРТНЫЕ  И ГАЗОРАСПРЕДЕЛИТЕЛЬНЫЕ ПРЕДПРИЯТИЯ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 территории области ведут деятельность 1 предприятие транспортировки газа по магистральным трубопроводам - ООО "Югтрансгаз" ОАО "Газпром" и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газораспределительных организаций различных форм собственности, эксплуатируются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32 тыс. км газовых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етей, в том числе: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5350 км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- принадлежащих ОАО "Газпром"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13421,3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принадлежащих газораспределительным организациям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2084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имеющих областную принадлежность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1587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км - имеющих муниципальную принадлежность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2753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км - находящихся в собственности организаций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6804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км - не имеющих балансовой принадлежности, оформляются в областную и муниципальную собственность.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"/>
          <p:cNvSpPr/>
          <p:nvPr/>
        </p:nvSpPr>
        <p:spPr>
          <a:xfrm flipV="1" rot="10800000">
            <a:off x="142560" y="879120"/>
            <a:ext cx="8613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основном инвестиционные средства были направлены на техническое перевооружение системы магистральных газопроводов, станций подземного хранения газа. Наиболее яркими достижениями предприятий трубопроводного транспорта в 2006 году стали: ввод в эксплуатацию газопровода Починки-Изобильное-Северо-Ставропольское ПХГ на участке Петровск-Фролово и компрессорной станции "Новопетровская", которые позволят ООО "Югтрансгаз" увеличить товаротранспортную работу на 10 %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Прямоугольник 1"/>
          <p:cNvSpPr/>
          <p:nvPr/>
        </p:nvSpPr>
        <p:spPr>
          <a:xfrm>
            <a:off x="357120" y="214200"/>
            <a:ext cx="80726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пливно-энергетический комплекс должен быть обращен, прежде всего, к конечному потребителю, содействовать экономическому развитию региона, формированию благоприятного инвестиционного климата в облас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держивающим фактором являются ограничения в подключении к энергоресурсам новых потребителей, их расточительный расход, высокий износ энергетических мощностей. необходимо реформирование энергетического комплекса, обновление основных фондов предприятий энергетики и газораспределения, ввод в действие новых генерирующих мощностей, создание и внедрение энергосберегающих технологий, которые позволят обеспечить надежную и безопасную работу ТЭК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сновная доля в электропотреблении: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ъём потребления электрической энергии  составляет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11 млрд.кВт*ч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ммунально-бытовая сфера-32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мышленность- 24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ранспорт и связь-15%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88a44d"/>
                </a:solidFill>
                <a:latin typeface="Georgia"/>
              </a:rPr>
              <a:t>Полезные ископаемые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2" name="Прямоугольник 4"/>
          <p:cNvSpPr/>
          <p:nvPr/>
        </p:nvSpPr>
        <p:spPr>
          <a:xfrm>
            <a:off x="142920" y="157176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eorgia"/>
              </a:rPr>
              <a:t>В области разведано более 40 малых нефтяных и газовых (значительны Степновское и Урицкое) месторождений, при неизученности основной части перспективных районов. Разведано множество месторождений горючих сланцев, в том числе крупное Озинкско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Рисунок 5" descr="Карта Саратовской области"/>
          <p:cNvPicPr/>
          <p:nvPr/>
        </p:nvPicPr>
        <p:blipFill>
          <a:blip r:embed="rId1"/>
          <a:stretch/>
        </p:blipFill>
        <p:spPr>
          <a:xfrm>
            <a:off x="642960" y="3429000"/>
            <a:ext cx="4643280" cy="2571840"/>
          </a:xfrm>
          <a:prstGeom prst="rect">
            <a:avLst/>
          </a:prstGeom>
          <a:ln w="0">
            <a:noFill/>
          </a:ln>
        </p:spPr>
      </p:pic>
      <p:sp>
        <p:nvSpPr>
          <p:cNvPr id="614" name="Параллелограмм 6"/>
          <p:cNvSpPr/>
          <p:nvPr/>
        </p:nvSpPr>
        <p:spPr>
          <a:xfrm>
            <a:off x="4429080" y="4714920"/>
            <a:ext cx="285840" cy="71280"/>
          </a:xfrm>
          <a:prstGeom prst="parallelogram">
            <a:avLst>
              <a:gd name="adj" fmla="val 25063"/>
            </a:avLst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Трапеция 7"/>
          <p:cNvSpPr/>
          <p:nvPr/>
        </p:nvSpPr>
        <p:spPr>
          <a:xfrm>
            <a:off x="3071880" y="4357800"/>
            <a:ext cx="142920" cy="21420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Трапеция 8"/>
          <p:cNvSpPr/>
          <p:nvPr/>
        </p:nvSpPr>
        <p:spPr>
          <a:xfrm>
            <a:off x="2143080" y="4357800"/>
            <a:ext cx="142920" cy="21420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Трапеция 9"/>
          <p:cNvSpPr/>
          <p:nvPr/>
        </p:nvSpPr>
        <p:spPr>
          <a:xfrm>
            <a:off x="2428920" y="4286160"/>
            <a:ext cx="142920" cy="214560"/>
          </a:xfrm>
          <a:prstGeom prst="pie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Box 11"/>
          <p:cNvSpPr/>
          <p:nvPr/>
        </p:nvSpPr>
        <p:spPr>
          <a:xfrm>
            <a:off x="5429160" y="3643200"/>
            <a:ext cx="335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ммарные  извлекаемые запасы составляют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10 млн т нефти 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,2 трлн.м³ газ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Трапеция 12"/>
          <p:cNvSpPr/>
          <p:nvPr/>
        </p:nvSpPr>
        <p:spPr>
          <a:xfrm>
            <a:off x="3143160" y="4429080"/>
            <a:ext cx="142920" cy="21420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Трапеция 13"/>
          <p:cNvSpPr/>
          <p:nvPr/>
        </p:nvSpPr>
        <p:spPr>
          <a:xfrm>
            <a:off x="2071800" y="4286160"/>
            <a:ext cx="142920" cy="21456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Трапеция 14"/>
          <p:cNvSpPr/>
          <p:nvPr/>
        </p:nvSpPr>
        <p:spPr>
          <a:xfrm>
            <a:off x="2571840" y="4286160"/>
            <a:ext cx="142920" cy="214560"/>
          </a:xfrm>
          <a:prstGeom prst="pie">
            <a:avLst/>
          </a:prstGeom>
          <a:solidFill>
            <a:srgbClr val="ffffff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Линии электропередач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888840" y="1527120"/>
            <a:ext cx="73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ЭК области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егодня топливно-энергетический комплекс Саратовской области представляет собой высокоразвитую многоуровневую систему генерирующих и сетевых мощностей, а также газотранспорта и газораспределения. На территории области развиты практически все освоенные виды энергогенераций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атомная станция, гидроэлектростанция, а также комбинированные источники энергии - теплоэлектроцентрали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 долю ТЭК приходится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36% выпускаемой продукци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2 % налоговых поступлений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0% основных производственных фондов област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Добыча нефти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tretch/>
        </p:blipFill>
        <p:spPr>
          <a:xfrm>
            <a:off x="1063800" y="1527120"/>
            <a:ext cx="6980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нефтепроводы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4762440" cy="34862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" descr=""/>
          <p:cNvPicPr/>
          <p:nvPr/>
        </p:nvPicPr>
        <p:blipFill>
          <a:blip r:embed="rId2"/>
          <a:stretch/>
        </p:blipFill>
        <p:spPr>
          <a:xfrm>
            <a:off x="5286240" y="3071880"/>
            <a:ext cx="3643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ЕДПРИЯТИЯ ЭНЕРГЕТИКИ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2560" y="1285560"/>
            <a:ext cx="4429080" cy="50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ратовская энергосистема создана в 1943 году, объединив Саратовскую ГРЭС мощностью 47,5 тыс. кВт, Саратовскую ТЭЦ-1 мощностью 12 тыс. кВт, район высоковольтных электрических сетей, обслуживающих 9 подстанций 35 кВ общей мощностью 9,3 тыс. кВА, и 184 км линий электропередач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357880" y="1500120"/>
            <a:ext cx="3214800" cy="4786560"/>
          </a:xfrm>
          <a:prstGeom prst="rect">
            <a:avLst/>
          </a:prstGeom>
          <a:solidFill>
            <a:srgbClr val="f79646"/>
          </a:solidFill>
          <a:ln w="11520">
            <a:solidFill>
              <a:srgbClr val="b66d31"/>
            </a:solidFill>
            <a:prstDash val="sysDash"/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357880" y="1500120"/>
            <a:ext cx="3214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214200" y="95040"/>
            <a:ext cx="8715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В настоящее время, энергетический комплекс области, является крупнейшим в России и включает в себя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жнее - Волжское предприятие магистральных электрических сетей филиала ОАО "ФСК"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лиал Концерна "Росэнергоатом" Балаковская АЭС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ГидроОГК" ОАО "Саратовская ГЭС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Волжская территориальная генерирующая компания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Волжская межрегиональная распределительная компания"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АО "Облкоммунэнерго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 ООО "Саратовские городские электрические сети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О "Независимая электросетевая компания"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"/>
          <p:cNvSpPr/>
          <p:nvPr/>
        </p:nvSpPr>
        <p:spPr>
          <a:xfrm flipV="1" rot="10800000">
            <a:off x="213840" y="1374120"/>
            <a:ext cx="864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ая установленная мощность энергосистемы приближается к 7,0 тыс. мегаватт, что позволяет вырабатывать в год более 41 млрд. киловатт-часов электрической энергии. По 70 тыс. километров электрических и кабельных сетей различного напряжения подается электрическая энергия потребителям - предприятиям и жителям нашей област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Гидроэнергопотенциал области реализуется н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Саратовской ГЭС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 в среднегодовом размере около </a:t>
            </a:r>
            <a:br>
              <a:rPr sz="2800"/>
            </a:br>
            <a:r>
              <a:rPr b="1" lang="ru-RU" sz="2800" spc="-1" strike="noStrike">
                <a:solidFill>
                  <a:srgbClr val="77933c"/>
                </a:solidFill>
                <a:latin typeface="Georgia"/>
              </a:rPr>
              <a:t>5,4</a:t>
            </a:r>
            <a:r>
              <a:rPr b="0" lang="ru-RU" sz="2800" spc="-1" strike="noStrike">
                <a:solidFill>
                  <a:srgbClr val="77933c"/>
                </a:solidFill>
                <a:latin typeface="Georgia"/>
              </a:rPr>
              <a:t> млрд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.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кВт·ч</a:t>
            </a: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 электроэнергии.</a:t>
            </a: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3"/>
          <a:stretch/>
        </p:blipFill>
        <p:spPr>
          <a:xfrm>
            <a:off x="1000080" y="1928880"/>
            <a:ext cx="7143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34:04Z</dcterms:created>
  <dc:creator>Loner-XP</dc:creator>
  <dc:description/>
  <dc:language>en-US</dc:language>
  <cp:lastModifiedBy>Loner-XP</cp:lastModifiedBy>
  <dcterms:modified xsi:type="dcterms:W3CDTF">2011-04-08T18:25:06Z</dcterms:modified>
  <cp:revision>18</cp:revision>
  <dc:subject/>
  <dc:title>     Топливно-энергетический комплекс Саратов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30000000000010250300207f7000400038000</vt:lpwstr>
  </property>
</Properties>
</file>