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389-6D77-46CB-8B24-E658C8F9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7B6-D9C8-45D9-8801-1466E29F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74C3B-BD48-44E7-82B9-7F4EA4B3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70B7E-2A42-4E7E-B92E-67D15833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097B4-D7AE-49A5-A3A9-7CDB587C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32DDD-F59F-4A59-885C-D9FAD53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5C0E9-9465-4665-9E9E-874B281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63CFC-A8CA-4152-AC7B-EA81C845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59447-D183-404E-82D9-A671C257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1E471-C7A7-4EC2-BE29-ACA89EC7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D991D-3561-4DF2-89EC-A2CFF84B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D9F6E-676A-4542-B522-43BBE883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4C0-0CCB-48D4-AD28-C95F3B17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82C28-2CD2-48EB-BAC4-2ADB8426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89675-4286-4824-A3D1-FA06114C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DDF01-05A7-4ABC-9B65-FC54350C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56B70-56EC-4645-BB04-624A22F0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93A88-75EF-4D0E-84D9-8C69E6C5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3B795-0419-45A9-912F-1CCCD71F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F2CA3-E8DD-4E83-9C7F-BD0AE5B6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6FAB5-2C53-465D-A9D5-F5E5FF4D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35D2A-74A5-4B18-A47C-D771793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840F2-61D3-4B99-ADFC-AD611B58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10C-383C-49DE-8CD1-ED43BE6E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014A3-19E2-4FB7-B128-DF585FAD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D2A2F-F999-413C-AE2A-B011EF60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7762E-0263-493E-A7DD-F4CAAD71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F433A-E2F1-48C8-9438-41DB376E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95455-601B-4D85-B6DB-97613716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E5468-735C-441B-B57E-59A8242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3FDE4-950D-4CA2-8B6E-EF2F2F1B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CDF88-2935-4FCB-973B-C77B9BB7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A635A-7BDB-49F8-9675-C42B7807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B1272-0562-4D4D-89CD-A348871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7082-B296-4FAD-B2EB-11F33151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96EBE-086B-4C4F-8508-CC62DC8E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19D52-D500-4340-A58F-21306DBE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736DC-D422-4C58-81BE-9AFF88DE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5178A-0B54-4A72-9C22-995904D9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3F637-F9A3-47A5-8E23-38B76147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04188-A0DB-48B3-A8C2-EA45A606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7EF7F-874C-4BC5-8A25-1D6A6E62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A57D1-3EF8-416C-BE32-F71386A2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1130F-CF93-4857-B577-25550FB1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AF4CE-AEBA-43E7-B853-0C395AF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E705-65F2-4A9F-9ABF-4FD968EA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FCE80-2E52-49F6-90EC-2017A851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7EC8C-2D4B-4C88-B08D-FEC8E842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D071D-06C8-4BE2-8B3F-BA492A68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2F2EA-F2B4-4627-A65D-F75243AB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FF7DC-003E-4685-8564-F56607DE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26A8-1D91-4EF7-AD9D-682D56F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D1B2-525E-4F3A-AA55-84E26D93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3E38-34E2-4C17-831B-DF806CCE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429D-91DB-48EC-8349-F5203D7F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3E65-2406-4D3E-A96A-39FDF1D7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7BC-6C83-41ED-BAAA-F65DF9F5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B739-D9FB-4B9C-9C82-7DD3E52B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C789-F4F5-40EC-BAE5-D22E53F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AE2E-9EBB-4A65-A4BC-5FF5CEE1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5B4F-8D1A-4D00-9389-44CECE09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EFB9-E2EB-4760-AE1D-5D0DADC3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AEE4-B6CE-4AFA-9825-E83E6B4F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7544-6A8F-45B7-904E-097B3B31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E765-3CD9-4512-BF36-D2A7F654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70E0-445F-4F4B-98F6-869EB962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6A21-1C46-47C3-BBD9-865C1264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1E9-B3F8-47D6-9348-DA7F65DE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BB1B-C716-4E40-B3A3-E8F7ADB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13D8-5799-4355-B821-26DBE127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9B5D-935A-4008-B229-77FA819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93363-9D90-420B-A9D6-19833AE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0F5C-7459-4BFA-9108-00382AF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0B6E-0A5D-4D72-BE09-5CD6BFC3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C640-5F8E-4DFF-9E35-B5239D30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62C8-1844-42FF-9428-F1FB061B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5A4B-2087-4008-B4E4-CB3FC8C6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E9BC1-9E87-4ECF-AF4D-E4F9A86F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857-DF9C-4C48-A984-1D79485D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6086-896A-4E59-8115-0114482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857A-B0C8-4CC8-A3FC-D3EC4855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5DCC-94CC-4F13-93A4-1E769247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BE2F-DC66-45A0-B2CF-2A40FDE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10010-3A36-4581-AA40-2BF7C7CC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5CFE-FD74-41A7-BE55-A00D65F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2C9A-2B46-401C-A330-4BB1D52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4B687-DF76-45AA-86F2-25F2CBD0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6276-B6D3-4AC8-B72F-1DAF4FAE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6BFC-A36C-42C4-B805-0D71A633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422-F724-4865-8AE2-A6E67744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0A1C-B5A8-460E-8B85-AD66169A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8FA3-51FF-4B30-8A24-4E5DCAB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E173-9EE2-41DB-AC75-88A019A9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0F3A3-71AD-4D57-910C-79E001CA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1DEE8-756D-4E47-BC7C-5C5CE24A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FDB55-7F5B-4BF5-AC4F-BEDC0C5B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A3050-E5AB-48A9-82B9-D078788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A946A-3C2D-4003-9942-5A564E61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2C87-A5E1-41C6-8872-8F1072FF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85FCB-37E5-4C1C-A91B-25C1EF9C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186-3581-4C2D-8CF7-B6A55D11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9FC67-EAFE-499F-8CFB-C8AD3033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E546-CC36-40DB-94B6-C28E74C9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92F0A-A2AA-45AF-A3C6-9825855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FDAB-025D-4D13-8F1C-8B05E70B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7FBAF-FB47-4FC6-A645-5FD64AB2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069FF-8C11-41E2-B9D8-F96E12B5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E6AA6-064A-47D4-8216-32192F4C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22ABE-8395-466D-948B-5522575D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CA638-5989-4A86-A353-DA549E24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9B267-84B0-4DC2-BA23-5437731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8B5-B8C7-4D6C-959E-9602134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1F994-9512-4C08-873D-44505FBE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93DA4-AD13-4C4B-A55B-C615620A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8DA48-7EB2-4086-87AA-9EEA2984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03EDF-B706-4B8E-9694-8DB01820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3196-1BD0-4F19-B3DF-154A38C7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F14AD-2C4C-4551-B718-EA565DAB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4DC2A-CA77-4DDA-896F-42484544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F1FB-4CAC-4836-9B11-B5AC4C70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BFF30-89B6-4718-BF5B-DDEF4AD1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ABF04-6971-47C0-B2A6-D0290E7C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CB2-9465-42AA-B9F5-24D949F4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1A5E3-E07A-40D1-8B4E-6CD008F4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5490-3BB3-4B47-B481-D8441965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EC510-E00F-43EC-8D32-A93AAE36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7B714-EFEF-4E33-920B-D25D3338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77A42-C93C-4A28-A724-6D051124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3C132-CEB2-49B1-9719-A301D10A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7977E-7239-43CF-9639-826A08DE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4C761-C70A-4D2F-9CF8-631027DF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1C48F-88D3-4523-8DCB-D23AE6D1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1D957-27CE-4F32-927D-F42DDF5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E37-C72E-4F4C-96D9-FEEB3A19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8F2F1-BBEA-4731-A729-239267FD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B0955-BDAF-4678-921E-1786943D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8EC9F-31AE-4E7D-A7DB-DF12A96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A8C52-F4F2-4882-B9A9-26E2217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B08AF-596A-4656-B17C-B1C308AE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000B7-9626-4118-9C46-F871A5A0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B5CB8-C43A-44E3-A864-82DEE7BA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9AF97-C201-48AF-B0FD-542D5879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C5A46-7FD8-45BE-A127-BDFAB827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8829D-07C4-4A7D-9F37-69A1E0CE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619-0338-4E5C-98EB-3F86475CC05B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11D3-688E-4289-9FA0-9FE800DA2A9D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A00B-3553-4584-A7E0-5E1470E4532F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7DBD-FF7F-4C37-BA9E-3D3EC0B111B4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8915-59FB-4167-90B1-1A8DA5230F09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7DE2-54C7-4132-9B0B-778F936521FE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90B5-88B5-4710-A309-ECB462BA2B01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D171-A0F8-4780-A435-212ED2917F2D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2698-FE24-41D9-A303-A26FC75C3E3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EEA2-4630-4191-82BA-80E00EEC9539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91DF-0857-456F-8AD8-598D73882DE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C7BC-32DC-4A01-B415-5494222E578D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8;&#1072;&#1090;&#1086;&#1074;&#1089;&#1082;&#1072;&#1103;_&#1043;&#1069;&#1057;" TargetMode="External"/><Relationship Id="rId2" Type="http://schemas.openxmlformats.org/officeDocument/2006/relationships/hyperlink" Target="http://ru.wikipedia.org/wiki/&#1050;&#1080;&#1083;&#1086;&#1074;&#1072;&#1090;&#1090;-&#1095;&#1072;&#1089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14200"/>
            <a:ext cx="8534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92d050"/>
                </a:solidFill>
                <a:latin typeface="Georgia"/>
              </a:rPr>
              <a:t>Топливно-энергетический комплекс Саратовской области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7" name="Рисунок 3" descr=""/>
          <p:cNvPicPr/>
          <p:nvPr/>
        </p:nvPicPr>
        <p:blipFill>
          <a:blip r:embed="rId1"/>
          <a:stretch/>
        </p:blipFill>
        <p:spPr>
          <a:xfrm>
            <a:off x="3071880" y="1785960"/>
            <a:ext cx="3500280" cy="2690640"/>
          </a:xfrm>
          <a:prstGeom prst="rect">
            <a:avLst/>
          </a:prstGeom>
          <a:ln w="0">
            <a:noFill/>
          </a:ln>
        </p:spPr>
      </p:pic>
      <p:pic>
        <p:nvPicPr>
          <p:cNvPr id="608" name="Содержимое 7" descr="Флаг Саратовской области"/>
          <p:cNvPicPr/>
          <p:nvPr/>
        </p:nvPicPr>
        <p:blipFill>
          <a:blip r:embed="rId2"/>
          <a:stretch/>
        </p:blipFill>
        <p:spPr>
          <a:xfrm>
            <a:off x="28584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609" name="Рисунок 8" descr="Герб Саратовской &#10;области"/>
          <p:cNvPicPr/>
          <p:nvPr/>
        </p:nvPicPr>
        <p:blipFill>
          <a:blip r:embed="rId3"/>
          <a:stretch/>
        </p:blipFill>
        <p:spPr>
          <a:xfrm>
            <a:off x="7143840" y="1500120"/>
            <a:ext cx="1428840" cy="1619280"/>
          </a:xfrm>
          <a:prstGeom prst="rect">
            <a:avLst/>
          </a:prstGeom>
          <a:ln w="0">
            <a:noFill/>
          </a:ln>
        </p:spPr>
      </p:pic>
      <p:sp>
        <p:nvSpPr>
          <p:cNvPr id="610" name="TextBox 9"/>
          <p:cNvSpPr/>
          <p:nvPr/>
        </p:nvSpPr>
        <p:spPr>
          <a:xfrm>
            <a:off x="500040" y="5072040"/>
            <a:ext cx="8501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фтегазодобывающ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фтеперерабатывающ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лектроэнергетическ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предприятиях комплекса трудятся 25 тысяч челове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428720" y="285480"/>
            <a:ext cx="44290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 Саратовской ГЭС реализуется программа энергосбережения на период до 2009-2012 гг. Она предусматривает комплекс работ по повышению эффективности использования водных ресурсов, снижению собственного потребления электроэнергии ГЭС и потерь на рынке, внедрению инноваций в области энергосбережения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Содержимое 4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3571560" cy="2500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642960" y="2928960"/>
            <a:ext cx="3571920" cy="271476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428760" y="5929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талитический теплогенератор разработка ученых СГ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Балаковская АЭС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301680" y="2198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4800600" y="2367000"/>
            <a:ext cx="40384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2190600" y="1943280"/>
            <a:ext cx="4762800" cy="29718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2"/>
          <p:cNvSpPr/>
          <p:nvPr/>
        </p:nvSpPr>
        <p:spPr>
          <a:xfrm>
            <a:off x="928800" y="50720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Georgia"/>
              </a:rPr>
              <a:t>4</a:t>
            </a:r>
            <a:r>
              <a:rPr b="0" lang="ru-RU" sz="3600" spc="-1" strike="noStrike">
                <a:solidFill>
                  <a:srgbClr val="77933c"/>
                </a:solidFill>
                <a:latin typeface="Georgia"/>
              </a:rPr>
              <a:t> энергоблок Балаковской АЭС после ремонт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500040" y="37548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годня все предприятия энергетики работают в стабильном, устойчивом режиме, выполняя плановые задания по производству, транспортировке электрической и тепловой энергии. Они обеспечивают надежное и стабильное энергоснабжение потребителей области, постоянно проводят модернизацию и реконструкцию оборудования, улучшая качество представляемых услуг потребителя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"/>
          <p:cNvSpPr/>
          <p:nvPr/>
        </p:nvSpPr>
        <p:spPr>
          <a:xfrm>
            <a:off x="285840" y="30096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целом генерирующими предприятиями Саратовской области выработка электроэнергии за 2006 год составила 41,2 млрд. киловатт/часов или 102,8% к аналогичному периоду прошлого года. Выработка тепловой энергии - 9381,4 тыс. Гкал тепловой энергии. Объем реализованной продукции и услуг по отрасли достиг 31,2 млрд. рублей инвестиций в основной капитал - 3378,4 млн. руб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нергетические предприятия области обслуживают более 64 тыс. км электрических сете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"/>
          <p:cNvSpPr/>
          <p:nvPr/>
        </p:nvSpPr>
        <p:spPr>
          <a:xfrm>
            <a:off x="500040" y="435600"/>
            <a:ext cx="842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ми задачами "Комплекса системных мер по повышению надежности электроснабжения потребителей Саратовской области на период до 2010 года" стали: обновление структуры действующих мощностей (проект предполагает замену оборудования со сроком эксплуатации более 35 лет), обеспечение электроэнергией новых потребителей за счет расширения существующих сетевых мощностей (с учетом реализации приоритетных национальных проектов и областных целевых программ) и обеспечение надежности функционирования электросе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a44d"/>
                </a:solidFill>
                <a:latin typeface="Georgia"/>
              </a:rPr>
              <a:t>ГАЗОТРАНСПОРТНЫЕ  И ГАЗОРАСПРЕДЕЛИТЕЛЬНЫЕ ПРЕДПРИЯТИЯ</a:t>
            </a:r>
            <a:endParaRPr b="0" lang="en-US" sz="2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 территории области ведут деятельность 1 предприятие транспортировки газа по магистральным трубопроводам - ООО "Югтрансгаз" ОАО "Газпром" и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газораспределительных организаций различных форм собственности, эксплуатируются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32 тыс. км газовых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етей, в том числе: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5350 км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- принадлежащих ОАО "Газпром"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13421,3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км - принадлежащих газораспределительным организациям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2084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км - имеющих областную принадлежность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1587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км - имеющих муниципальную принадлежность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2753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км - находящихся в собственности организаций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6804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км - не имеющих балансовой принадлежности, оформляются в областную и муниципальную собственность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"/>
          <p:cNvSpPr/>
          <p:nvPr/>
        </p:nvSpPr>
        <p:spPr>
          <a:xfrm flipV="1" rot="10800000">
            <a:off x="142560" y="879120"/>
            <a:ext cx="8613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основном инвестиционные средства были направлены на техническое перевооружение системы магистральных газопроводов, станций подземного хранения газа. Наиболее яркими достижениями предприятий трубопроводного транспорта в 2006 году стали: ввод в эксплуатацию газопровода Починки-Изобильное-Северо-Ставропольское ПХГ на участке Петровск-Фролово и компрессорной станции "Новопетровская", которые позволят ООО "Югтрансгаз" увеличить товаротранспортную работу на 10 %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Прямоугольник 1"/>
          <p:cNvSpPr/>
          <p:nvPr/>
        </p:nvSpPr>
        <p:spPr>
          <a:xfrm>
            <a:off x="357120" y="214200"/>
            <a:ext cx="80726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пливно-энергетический комплекс должен быть обращен, прежде всего, к конечному потребителю, содействовать экономическому развитию региона, формированию благоприятного инвестиционного климата в област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держивающим фактором являются ограничения в подключении к энергоресурсам новых потребителей, их расточительный расход, высокий износ энергетических мощностей. необходимо реформирование энергетического комплекса, обновление основных фондов предприятий энергетики и газораспределения, ввод в действие новых генерирующих мощностей, создание и внедрение энергосберегающих технологий, которые позволят обеспечить надежную и безопасную работу ТЭК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сновная доля в электропотреблении: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ъём потребления электрической энергии  составляет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1 млрд.кВт*ч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ммунально-бытовая сфера-32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мышленность- 24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ранспорт и связь-15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88a44d"/>
                </a:solidFill>
                <a:latin typeface="Georgia"/>
              </a:rPr>
              <a:t>Полезные ископаемые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2" name="Прямоугольник 4"/>
          <p:cNvSpPr/>
          <p:nvPr/>
        </p:nvSpPr>
        <p:spPr>
          <a:xfrm>
            <a:off x="142920" y="157176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Georgia"/>
              </a:rPr>
              <a:t>В области разведано более 40 малых нефтяных и газовых (значительны Степновское и Урицкое) месторождений, при неизученности основной части перспективных районов. Разведано множество месторождений горючих сланцев, в том числе крупное Озинкско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Рисунок 5" descr="Карта Саратовской области"/>
          <p:cNvPicPr/>
          <p:nvPr/>
        </p:nvPicPr>
        <p:blipFill>
          <a:blip r:embed="rId1"/>
          <a:stretch/>
        </p:blipFill>
        <p:spPr>
          <a:xfrm>
            <a:off x="642960" y="3429000"/>
            <a:ext cx="4643280" cy="2571840"/>
          </a:xfrm>
          <a:prstGeom prst="rect">
            <a:avLst/>
          </a:prstGeom>
          <a:ln w="0">
            <a:noFill/>
          </a:ln>
        </p:spPr>
      </p:pic>
      <p:sp>
        <p:nvSpPr>
          <p:cNvPr id="614" name="Параллелограмм 6"/>
          <p:cNvSpPr/>
          <p:nvPr/>
        </p:nvSpPr>
        <p:spPr>
          <a:xfrm>
            <a:off x="4429080" y="4714920"/>
            <a:ext cx="285840" cy="71280"/>
          </a:xfrm>
          <a:prstGeom prst="parallelogram">
            <a:avLst>
              <a:gd name="adj" fmla="val 25063"/>
            </a:avLst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Трапеция 7"/>
          <p:cNvSpPr/>
          <p:nvPr/>
        </p:nvSpPr>
        <p:spPr>
          <a:xfrm>
            <a:off x="3071880" y="4357800"/>
            <a:ext cx="142920" cy="214200"/>
          </a:xfrm>
          <a:prstGeom prst="pie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Трапеция 8"/>
          <p:cNvSpPr/>
          <p:nvPr/>
        </p:nvSpPr>
        <p:spPr>
          <a:xfrm>
            <a:off x="2143080" y="4357800"/>
            <a:ext cx="142920" cy="214200"/>
          </a:xfrm>
          <a:prstGeom prst="pie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Трапеция 9"/>
          <p:cNvSpPr/>
          <p:nvPr/>
        </p:nvSpPr>
        <p:spPr>
          <a:xfrm>
            <a:off x="2428920" y="4286160"/>
            <a:ext cx="142920" cy="214560"/>
          </a:xfrm>
          <a:prstGeom prst="pie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TextBox 11"/>
          <p:cNvSpPr/>
          <p:nvPr/>
        </p:nvSpPr>
        <p:spPr>
          <a:xfrm>
            <a:off x="5429160" y="3643200"/>
            <a:ext cx="335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уммарные  извлекаемые запасы составляют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810 млн т нефти 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,2 трлн.м³ газ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Трапеция 12"/>
          <p:cNvSpPr/>
          <p:nvPr/>
        </p:nvSpPr>
        <p:spPr>
          <a:xfrm>
            <a:off x="3143160" y="4429080"/>
            <a:ext cx="142920" cy="214200"/>
          </a:xfrm>
          <a:prstGeom prst="pie">
            <a:avLst/>
          </a:prstGeom>
          <a:solidFill>
            <a:srgbClr val="ff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Трапеция 13"/>
          <p:cNvSpPr/>
          <p:nvPr/>
        </p:nvSpPr>
        <p:spPr>
          <a:xfrm>
            <a:off x="2071800" y="4286160"/>
            <a:ext cx="142920" cy="214560"/>
          </a:xfrm>
          <a:prstGeom prst="pie">
            <a:avLst/>
          </a:prstGeom>
          <a:solidFill>
            <a:srgbClr val="ff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Трапеция 14"/>
          <p:cNvSpPr/>
          <p:nvPr/>
        </p:nvSpPr>
        <p:spPr>
          <a:xfrm>
            <a:off x="2571840" y="4286160"/>
            <a:ext cx="142920" cy="214560"/>
          </a:xfrm>
          <a:prstGeom prst="pie">
            <a:avLst/>
          </a:prstGeom>
          <a:solidFill>
            <a:srgbClr val="ff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Линии электропередач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888840" y="1527120"/>
            <a:ext cx="73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ТЭК области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егодня топливно-энергетический комплекс Саратовской области представляет собой высокоразвитую многоуровневую систему генерирующих и сетевых мощностей, а также газотранспорта и газораспределения. На территории области развиты практически все освоенные виды энергогенераций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атомная станция, гидроэлектростанция, а также комбинированные источники энергии - теплоэлектроцентрали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 долю ТЭК приходится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36% выпускаемой продукции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2 % налоговых поступлений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0% основных производственных фондов области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Добыча нефти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063800" y="1527120"/>
            <a:ext cx="6980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нефтепроводы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4762440" cy="34862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" descr=""/>
          <p:cNvPicPr/>
          <p:nvPr/>
        </p:nvPicPr>
        <p:blipFill>
          <a:blip r:embed="rId2"/>
          <a:stretch/>
        </p:blipFill>
        <p:spPr>
          <a:xfrm>
            <a:off x="5286240" y="3071880"/>
            <a:ext cx="3643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ПРЕДПРИЯТИЯ ЭНЕРГЕТИКИ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2560" y="1285560"/>
            <a:ext cx="4429080" cy="50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ратовская энергосистема создана в 1943 году, объединив Саратовскую ГРЭС мощностью 47,5 тыс. кВт, Саратовскую ТЭЦ-1 мощностью 12 тыс. кВт, район высоковольтных электрических сетей, обслуживающих 9 подстанций 35 кВ общей мощностью 9,3 тыс. кВА, и 184 км линий электропередач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357880" y="1500120"/>
            <a:ext cx="3214800" cy="4786560"/>
          </a:xfrm>
          <a:prstGeom prst="rect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5357880" y="1500120"/>
            <a:ext cx="3214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214200" y="95040"/>
            <a:ext cx="8715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В настоящее время, энергетический комплекс области, является крупнейшим в России и включает в себя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жнее - Волжское предприятие магистральных электрических сетей филиала ОАО "ФСК"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лиал Концерна "Росэнергоатом" Балаковская АЭС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ГидроОГК" ОАО "Саратовская ГЭС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Волжская территориальная генерирующая компания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Волжская межрегиональная распределительная компания"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Облкоммунэнерго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 ООО "Саратовские городские электрические сети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О "Независимая электросетевая компания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"/>
          <p:cNvSpPr/>
          <p:nvPr/>
        </p:nvSpPr>
        <p:spPr>
          <a:xfrm flipV="1" rot="10800000">
            <a:off x="213840" y="1374120"/>
            <a:ext cx="8643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щая установленная мощность энергосистемы приближается к 7,0 тыс. мегаватт, что позволяет вырабатывать в год более 41 млрд. киловатт-часов электрической энергии. По 70 тыс. километров электрических и кабельных сетей различного напряжения подается электрическая энергия потребителям - предприятиям и жителям нашей област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Гидроэнергопотенциал области реализуется н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Саратовской ГЭС</a:t>
            </a: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 в среднегодовом размере около </a:t>
            </a:r>
            <a:br>
              <a:rPr sz="2800"/>
            </a:br>
            <a:r>
              <a:rPr b="1" lang="ru-RU" sz="2800" spc="-1" strike="noStrike">
                <a:solidFill>
                  <a:srgbClr val="77933c"/>
                </a:solidFill>
                <a:latin typeface="Georgia"/>
              </a:rPr>
              <a:t>5,4</a:t>
            </a:r>
            <a:r>
              <a:rPr b="0" lang="ru-RU" sz="2800" spc="-1" strike="noStrike">
                <a:solidFill>
                  <a:srgbClr val="77933c"/>
                </a:solidFill>
                <a:latin typeface="Georgia"/>
              </a:rPr>
              <a:t> млрд</a:t>
            </a: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.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кВт·ч</a:t>
            </a: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 электроэнергии.</a:t>
            </a:r>
            <a:endParaRPr b="0" lang="en-US" sz="2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3"/>
          <a:stretch/>
        </p:blipFill>
        <p:spPr>
          <a:xfrm>
            <a:off x="1000080" y="1928880"/>
            <a:ext cx="7143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34:04Z</dcterms:created>
  <dc:creator>Loner-XP</dc:creator>
  <dc:description/>
  <dc:language>en-US</dc:language>
  <cp:lastModifiedBy>Loner-XP</cp:lastModifiedBy>
  <dcterms:modified xsi:type="dcterms:W3CDTF">2011-04-08T18:25:06Z</dcterms:modified>
  <cp:revision>18</cp:revision>
  <dc:subject/>
  <dc:title>     Топливно-энергетический комплекс Саратов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30000000000010250300207f7000400038000</vt:lpwstr>
  </property>
</Properties>
</file>