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2.gif" ContentType="image/gif"/>
  <Override PartName="/ppt/media/image6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0.gif" ContentType="image/gif"/>
  <Override PartName="/ppt/media/image5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528-5233-4F9C-80B9-2515603A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9DC-FDE3-4D8E-A54D-713D5D96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B77-1406-4559-BA44-DC9C1258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EDE-AB19-4A8E-A99D-482234E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A1C-2883-4631-8699-2FF31D88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02E-73E7-4003-97B0-094AEEE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D0E-062E-4491-872A-4827926A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B96-85C7-43E3-9F32-522B619D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433-ACB0-43ED-916B-5A84299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A1E-371B-46C8-9504-F20261C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91D-3C0C-4B71-AA7C-2473F4E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C19-0743-47AA-9ABA-12644AE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D297-082E-4496-A1DE-0FAFEE460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9.gif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60280"/>
            <a:ext cx="80643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Тестовое задание по теме</a:t>
            </a: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Bookman Old Style"/>
              </a:rPr>
              <a:t>«Части Мирового океаны. Участки суши в океане»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7920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1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4. Часть океана (моря), глубоко вдающаяся в сушу, но свободно соединяющаяся с океаном (морем)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313240" y="2637000"/>
            <a:ext cx="342612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83664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620640"/>
            <a:ext cx="842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5. Сравнительно неширокое водное пространство, ограниченное с двух сторон берегами материков или островов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Про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932360" y="2852640"/>
            <a:ext cx="3618000" cy="361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5589720"/>
            <a:ext cx="2808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5" action="ppaction://hlinksldjump"/>
              </a:rPr>
              <a:t>В) М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692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6. Огромны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65640" y="1700280"/>
            <a:ext cx="3637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Часть океана, отличающаяся от него свойствами воды, течениями, живущими в нем организмами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266400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Зали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43700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Мор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589720"/>
            <a:ext cx="2737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Проли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940360" y="907920"/>
            <a:ext cx="28400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620640"/>
            <a:ext cx="842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7. Небольшие участки суши в океане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08560" y="2060640"/>
            <a:ext cx="34210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4247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8. Группы островов, находящихся близко друг к другу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357720"/>
            <a:ext cx="37432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Полуостро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437000"/>
            <a:ext cx="374508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Архипела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589720"/>
            <a:ext cx="3816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4" action="ppaction://hlinksldjump"/>
              </a:rPr>
              <a:t>В) Матер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68360" y="620640"/>
            <a:ext cx="84247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9. Часть материка или острова, далеко выдающаяся в океан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357720"/>
            <a:ext cx="37432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Полуост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437000"/>
            <a:ext cx="374508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Архипела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889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620640"/>
            <a:ext cx="842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10. Сколько на Земле океан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3284640"/>
            <a:ext cx="20163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А) 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437000"/>
            <a:ext cx="20894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Б)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1607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В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2709720"/>
            <a:ext cx="388332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836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26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87280" y="83664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Подведем итог. Подсчитаем количество правильных отве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3400560" cy="2889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33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Bookman Old Style"/>
              </a:rPr>
              <a:t>Шкала оцен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836640"/>
            <a:ext cx="7848360" cy="9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10-9 – «5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8-7 – «4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6-5 – «3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99"/>
                </a:solidFill>
                <a:latin typeface="Bookman Old Style"/>
              </a:rPr>
              <a:t>4 и менее – «2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357960" y="404640"/>
            <a:ext cx="2786040" cy="609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547640" cy="1873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14778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90792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62064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2. Моря, глубоко впадающие в сушу, сообщающиеся с океаном одним или несколькими проливами называю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7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90792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Молодец! Ответ 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2732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8366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Bookman Old Style"/>
              </a:rPr>
              <a:t>Увы! Ответ неверный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093080" y="4581360"/>
            <a:ext cx="1439640" cy="136872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22719" h="21600">
                <a:moveTo>
                  <a:pt x="0" y="0"/>
                </a:moveTo>
                <a:lnTo>
                  <a:pt x="22719" y="0"/>
                </a:lnTo>
                <a:lnTo>
                  <a:pt x="22719" y="21600"/>
                </a:lnTo>
                <a:lnTo>
                  <a:pt x="0" y="21600"/>
                </a:lnTo>
                <a:close/>
              </a:path>
              <a:path fill="lightenLess" w="22719" h="21600">
                <a:moveTo>
                  <a:pt x="0" y="0"/>
                </a:moveTo>
                <a:lnTo>
                  <a:pt x="22719" y="0"/>
                </a:lnTo>
                <a:lnTo>
                  <a:pt x="21319" y="1400"/>
                </a:lnTo>
                <a:lnTo>
                  <a:pt x="1400" y="1400"/>
                </a:lnTo>
                <a:close/>
              </a:path>
              <a:path fill="darken" w="22719" h="21600">
                <a:moveTo>
                  <a:pt x="22719" y="0"/>
                </a:moveTo>
                <a:lnTo>
                  <a:pt x="22719" y="21600"/>
                </a:lnTo>
                <a:lnTo>
                  <a:pt x="21319" y="20200"/>
                </a:lnTo>
                <a:lnTo>
                  <a:pt x="21319" y="1400"/>
                </a:lnTo>
                <a:close/>
              </a:path>
              <a:path fill="darkenLess" w="22719" h="21600">
                <a:moveTo>
                  <a:pt x="22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9" y="20200"/>
                </a:lnTo>
                <a:close/>
              </a:path>
              <a:path fill="lighten" w="22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9" h="21600">
                <a:moveTo>
                  <a:pt x="4353" y="7493"/>
                </a:moveTo>
                <a:lnTo>
                  <a:pt x="7861" y="7493"/>
                </a:lnTo>
                <a:lnTo>
                  <a:pt x="7861" y="12828"/>
                </a:lnTo>
                <a:cubicBezTo>
                  <a:pt x="7861" y="13751"/>
                  <a:pt x="8661" y="14482"/>
                  <a:pt x="9697" y="14482"/>
                </a:cubicBezTo>
                <a:lnTo>
                  <a:pt x="11359" y="14482"/>
                </a:lnTo>
                <a:cubicBezTo>
                  <a:pt x="12395" y="14482"/>
                  <a:pt x="13196" y="13751"/>
                  <a:pt x="13196" y="12828"/>
                </a:cubicBezTo>
                <a:lnTo>
                  <a:pt x="13196" y="7493"/>
                </a:lnTo>
                <a:lnTo>
                  <a:pt x="11359" y="7493"/>
                </a:lnTo>
                <a:lnTo>
                  <a:pt x="14867" y="3985"/>
                </a:lnTo>
                <a:lnTo>
                  <a:pt x="18540" y="7493"/>
                </a:lnTo>
                <a:lnTo>
                  <a:pt x="16704" y="7493"/>
                </a:lnTo>
                <a:lnTo>
                  <a:pt x="16704" y="12828"/>
                </a:lnTo>
                <a:cubicBezTo>
                  <a:pt x="16704" y="15596"/>
                  <a:pt x="14127" y="18155"/>
                  <a:pt x="11359" y="18155"/>
                </a:cubicBezTo>
                <a:lnTo>
                  <a:pt x="9697" y="18155"/>
                </a:lnTo>
                <a:cubicBezTo>
                  <a:pt x="6929" y="18155"/>
                  <a:pt x="4353" y="15596"/>
                  <a:pt x="4353" y="1282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311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3. Моря, расположенные по окраинам суши называю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429000"/>
            <a:ext cx="7058160" cy="13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99736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35772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2" action="ppaction://hlinksldjump"/>
              </a:rPr>
              <a:t>А) Внутренни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437000"/>
            <a:ext cx="4032360" cy="647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Bookman Old Style"/>
                <a:hlinkClick r:id="rId3" action="ppaction://hlinksldjump"/>
              </a:rPr>
              <a:t>Б) Окраин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273640" y="1916280"/>
            <a:ext cx="35798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llName</cp:lastModifiedBy>
  <dcterms:modified xsi:type="dcterms:W3CDTF">2009-08-13T10:23:43Z</dcterms:modified>
  <cp:revision>3</cp:revision>
  <dc:subject/>
  <dc:title>PowerPoint Presentation</dc:title>
</cp:coreProperties>
</file>