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2.gif" ContentType="image/gif"/>
  <Override PartName="/ppt/media/image6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0.gif" ContentType="image/gif"/>
  <Override PartName="/ppt/media/image5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777-14CC-4FC3-A473-AB4D052B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FBA-AA6B-4D1D-B69A-A99CC4E3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971-8C77-4560-9924-30D6366E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95C-C4F8-44BD-ACA0-38E1C285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FA4-D5BE-4807-A6C2-847010FD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0E5-722B-4B71-A032-EDF968D9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5B0-4747-490E-BBAD-69864CEE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925-934F-4357-BE4C-0D0185E5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A75-8295-4F0C-94EE-FE5ABA43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E98-BFD6-4644-8764-63C3D30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539-E70A-4CF4-B249-2BF8781E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6E1-2032-4DD3-BAD7-27E7DD9D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EB93-60C2-4AC1-A758-A71B01ACF3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9.gif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0280"/>
            <a:ext cx="80643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Тестовое задание по теме</a:t>
            </a:r>
            <a:r>
              <a:rPr b="1" lang="ru-RU" sz="6000" spc="-1" strike="noStrike">
                <a:solidFill>
                  <a:srgbClr val="006699"/>
                </a:solidFill>
                <a:latin typeface="Bookman Old Styl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Bookman Old Style"/>
              </a:rPr>
              <a:t>«Части Мирового океаны. Участки суши в океане»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792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1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83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620640"/>
            <a:ext cx="8424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4. Часть океана (моря), глубоко вдающаяся в сушу, но свободно соединяющаяся с океаном (морем)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3357720"/>
            <a:ext cx="266400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За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43700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Проли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313240" y="2637000"/>
            <a:ext cx="342612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83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620640"/>
            <a:ext cx="8424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5. Сравнительно неширокое водное пространство, ограниченное с двух сторон берегами материков или островов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3357720"/>
            <a:ext cx="266400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За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443700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Про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4932360" y="2852640"/>
            <a:ext cx="3618000" cy="361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6920" y="5589720"/>
            <a:ext cx="2808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5" action="ppaction://hlinksldjump"/>
              </a:rPr>
              <a:t>В) Мо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692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620640"/>
            <a:ext cx="8424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6. Огромные участки суши в океане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3357720"/>
            <a:ext cx="37432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Остро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437000"/>
            <a:ext cx="3745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Архипела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589720"/>
            <a:ext cx="3816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Матер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65640" y="1700280"/>
            <a:ext cx="36370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620640"/>
            <a:ext cx="842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Часть океана, отличающаяся от него свойствами воды, течениями, живущими в нем организмами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357720"/>
            <a:ext cx="266400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За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443700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Мор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58972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Проли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940360" y="907920"/>
            <a:ext cx="28400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620640"/>
            <a:ext cx="8424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7. Небольшие участки суши в океане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3357720"/>
            <a:ext cx="37432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Остро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4437000"/>
            <a:ext cx="3745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Архипела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589720"/>
            <a:ext cx="3816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Матер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308560" y="2060640"/>
            <a:ext cx="34210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620640"/>
            <a:ext cx="84247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8. Группы островов, находящихся близко друг к другу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357720"/>
            <a:ext cx="37432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Полуостро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4437000"/>
            <a:ext cx="3745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Архипела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589720"/>
            <a:ext cx="3816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Матер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5076720" y="2781360"/>
            <a:ext cx="37386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8360" y="620640"/>
            <a:ext cx="84247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9. Часть материка или острова, далеко выдающаяся в океан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357720"/>
            <a:ext cx="374328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А) Полуостр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437000"/>
            <a:ext cx="374508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Б) Архипела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8894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620640"/>
            <a:ext cx="8424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10. Сколько на Земле океан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3284640"/>
            <a:ext cx="20163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А) 6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4437000"/>
            <a:ext cx="20894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Б) 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516640"/>
            <a:ext cx="21607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В)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03640" y="2709720"/>
            <a:ext cx="388332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87280" y="83664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Подведем итог. Подсчитаем количество правильных ответ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987640" y="3500280"/>
            <a:ext cx="3400560" cy="2889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360" y="33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Шкала оцен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836640"/>
            <a:ext cx="7848360" cy="9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10-9 – «5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8-7 – «4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6-5 – «3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4 и менее – «2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357960" y="404640"/>
            <a:ext cx="2786040" cy="609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7800" cy="1773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0" y="2565360"/>
            <a:ext cx="1547640" cy="1873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0" y="5084640"/>
            <a:ext cx="14778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90792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620640"/>
            <a:ext cx="842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2. Моря, глубоко впадающие в сушу, сообщающиеся с океаном одним или несколькими проливами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35772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Внутренни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43700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Окраин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779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90792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20640"/>
            <a:ext cx="8424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3. Моря, расположенные по окраинам суши называю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335772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Внутренни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443700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Окраин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273640" y="1916280"/>
            <a:ext cx="35798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llName</cp:lastModifiedBy>
  <dcterms:modified xsi:type="dcterms:W3CDTF">2009-08-13T10:23:43Z</dcterms:modified>
  <cp:revision>3</cp:revision>
  <dc:subject/>
  <dc:title>PowerPoint Presentation</dc:title>
</cp:coreProperties>
</file>