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9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.png" ContentType="image/png"/>
  <Override PartName="/ppt/media/image2.gif" ContentType="image/gif"/>
  <Override PartName="/ppt/media/image6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10.gif" ContentType="image/gif"/>
  <Override PartName="/ppt/media/image5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FD89-0AC9-4BB0-BE9F-0C266683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990-DCCA-4640-AEE7-4BED165C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AB0-6940-43C8-B592-9727545C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CDC8-F5CA-4C4F-9FD8-76684C02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DE9-1AD7-4365-9788-95B4068E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14F-91FD-4298-80BC-CC2F426D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F53D-361C-4967-AA02-B9AF1981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B58-7F9A-417D-88D7-C21F3E97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DEE-69EA-46FA-B0BC-41BB00CC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BDD7-511D-48BE-9DDA-1646A45A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A65-2466-484E-BDA7-D506A95C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87A-53CE-411F-97A5-6B97E3B4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E892-E06B-4DD5-A75A-880AD21438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9.gif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3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60280"/>
            <a:ext cx="806436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Тестовое задание по теме</a:t>
            </a:r>
            <a:r>
              <a:rPr b="1" lang="ru-RU" sz="6000" spc="-1" strike="noStrike">
                <a:solidFill>
                  <a:srgbClr val="006699"/>
                </a:solidFill>
                <a:latin typeface="Bookman Old Style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99"/>
                </a:solidFill>
                <a:latin typeface="Bookman Old Style"/>
              </a:rPr>
              <a:t>«Части Мирового океаны. Участки суши в океане»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4360" y="4581360"/>
            <a:ext cx="792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1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00000" y="836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83664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620640"/>
            <a:ext cx="84247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4. Часть океана (моря), глубоко вдающаяся в сушу, но свободно соединяющаяся с океаном (морем) называе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3357720"/>
            <a:ext cx="266400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Зали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4437000"/>
            <a:ext cx="27370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Проли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5313240" y="2637000"/>
            <a:ext cx="342612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83664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836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620640"/>
            <a:ext cx="84247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5. Сравнительно неширокое водное пространство, ограниченное с двух сторон берегами материков или островов называе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3357720"/>
            <a:ext cx="266400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Зали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4437000"/>
            <a:ext cx="27370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Проли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>
            <a:lum contrast="54000"/>
          </a:blip>
          <a:stretch/>
        </p:blipFill>
        <p:spPr>
          <a:xfrm>
            <a:off x="4932360" y="2852640"/>
            <a:ext cx="3618000" cy="361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26920" y="5589720"/>
            <a:ext cx="2808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5" action="ppaction://hlinksldjump"/>
              </a:rPr>
              <a:t>В) Мо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00000" y="836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69228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00000" y="836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620640"/>
            <a:ext cx="8424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6. Огромные участки суши в океане называю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3357720"/>
            <a:ext cx="37432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Остро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4437000"/>
            <a:ext cx="37450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Архипелаг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5589720"/>
            <a:ext cx="3816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4" action="ppaction://hlinksldjump"/>
              </a:rPr>
              <a:t>В) Матер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165640" y="1700280"/>
            <a:ext cx="363708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620640"/>
            <a:ext cx="8424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Часть океана, отличающаяся от него свойствами воды, течениями, живущими в нем организмами называе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3357720"/>
            <a:ext cx="266400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Зали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4437000"/>
            <a:ext cx="27370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Мор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5589720"/>
            <a:ext cx="27370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4" action="ppaction://hlinksldjump"/>
              </a:rPr>
              <a:t>В) Проли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940360" y="907920"/>
            <a:ext cx="284004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42920" y="12682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620640"/>
            <a:ext cx="8424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7. Небольшие участки суши в океане называю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3357720"/>
            <a:ext cx="37432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Остро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4437000"/>
            <a:ext cx="37450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Архипелаг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5589720"/>
            <a:ext cx="3816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4" action="ppaction://hlinksldjump"/>
              </a:rPr>
              <a:t>В) Матер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308560" y="2060640"/>
            <a:ext cx="34210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42920" y="12682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620640"/>
            <a:ext cx="84247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8. Группы островов, находящихся близко друг к другу называю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3357720"/>
            <a:ext cx="37432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Полуостро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4437000"/>
            <a:ext cx="37450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Архипелаг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589720"/>
            <a:ext cx="3816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4" action="ppaction://hlinksldjump"/>
              </a:rPr>
              <a:t>В) Матер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5076720" y="2781360"/>
            <a:ext cx="37386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42920" y="12682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00000" y="836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68360" y="620640"/>
            <a:ext cx="842472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9. Часть материка или острова, далеко выдающаяся в океан называе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3357720"/>
            <a:ext cx="374328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А) Полуостр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4437000"/>
            <a:ext cx="374508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Б) Архипела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003640" y="2637000"/>
            <a:ext cx="388944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42920" y="12682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620640"/>
            <a:ext cx="8424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10. Сколько на Земле океано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3284640"/>
            <a:ext cx="201636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А) 6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4437000"/>
            <a:ext cx="208944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Б) 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5516640"/>
            <a:ext cx="216072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В)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003640" y="2709720"/>
            <a:ext cx="388332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42920" y="12682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87280" y="836640"/>
            <a:ext cx="65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Подведем итог. Подсчитаем количество правильных ответ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987640" y="3500280"/>
            <a:ext cx="3400560" cy="2889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4360" y="333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Шкала оценок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836640"/>
            <a:ext cx="7848360" cy="9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99"/>
                </a:solidFill>
                <a:latin typeface="Bookman Old Style"/>
              </a:rPr>
              <a:t>10-9 – «5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99"/>
                </a:solidFill>
                <a:latin typeface="Bookman Old Style"/>
              </a:rPr>
              <a:t>8-7 – «4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99"/>
                </a:solidFill>
                <a:latin typeface="Bookman Old Style"/>
              </a:rPr>
              <a:t>6-5 – «3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99"/>
                </a:solidFill>
                <a:latin typeface="Bookman Old Style"/>
              </a:rPr>
              <a:t>4 и менее – «2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357960" y="404640"/>
            <a:ext cx="2786040" cy="6093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7800" cy="1773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0" y="2565360"/>
            <a:ext cx="1547640" cy="1873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0" y="5084640"/>
            <a:ext cx="14778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90792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836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620640"/>
            <a:ext cx="8424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2. Моря, глубоко впадающие в сушу, сообщающиеся с океаном одним или несколькими проливами называю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357720"/>
            <a:ext cx="4032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Внутренни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4437000"/>
            <a:ext cx="4032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Окраинн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37796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90792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836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620640"/>
            <a:ext cx="8424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3. Моря, расположенные по окраинам суши называют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3357720"/>
            <a:ext cx="4032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Внутренни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4437000"/>
            <a:ext cx="4032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Окраинн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273640" y="1916280"/>
            <a:ext cx="35798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llName</cp:lastModifiedBy>
  <dcterms:modified xsi:type="dcterms:W3CDTF">2009-08-13T10:23:43Z</dcterms:modified>
  <cp:revision>3</cp:revision>
  <dc:subject/>
  <dc:title>PowerPoint Presentation</dc:title>
</cp:coreProperties>
</file>