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A14-34B5-4BF3-9EB2-A7CECD2A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F9C-72F8-49AE-BE8E-16590132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BE0-A9CB-41C8-8726-60349F4E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B17-938F-42FF-924C-715113DB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49D-4DF3-470F-A976-3C7F2F65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C28-60A7-4271-8608-E49EC4D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B09-BCBB-4FFA-B65C-208B3243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7C1-5627-4D67-B082-00977B76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59A-45BD-457F-9BEA-62A6B568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70C-A314-48F2-8C39-AEA91CF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B23-3341-4B90-A239-2150D082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737-EFB2-4966-A8FC-CA02AA4F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31E0-0318-4375-8963-EC9AB6D08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398160" cy="704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341360"/>
            <a:ext cx="860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РОБЛ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60280"/>
            <a:ext cx="88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1. Из списка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ксид углерода                           Г) хлорокарбоны (фре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ксид серы                                  Д) ме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оксид азота                                 Е) водяной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53000"/>
            <a:ext cx="885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выберите вещества, которые ответственны за 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Глобальное потепление: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Озоновые дыры: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Кислотные дожди: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0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Концентрация какого газа в атмосфере сейчас увеличивается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) кислорода                           г) рад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) углекислого газа                д) арг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) аз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49200"/>
            <a:ext cx="889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Какие отрасли хозяйства ответственны за выброс в атмосф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парниковых газов?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веществ, разрушающих озоновый с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веществ, приводящих к выпадению кислотных дожд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860640"/>
            <a:ext cx="6553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сельское хозяйство                                б) текстильная промышленность             в)  автомобильный транспорт                   г) теплоэнергетика                                                                     д) атомная энергетика                                 е) производство холодильников             ж) угольные шах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77880"/>
            <a:ext cx="838980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Дополните утвержд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Земле кислород атмосферы расходуется в следующих процесс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гор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брож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окисл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 дыха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) разлож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)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) фото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6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Выберите из предложенного списка природоохранную задачу, решение которой   будет способствовать  ослаблению парникового   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в Германии              2) в Эфио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2100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4365720"/>
            <a:ext cx="67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запрет охоты                                                                           б) сокращение тепличного овощеводства                            в)  сокращение применения фреонов                                     г) прекращение уничтожения лесов                                       д) противостояние росту городов                                           е) уменьшение сжигания нефтепродуктов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476280"/>
            <a:ext cx="86421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ОТВЕ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1.    1 – АВГЕЖ,  2-Г,  3-Б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2.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3.  1-АВГДЕ, 2-Е, 3-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4.  1-Е, 2-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5. А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39:03Z</dcterms:created>
  <dc:creator>Aleksey</dc:creator>
  <dc:description/>
  <dc:language>en-US</dc:language>
  <cp:lastModifiedBy>Aleksey</cp:lastModifiedBy>
  <dcterms:modified xsi:type="dcterms:W3CDTF">2008-11-27T18:58:5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50000000000010250300207f7000400038000</vt:lpwstr>
  </property>
</Properties>
</file>