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8.png" ContentType="image/png"/>
  <Override PartName="/ppt/media/image9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982-82A3-4711-A64A-69547C8A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EC9-8AA5-48C6-ADCA-CA8F9B66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CBC-F9A6-4F73-90AA-7BFC4AA8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AF1-21EE-4287-ABBD-3A934671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000-2F68-4163-BE39-9FD72E70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441-9A87-4095-8EAA-75BB9BC7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0FA-7C1E-4BF9-902F-385AE1E8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286-4C09-4E4C-AD8E-C7AB70DC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1E9-3053-4140-824E-E9D0A86E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047-7BCD-4035-9F52-D2A79154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AD1-6708-4585-86C9-D6AE1F0E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DC4-F4CA-494D-9676-2C592D1E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C71B-8546-49B0-BD1B-FB453B28D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ТЕМПЕРАТУР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рок географии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немесячная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3840" y="571680"/>
            <a:ext cx="85726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нварь             -1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враль          -13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т                  -7.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рель             +2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й                   1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юнь                 16.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юль                 18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густ               15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нтябрь            9.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тябрь              1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ябрь              -6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абрь            12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ДОВОЙ ХОД  ТЕМПЕРАТУРЫ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p35_2_1"/>
          <p:cNvPicPr/>
          <p:nvPr/>
        </p:nvPicPr>
        <p:blipFill>
          <a:blip r:embed="rId1"/>
          <a:stretch/>
        </p:blipFill>
        <p:spPr>
          <a:xfrm>
            <a:off x="826920" y="1557360"/>
            <a:ext cx="7921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, получаемое земной поверхностью от Солнца  изменяется в течении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.03    22.06   23.09     22.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ден.       3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5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3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ня              12час     17 час   12 час   6.5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5726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довая амплитуда колебания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воздух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ость между температурой самого теплого месяца и самого холод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ТМОСФЕРНОЕ Д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142920" y="4572000"/>
            <a:ext cx="3000240" cy="15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2357280" y="2643120"/>
            <a:ext cx="3000600" cy="15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5715000" y="1857240"/>
            <a:ext cx="3000240" cy="1500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8"/>
          <p:cNvCxnSpPr/>
          <p:nvPr/>
        </p:nvCxnSpPr>
        <p:spPr>
          <a:xfrm flipH="1">
            <a:off x="570960" y="1856880"/>
            <a:ext cx="1143720" cy="200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9"/>
          <p:cNvCxnSpPr/>
          <p:nvPr/>
        </p:nvCxnSpPr>
        <p:spPr>
          <a:xfrm>
            <a:off x="6428880" y="1071360"/>
            <a:ext cx="78660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10"/>
          <p:cNvCxnSpPr/>
          <p:nvPr/>
        </p:nvCxnSpPr>
        <p:spPr>
          <a:xfrm>
            <a:off x="4142160" y="1499760"/>
            <a:ext cx="7236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TextBox 16"/>
          <p:cNvSpPr/>
          <p:nvPr/>
        </p:nvSpPr>
        <p:spPr>
          <a:xfrm>
            <a:off x="285840" y="49291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ИЖ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40,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2714760" y="314316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М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60 мм.рт.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6143760" y="221472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80,7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3429000" y="4500720"/>
            <a:ext cx="52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ъеме на 10,5 м атмосферное давление понижается на 1 мм.рт.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РО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3" descr="барометр 1.jpg"/>
          <p:cNvPicPr/>
          <p:nvPr/>
        </p:nvPicPr>
        <p:blipFill>
          <a:blip r:embed="rId1"/>
          <a:stretch/>
        </p:blipFill>
        <p:spPr>
          <a:xfrm>
            <a:off x="2428920" y="1738440"/>
            <a:ext cx="4286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Т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85840" y="1599840"/>
            <a:ext cx="8572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Высота вашего населенного пункта - 2000 м над уровнем моря. Высчитайте атмосферное давление на данной высо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Летчик поднялся на высоту 2 км. Каково атмосферное давление воздуха на этой высоте, если у поверхности земли оно равнялось 750 мм рт. ст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)2000: 10,5 = 19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) 750-194 = 556 мм рт. ст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56 мм рт. с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760" y="35676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Какова высота горы, если у подножья атмосферное давление 765 мм рт. ст., а на вершине 720 мм рт. ст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На вершине горы высотой 3,5 км. барометр показал 720 мм рт. ст. Каково давление у поднож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9298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МПЕРАТУ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ОЗДУХА-ЭТО  СТЕПЕНЬ  НАГРЕТОСТИ ВОЗДУХ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571760" y="2500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34_1_2"/>
          <p:cNvPicPr/>
          <p:nvPr/>
        </p:nvPicPr>
        <p:blipFill>
          <a:blip r:embed="rId1"/>
          <a:stretch/>
        </p:blipFill>
        <p:spPr>
          <a:xfrm>
            <a:off x="214200" y="2928960"/>
            <a:ext cx="6408720" cy="3714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6786720" y="2000160"/>
            <a:ext cx="214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мометр представляет капиллярную трубку, припаянную к резервуару, -наполненному жидкостью: ртуть, спирт и т. д. Капиллярная трубка прикреплена непосредственна к планке, на которой нанесена шкала термо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3571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Шахта глубиной 200 м, на поверхности атмосферное давление 752 мм рт. ст. Найти давление на дне шах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. На дне шахты барометр зафиксировал давление 780 мм рт. ст., у поверхности земли - 760 мм рт. ст. Найти глубину шах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Охота» за пятер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bd05680_"/>
          <p:cNvPicPr/>
          <p:nvPr/>
        </p:nvPicPr>
        <p:blipFill>
          <a:blip r:embed="rId1"/>
          <a:stretch/>
        </p:blipFill>
        <p:spPr>
          <a:xfrm>
            <a:off x="0" y="1857240"/>
            <a:ext cx="3809880" cy="3017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357720" y="990720"/>
            <a:ext cx="531468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Если приложить плотно к губам зеленый лист с дерева и быстро втянуть воздух, то лист с треском разрывается.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 Почему вода поднимается вверх, когда ее втягивают через соломин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85840" y="285840"/>
            <a:ext cx="471492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  Почему в открытом манометре уровни однородной жидкости в обоих коленах сосуда одинако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 Барометр зафиксировал увеличение давления на 10 мм рт. ст. Как изменилась высота вертолета над Зем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857840" y="357120"/>
            <a:ext cx="4286160" cy="69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Почему стакан, вымытый теплой водой и опрокинутый на покрытый клеенкой стол, плотно пристает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 На поверхности Земли атмосферное давление равно примерно 103000Па. Почему мы не чувствуем этог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вления на наше те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bs02064_"/>
          <p:cNvPicPr/>
          <p:nvPr/>
        </p:nvPicPr>
        <p:blipFill>
          <a:blip r:embed="rId1"/>
          <a:stretch/>
        </p:blipFill>
        <p:spPr>
          <a:xfrm>
            <a:off x="571680" y="2286000"/>
            <a:ext cx="1720800" cy="17128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3429000" y="1643040"/>
            <a:ext cx="4929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 Через нос проходит 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д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братный держит пу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невидимый и все ж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з него мы жить не можем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  На стене висит тарел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тарелке ходит стрел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 стрелка наперед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м погоду узн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    Возьмите пластиковую бутылку, не обязательно большую. Закройте пробкой и облейте горячей водой. Посмотрите на нее через некоторое время. Что вы обнаруж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зь атмосферного давления и самочувствия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еорологическая служ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гревание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00040" y="185724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нечные лучи —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мной поверхнос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785880" y="2571840"/>
            <a:ext cx="714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 НАГРЕВАЕТСЯ  ЗЕМЛЯ И ВОЗД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ше всего после полудня, т. к, земная поверхность уже нагрелась и начала отдавать свое тепло воздух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полдень земля еще не отдает тепло, т. к. нагревается с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иже всего температура ближе к утренним час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это время и земля, и воздух остыли, а солнечные лучи еще не начали нагревать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МПЛИТУДА</a:t>
            </a:r>
            <a:br>
              <a:rPr sz="3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ИЦА МЕЖ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й высокой и са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ой температурой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= 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 -  t</a:t>
            </a: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min</a:t>
            </a: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66cc"/>
                </a:solidFill>
                <a:latin typeface="Arial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cc"/>
                </a:solidFill>
                <a:latin typeface="Arial"/>
              </a:rPr>
              <a:t>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5" descr=""/>
          <p:cNvPicPr/>
          <p:nvPr/>
        </p:nvPicPr>
        <p:blipFill>
          <a:blip r:embed="rId1"/>
          <a:stretch/>
        </p:blipFill>
        <p:spPr>
          <a:xfrm>
            <a:off x="1262160" y="3090960"/>
            <a:ext cx="14144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6760" y="499680"/>
            <a:ext cx="7929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 суточная темп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ЕЕ АРИФМЕТИЧЕС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всех измерений в течении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й температур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ГОРИТМ ВЫЧИСЛ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ложить все числа с « +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Сложить все числа с « -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Из большей величины вычитают меньш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олученный результат делят на число измер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mp00640_"/>
          <p:cNvPicPr/>
          <p:nvPr/>
        </p:nvPicPr>
        <p:blipFill>
          <a:blip r:embed="rId1"/>
          <a:stretch/>
        </p:blipFill>
        <p:spPr>
          <a:xfrm>
            <a:off x="6629400" y="2571840"/>
            <a:ext cx="25146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ре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.01     -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-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-2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-2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3.03      -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+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.09      -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-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+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час      6час    12час   24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ре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.01     -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-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-2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-2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-22,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3.03      -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+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+0,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.09      -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-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+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-1,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0час      6час    12час   24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ТОЧНЫЙ  ХОД  ТЕМПЕРАТУРЫ  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1" name="Picture 4" descr="p35_1_1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няя месячная темп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ЯЯ МЕСЯЧНАЯ ТЕМП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ММЕ  СРЕДНЕСУТОЧН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« : 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 КОЛИЧЕСТВО СУТОК В МЕСЯ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0:07:44Z</dcterms:created>
  <dc:creator>Admin</dc:creator>
  <dc:description/>
  <dc:language>en-US</dc:language>
  <cp:lastModifiedBy>Admin</cp:lastModifiedBy>
  <dcterms:modified xsi:type="dcterms:W3CDTF">2009-04-05T14:07:05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60000000000010250300207f7000400038000</vt:lpwstr>
  </property>
</Properties>
</file>