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png" ContentType="image/pn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602-DE28-4523-8227-38A8E288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932-9848-4982-A390-9258C695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248-4CFA-4778-B44B-E2FEB04B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76A-81F8-4F88-821B-04FC18CE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BDF-5374-4ECD-851E-5621A5B4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1EB-E35C-405B-8B26-1EEAEB8C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146-4770-4E9D-92D3-A729C644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908-2A5F-4DF8-9FDB-0351274A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DF0-1392-4B93-B21A-4A8800BC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70E-83F0-4FA8-9C2F-5ACBD3E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4D0-3215-42C2-BB70-AB03C56B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D1F-8A84-4F58-9E3D-CB7CA13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404B-648F-4818-8E78-7E5CDB588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рок географ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емесячна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571680"/>
            <a:ext cx="8572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нварь             -1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          -1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                  -7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рель             +2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                   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нь                 16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ль                 18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густ               15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тябрь            9.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              1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ябрь              -6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абрь            12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ДОВОЙ ХОД  ТЕМПЕРАТУРЫ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35_2_1"/>
          <p:cNvPicPr/>
          <p:nvPr/>
        </p:nvPicPr>
        <p:blipFill>
          <a:blip r:embed="rId1"/>
          <a:stretch/>
        </p:blipFill>
        <p:spPr>
          <a:xfrm>
            <a:off x="826920" y="1557360"/>
            <a:ext cx="7921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, получаемое земной поверхностью от Солнца  изменяется в течении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.03    22.06   23.09     22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ден.       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5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3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я              12час     17 час   12 час   6.5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72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довая амплитуда колебани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воздух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сть между температурой самого теплого месяца и самого хол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ТМОСФЕРНОЕ Д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142920" y="4572000"/>
            <a:ext cx="300024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357280" y="2643120"/>
            <a:ext cx="300060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5715000" y="1857240"/>
            <a:ext cx="3000240" cy="150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8"/>
          <p:cNvCxnSpPr/>
          <p:nvPr/>
        </p:nvCxnSpPr>
        <p:spPr>
          <a:xfrm flipH="1">
            <a:off x="570960" y="1856880"/>
            <a:ext cx="1143720" cy="200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9"/>
          <p:cNvCxnSpPr/>
          <p:nvPr/>
        </p:nvCxnSpPr>
        <p:spPr>
          <a:xfrm>
            <a:off x="6428880" y="1071360"/>
            <a:ext cx="7866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0"/>
          <p:cNvCxnSpPr/>
          <p:nvPr/>
        </p:nvCxnSpPr>
        <p:spPr>
          <a:xfrm>
            <a:off x="4142160" y="1499760"/>
            <a:ext cx="7236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Box 16"/>
          <p:cNvSpPr/>
          <p:nvPr/>
        </p:nvSpPr>
        <p:spPr>
          <a:xfrm>
            <a:off x="28584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40,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2714760" y="314316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60 мм.рт.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6143760" y="2214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80,7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3429000" y="450072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ъеме на 10,5 м атмосферное давление понижается на 1 мм.рт.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О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барометр 1.jpg"/>
          <p:cNvPicPr/>
          <p:nvPr/>
        </p:nvPicPr>
        <p:blipFill>
          <a:blip r:embed="rId1"/>
          <a:stretch/>
        </p:blipFill>
        <p:spPr>
          <a:xfrm>
            <a:off x="2428920" y="1738440"/>
            <a:ext cx="4286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840" y="1599840"/>
            <a:ext cx="857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Высота вашего населенного пункта - 2000 м над уровнем моря. Высчитайте атмосферное давление на данной выс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Летчик поднялся на высоту 2 км. Каково атмосферное давление воздуха на этой высоте, если у поверхности земли оно равнялось 750 мм рт. ст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)2000: 10,5 = 19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) 750-194 = 556 мм рт. с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56 мм рт. с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760" y="35676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Какова высота горы, если у подножья атмосферное давление 765 мм рт. ст., а на вершине 720 мм рт. ст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На вершине горы высотой 3,5 км. барометр показал 720 мм рт. ст. Каково давление у поднож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ОЗДУХА-ЭТО  СТЕПЕНЬ  НАГРЕТОСТИ ВОЗДУХ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571760" y="2500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34_1_2"/>
          <p:cNvPicPr/>
          <p:nvPr/>
        </p:nvPicPr>
        <p:blipFill>
          <a:blip r:embed="rId1"/>
          <a:stretch/>
        </p:blipFill>
        <p:spPr>
          <a:xfrm>
            <a:off x="214200" y="2928960"/>
            <a:ext cx="6408720" cy="3714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786720" y="2000160"/>
            <a:ext cx="214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ометр представляет капиллярную трубку, припаянную к резервуару, -наполненному жидкостью: ртуть, спирт и т. д. Капиллярная трубка прикреплена непосредственна к планке, на которой нанесена шкала термо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Шахта глубиной 200 м, на поверхности атмосферное давление 752 мм рт. ст. Найти давление на дне шах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На дне шахты барометр зафиксировал давление 780 мм рт. ст., у поверхности земли - 760 мм рт. ст. Найти глубину шах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Охота» за пятер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d05680_"/>
          <p:cNvPicPr/>
          <p:nvPr/>
        </p:nvPicPr>
        <p:blipFill>
          <a:blip r:embed="rId1"/>
          <a:stretch/>
        </p:blipFill>
        <p:spPr>
          <a:xfrm>
            <a:off x="0" y="1857240"/>
            <a:ext cx="3809880" cy="3017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357720" y="990720"/>
            <a:ext cx="531468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Если приложить плотно к губам зеленый лист с дерева и быстро втянуть воздух, то лист с треском разрывается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Почему вода поднимается вверх, когда ее втягивают через соломи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85840" y="285840"/>
            <a:ext cx="471492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 Почему в открытом манометре уровни однородной жидкости в обоих коленах сосуда одинако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Барометр зафиксировал увеличение давления на 10 мм рт. ст. Как изменилась высота вертолета над Зем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857840" y="357120"/>
            <a:ext cx="42861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Почему стакан, вымытый теплой водой и опрокинутый на покрытый клеенкой стол, плотно пристает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 На поверхности Земли атмосферное давление равно примерно 103000Па. Почему мы не чувствуем этог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ления на наше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s02064_"/>
          <p:cNvPicPr/>
          <p:nvPr/>
        </p:nvPicPr>
        <p:blipFill>
          <a:blip r:embed="rId1"/>
          <a:stretch/>
        </p:blipFill>
        <p:spPr>
          <a:xfrm>
            <a:off x="571680" y="228600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3429000" y="1643040"/>
            <a:ext cx="4929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 Через нос проходит 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д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братный держит пу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евидимый и все 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него мы жить не можем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На стене висит тарел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арелке ходит стрел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 стрелка напере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м погоду у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    Возьмите пластиковую бутылку, не обязательно большую. Закройте пробкой и облейте горячей водой. Посмотрите на нее через некоторое время. Что вы обнаруж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ь атмосферного давления и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еорологическая служ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гревание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00040" y="18572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нечные лучи —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ной поверх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785880" y="2571840"/>
            <a:ext cx="714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НАГРЕВАЕТСЯ  ЗЕМЛЯ И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ше всего после полудня, т. к, земная поверхность уже нагрелась и начала отдавать свое тепло возду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олдень земля еще не отдает тепло, т. к. нагревается с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же всего температура ближе к утренним ча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 время и земля, и воздух остыли, а солнечные лучи еще не начали нагревать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МПЛИТУДА</a:t>
            </a:r>
            <a:br>
              <a:rPr sz="3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ИЦА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й высокой и са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ой температурой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= 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-  t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in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cc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</a:rPr>
              <a:t>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1262160" y="3090960"/>
            <a:ext cx="1414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6760" y="499680"/>
            <a:ext cx="7929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 суточная 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Е АРИФМЕТ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всех измерений в течении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й температур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ВЫЧИСЛ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ложить все числа с « +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ложить все числа с « -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Из большей величины вычитают меньш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енный результат делят на число изме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00640_"/>
          <p:cNvPicPr/>
          <p:nvPr/>
        </p:nvPicPr>
        <p:blipFill>
          <a:blip r:embed="rId1"/>
          <a:stretch/>
        </p:blipFill>
        <p:spPr>
          <a:xfrm>
            <a:off x="6629400" y="2571840"/>
            <a:ext cx="25146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01     -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-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-2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3.03      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.09      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час      6час    12час   24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01     -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-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-2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-22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3.03      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+0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.09      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-1,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час      6час    12час   24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ТОЧНЫЙ  ХОД  ТЕМПЕРАТУРЫ  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1" name="Picture 4" descr="p35_1_1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яя месячная 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МЕСЯЧНАЯ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Е  СРЕДНЕСУТОЧН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« : 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 КОЛИЧЕСТВО СУТОК В МЕСЯ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0:07:44Z</dcterms:created>
  <dc:creator>Admin</dc:creator>
  <dc:description/>
  <dc:language>en-US</dc:language>
  <cp:lastModifiedBy>Admin</cp:lastModifiedBy>
  <dcterms:modified xsi:type="dcterms:W3CDTF">2009-04-05T14:07:05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60000000000010250300207f7000400038000</vt:lpwstr>
  </property>
</Properties>
</file>