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2A3-675D-4C04-BAB4-AA573851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D4F-9F40-457D-BEAA-619C9D4B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28D-E1D4-4CC7-9B9E-E6E49E24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466-96DA-4D57-98F1-149FB733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26D7-F392-4227-9254-C00D9E83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A92-DD1B-4E6B-B262-9C7D843B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F984-C128-421D-8BBA-82199563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31C5-870A-4E8B-BD18-F2C53368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427A-BA6B-4D34-8DB8-067B5005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14E3-4A0C-4BAD-A1FE-79FB96C4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7B07-205A-4C3F-93D3-3EAAAEBF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307-B971-4D6B-A678-49A255E5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E21C-7F2F-431A-81A7-7B679C54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F03C-247B-4066-9D7A-A1C5433B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B9CA-AB1A-48DD-86A3-50181F10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BED0-E233-442B-8EDC-791298D0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3AC5-FDD5-442D-9FD5-F9154EDC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15A-C677-4A68-B10B-0EFA747A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CDB-94C6-4911-AEAC-8422B33A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E40-75EF-48DD-B634-468DFEB3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95F-EFCF-4667-A633-6FECCC20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809-2808-4E84-81D0-2DBFC02E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090-D298-4D09-A366-953AA12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CC6-AABB-44F4-B502-D0DC5F4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9AC9-32A0-457C-83F1-D2373DBEBC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76C9-FAAE-4D8F-BAC9-151BC30B0C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17.privet.ru/lr/0a046415ce066a1de21f77d858c10c43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issen.narod.ru/foto/taiga/ft02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lubnps.ru/uploads/posts/2010-06/1275366848_tajg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 Black"/>
              </a:rPr>
              <a:t>Тайга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Учитель МБОУ СОШ №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Чертова Галина Вячеславо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0448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72000" y="671400"/>
            <a:ext cx="3457440" cy="2757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2033640" y="342900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Запасы сибирского кедра России- «ореховой сосны»- занимают 99% мировых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04920" y="1824120"/>
            <a:ext cx="3924360" cy="3209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42577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Животный мир тайг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5077080" cy="3371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09480" y="307800"/>
            <a:ext cx="3962520" cy="295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4572000" y="457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81040" y="928800"/>
            <a:ext cx="3990960" cy="25002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2648160" cy="22096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2438280" cy="23432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1066680" y="342900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3809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686040" cy="2819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1371600" y="411480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Тип расселения населения-очаговы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962520" cy="2567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952880" y="160020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1066680" y="3886200"/>
            <a:ext cx="3810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488880"/>
            <a:ext cx="85406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Виды деятельности: охота. рыболовство , лесозаготовка, очаговое земледелие</a:t>
            </a:r>
            <a:br>
              <a:rPr sz="4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8920"/>
            <a:ext cx="5076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33320" y="914400"/>
            <a:ext cx="4905360" cy="33526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36100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6799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960" y="1204920"/>
            <a:ext cx="76960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857760" y="2909880"/>
            <a:ext cx="42195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еографическое положение тайг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8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038480" cy="3359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28600" y="276120"/>
            <a:ext cx="853452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Реки тайги всегда полновод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762360" cy="2404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352680" y="3809880"/>
            <a:ext cx="4267440" cy="28195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581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Тайга делится на два тип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Темнохвойная :              Светлохвойна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европейская часть           восточн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33520" y="2752560"/>
            <a:ext cx="2895480" cy="2733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181480" y="2971800"/>
            <a:ext cx="3124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3-03-02T18:08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f0000000000010250300207f7000400038000</vt:lpwstr>
  </property>
  <property fmtid="{D5CDD505-2E9C-101B-9397-08002B2CF9AE}" pid="3" name="Version">
    <vt:r8>1</vt:r8>
  </property>
</Properties>
</file>