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7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3E14-DDC4-477F-8601-B39C5369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83DB-80DB-4284-B79A-A955FC0E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4C4B-2387-4938-9ECC-0550D708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3D4C-1982-454E-84D1-A3743095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FEAF-8367-4D64-88E0-F395E21E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B957-0D71-47B7-948B-AC62833C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FD78-1D6E-412D-AAD6-ADE9F2D7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5527-7093-489B-A2AE-EC08310B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EE47-5BF4-4EE8-B489-7618E92E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0A53-05E4-422A-900E-9624EE46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772E-00EB-4520-92B5-0B37D39E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7073-6702-4641-B910-36237492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92E4-E2AF-4C0D-B532-DF1E8F3A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B002-95AF-4838-AA8E-71E4D06F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2960-5150-4BC8-AF48-1EBFD574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9488-F090-4457-86DF-99549B6C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9F80-FFD3-41E2-9AC0-9CA929A3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0D7E-55CA-4D7D-B29D-539886AC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C708-1FDE-4E14-9C30-8C2AA9B1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6564-1D2A-4FDE-B736-7FE014AA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C8A4-9ECF-4737-941B-82900692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18EE-48E1-41AF-99BC-A65083D1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8381-38C0-4605-962D-D1B27E5D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8CFB-0C2C-4BC0-849E-99F242E6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0000"/>
                  </a:gs>
                  <a:gs pos="100000">
                    <a:srgbClr val="86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790000"/>
                  </a:gs>
                  <a:gs pos="50000">
                    <a:srgbClr val="860000"/>
                  </a:gs>
                  <a:gs pos="100000">
                    <a:srgbClr val="79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A745-DD7D-46A1-9C42-ED1BD8B950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0000"/>
                  </a:gs>
                  <a:gs pos="100000">
                    <a:srgbClr val="86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790000"/>
                  </a:gs>
                  <a:gs pos="50000">
                    <a:srgbClr val="860000"/>
                  </a:gs>
                  <a:gs pos="100000">
                    <a:srgbClr val="79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A24F-D005-4F98-A4DB-21069133944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tat17.privet.ru/lr/0a046415ce066a1de21f77d858c10c43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issen.narod.ru/foto/taiga/ft02.jpg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lubnps.ru/uploads/posts/2010-06/1275366848_tajga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00"/>
                </a:solidFill>
                <a:latin typeface="Arial Black"/>
              </a:rPr>
              <a:t>Тайга</a:t>
            </a: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</a:t>
            </a: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Учитель МБОУ СОШ №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Чертова Галина Вячеславов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04488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4572000" y="671400"/>
            <a:ext cx="3457440" cy="27576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2033640" y="3429000"/>
            <a:ext cx="50767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Запасы сибирского кедра России- «ореховой сосны»- занимают 99% мировых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304920" y="1824120"/>
            <a:ext cx="3924360" cy="32097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4495680" y="2438280"/>
            <a:ext cx="42577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Животный мир тайг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37160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895480" y="3429000"/>
            <a:ext cx="5077080" cy="33717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609480" y="307800"/>
            <a:ext cx="3962520" cy="29592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4572000" y="45720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81040" y="928800"/>
            <a:ext cx="3990960" cy="25002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5638680" y="1219320"/>
            <a:ext cx="2648160" cy="22096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2438280" cy="23432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1066680" y="3429000"/>
            <a:ext cx="35053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962520" cy="38098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3657600" cy="28195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4876920" y="3429000"/>
            <a:ext cx="3686040" cy="28195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4"/>
          <a:stretch/>
        </p:blipFill>
        <p:spPr>
          <a:xfrm>
            <a:off x="1371600" y="4114800"/>
            <a:ext cx="3657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Tahoma"/>
              </a:rPr>
              <a:t>Тип расселения населения-очаговы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276720" cy="243828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4800600" y="3581280"/>
            <a:ext cx="3962520" cy="25671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4952880" y="1600200"/>
            <a:ext cx="3353040" cy="19810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4"/>
          <a:stretch/>
        </p:blipFill>
        <p:spPr>
          <a:xfrm>
            <a:off x="1066680" y="3886200"/>
            <a:ext cx="3810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488880"/>
            <a:ext cx="85406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Виды деятельности: охота. рыболовство , лесозаготовка, очаговое земледелие</a:t>
            </a:r>
            <a:br>
              <a:rPr sz="40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3640" y="1528920"/>
            <a:ext cx="50767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733320" y="914400"/>
            <a:ext cx="4905360" cy="33526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4495680" y="3429000"/>
            <a:ext cx="361008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762120" y="876240"/>
            <a:ext cx="6799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960" y="1204920"/>
            <a:ext cx="76960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38005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3857760" y="2909880"/>
            <a:ext cx="421956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Географическое положение тайг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162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381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038480" cy="33591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5076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28600" y="276120"/>
            <a:ext cx="853452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Реки тайги всегда полноводн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3762360" cy="24048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3352680" y="3809880"/>
            <a:ext cx="4267440" cy="28195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5105520" y="1828800"/>
            <a:ext cx="35812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Тайга делится на два типа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Темнохвойная :              Светлохвойна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европейская часть           восточная ча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33520" y="2752560"/>
            <a:ext cx="2895480" cy="27338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5181480" y="2971800"/>
            <a:ext cx="3124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3-03-02T18:08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a0f0000000000010250300207f7000400038000</vt:lpwstr>
  </property>
  <property fmtid="{D5CDD505-2E9C-101B-9397-08002B2CF9AE}" pid="3" name="Version">
    <vt:r8>1</vt:r8>
  </property>
</Properties>
</file>