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37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0.jpeg" ContentType="image/jpeg"/>
  <Override PartName="/ppt/media/image29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F2C8-8220-4ECE-87AA-F693A3D53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EDD0-7C27-4C9A-93EF-C772D947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AB59-0A30-445E-AC53-4526D14C7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ABA8-19FB-4F47-BC79-87D74DEFC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82B5-F620-4012-83E6-A34C0619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9673-A3D7-4D30-9A4A-DD874112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6D61-BA03-448C-BBD4-96BCA463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E306-BBF2-4F4A-95ED-79E7EB83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33E4-A67E-49C2-9C31-288FEA6D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4C1C-AE1B-4432-BC2B-FE2BE22D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FFFE-70D6-42E3-802A-DC1DDD94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9961-E0E3-4D81-970E-1C465B55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F89A-A204-4DE1-868B-2780DC67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DD6E-03FF-4A00-81FA-A5E0134E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4899-69DC-4723-8382-C7C710B4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90B3-76F0-4CCB-9C21-9A3FB0754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73D4-037D-4206-BDB7-FC99146AB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E57E-E256-4B1F-A385-EDE650D0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1EAA-1D11-4EBA-ABA8-363A2F50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6884-486F-44B7-9C1E-62EEF9AB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767B-E330-4C60-AAC1-6DC45884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F97F-523E-4140-9383-28AEF9D5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BDEA-B721-4C97-8B4E-FBA85EF5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3E15-AC3D-4F58-BF8F-C4660B43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0000"/>
                  </a:gs>
                  <a:gs pos="100000">
                    <a:srgbClr val="86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790000"/>
                  </a:gs>
                  <a:gs pos="50000">
                    <a:srgbClr val="860000"/>
                  </a:gs>
                  <a:gs pos="100000">
                    <a:srgbClr val="79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7F68-D373-4EE7-B99F-D7C32087BE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86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8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0000"/>
                  </a:gs>
                  <a:gs pos="100000">
                    <a:srgbClr val="86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790000"/>
                  </a:gs>
                  <a:gs pos="50000">
                    <a:srgbClr val="860000"/>
                  </a:gs>
                  <a:gs pos="100000">
                    <a:srgbClr val="79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E209-0E98-489F-8D6D-4C94534872D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tat17.privet.ru/lr/0a046415ce066a1de21f77d858c10c43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nissen.narod.ru/foto/taiga/ft02.jpg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lubnps.ru/uploads/posts/2010-06/1275366848_tajga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00"/>
                </a:solidFill>
                <a:latin typeface="Arial Black"/>
              </a:rPr>
              <a:t>Тайга</a:t>
            </a:r>
            <a:endParaRPr b="0" lang="en-US" sz="8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</a:t>
            </a: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Учитель МБОУ СОШ №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Чертова Галина Вячеславовн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304488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4572000" y="671400"/>
            <a:ext cx="3457440" cy="27576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"/>
          <a:stretch/>
        </p:blipFill>
        <p:spPr>
          <a:xfrm>
            <a:off x="2033640" y="3429000"/>
            <a:ext cx="50767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Запасы сибирского кедра России- «ореховой сосны»- занимают 99% мировых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304920" y="1824120"/>
            <a:ext cx="3924360" cy="320976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4495680" y="2438280"/>
            <a:ext cx="425772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Животный мир тайг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371600"/>
            <a:ext cx="5076720" cy="33814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8098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2895480" y="3429000"/>
            <a:ext cx="5077080" cy="337176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609480" y="307800"/>
            <a:ext cx="3962520" cy="29592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3"/>
          <a:stretch/>
        </p:blipFill>
        <p:spPr>
          <a:xfrm>
            <a:off x="4572000" y="457200"/>
            <a:ext cx="4114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581040" y="928800"/>
            <a:ext cx="3990960" cy="25002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5638680" y="1219320"/>
            <a:ext cx="2648160" cy="220968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2438280" cy="234324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1066680" y="3429000"/>
            <a:ext cx="35053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962520" cy="380988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4419720" y="609480"/>
            <a:ext cx="3657600" cy="281952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4876920" y="3429000"/>
            <a:ext cx="3686040" cy="281952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4"/>
          <a:stretch/>
        </p:blipFill>
        <p:spPr>
          <a:xfrm>
            <a:off x="1371600" y="4114800"/>
            <a:ext cx="3657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Tahoma"/>
              </a:rPr>
              <a:t>Тип расселения населения-очаговы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276720" cy="243828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4800600" y="3581280"/>
            <a:ext cx="3962520" cy="256716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4952880" y="1600200"/>
            <a:ext cx="3353040" cy="198108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4"/>
          <a:stretch/>
        </p:blipFill>
        <p:spPr>
          <a:xfrm>
            <a:off x="1066680" y="3886200"/>
            <a:ext cx="38102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488880"/>
            <a:ext cx="85406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Виды деятельности: охота. рыболовство , лесозаготовка, очаговое земледелие</a:t>
            </a:r>
            <a:br>
              <a:rPr sz="40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33640" y="1528920"/>
            <a:ext cx="5076720" cy="38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733320" y="914400"/>
            <a:ext cx="4905360" cy="335268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4495680" y="3429000"/>
            <a:ext cx="361008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762120" y="876240"/>
            <a:ext cx="6799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960" y="1204920"/>
            <a:ext cx="769608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380052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3857760" y="2909880"/>
            <a:ext cx="421956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Географическое положение тайг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162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381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4038480" cy="335916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50767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228600" y="276120"/>
            <a:ext cx="8534520" cy="630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Реки тайги всегда полноводн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3762360" cy="240480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3352680" y="3809880"/>
            <a:ext cx="4267440" cy="281952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5105520" y="1828800"/>
            <a:ext cx="35812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Тайга делится на два типа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Темнохвойная :              Светлохвойна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европейская часть           восточная ча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533520" y="2752560"/>
            <a:ext cx="2895480" cy="273384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5181480" y="2971800"/>
            <a:ext cx="31244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</cp:lastModifiedBy>
  <dcterms:modified xsi:type="dcterms:W3CDTF">2013-03-02T18:08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a0f0000000000010250300207f7000400038000</vt:lpwstr>
  </property>
  <property fmtid="{D5CDD505-2E9C-101B-9397-08002B2CF9AE}" pid="3" name="Version">
    <vt:r8>1</vt:r8>
  </property>
</Properties>
</file>