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EA5-F1F6-4EB1-9778-982E178B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067-5989-40FA-AE2D-767B7AE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316-73F0-40C0-8FEF-6475A03D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B6A-1265-454D-90B2-74078F64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FF0-C28E-48B6-ADFC-AD4984E2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FC3-25D1-4364-91A5-023719D4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87B-01C8-42F6-84AF-AD85FE2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EE0-F1A1-4596-B114-FAF9418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F92-FE9D-40FF-A602-AAF5297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4FB-AA02-4D17-A2CF-EDB6A42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F0D-479B-4EEF-86D0-E46853D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79A-8B09-44BA-B691-59AEA66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862E-0F82-42F9-97B6-768CDE2DE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65240" y="390600"/>
            <a:ext cx="8886600" cy="4430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285840"/>
            <a:ext cx="8400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овременное «соседское» положение области можно оценить как благоприятное для функционирования и развития ее хозяйственного комплекса. Тюменская область своими поставками газа отчасти восполняет дефицит топливно-энергетического баланса и дефицит сырья для лесопромышленного комплекса. Пермский край и Башкортостан с их мощной нефтеперерабатывающей и нефтехимической промышленностью являются поставщиками нефтепродуктов и сырья для химической промышленности. Курганская область — важный источник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38160">
            <a:solidFill>
              <a:srgbClr val="ffff00"/>
            </a:solidFill>
            <a:prstDash val="lgDashDot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Соседи способствуют развитию в Свердловской области традиционных отраслей ее хозяйственного комплекса и выступают как потребители ее продукции: труб (нефтяная и газовая промышленность), оборудования для нефтехимических предприятий и п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ажное значение для развития хозяйственного комплекса Свердловской области имеет ее положение внутри  государства. Она расположена на стыке двух экономических зон, имеющих разный уровень экономического развития и разную специализацию хозяйства. В период индустриализации область явилась форпостом для индустриального развития восточных районов, что заставляло государство вкладывать в ее экономику значительные средства на модернизацию существующих отраслей промышленности (черная, цветная металлургия) и на развитие нов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(машиностроение, химическая промышл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нутреннее положение сказалось и в период Великой Отечественной войны. Отдаленность от театра военных действий — одна из причин эвакуации сюда многочисленных предприятий, что во многом изменило структуру хозяйства в целом и структуру машиностроительного комплекса в част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ерритория Свердловской области ввиду ее внутреннего положения между западной и восточной экономическими зонами обеспечивает транзитность связей между ними. Одновременно, благодаря транзитным транспортным артериям, и сама имеет широкие связи как с западной, так и с восточной зонами, получая сырье и топливо с востока, а продукцию обрабатывающей промышленности — с за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 настоящий момент внутриматериковое положение в отдалении от государственных границ несколько затрудняет развитие рыночных отношений с зарубежными ст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 u="sng">
                <a:solidFill>
                  <a:srgbClr val="ffff00"/>
                </a:solidFill>
                <a:uFillTx/>
                <a:latin typeface="Monotype Corsiva"/>
              </a:rPr>
              <a:t>Вывод: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mic Sans MS"/>
              </a:rPr>
              <a:t>ЭГП Свердловской области менялось в разные исторические периоды развития, но в целом его можно расценивать как благоприятное, способствующее развитию ее хозяйственного комплекс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блако 4"/>
          <p:cNvSpPr/>
          <p:nvPr/>
        </p:nvSpPr>
        <p:spPr>
          <a:xfrm>
            <a:off x="2143080" y="214200"/>
            <a:ext cx="5357880" cy="1214640"/>
          </a:xfrm>
          <a:prstGeom prst="pi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 ноября 1994 года областная Дума утвердила Устав Свердловской области, который гласил: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дловская область может иметь флаг и герб. Символы Свердловской области, их описание и порядок официального использования устанавливаются областными законами. Вскоре Дума Свердловской области учредила конкурсную комиссию по отбору проектов герба и флаг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ления 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 от 18 ноября 1994 года 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31 от 20 января 1995 года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43200" y="2999880"/>
            <a:ext cx="52149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Закон "О гербе и флаге Свердловской области" был принят Областной Думой Законодательного Собрания Свердловской области 11 марта 1997 года и одобрен Палатой Представителей Законодательного Собрания Свердловской области 3 апреля 1997 года. Губернатор области Э.Россель подписал Закон (№19-ОЗ) 14 апреля 1997 года. Автор проекта, признанного лучшим, Вячеслав Викторович Старц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2786040" cy="3500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429080" y="285840"/>
            <a:ext cx="4500720" cy="62863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но тексту закона герб обла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.Описание герб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изображение герба Свердловской области представляет собой изображение стоящего белого (серебряного соболя, держащего в лапах стрелу желтого (золотого) цвета остриём вниз, в центре щита червленого (красного) цвета. Щит обрамляют листья дуба золотого (желтого) цвета, перевитые голубой (лазурной) лентой, венчает щит корона желтого (золотого), красного и серебряного цветов. Внизу лента красного цвета с надписью "Свердловская область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льдическое описание герба Свердловской области гласи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(красном) поле серебряный обернувшийся соболь, держащий золотую стрелу остриём вниз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3929040" cy="5715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"полный" герб Свердловской области был создан А. Грефенштейном. Полный герб Свердловской области утверждён Законом Свердловской области "О внесении изменений в Областной закон "О гербе и флаге Свердловской области" (принят Областной Думой Законодательного Собрания Свердловской области Постановлением от 12.04.2005 № 1382-ПОД; Одобрен Палатой Представителей Законодательного Собрания Свердловской области Постановлением от 21.04.2005 № 438-ППП; Подписан губернатором Свердловской области). Описание герб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поле серебряный, стоящий на задних лапах соболь, держащий золотую стрелу, обращенную вниз. Щит увенчан золотой императорской короной. По сторонам щита золотые крылатые грифоны с флагами Свердловской области, стоящие на подножии из золотых кедровых ветвей. Девиз "ОПОРНЫЙ КРАЙ ДЕРЖАВЫ" начертан серебром на червленой ленте с желтыми каймами по краям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герб области утверждён тогда же. Его описани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вленом поле серебряный, стоящий на задних лапах соболь, держащий золотую стрелу, обращенную вниз. Щит увенчан золотой императорской короной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внесён в Государственный геральдический регистр под №1850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0" r="-86" b="122"/>
          <a:stretch/>
        </p:blipFill>
        <p:spPr>
          <a:xfrm>
            <a:off x="1714680" y="3786120"/>
            <a:ext cx="5286240" cy="292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Свердловской области представляет собой прямоугольное полотнище с четырьмя полосами во всю длину флага: сверху - белой, посередине - голубой (лазурной), снизу - зеленой, отделенной от голубой белой узкой полос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500120"/>
            <a:ext cx="85010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полос по общей ширине флага устанавливается как 7/20, 9/20, 1/20, 3/20. Отношение ширины флага к его длине - 2:3. В центре флага расположен полный герб Свердловской области на расстоянии 3/20 от верхнего края флага. Высота полного герба 1/2 ширины флага. Возможно воспроизведение и использование флага без изображения герба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и синий, представляя цвета Государственного флага России, подчеркивают, что Свердловская область - ее субъект. Кроме того, в соответствии с классической символикой белый означает чистоту, невинность, мир; голубой - верность, искренность, честь; зеленый - свободу, радость, надежду, здоровье, а также богатство уральско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117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991 года Свердловску было возвращено историческое имя - Екатеринбург. Современный герб Екатеринбурга был официально принят в Государственной Геральдии при Президенте Российской Федерации в 1995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00240" y="157140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яя часть щита похожа на крепость, которой был Екатеринбург в первые годы своего существования. Волнистая лазуревая полоса в нижней части - это река Исеть, соединяющая историю и современность, Европу и Азию. Медведь - европейский символ, соболь - азиатский. Более того, соболь еще при Демидовых был маркой уральского металла. Животные держат щит, высунув языки и оскалив зубы, - такое проявление агрессивности вполне объяснимо, ведь они охраняют город. Золотая лента в самом низу герба является признаком столичности Екатеринбурга - одного из крупнейших административных, финансово-промышленных, научно-культурных и транспортных центро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920" y="2214720"/>
            <a:ext cx="2857320" cy="3000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города Екатеринбург (проект 2003 г.) Автор - Д. Иванов, одобрен Геральдическим сове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143920" cy="5000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Общие сведения о Свердлов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dashDot"/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Свердловская область в современных границах образована 17 январ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1938 г., хотя на карте Российской Федерации появилась еще в 1934 г. Но тогда в ее состав входила территория Пермской области. В настоящее время Свердловская область поделена на 55 административных единиц: районов и территорий, подчиненных город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Вертикальный свиток 4"/>
          <p:cNvSpPr/>
          <p:nvPr/>
        </p:nvSpPr>
        <p:spPr>
          <a:xfrm>
            <a:off x="214200" y="1357200"/>
            <a:ext cx="8715600" cy="52149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Горизонтальный свиток 3"/>
          <p:cNvSpPr/>
          <p:nvPr/>
        </p:nvSpPr>
        <p:spPr>
          <a:xfrm>
            <a:off x="642960" y="142920"/>
            <a:ext cx="8001000" cy="1143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лощадь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7160" y="1599840"/>
            <a:ext cx="74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вердловская область одна из наиболее крупных административных территорий России. Ее площадь — 195 тыс. кв. км, что составляет 1,14% площади всей России (от 17075 тыс. кв. км). Область по площади сопоставима с отдельными государствами СНГ и некоторыми стра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Например: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Белоруссия имеет площадь 208 тыс.кв.км, Украина — 604, Киргизия — 198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зербайджан — 87, Казахстан — 2717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еликобритания — 244, Япония — 370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ермания — 356, Франция — 552 тыс.кв к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42:04Z</dcterms:created>
  <dc:creator>Томилина И.В.</dc:creator>
  <dc:description/>
  <dc:language>en-US</dc:language>
  <cp:lastModifiedBy>Санек</cp:lastModifiedBy>
  <dcterms:modified xsi:type="dcterms:W3CDTF">2011-09-10T12:38:01Z</dcterms:modified>
  <cp:revision>9</cp:revision>
  <dc:subject/>
  <dc:title>Свердлов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b0000000000010243100207f6000400038000</vt:lpwstr>
  </property>
</Properties>
</file>