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9.jpeg" ContentType="image/jpeg"/>
  <Override PartName="/ppt/media/image11.jpeg" ContentType="image/jpeg"/>
  <Override PartName="/ppt/media/image40.png" ContentType="image/png"/>
  <Override PartName="/ppt/media/image30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37.png" ContentType="image/png"/>
  <Override PartName="/ppt/media/image42.jpeg" ContentType="image/jpeg"/>
  <Override PartName="/ppt/media/image33.png" ContentType="image/png"/>
  <Override PartName="/ppt/media/image45.png" ContentType="image/pn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19D1-1855-4AD5-866D-AD642ED39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A357-1433-4BFA-A0DC-49D0CEB3F0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F7D-EFF5-4C46-BB60-D95592C0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695-40ED-42E0-AE64-9B94D19F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A0A-E48A-42C3-9A81-68E10344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6F5-23BC-4EDC-9556-ACE9ADA1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1EF-0815-4172-9A6A-8BBA91B3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85F-33C7-474C-B957-64147DA0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792-B891-473B-BCFA-A686B334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EBC-06DB-4BAF-9D08-CA75FA9E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D36-5505-4184-9B89-48D29BD8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B82-B0D7-4D48-A1F6-03AEFD90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B29-DB5E-40F7-A452-94CE15E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FBB-17EA-4AA4-9DD9-B30DC72F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C348-46E6-4C90-9373-3DB39F567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arctica_003"/>
          <p:cNvPicPr/>
          <p:nvPr/>
        </p:nvPicPr>
        <p:blipFill>
          <a:blip r:embed="rId1"/>
          <a:stretch/>
        </p:blipFill>
        <p:spPr>
          <a:xfrm>
            <a:off x="0" y="0"/>
            <a:ext cx="9252000" cy="6878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539640" y="57531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0040" y="5429160"/>
            <a:ext cx="813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258920" y="58244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258920" y="531324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sto MT"/>
              </a:rPr>
              <a:t>Суровая Арк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1000080" y="5572080"/>
            <a:ext cx="735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142920" y="142920"/>
            <a:ext cx="9001080" cy="657216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639520" y="62064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окружающего мира в 4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130480"/>
            <a:ext cx="770256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 подготовлена учителем начальных классов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ьватовой Т.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5660640"/>
            <a:ext cx="878544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ктическая пусты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природная зона, часть арктического географического пояса, бассейна Северного Ледовитого океана. Это самая северная из природных зон. Расположена на островах Северного Ледовитого океана и на крайнем севере полуострова Таймы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карта"/>
          <p:cNvPicPr/>
          <p:nvPr/>
        </p:nvPicPr>
        <p:blipFill>
          <a:blip r:embed="rId2"/>
          <a:stretch/>
        </p:blipFill>
        <p:spPr>
          <a:xfrm>
            <a:off x="179280" y="1197000"/>
            <a:ext cx="8805960" cy="431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Freeform 13"/>
          <p:cNvSpPr/>
          <p:nvPr/>
        </p:nvSpPr>
        <p:spPr>
          <a:xfrm>
            <a:off x="4726080" y="2039760"/>
            <a:ext cx="65160" cy="43200"/>
          </a:xfrm>
          <a:custGeom>
            <a:avLst/>
            <a:gdLst>
              <a:gd name="textAreaLeft" fmla="*/ 0 w 65160"/>
              <a:gd name="textAreaRight" fmla="*/ 65520 w 6516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41" h="27">
                <a:moveTo>
                  <a:pt x="33" y="11"/>
                </a:moveTo>
                <a:cubicBezTo>
                  <a:pt x="19" y="0"/>
                  <a:pt x="28" y="5"/>
                  <a:pt x="2" y="6"/>
                </a:cubicBezTo>
                <a:cubicBezTo>
                  <a:pt x="0" y="16"/>
                  <a:pt x="2" y="21"/>
                  <a:pt x="13" y="22"/>
                </a:cubicBezTo>
                <a:cubicBezTo>
                  <a:pt x="18" y="24"/>
                  <a:pt x="23" y="25"/>
                  <a:pt x="28" y="27"/>
                </a:cubicBezTo>
                <a:cubicBezTo>
                  <a:pt x="36" y="25"/>
                  <a:pt x="41" y="27"/>
                  <a:pt x="34" y="14"/>
                </a:cubicBezTo>
                <a:cubicBezTo>
                  <a:pt x="33" y="13"/>
                  <a:pt x="30" y="15"/>
                  <a:pt x="29" y="13"/>
                </a:cubicBezTo>
                <a:cubicBezTo>
                  <a:pt x="29" y="12"/>
                  <a:pt x="32" y="12"/>
                  <a:pt x="33" y="11"/>
                </a:cubicBezTo>
                <a:close/>
              </a:path>
            </a:pathLst>
          </a:custGeom>
          <a:solidFill>
            <a:srgbClr val="ecf7fa"/>
          </a:solidFill>
          <a:ln w="9360">
            <a:solidFill>
              <a:srgbClr val="ecf7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3419640" y="1989000"/>
            <a:ext cx="158760" cy="158760"/>
          </a:xfrm>
          <a:custGeom>
            <a:avLst/>
            <a:gdLst>
              <a:gd name="textAreaLeft" fmla="*/ 65520 w 158760"/>
              <a:gd name="textAreaRight" fmla="*/ 93240 w 158760"/>
              <a:gd name="textAreaTop" fmla="*/ 65520 h 158760"/>
              <a:gd name="textAreaBottom" fmla="*/ 9324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080" bIns="-19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4140360" y="1484280"/>
            <a:ext cx="164880" cy="144360"/>
          </a:xfrm>
          <a:custGeom>
            <a:avLst/>
            <a:gdLst>
              <a:gd name="textAreaLeft" fmla="*/ 68040 w 164880"/>
              <a:gd name="textAreaRight" fmla="*/ 96840 w 16488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0"/>
          <p:cNvSpPr/>
          <p:nvPr/>
        </p:nvSpPr>
        <p:spPr>
          <a:xfrm>
            <a:off x="4716360" y="198900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6227640" y="227664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лилиния 11"/>
          <p:cNvSpPr/>
          <p:nvPr/>
        </p:nvSpPr>
        <p:spPr>
          <a:xfrm>
            <a:off x="2373480" y="1166760"/>
            <a:ext cx="5960880" cy="1582920"/>
          </a:xfrm>
          <a:custGeom>
            <a:avLst/>
            <a:gdLst/>
            <a:ahLst/>
            <a:rect l="l" t="t" r="r" b="b"/>
            <a:pathLst>
              <a:path w="5960277" h="1582812">
                <a:moveTo>
                  <a:pt x="115637" y="78467"/>
                </a:moveTo>
                <a:cubicBezTo>
                  <a:pt x="111404" y="239334"/>
                  <a:pt x="120233" y="401077"/>
                  <a:pt x="102937" y="561067"/>
                </a:cubicBezTo>
                <a:cubicBezTo>
                  <a:pt x="101498" y="574376"/>
                  <a:pt x="76811" y="542380"/>
                  <a:pt x="64837" y="548367"/>
                </a:cubicBezTo>
                <a:cubicBezTo>
                  <a:pt x="52863" y="554354"/>
                  <a:pt x="56370" y="573767"/>
                  <a:pt x="52137" y="586467"/>
                </a:cubicBezTo>
                <a:cubicBezTo>
                  <a:pt x="64837" y="590700"/>
                  <a:pt x="84250" y="587193"/>
                  <a:pt x="90237" y="599167"/>
                </a:cubicBezTo>
                <a:cubicBezTo>
                  <a:pt x="96224" y="611141"/>
                  <a:pt x="71550" y="625293"/>
                  <a:pt x="77537" y="637267"/>
                </a:cubicBezTo>
                <a:cubicBezTo>
                  <a:pt x="83524" y="649241"/>
                  <a:pt x="102937" y="645734"/>
                  <a:pt x="115637" y="649967"/>
                </a:cubicBezTo>
                <a:cubicBezTo>
                  <a:pt x="111404" y="666900"/>
                  <a:pt x="116189" y="689408"/>
                  <a:pt x="102937" y="700767"/>
                </a:cubicBezTo>
                <a:cubicBezTo>
                  <a:pt x="82609" y="718191"/>
                  <a:pt x="26737" y="726167"/>
                  <a:pt x="26737" y="726167"/>
                </a:cubicBezTo>
                <a:cubicBezTo>
                  <a:pt x="19607" y="747556"/>
                  <a:pt x="0" y="780978"/>
                  <a:pt x="26737" y="802367"/>
                </a:cubicBezTo>
                <a:cubicBezTo>
                  <a:pt x="40367" y="813271"/>
                  <a:pt x="60604" y="810834"/>
                  <a:pt x="77537" y="815067"/>
                </a:cubicBezTo>
                <a:cubicBezTo>
                  <a:pt x="145270" y="916667"/>
                  <a:pt x="77537" y="789667"/>
                  <a:pt x="77537" y="891267"/>
                </a:cubicBezTo>
                <a:cubicBezTo>
                  <a:pt x="77537" y="906531"/>
                  <a:pt x="94470" y="916667"/>
                  <a:pt x="102937" y="929367"/>
                </a:cubicBezTo>
                <a:cubicBezTo>
                  <a:pt x="107170" y="963234"/>
                  <a:pt x="109532" y="997387"/>
                  <a:pt x="115637" y="1030967"/>
                </a:cubicBezTo>
                <a:cubicBezTo>
                  <a:pt x="118032" y="1044138"/>
                  <a:pt x="128337" y="1055680"/>
                  <a:pt x="128337" y="1069067"/>
                </a:cubicBezTo>
                <a:cubicBezTo>
                  <a:pt x="128337" y="1153839"/>
                  <a:pt x="131499" y="1239792"/>
                  <a:pt x="115637" y="1323067"/>
                </a:cubicBezTo>
                <a:cubicBezTo>
                  <a:pt x="113132" y="1336218"/>
                  <a:pt x="90237" y="1331534"/>
                  <a:pt x="77537" y="1335767"/>
                </a:cubicBezTo>
                <a:cubicBezTo>
                  <a:pt x="73259" y="1342184"/>
                  <a:pt x="31926" y="1396944"/>
                  <a:pt x="39437" y="1411967"/>
                </a:cubicBezTo>
                <a:cubicBezTo>
                  <a:pt x="45424" y="1423941"/>
                  <a:pt x="65563" y="1418680"/>
                  <a:pt x="77537" y="1424667"/>
                </a:cubicBezTo>
                <a:cubicBezTo>
                  <a:pt x="166825" y="1469311"/>
                  <a:pt x="50370" y="1439189"/>
                  <a:pt x="191837" y="1462767"/>
                </a:cubicBezTo>
                <a:cubicBezTo>
                  <a:pt x="183370" y="1450067"/>
                  <a:pt x="158864" y="1437919"/>
                  <a:pt x="166437" y="1424667"/>
                </a:cubicBezTo>
                <a:cubicBezTo>
                  <a:pt x="181583" y="1398162"/>
                  <a:pt x="242637" y="1373867"/>
                  <a:pt x="242637" y="1373867"/>
                </a:cubicBezTo>
                <a:cubicBezTo>
                  <a:pt x="251104" y="1348467"/>
                  <a:pt x="245760" y="1282815"/>
                  <a:pt x="268037" y="1297667"/>
                </a:cubicBezTo>
                <a:cubicBezTo>
                  <a:pt x="280737" y="1306134"/>
                  <a:pt x="292189" y="1316868"/>
                  <a:pt x="306137" y="1323067"/>
                </a:cubicBezTo>
                <a:cubicBezTo>
                  <a:pt x="330603" y="1333941"/>
                  <a:pt x="382337" y="1348467"/>
                  <a:pt x="382337" y="1348467"/>
                </a:cubicBezTo>
                <a:lnTo>
                  <a:pt x="306137" y="1373867"/>
                </a:lnTo>
                <a:lnTo>
                  <a:pt x="268037" y="1386567"/>
                </a:lnTo>
                <a:cubicBezTo>
                  <a:pt x="280737" y="1395034"/>
                  <a:pt x="291106" y="1409314"/>
                  <a:pt x="306137" y="1411967"/>
                </a:cubicBezTo>
                <a:cubicBezTo>
                  <a:pt x="625294" y="1468289"/>
                  <a:pt x="398729" y="1396264"/>
                  <a:pt x="522037" y="1437367"/>
                </a:cubicBezTo>
                <a:cubicBezTo>
                  <a:pt x="540004" y="1431378"/>
                  <a:pt x="594990" y="1411967"/>
                  <a:pt x="610937" y="1411967"/>
                </a:cubicBezTo>
                <a:cubicBezTo>
                  <a:pt x="628391" y="1411967"/>
                  <a:pt x="644804" y="1420434"/>
                  <a:pt x="661737" y="1424667"/>
                </a:cubicBezTo>
                <a:cubicBezTo>
                  <a:pt x="665970" y="1411967"/>
                  <a:pt x="668450" y="1398541"/>
                  <a:pt x="674437" y="1386567"/>
                </a:cubicBezTo>
                <a:cubicBezTo>
                  <a:pt x="706947" y="1321547"/>
                  <a:pt x="711126" y="1347056"/>
                  <a:pt x="801437" y="1335767"/>
                </a:cubicBezTo>
                <a:cubicBezTo>
                  <a:pt x="825452" y="1191677"/>
                  <a:pt x="781376" y="1304962"/>
                  <a:pt x="941137" y="1246867"/>
                </a:cubicBezTo>
                <a:cubicBezTo>
                  <a:pt x="953718" y="1242292"/>
                  <a:pt x="944371" y="1218233"/>
                  <a:pt x="953837" y="1208767"/>
                </a:cubicBezTo>
                <a:cubicBezTo>
                  <a:pt x="963303" y="1199301"/>
                  <a:pt x="979963" y="1202054"/>
                  <a:pt x="991937" y="1196067"/>
                </a:cubicBezTo>
                <a:cubicBezTo>
                  <a:pt x="1005589" y="1189241"/>
                  <a:pt x="1017337" y="1179134"/>
                  <a:pt x="1030037" y="1170667"/>
                </a:cubicBezTo>
                <a:cubicBezTo>
                  <a:pt x="1042737" y="1179134"/>
                  <a:pt x="1053657" y="1191240"/>
                  <a:pt x="1068137" y="1196067"/>
                </a:cubicBezTo>
                <a:cubicBezTo>
                  <a:pt x="1092566" y="1204210"/>
                  <a:pt x="1131561" y="1186409"/>
                  <a:pt x="1144337" y="1208767"/>
                </a:cubicBezTo>
                <a:cubicBezTo>
                  <a:pt x="1157621" y="1232013"/>
                  <a:pt x="1118937" y="1284967"/>
                  <a:pt x="1118937" y="1284967"/>
                </a:cubicBezTo>
                <a:cubicBezTo>
                  <a:pt x="1123170" y="1310367"/>
                  <a:pt x="1111311" y="1345358"/>
                  <a:pt x="1131637" y="1361167"/>
                </a:cubicBezTo>
                <a:cubicBezTo>
                  <a:pt x="1158578" y="1382121"/>
                  <a:pt x="1199657" y="1367762"/>
                  <a:pt x="1233237" y="1373867"/>
                </a:cubicBezTo>
                <a:cubicBezTo>
                  <a:pt x="1267723" y="1380137"/>
                  <a:pt x="1289874" y="1398140"/>
                  <a:pt x="1322137" y="1411967"/>
                </a:cubicBezTo>
                <a:cubicBezTo>
                  <a:pt x="1370505" y="1432696"/>
                  <a:pt x="1403326" y="1430053"/>
                  <a:pt x="1461837" y="1437367"/>
                </a:cubicBezTo>
                <a:cubicBezTo>
                  <a:pt x="1474537" y="1441600"/>
                  <a:pt x="1486950" y="1446820"/>
                  <a:pt x="1499937" y="1450067"/>
                </a:cubicBezTo>
                <a:cubicBezTo>
                  <a:pt x="1520878" y="1455302"/>
                  <a:pt x="1545476" y="1450793"/>
                  <a:pt x="1563437" y="1462767"/>
                </a:cubicBezTo>
                <a:cubicBezTo>
                  <a:pt x="1625412" y="1504084"/>
                  <a:pt x="1514319" y="1506283"/>
                  <a:pt x="1614237" y="1526267"/>
                </a:cubicBezTo>
                <a:cubicBezTo>
                  <a:pt x="1664223" y="1536264"/>
                  <a:pt x="1715837" y="1534734"/>
                  <a:pt x="1766637" y="1538967"/>
                </a:cubicBezTo>
                <a:cubicBezTo>
                  <a:pt x="1794174" y="1552736"/>
                  <a:pt x="1824392" y="1582812"/>
                  <a:pt x="1855537" y="1551667"/>
                </a:cubicBezTo>
                <a:cubicBezTo>
                  <a:pt x="1865003" y="1542201"/>
                  <a:pt x="1857098" y="1520993"/>
                  <a:pt x="1868237" y="1513567"/>
                </a:cubicBezTo>
                <a:cubicBezTo>
                  <a:pt x="1886198" y="1501593"/>
                  <a:pt x="1910570" y="1505100"/>
                  <a:pt x="1931737" y="1500867"/>
                </a:cubicBezTo>
                <a:cubicBezTo>
                  <a:pt x="1971358" y="1505269"/>
                  <a:pt x="2089634" y="1517206"/>
                  <a:pt x="2134937" y="1526267"/>
                </a:cubicBezTo>
                <a:cubicBezTo>
                  <a:pt x="2154846" y="1530249"/>
                  <a:pt x="2228415" y="1561118"/>
                  <a:pt x="2236537" y="1564367"/>
                </a:cubicBezTo>
                <a:cubicBezTo>
                  <a:pt x="2253470" y="1560134"/>
                  <a:pt x="2278357" y="1566634"/>
                  <a:pt x="2287337" y="1551667"/>
                </a:cubicBezTo>
                <a:cubicBezTo>
                  <a:pt x="2296317" y="1536700"/>
                  <a:pt x="2290249" y="1493061"/>
                  <a:pt x="2274637" y="1500867"/>
                </a:cubicBezTo>
                <a:cubicBezTo>
                  <a:pt x="2255330" y="1510520"/>
                  <a:pt x="2266170" y="1543200"/>
                  <a:pt x="2261937" y="1564367"/>
                </a:cubicBezTo>
                <a:cubicBezTo>
                  <a:pt x="2266170" y="1513567"/>
                  <a:pt x="2251840" y="1457561"/>
                  <a:pt x="2274637" y="1411967"/>
                </a:cubicBezTo>
                <a:cubicBezTo>
                  <a:pt x="2286611" y="1388020"/>
                  <a:pt x="2328560" y="1401419"/>
                  <a:pt x="2350837" y="1386567"/>
                </a:cubicBezTo>
                <a:cubicBezTo>
                  <a:pt x="2479989" y="1300465"/>
                  <a:pt x="2396578" y="1337798"/>
                  <a:pt x="2617537" y="1323067"/>
                </a:cubicBezTo>
                <a:cubicBezTo>
                  <a:pt x="2621770" y="1310367"/>
                  <a:pt x="2618614" y="1291609"/>
                  <a:pt x="2630237" y="1284967"/>
                </a:cubicBezTo>
                <a:cubicBezTo>
                  <a:pt x="2709509" y="1239669"/>
                  <a:pt x="2719848" y="1312499"/>
                  <a:pt x="2693737" y="1234167"/>
                </a:cubicBezTo>
                <a:cubicBezTo>
                  <a:pt x="2697970" y="1213000"/>
                  <a:pt x="2687487" y="1181003"/>
                  <a:pt x="2706437" y="1170667"/>
                </a:cubicBezTo>
                <a:cubicBezTo>
                  <a:pt x="2766191" y="1138074"/>
                  <a:pt x="2836735" y="1158627"/>
                  <a:pt x="2896937" y="1170667"/>
                </a:cubicBezTo>
                <a:cubicBezTo>
                  <a:pt x="2901170" y="1191834"/>
                  <a:pt x="2895818" y="1217584"/>
                  <a:pt x="2909637" y="1234167"/>
                </a:cubicBezTo>
                <a:cubicBezTo>
                  <a:pt x="2920811" y="1247576"/>
                  <a:pt x="2943264" y="1243745"/>
                  <a:pt x="2960437" y="1246867"/>
                </a:cubicBezTo>
                <a:cubicBezTo>
                  <a:pt x="2989888" y="1252222"/>
                  <a:pt x="3019984" y="1253696"/>
                  <a:pt x="3049337" y="1259567"/>
                </a:cubicBezTo>
                <a:cubicBezTo>
                  <a:pt x="3083568" y="1266413"/>
                  <a:pt x="3119713" y="1269355"/>
                  <a:pt x="3150937" y="1284967"/>
                </a:cubicBezTo>
                <a:cubicBezTo>
                  <a:pt x="3213711" y="1316354"/>
                  <a:pt x="3183776" y="1304380"/>
                  <a:pt x="3239837" y="1323067"/>
                </a:cubicBezTo>
                <a:cubicBezTo>
                  <a:pt x="3231370" y="1335767"/>
                  <a:pt x="3221263" y="1347515"/>
                  <a:pt x="3214437" y="1361167"/>
                </a:cubicBezTo>
                <a:cubicBezTo>
                  <a:pt x="3196256" y="1397529"/>
                  <a:pt x="3186534" y="1472964"/>
                  <a:pt x="3214437" y="1500867"/>
                </a:cubicBezTo>
                <a:cubicBezTo>
                  <a:pt x="3238571" y="1525001"/>
                  <a:pt x="3282170" y="1509334"/>
                  <a:pt x="3316037" y="1513567"/>
                </a:cubicBezTo>
                <a:cubicBezTo>
                  <a:pt x="3417637" y="1547434"/>
                  <a:pt x="3290637" y="1513567"/>
                  <a:pt x="3392237" y="1513567"/>
                </a:cubicBezTo>
                <a:cubicBezTo>
                  <a:pt x="3443213" y="1513567"/>
                  <a:pt x="3493837" y="1522034"/>
                  <a:pt x="3544637" y="1526267"/>
                </a:cubicBezTo>
                <a:cubicBezTo>
                  <a:pt x="3570037" y="1522034"/>
                  <a:pt x="3602629" y="1531775"/>
                  <a:pt x="3620837" y="1513567"/>
                </a:cubicBezTo>
                <a:cubicBezTo>
                  <a:pt x="3639045" y="1495359"/>
                  <a:pt x="3612937" y="1452817"/>
                  <a:pt x="3633537" y="1437367"/>
                </a:cubicBezTo>
                <a:cubicBezTo>
                  <a:pt x="3647905" y="1426591"/>
                  <a:pt x="3654598" y="1469787"/>
                  <a:pt x="3671637" y="1475467"/>
                </a:cubicBezTo>
                <a:cubicBezTo>
                  <a:pt x="3708004" y="1487589"/>
                  <a:pt x="3747837" y="1483934"/>
                  <a:pt x="3785937" y="1488167"/>
                </a:cubicBezTo>
                <a:cubicBezTo>
                  <a:pt x="3798637" y="1483934"/>
                  <a:pt x="3810832" y="1473266"/>
                  <a:pt x="3824037" y="1475467"/>
                </a:cubicBezTo>
                <a:cubicBezTo>
                  <a:pt x="3839093" y="1477976"/>
                  <a:pt x="3848485" y="1494041"/>
                  <a:pt x="3862137" y="1500867"/>
                </a:cubicBezTo>
                <a:cubicBezTo>
                  <a:pt x="3874111" y="1506854"/>
                  <a:pt x="3888263" y="1507580"/>
                  <a:pt x="3900237" y="1513567"/>
                </a:cubicBezTo>
                <a:cubicBezTo>
                  <a:pt x="3998714" y="1562806"/>
                  <a:pt x="3880672" y="1519745"/>
                  <a:pt x="3976437" y="1551667"/>
                </a:cubicBezTo>
                <a:cubicBezTo>
                  <a:pt x="3997604" y="1547434"/>
                  <a:pt x="4018996" y="1544202"/>
                  <a:pt x="4039937" y="1538967"/>
                </a:cubicBezTo>
                <a:cubicBezTo>
                  <a:pt x="4052924" y="1535720"/>
                  <a:pt x="4064753" y="1527927"/>
                  <a:pt x="4078037" y="1526267"/>
                </a:cubicBezTo>
                <a:cubicBezTo>
                  <a:pt x="4132807" y="1519421"/>
                  <a:pt x="4188104" y="1517800"/>
                  <a:pt x="4243137" y="1513567"/>
                </a:cubicBezTo>
                <a:cubicBezTo>
                  <a:pt x="4230437" y="1505100"/>
                  <a:pt x="4214572" y="1500086"/>
                  <a:pt x="4205037" y="1488167"/>
                </a:cubicBezTo>
                <a:cubicBezTo>
                  <a:pt x="4196674" y="1477714"/>
                  <a:pt x="4198324" y="1462041"/>
                  <a:pt x="4192337" y="1450067"/>
                </a:cubicBezTo>
                <a:cubicBezTo>
                  <a:pt x="4185511" y="1436415"/>
                  <a:pt x="4175404" y="1424667"/>
                  <a:pt x="4166937" y="1411967"/>
                </a:cubicBezTo>
                <a:cubicBezTo>
                  <a:pt x="4171170" y="1399267"/>
                  <a:pt x="4179637" y="1387254"/>
                  <a:pt x="4179637" y="1373867"/>
                </a:cubicBezTo>
                <a:cubicBezTo>
                  <a:pt x="4179637" y="1327418"/>
                  <a:pt x="4139528" y="1339914"/>
                  <a:pt x="4192337" y="1297667"/>
                </a:cubicBezTo>
                <a:cubicBezTo>
                  <a:pt x="4202790" y="1289304"/>
                  <a:pt x="4217737" y="1289200"/>
                  <a:pt x="4230437" y="1284967"/>
                </a:cubicBezTo>
                <a:cubicBezTo>
                  <a:pt x="4238904" y="1272267"/>
                  <a:pt x="4243918" y="1256402"/>
                  <a:pt x="4255837" y="1246867"/>
                </a:cubicBezTo>
                <a:cubicBezTo>
                  <a:pt x="4266290" y="1238504"/>
                  <a:pt x="4280766" y="1236562"/>
                  <a:pt x="4293937" y="1234167"/>
                </a:cubicBezTo>
                <a:cubicBezTo>
                  <a:pt x="4327517" y="1228062"/>
                  <a:pt x="4361670" y="1225700"/>
                  <a:pt x="4395537" y="1221467"/>
                </a:cubicBezTo>
                <a:cubicBezTo>
                  <a:pt x="4412470" y="1213000"/>
                  <a:pt x="4427483" y="1197781"/>
                  <a:pt x="4446337" y="1196067"/>
                </a:cubicBezTo>
                <a:cubicBezTo>
                  <a:pt x="4646994" y="1177825"/>
                  <a:pt x="4462787" y="1232917"/>
                  <a:pt x="4573337" y="1196067"/>
                </a:cubicBezTo>
                <a:cubicBezTo>
                  <a:pt x="4607204" y="1200300"/>
                  <a:pt x="4641826" y="1200489"/>
                  <a:pt x="4674937" y="1208767"/>
                </a:cubicBezTo>
                <a:cubicBezTo>
                  <a:pt x="4693304" y="1213359"/>
                  <a:pt x="4708159" y="1241198"/>
                  <a:pt x="4725737" y="1234167"/>
                </a:cubicBezTo>
                <a:cubicBezTo>
                  <a:pt x="4741943" y="1227685"/>
                  <a:pt x="4733642" y="1200150"/>
                  <a:pt x="4738437" y="1183367"/>
                </a:cubicBezTo>
                <a:cubicBezTo>
                  <a:pt x="4749939" y="1143108"/>
                  <a:pt x="4762556" y="1108021"/>
                  <a:pt x="4801937" y="1081767"/>
                </a:cubicBezTo>
                <a:cubicBezTo>
                  <a:pt x="4819898" y="1069793"/>
                  <a:pt x="4844365" y="1073750"/>
                  <a:pt x="4865437" y="1069067"/>
                </a:cubicBezTo>
                <a:cubicBezTo>
                  <a:pt x="4880086" y="1065812"/>
                  <a:pt x="4937366" y="1052153"/>
                  <a:pt x="4954337" y="1043667"/>
                </a:cubicBezTo>
                <a:cubicBezTo>
                  <a:pt x="4967989" y="1036841"/>
                  <a:pt x="4979737" y="1026734"/>
                  <a:pt x="4992437" y="1018267"/>
                </a:cubicBezTo>
                <a:cubicBezTo>
                  <a:pt x="5091106" y="1051157"/>
                  <a:pt x="5038352" y="1050505"/>
                  <a:pt x="5106737" y="1030967"/>
                </a:cubicBezTo>
                <a:cubicBezTo>
                  <a:pt x="5123520" y="1026172"/>
                  <a:pt x="5140604" y="1022500"/>
                  <a:pt x="5157537" y="1018267"/>
                </a:cubicBezTo>
                <a:cubicBezTo>
                  <a:pt x="5161770" y="1005567"/>
                  <a:pt x="5158535" y="986668"/>
                  <a:pt x="5170237" y="980167"/>
                </a:cubicBezTo>
                <a:cubicBezTo>
                  <a:pt x="5200753" y="963214"/>
                  <a:pt x="5271837" y="954767"/>
                  <a:pt x="5271837" y="954767"/>
                </a:cubicBezTo>
                <a:cubicBezTo>
                  <a:pt x="5267604" y="967467"/>
                  <a:pt x="5246150" y="989620"/>
                  <a:pt x="5259137" y="992867"/>
                </a:cubicBezTo>
                <a:cubicBezTo>
                  <a:pt x="5297621" y="1002488"/>
                  <a:pt x="5339363" y="950741"/>
                  <a:pt x="5360737" y="929367"/>
                </a:cubicBezTo>
                <a:lnTo>
                  <a:pt x="5386137" y="853167"/>
                </a:lnTo>
                <a:cubicBezTo>
                  <a:pt x="5390370" y="840467"/>
                  <a:pt x="5386137" y="819300"/>
                  <a:pt x="5398837" y="815067"/>
                </a:cubicBezTo>
                <a:lnTo>
                  <a:pt x="5436937" y="802367"/>
                </a:lnTo>
                <a:cubicBezTo>
                  <a:pt x="5498513" y="710003"/>
                  <a:pt x="5443095" y="818531"/>
                  <a:pt x="5436937" y="726167"/>
                </a:cubicBezTo>
                <a:cubicBezTo>
                  <a:pt x="5433546" y="675304"/>
                  <a:pt x="5435633" y="622782"/>
                  <a:pt x="5449637" y="573767"/>
                </a:cubicBezTo>
                <a:cubicBezTo>
                  <a:pt x="5454820" y="555626"/>
                  <a:pt x="5511896" y="540314"/>
                  <a:pt x="5525837" y="535667"/>
                </a:cubicBezTo>
                <a:cubicBezTo>
                  <a:pt x="5521604" y="522967"/>
                  <a:pt x="5515338" y="510772"/>
                  <a:pt x="5513137" y="497567"/>
                </a:cubicBezTo>
                <a:cubicBezTo>
                  <a:pt x="5506835" y="459754"/>
                  <a:pt x="5514674" y="418860"/>
                  <a:pt x="5500437" y="383267"/>
                </a:cubicBezTo>
                <a:cubicBezTo>
                  <a:pt x="5495465" y="370838"/>
                  <a:pt x="5475037" y="374800"/>
                  <a:pt x="5462337" y="370567"/>
                </a:cubicBezTo>
                <a:cubicBezTo>
                  <a:pt x="5439846" y="303095"/>
                  <a:pt x="5444158" y="356872"/>
                  <a:pt x="5487737" y="307067"/>
                </a:cubicBezTo>
                <a:cubicBezTo>
                  <a:pt x="5507839" y="284093"/>
                  <a:pt x="5514115" y="249183"/>
                  <a:pt x="5538537" y="230867"/>
                </a:cubicBezTo>
                <a:cubicBezTo>
                  <a:pt x="5555470" y="218167"/>
                  <a:pt x="5569684" y="200628"/>
                  <a:pt x="5589337" y="192767"/>
                </a:cubicBezTo>
                <a:cubicBezTo>
                  <a:pt x="5611263" y="183997"/>
                  <a:pt x="5777034" y="167678"/>
                  <a:pt x="5779837" y="167367"/>
                </a:cubicBezTo>
                <a:cubicBezTo>
                  <a:pt x="5792537" y="158900"/>
                  <a:pt x="5804285" y="148793"/>
                  <a:pt x="5817937" y="141967"/>
                </a:cubicBezTo>
                <a:cubicBezTo>
                  <a:pt x="5829911" y="135980"/>
                  <a:pt x="5843732" y="134540"/>
                  <a:pt x="5856037" y="129267"/>
                </a:cubicBezTo>
                <a:cubicBezTo>
                  <a:pt x="5873438" y="121809"/>
                  <a:pt x="5889904" y="112334"/>
                  <a:pt x="5906837" y="103867"/>
                </a:cubicBezTo>
                <a:cubicBezTo>
                  <a:pt x="5920636" y="83169"/>
                  <a:pt x="5960277" y="44067"/>
                  <a:pt x="5919537" y="14967"/>
                </a:cubicBezTo>
                <a:cubicBezTo>
                  <a:pt x="5898583" y="0"/>
                  <a:pt x="5868737" y="6500"/>
                  <a:pt x="5843337" y="2267"/>
                </a:cubicBezTo>
                <a:cubicBezTo>
                  <a:pt x="5606283" y="15437"/>
                  <a:pt x="5691055" y="14967"/>
                  <a:pt x="5589337" y="14967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3"/>
          <p:cNvSpPr/>
          <p:nvPr/>
        </p:nvSpPr>
        <p:spPr>
          <a:xfrm flipH="1">
            <a:off x="214200" y="1143000"/>
            <a:ext cx="578664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илиния 14"/>
          <p:cNvSpPr/>
          <p:nvPr/>
        </p:nvSpPr>
        <p:spPr>
          <a:xfrm>
            <a:off x="2397240" y="1155600"/>
            <a:ext cx="5800680" cy="1460520"/>
          </a:xfrm>
          <a:custGeom>
            <a:avLst/>
            <a:gdLst/>
            <a:ahLst/>
            <a:rect l="l" t="t" r="r" b="b"/>
            <a:pathLst>
              <a:path w="5801480" h="1460142">
                <a:moveTo>
                  <a:pt x="105386" y="126642"/>
                </a:moveTo>
                <a:cubicBezTo>
                  <a:pt x="101153" y="279042"/>
                  <a:pt x="106489" y="432009"/>
                  <a:pt x="92686" y="583842"/>
                </a:cubicBezTo>
                <a:cubicBezTo>
                  <a:pt x="91304" y="599043"/>
                  <a:pt x="81458" y="551411"/>
                  <a:pt x="67286" y="545742"/>
                </a:cubicBezTo>
                <a:cubicBezTo>
                  <a:pt x="54857" y="540770"/>
                  <a:pt x="41886" y="554209"/>
                  <a:pt x="29186" y="558442"/>
                </a:cubicBezTo>
                <a:cubicBezTo>
                  <a:pt x="33419" y="571142"/>
                  <a:pt x="35899" y="584568"/>
                  <a:pt x="41886" y="596542"/>
                </a:cubicBezTo>
                <a:cubicBezTo>
                  <a:pt x="48712" y="610194"/>
                  <a:pt x="61273" y="620613"/>
                  <a:pt x="67286" y="634642"/>
                </a:cubicBezTo>
                <a:cubicBezTo>
                  <a:pt x="74162" y="650685"/>
                  <a:pt x="75753" y="668509"/>
                  <a:pt x="79986" y="685442"/>
                </a:cubicBezTo>
                <a:cubicBezTo>
                  <a:pt x="54586" y="693909"/>
                  <a:pt x="0" y="684337"/>
                  <a:pt x="3786" y="710842"/>
                </a:cubicBezTo>
                <a:cubicBezTo>
                  <a:pt x="8019" y="740475"/>
                  <a:pt x="11131" y="770291"/>
                  <a:pt x="16486" y="799742"/>
                </a:cubicBezTo>
                <a:cubicBezTo>
                  <a:pt x="19608" y="816915"/>
                  <a:pt x="19504" y="836019"/>
                  <a:pt x="29186" y="850542"/>
                </a:cubicBezTo>
                <a:cubicBezTo>
                  <a:pt x="37653" y="863242"/>
                  <a:pt x="54586" y="867475"/>
                  <a:pt x="67286" y="875942"/>
                </a:cubicBezTo>
                <a:cubicBezTo>
                  <a:pt x="63053" y="888642"/>
                  <a:pt x="53108" y="900737"/>
                  <a:pt x="54586" y="914042"/>
                </a:cubicBezTo>
                <a:cubicBezTo>
                  <a:pt x="57543" y="940652"/>
                  <a:pt x="79986" y="990242"/>
                  <a:pt x="79986" y="990242"/>
                </a:cubicBezTo>
                <a:cubicBezTo>
                  <a:pt x="75753" y="1096075"/>
                  <a:pt x="74832" y="1202093"/>
                  <a:pt x="67286" y="1307742"/>
                </a:cubicBezTo>
                <a:cubicBezTo>
                  <a:pt x="66332" y="1321095"/>
                  <a:pt x="54586" y="1332455"/>
                  <a:pt x="54586" y="1345842"/>
                </a:cubicBezTo>
                <a:cubicBezTo>
                  <a:pt x="54586" y="1384176"/>
                  <a:pt x="63053" y="1422042"/>
                  <a:pt x="67286" y="1460142"/>
                </a:cubicBezTo>
                <a:cubicBezTo>
                  <a:pt x="98274" y="1449813"/>
                  <a:pt x="118867" y="1446661"/>
                  <a:pt x="143486" y="1422042"/>
                </a:cubicBezTo>
                <a:cubicBezTo>
                  <a:pt x="154279" y="1411249"/>
                  <a:pt x="156967" y="1393477"/>
                  <a:pt x="168886" y="1383942"/>
                </a:cubicBezTo>
                <a:cubicBezTo>
                  <a:pt x="179339" y="1375579"/>
                  <a:pt x="195012" y="1377229"/>
                  <a:pt x="206986" y="1371242"/>
                </a:cubicBezTo>
                <a:cubicBezTo>
                  <a:pt x="220638" y="1364416"/>
                  <a:pt x="231138" y="1352041"/>
                  <a:pt x="245086" y="1345842"/>
                </a:cubicBezTo>
                <a:cubicBezTo>
                  <a:pt x="269552" y="1334968"/>
                  <a:pt x="321286" y="1320442"/>
                  <a:pt x="321286" y="1320442"/>
                </a:cubicBezTo>
                <a:cubicBezTo>
                  <a:pt x="340789" y="1349697"/>
                  <a:pt x="343890" y="1371242"/>
                  <a:pt x="384786" y="1371242"/>
                </a:cubicBezTo>
                <a:cubicBezTo>
                  <a:pt x="398173" y="1371242"/>
                  <a:pt x="410186" y="1362775"/>
                  <a:pt x="422886" y="1358542"/>
                </a:cubicBezTo>
                <a:lnTo>
                  <a:pt x="587986" y="1371242"/>
                </a:lnTo>
                <a:cubicBezTo>
                  <a:pt x="607827" y="1379745"/>
                  <a:pt x="588712" y="1416781"/>
                  <a:pt x="600686" y="1434742"/>
                </a:cubicBezTo>
                <a:cubicBezTo>
                  <a:pt x="608112" y="1445881"/>
                  <a:pt x="626086" y="1443209"/>
                  <a:pt x="638786" y="1447442"/>
                </a:cubicBezTo>
                <a:cubicBezTo>
                  <a:pt x="685353" y="1443209"/>
                  <a:pt x="733795" y="1448493"/>
                  <a:pt x="778486" y="1434742"/>
                </a:cubicBezTo>
                <a:cubicBezTo>
                  <a:pt x="793075" y="1430253"/>
                  <a:pt x="801233" y="1411673"/>
                  <a:pt x="803886" y="1396642"/>
                </a:cubicBezTo>
                <a:cubicBezTo>
                  <a:pt x="814212" y="1338128"/>
                  <a:pt x="801276" y="1276253"/>
                  <a:pt x="816586" y="1218842"/>
                </a:cubicBezTo>
                <a:cubicBezTo>
                  <a:pt x="820035" y="1205907"/>
                  <a:pt x="841381" y="1207620"/>
                  <a:pt x="854686" y="1206142"/>
                </a:cubicBezTo>
                <a:cubicBezTo>
                  <a:pt x="917938" y="1199114"/>
                  <a:pt x="981686" y="1197675"/>
                  <a:pt x="1045186" y="1193442"/>
                </a:cubicBezTo>
                <a:cubicBezTo>
                  <a:pt x="1040953" y="1218842"/>
                  <a:pt x="1032486" y="1243892"/>
                  <a:pt x="1032486" y="1269642"/>
                </a:cubicBezTo>
                <a:cubicBezTo>
                  <a:pt x="1032486" y="1306587"/>
                  <a:pt x="1049419" y="1317363"/>
                  <a:pt x="1083286" y="1320442"/>
                </a:cubicBezTo>
                <a:cubicBezTo>
                  <a:pt x="1163500" y="1327734"/>
                  <a:pt x="1244153" y="1328909"/>
                  <a:pt x="1324586" y="1333142"/>
                </a:cubicBezTo>
                <a:cubicBezTo>
                  <a:pt x="1333053" y="1345842"/>
                  <a:pt x="1335397" y="1366753"/>
                  <a:pt x="1349986" y="1371242"/>
                </a:cubicBezTo>
                <a:cubicBezTo>
                  <a:pt x="1394677" y="1384993"/>
                  <a:pt x="1443397" y="1377329"/>
                  <a:pt x="1489686" y="1383942"/>
                </a:cubicBezTo>
                <a:cubicBezTo>
                  <a:pt x="1502938" y="1385835"/>
                  <a:pt x="1514534" y="1394749"/>
                  <a:pt x="1527786" y="1396642"/>
                </a:cubicBezTo>
                <a:cubicBezTo>
                  <a:pt x="1574075" y="1403255"/>
                  <a:pt x="1620919" y="1405109"/>
                  <a:pt x="1667486" y="1409342"/>
                </a:cubicBezTo>
                <a:cubicBezTo>
                  <a:pt x="1738861" y="1399146"/>
                  <a:pt x="1763864" y="1386435"/>
                  <a:pt x="1832586" y="1409342"/>
                </a:cubicBezTo>
                <a:cubicBezTo>
                  <a:pt x="1847066" y="1414169"/>
                  <a:pt x="1857986" y="1426275"/>
                  <a:pt x="1870686" y="1434742"/>
                </a:cubicBezTo>
                <a:cubicBezTo>
                  <a:pt x="2024659" y="1383418"/>
                  <a:pt x="1869172" y="1430845"/>
                  <a:pt x="2023086" y="1396642"/>
                </a:cubicBezTo>
                <a:cubicBezTo>
                  <a:pt x="2036154" y="1393738"/>
                  <a:pt x="2048199" y="1387189"/>
                  <a:pt x="2061186" y="1383942"/>
                </a:cubicBezTo>
                <a:cubicBezTo>
                  <a:pt x="2082127" y="1378707"/>
                  <a:pt x="2103745" y="1376477"/>
                  <a:pt x="2124686" y="1371242"/>
                </a:cubicBezTo>
                <a:cubicBezTo>
                  <a:pt x="2137673" y="1367995"/>
                  <a:pt x="2149502" y="1360202"/>
                  <a:pt x="2162786" y="1358542"/>
                </a:cubicBezTo>
                <a:cubicBezTo>
                  <a:pt x="2217556" y="1351696"/>
                  <a:pt x="2272964" y="1351334"/>
                  <a:pt x="2327886" y="1345842"/>
                </a:cubicBezTo>
                <a:cubicBezTo>
                  <a:pt x="2357672" y="1342863"/>
                  <a:pt x="2387153" y="1337375"/>
                  <a:pt x="2416786" y="1333142"/>
                </a:cubicBezTo>
                <a:cubicBezTo>
                  <a:pt x="2429486" y="1328909"/>
                  <a:pt x="2441634" y="1318549"/>
                  <a:pt x="2454886" y="1320442"/>
                </a:cubicBezTo>
                <a:cubicBezTo>
                  <a:pt x="2473628" y="1323119"/>
                  <a:pt x="2488108" y="1338811"/>
                  <a:pt x="2505686" y="1345842"/>
                </a:cubicBezTo>
                <a:cubicBezTo>
                  <a:pt x="2530545" y="1355786"/>
                  <a:pt x="2556486" y="1362775"/>
                  <a:pt x="2581886" y="1371242"/>
                </a:cubicBezTo>
                <a:cubicBezTo>
                  <a:pt x="2611519" y="1367009"/>
                  <a:pt x="2643432" y="1370699"/>
                  <a:pt x="2670786" y="1358542"/>
                </a:cubicBezTo>
                <a:cubicBezTo>
                  <a:pt x="2684734" y="1352343"/>
                  <a:pt x="2693193" y="1335409"/>
                  <a:pt x="2696186" y="1320442"/>
                </a:cubicBezTo>
                <a:cubicBezTo>
                  <a:pt x="2706183" y="1270456"/>
                  <a:pt x="2694882" y="1217057"/>
                  <a:pt x="2708886" y="1168042"/>
                </a:cubicBezTo>
                <a:cubicBezTo>
                  <a:pt x="2713079" y="1153366"/>
                  <a:pt x="2734286" y="1151109"/>
                  <a:pt x="2746986" y="1142642"/>
                </a:cubicBezTo>
                <a:cubicBezTo>
                  <a:pt x="2810486" y="1146875"/>
                  <a:pt x="2876742" y="1136359"/>
                  <a:pt x="2937486" y="1155342"/>
                </a:cubicBezTo>
                <a:cubicBezTo>
                  <a:pt x="2954146" y="1160548"/>
                  <a:pt x="2933306" y="1201700"/>
                  <a:pt x="2950186" y="1206142"/>
                </a:cubicBezTo>
                <a:cubicBezTo>
                  <a:pt x="3023991" y="1225564"/>
                  <a:pt x="3102586" y="1214609"/>
                  <a:pt x="3178786" y="1218842"/>
                </a:cubicBezTo>
                <a:cubicBezTo>
                  <a:pt x="3267686" y="1248475"/>
                  <a:pt x="3229586" y="1252709"/>
                  <a:pt x="3293086" y="1231542"/>
                </a:cubicBezTo>
                <a:cubicBezTo>
                  <a:pt x="3314253" y="1235775"/>
                  <a:pt x="3337279" y="1234589"/>
                  <a:pt x="3356586" y="1244242"/>
                </a:cubicBezTo>
                <a:cubicBezTo>
                  <a:pt x="3426433" y="1279166"/>
                  <a:pt x="3361934" y="1304176"/>
                  <a:pt x="3432786" y="1256942"/>
                </a:cubicBezTo>
                <a:cubicBezTo>
                  <a:pt x="3513773" y="1267065"/>
                  <a:pt x="3566341" y="1274107"/>
                  <a:pt x="3648686" y="1282342"/>
                </a:cubicBezTo>
                <a:lnTo>
                  <a:pt x="3788386" y="1295042"/>
                </a:lnTo>
                <a:cubicBezTo>
                  <a:pt x="3824442" y="1302253"/>
                  <a:pt x="3909281" y="1320442"/>
                  <a:pt x="3940786" y="1320442"/>
                </a:cubicBezTo>
                <a:cubicBezTo>
                  <a:pt x="3962372" y="1320442"/>
                  <a:pt x="3983119" y="1311975"/>
                  <a:pt x="4004286" y="1307742"/>
                </a:cubicBezTo>
                <a:cubicBezTo>
                  <a:pt x="4021219" y="1311975"/>
                  <a:pt x="4038303" y="1315647"/>
                  <a:pt x="4055086" y="1320442"/>
                </a:cubicBezTo>
                <a:cubicBezTo>
                  <a:pt x="4067958" y="1324120"/>
                  <a:pt x="4083720" y="1342608"/>
                  <a:pt x="4093186" y="1333142"/>
                </a:cubicBezTo>
                <a:cubicBezTo>
                  <a:pt x="4108450" y="1317878"/>
                  <a:pt x="4100651" y="1290583"/>
                  <a:pt x="4105886" y="1269642"/>
                </a:cubicBezTo>
                <a:cubicBezTo>
                  <a:pt x="4112378" y="1243672"/>
                  <a:pt x="4125068" y="1201873"/>
                  <a:pt x="4156686" y="1193442"/>
                </a:cubicBezTo>
                <a:cubicBezTo>
                  <a:pt x="4205941" y="1180307"/>
                  <a:pt x="4258286" y="1184975"/>
                  <a:pt x="4309086" y="1180742"/>
                </a:cubicBezTo>
                <a:cubicBezTo>
                  <a:pt x="4369533" y="1140444"/>
                  <a:pt x="4323432" y="1165008"/>
                  <a:pt x="4397986" y="1142642"/>
                </a:cubicBezTo>
                <a:cubicBezTo>
                  <a:pt x="4584192" y="1086780"/>
                  <a:pt x="4372363" y="1121870"/>
                  <a:pt x="4753586" y="1104542"/>
                </a:cubicBezTo>
                <a:cubicBezTo>
                  <a:pt x="4778986" y="1087609"/>
                  <a:pt x="4800826" y="1063395"/>
                  <a:pt x="4829786" y="1053742"/>
                </a:cubicBezTo>
                <a:cubicBezTo>
                  <a:pt x="4842486" y="1049509"/>
                  <a:pt x="4855912" y="1047029"/>
                  <a:pt x="4867886" y="1041042"/>
                </a:cubicBezTo>
                <a:cubicBezTo>
                  <a:pt x="4966363" y="991803"/>
                  <a:pt x="4848321" y="1034864"/>
                  <a:pt x="4944086" y="1002942"/>
                </a:cubicBezTo>
                <a:cubicBezTo>
                  <a:pt x="4954415" y="971954"/>
                  <a:pt x="4957567" y="951361"/>
                  <a:pt x="4982186" y="926742"/>
                </a:cubicBezTo>
                <a:cubicBezTo>
                  <a:pt x="4992979" y="915949"/>
                  <a:pt x="5008560" y="911113"/>
                  <a:pt x="5020286" y="901342"/>
                </a:cubicBezTo>
                <a:cubicBezTo>
                  <a:pt x="5034084" y="889844"/>
                  <a:pt x="5043442" y="873205"/>
                  <a:pt x="5058386" y="863242"/>
                </a:cubicBezTo>
                <a:cubicBezTo>
                  <a:pt x="5069525" y="855816"/>
                  <a:pt x="5084512" y="856529"/>
                  <a:pt x="5096486" y="850542"/>
                </a:cubicBezTo>
                <a:cubicBezTo>
                  <a:pt x="5110138" y="843716"/>
                  <a:pt x="5121886" y="833609"/>
                  <a:pt x="5134586" y="825142"/>
                </a:cubicBezTo>
                <a:cubicBezTo>
                  <a:pt x="5138819" y="795509"/>
                  <a:pt x="5141415" y="765595"/>
                  <a:pt x="5147286" y="736242"/>
                </a:cubicBezTo>
                <a:cubicBezTo>
                  <a:pt x="5149911" y="723115"/>
                  <a:pt x="5150520" y="707608"/>
                  <a:pt x="5159986" y="698142"/>
                </a:cubicBezTo>
                <a:cubicBezTo>
                  <a:pt x="5181572" y="676556"/>
                  <a:pt x="5236186" y="647342"/>
                  <a:pt x="5236186" y="647342"/>
                </a:cubicBezTo>
                <a:cubicBezTo>
                  <a:pt x="5240419" y="634642"/>
                  <a:pt x="5240523" y="619695"/>
                  <a:pt x="5248886" y="609242"/>
                </a:cubicBezTo>
                <a:cubicBezTo>
                  <a:pt x="5285103" y="563971"/>
                  <a:pt x="5375716" y="574969"/>
                  <a:pt x="5413986" y="571142"/>
                </a:cubicBezTo>
                <a:cubicBezTo>
                  <a:pt x="5436929" y="563494"/>
                  <a:pt x="5502298" y="542533"/>
                  <a:pt x="5515586" y="533042"/>
                </a:cubicBezTo>
                <a:cubicBezTo>
                  <a:pt x="5528006" y="524170"/>
                  <a:pt x="5532519" y="507642"/>
                  <a:pt x="5540986" y="494942"/>
                </a:cubicBezTo>
                <a:cubicBezTo>
                  <a:pt x="5532620" y="469843"/>
                  <a:pt x="5525267" y="436647"/>
                  <a:pt x="5502886" y="418742"/>
                </a:cubicBezTo>
                <a:cubicBezTo>
                  <a:pt x="5492433" y="410379"/>
                  <a:pt x="5477486" y="410275"/>
                  <a:pt x="5464786" y="406042"/>
                </a:cubicBezTo>
                <a:cubicBezTo>
                  <a:pt x="5456319" y="393342"/>
                  <a:pt x="5451305" y="377477"/>
                  <a:pt x="5439386" y="367942"/>
                </a:cubicBezTo>
                <a:cubicBezTo>
                  <a:pt x="5428933" y="359579"/>
                  <a:pt x="5409649" y="365695"/>
                  <a:pt x="5401286" y="355242"/>
                </a:cubicBezTo>
                <a:cubicBezTo>
                  <a:pt x="5390382" y="341612"/>
                  <a:pt x="5392819" y="321375"/>
                  <a:pt x="5388586" y="304442"/>
                </a:cubicBezTo>
                <a:cubicBezTo>
                  <a:pt x="5420152" y="209744"/>
                  <a:pt x="5370765" y="319276"/>
                  <a:pt x="5528286" y="253642"/>
                </a:cubicBezTo>
                <a:cubicBezTo>
                  <a:pt x="5545762" y="246360"/>
                  <a:pt x="5538540" y="214201"/>
                  <a:pt x="5553686" y="202842"/>
                </a:cubicBezTo>
                <a:cubicBezTo>
                  <a:pt x="5575105" y="186778"/>
                  <a:pt x="5607609" y="192294"/>
                  <a:pt x="5629886" y="177442"/>
                </a:cubicBezTo>
                <a:cubicBezTo>
                  <a:pt x="5696384" y="133110"/>
                  <a:pt x="5652840" y="153935"/>
                  <a:pt x="5769586" y="139342"/>
                </a:cubicBezTo>
                <a:cubicBezTo>
                  <a:pt x="5778053" y="113942"/>
                  <a:pt x="5801480" y="89117"/>
                  <a:pt x="5794986" y="63142"/>
                </a:cubicBezTo>
                <a:cubicBezTo>
                  <a:pt x="5780834" y="6534"/>
                  <a:pt x="5794628" y="0"/>
                  <a:pt x="5769586" y="25042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6"/>
          <p:cNvSpPr/>
          <p:nvPr/>
        </p:nvSpPr>
        <p:spPr>
          <a:xfrm flipH="1" flipV="1">
            <a:off x="8071920" y="1143000"/>
            <a:ext cx="93960" cy="38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лилиния 18"/>
          <p:cNvSpPr/>
          <p:nvPr/>
        </p:nvSpPr>
        <p:spPr>
          <a:xfrm>
            <a:off x="4362480" y="1104840"/>
            <a:ext cx="4149720" cy="76320"/>
          </a:xfrm>
          <a:custGeom>
            <a:avLst/>
            <a:gdLst/>
            <a:ahLst/>
            <a:rect l="l" t="t" r="r" b="b"/>
            <a:pathLst>
              <a:path w="4149840" h="76200">
                <a:moveTo>
                  <a:pt x="4095626" y="76200"/>
                </a:moveTo>
                <a:cubicBezTo>
                  <a:pt x="2776628" y="18852"/>
                  <a:pt x="4149840" y="71485"/>
                  <a:pt x="1746126" y="38100"/>
                </a:cubicBezTo>
                <a:cubicBezTo>
                  <a:pt x="1724542" y="37800"/>
                  <a:pt x="1703451" y="31080"/>
                  <a:pt x="1682626" y="25400"/>
                </a:cubicBezTo>
                <a:cubicBezTo>
                  <a:pt x="1656795" y="18355"/>
                  <a:pt x="1606426" y="0"/>
                  <a:pt x="1606426" y="0"/>
                </a:cubicBezTo>
                <a:lnTo>
                  <a:pt x="18926" y="12700"/>
                </a:lnTo>
                <a:cubicBezTo>
                  <a:pt x="0" y="13169"/>
                  <a:pt x="51461" y="33119"/>
                  <a:pt x="69726" y="38100"/>
                </a:cubicBezTo>
                <a:cubicBezTo>
                  <a:pt x="98605" y="45976"/>
                  <a:pt x="129175" y="45445"/>
                  <a:pt x="158626" y="50800"/>
                </a:cubicBezTo>
                <a:cubicBezTo>
                  <a:pt x="175799" y="53922"/>
                  <a:pt x="191973" y="63282"/>
                  <a:pt x="209426" y="63500"/>
                </a:cubicBezTo>
                <a:cubicBezTo>
                  <a:pt x="531134" y="67521"/>
                  <a:pt x="852893" y="63500"/>
                  <a:pt x="1174626" y="63500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илиния 21"/>
          <p:cNvSpPr/>
          <p:nvPr/>
        </p:nvSpPr>
        <p:spPr>
          <a:xfrm>
            <a:off x="2109960" y="1076400"/>
            <a:ext cx="6564240" cy="1479600"/>
          </a:xfrm>
          <a:custGeom>
            <a:avLst/>
            <a:gdLst/>
            <a:ahLst/>
            <a:rect l="l" t="t" r="r" b="b"/>
            <a:pathLst>
              <a:path w="6563722" h="1480359">
                <a:moveTo>
                  <a:pt x="378883" y="117574"/>
                </a:moveTo>
                <a:cubicBezTo>
                  <a:pt x="757766" y="100641"/>
                  <a:pt x="1894405" y="104874"/>
                  <a:pt x="2652183" y="104874"/>
                </a:cubicBezTo>
                <a:cubicBezTo>
                  <a:pt x="2846962" y="104874"/>
                  <a:pt x="3041604" y="117574"/>
                  <a:pt x="3236383" y="117574"/>
                </a:cubicBezTo>
                <a:lnTo>
                  <a:pt x="4785783" y="104874"/>
                </a:lnTo>
                <a:cubicBezTo>
                  <a:pt x="5205278" y="0"/>
                  <a:pt x="4839914" y="86784"/>
                  <a:pt x="5979583" y="104874"/>
                </a:cubicBezTo>
                <a:cubicBezTo>
                  <a:pt x="6132023" y="107294"/>
                  <a:pt x="6284383" y="113341"/>
                  <a:pt x="6436783" y="117574"/>
                </a:cubicBezTo>
                <a:cubicBezTo>
                  <a:pt x="6466416" y="121807"/>
                  <a:pt x="6498329" y="118117"/>
                  <a:pt x="6525683" y="130274"/>
                </a:cubicBezTo>
                <a:cubicBezTo>
                  <a:pt x="6561481" y="146184"/>
                  <a:pt x="6563722" y="231894"/>
                  <a:pt x="6525683" y="244574"/>
                </a:cubicBezTo>
                <a:cubicBezTo>
                  <a:pt x="6512983" y="248807"/>
                  <a:pt x="6499557" y="251287"/>
                  <a:pt x="6487583" y="257274"/>
                </a:cubicBezTo>
                <a:cubicBezTo>
                  <a:pt x="6473931" y="264100"/>
                  <a:pt x="6463775" y="277315"/>
                  <a:pt x="6449483" y="282674"/>
                </a:cubicBezTo>
                <a:cubicBezTo>
                  <a:pt x="6429272" y="290253"/>
                  <a:pt x="6407150" y="291141"/>
                  <a:pt x="6385983" y="295374"/>
                </a:cubicBezTo>
                <a:cubicBezTo>
                  <a:pt x="6373283" y="303841"/>
                  <a:pt x="6358676" y="309981"/>
                  <a:pt x="6347883" y="320774"/>
                </a:cubicBezTo>
                <a:cubicBezTo>
                  <a:pt x="6337090" y="331567"/>
                  <a:pt x="6334402" y="349339"/>
                  <a:pt x="6322483" y="358874"/>
                </a:cubicBezTo>
                <a:cubicBezTo>
                  <a:pt x="6312030" y="367237"/>
                  <a:pt x="6297083" y="367341"/>
                  <a:pt x="6284383" y="371574"/>
                </a:cubicBezTo>
                <a:cubicBezTo>
                  <a:pt x="6275916" y="384274"/>
                  <a:pt x="6271926" y="401584"/>
                  <a:pt x="6258983" y="409674"/>
                </a:cubicBezTo>
                <a:cubicBezTo>
                  <a:pt x="6236279" y="423864"/>
                  <a:pt x="6182783" y="435074"/>
                  <a:pt x="6182783" y="435074"/>
                </a:cubicBezTo>
                <a:cubicBezTo>
                  <a:pt x="6047316" y="430841"/>
                  <a:pt x="5911695" y="430106"/>
                  <a:pt x="5776383" y="422374"/>
                </a:cubicBezTo>
                <a:cubicBezTo>
                  <a:pt x="5763018" y="421610"/>
                  <a:pt x="5751670" y="409674"/>
                  <a:pt x="5738283" y="409674"/>
                </a:cubicBezTo>
                <a:cubicBezTo>
                  <a:pt x="5653511" y="409674"/>
                  <a:pt x="5568950" y="418141"/>
                  <a:pt x="5484283" y="422374"/>
                </a:cubicBezTo>
                <a:cubicBezTo>
                  <a:pt x="5483196" y="434336"/>
                  <a:pt x="5478332" y="606125"/>
                  <a:pt x="5446183" y="638274"/>
                </a:cubicBezTo>
                <a:lnTo>
                  <a:pt x="5408083" y="676374"/>
                </a:lnTo>
                <a:cubicBezTo>
                  <a:pt x="5403850" y="689074"/>
                  <a:pt x="5401370" y="702500"/>
                  <a:pt x="5395383" y="714474"/>
                </a:cubicBezTo>
                <a:cubicBezTo>
                  <a:pt x="5383669" y="737902"/>
                  <a:pt x="5352949" y="776630"/>
                  <a:pt x="5331883" y="790674"/>
                </a:cubicBezTo>
                <a:cubicBezTo>
                  <a:pt x="5311040" y="804569"/>
                  <a:pt x="5226803" y="814537"/>
                  <a:pt x="5217583" y="816074"/>
                </a:cubicBezTo>
                <a:cubicBezTo>
                  <a:pt x="5172858" y="845891"/>
                  <a:pt x="5139398" y="872748"/>
                  <a:pt x="5090583" y="892274"/>
                </a:cubicBezTo>
                <a:cubicBezTo>
                  <a:pt x="5065724" y="902218"/>
                  <a:pt x="5014383" y="917674"/>
                  <a:pt x="5014383" y="917674"/>
                </a:cubicBezTo>
                <a:cubicBezTo>
                  <a:pt x="5001683" y="930374"/>
                  <a:pt x="4986246" y="940830"/>
                  <a:pt x="4976283" y="955774"/>
                </a:cubicBezTo>
                <a:cubicBezTo>
                  <a:pt x="4968857" y="966913"/>
                  <a:pt x="4971009" y="982735"/>
                  <a:pt x="4963583" y="993874"/>
                </a:cubicBezTo>
                <a:cubicBezTo>
                  <a:pt x="4952602" y="1010345"/>
                  <a:pt x="4908208" y="1049565"/>
                  <a:pt x="4887383" y="1057374"/>
                </a:cubicBezTo>
                <a:cubicBezTo>
                  <a:pt x="4867172" y="1064953"/>
                  <a:pt x="4844824" y="1064839"/>
                  <a:pt x="4823883" y="1070074"/>
                </a:cubicBezTo>
                <a:cubicBezTo>
                  <a:pt x="4810896" y="1073321"/>
                  <a:pt x="4798483" y="1078541"/>
                  <a:pt x="4785783" y="1082774"/>
                </a:cubicBezTo>
                <a:cubicBezTo>
                  <a:pt x="4773083" y="1095474"/>
                  <a:pt x="4757646" y="1105930"/>
                  <a:pt x="4747683" y="1120874"/>
                </a:cubicBezTo>
                <a:cubicBezTo>
                  <a:pt x="4740257" y="1132013"/>
                  <a:pt x="4743346" y="1148521"/>
                  <a:pt x="4734983" y="1158974"/>
                </a:cubicBezTo>
                <a:cubicBezTo>
                  <a:pt x="4725448" y="1170893"/>
                  <a:pt x="4709583" y="1175907"/>
                  <a:pt x="4696883" y="1184374"/>
                </a:cubicBezTo>
                <a:cubicBezTo>
                  <a:pt x="4688416" y="1197074"/>
                  <a:pt x="4684883" y="1215165"/>
                  <a:pt x="4671483" y="1222474"/>
                </a:cubicBezTo>
                <a:cubicBezTo>
                  <a:pt x="4636226" y="1241705"/>
                  <a:pt x="4595283" y="1247874"/>
                  <a:pt x="4557183" y="1260574"/>
                </a:cubicBezTo>
                <a:cubicBezTo>
                  <a:pt x="4486704" y="1284067"/>
                  <a:pt x="4532367" y="1271614"/>
                  <a:pt x="4417483" y="1285974"/>
                </a:cubicBezTo>
                <a:cubicBezTo>
                  <a:pt x="4370551" y="1356372"/>
                  <a:pt x="4418935" y="1300690"/>
                  <a:pt x="4353983" y="1336774"/>
                </a:cubicBezTo>
                <a:cubicBezTo>
                  <a:pt x="4222975" y="1409556"/>
                  <a:pt x="4325894" y="1371537"/>
                  <a:pt x="4239683" y="1400274"/>
                </a:cubicBezTo>
                <a:cubicBezTo>
                  <a:pt x="4216797" y="1423160"/>
                  <a:pt x="4194425" y="1450513"/>
                  <a:pt x="4163483" y="1463774"/>
                </a:cubicBezTo>
                <a:cubicBezTo>
                  <a:pt x="4147440" y="1470650"/>
                  <a:pt x="4129616" y="1472241"/>
                  <a:pt x="4112683" y="1476474"/>
                </a:cubicBezTo>
                <a:cubicBezTo>
                  <a:pt x="3884083" y="1472241"/>
                  <a:pt x="3654920" y="1480359"/>
                  <a:pt x="3426883" y="1463774"/>
                </a:cubicBezTo>
                <a:cubicBezTo>
                  <a:pt x="3413531" y="1462803"/>
                  <a:pt x="3419456" y="1437979"/>
                  <a:pt x="3414183" y="1425674"/>
                </a:cubicBezTo>
                <a:cubicBezTo>
                  <a:pt x="3406725" y="1408273"/>
                  <a:pt x="3399787" y="1390280"/>
                  <a:pt x="3388783" y="1374874"/>
                </a:cubicBezTo>
                <a:cubicBezTo>
                  <a:pt x="3378344" y="1360259"/>
                  <a:pt x="3363383" y="1349474"/>
                  <a:pt x="3350683" y="1336774"/>
                </a:cubicBezTo>
                <a:cubicBezTo>
                  <a:pt x="3346450" y="1324074"/>
                  <a:pt x="3346346" y="1309127"/>
                  <a:pt x="3337983" y="1298674"/>
                </a:cubicBezTo>
                <a:cubicBezTo>
                  <a:pt x="3321985" y="1278676"/>
                  <a:pt x="3266583" y="1260374"/>
                  <a:pt x="3249083" y="1247874"/>
                </a:cubicBezTo>
                <a:cubicBezTo>
                  <a:pt x="3234468" y="1237435"/>
                  <a:pt x="3223683" y="1222474"/>
                  <a:pt x="3210983" y="1209774"/>
                </a:cubicBezTo>
                <a:cubicBezTo>
                  <a:pt x="3160183" y="1218241"/>
                  <a:pt x="3108345" y="1221904"/>
                  <a:pt x="3058583" y="1235174"/>
                </a:cubicBezTo>
                <a:cubicBezTo>
                  <a:pt x="3043835" y="1239107"/>
                  <a:pt x="3035291" y="1264276"/>
                  <a:pt x="3020483" y="1260574"/>
                </a:cubicBezTo>
                <a:cubicBezTo>
                  <a:pt x="3007496" y="1257327"/>
                  <a:pt x="3012016" y="1235174"/>
                  <a:pt x="3007783" y="1222474"/>
                </a:cubicBezTo>
                <a:cubicBezTo>
                  <a:pt x="2990850" y="1230941"/>
                  <a:pt x="2975591" y="1244385"/>
                  <a:pt x="2956983" y="1247874"/>
                </a:cubicBezTo>
                <a:cubicBezTo>
                  <a:pt x="2814093" y="1274666"/>
                  <a:pt x="2810079" y="1261673"/>
                  <a:pt x="2677583" y="1235174"/>
                </a:cubicBezTo>
                <a:cubicBezTo>
                  <a:pt x="2664883" y="1226707"/>
                  <a:pt x="2654747" y="1209774"/>
                  <a:pt x="2639483" y="1209774"/>
                </a:cubicBezTo>
                <a:cubicBezTo>
                  <a:pt x="2591377" y="1209774"/>
                  <a:pt x="2566837" y="1244320"/>
                  <a:pt x="2537883" y="1273274"/>
                </a:cubicBezTo>
                <a:cubicBezTo>
                  <a:pt x="2525183" y="1269041"/>
                  <a:pt x="2511757" y="1266561"/>
                  <a:pt x="2499783" y="1260574"/>
                </a:cubicBezTo>
                <a:cubicBezTo>
                  <a:pt x="2486131" y="1253748"/>
                  <a:pt x="2476943" y="1235499"/>
                  <a:pt x="2461683" y="1235174"/>
                </a:cubicBezTo>
                <a:lnTo>
                  <a:pt x="1902883" y="1247874"/>
                </a:lnTo>
                <a:cubicBezTo>
                  <a:pt x="1898650" y="1260574"/>
                  <a:pt x="1901322" y="1278548"/>
                  <a:pt x="1890183" y="1285974"/>
                </a:cubicBezTo>
                <a:cubicBezTo>
                  <a:pt x="1872222" y="1297948"/>
                  <a:pt x="1847624" y="1293439"/>
                  <a:pt x="1826683" y="1298674"/>
                </a:cubicBezTo>
                <a:cubicBezTo>
                  <a:pt x="1813696" y="1301921"/>
                  <a:pt x="1801283" y="1307141"/>
                  <a:pt x="1788583" y="1311374"/>
                </a:cubicBezTo>
                <a:cubicBezTo>
                  <a:pt x="1644650" y="1307141"/>
                  <a:pt x="1500308" y="1310311"/>
                  <a:pt x="1356783" y="1298674"/>
                </a:cubicBezTo>
                <a:cubicBezTo>
                  <a:pt x="1341569" y="1297440"/>
                  <a:pt x="1332335" y="1280100"/>
                  <a:pt x="1318683" y="1273274"/>
                </a:cubicBezTo>
                <a:cubicBezTo>
                  <a:pt x="1306709" y="1267287"/>
                  <a:pt x="1292285" y="1267075"/>
                  <a:pt x="1280583" y="1260574"/>
                </a:cubicBezTo>
                <a:cubicBezTo>
                  <a:pt x="1253898" y="1245749"/>
                  <a:pt x="1204383" y="1209774"/>
                  <a:pt x="1204383" y="1209774"/>
                </a:cubicBezTo>
                <a:cubicBezTo>
                  <a:pt x="1200150" y="1184374"/>
                  <a:pt x="1209891" y="1151782"/>
                  <a:pt x="1191683" y="1133574"/>
                </a:cubicBezTo>
                <a:cubicBezTo>
                  <a:pt x="1179341" y="1121232"/>
                  <a:pt x="1156038" y="1137614"/>
                  <a:pt x="1140883" y="1146274"/>
                </a:cubicBezTo>
                <a:cubicBezTo>
                  <a:pt x="1007698" y="1222380"/>
                  <a:pt x="1183638" y="1157422"/>
                  <a:pt x="1064683" y="1197074"/>
                </a:cubicBezTo>
                <a:cubicBezTo>
                  <a:pt x="1047750" y="1192841"/>
                  <a:pt x="1031203" y="1186539"/>
                  <a:pt x="1013883" y="1184374"/>
                </a:cubicBezTo>
                <a:cubicBezTo>
                  <a:pt x="814994" y="1159513"/>
                  <a:pt x="918548" y="1190696"/>
                  <a:pt x="823383" y="1158974"/>
                </a:cubicBezTo>
                <a:cubicBezTo>
                  <a:pt x="797983" y="1167441"/>
                  <a:pt x="768970" y="1168812"/>
                  <a:pt x="747183" y="1184374"/>
                </a:cubicBezTo>
                <a:cubicBezTo>
                  <a:pt x="736290" y="1192155"/>
                  <a:pt x="742846" y="1212021"/>
                  <a:pt x="734483" y="1222474"/>
                </a:cubicBezTo>
                <a:cubicBezTo>
                  <a:pt x="716578" y="1244855"/>
                  <a:pt x="683382" y="1252208"/>
                  <a:pt x="658283" y="1260574"/>
                </a:cubicBezTo>
                <a:cubicBezTo>
                  <a:pt x="603205" y="1255066"/>
                  <a:pt x="528948" y="1262862"/>
                  <a:pt x="480483" y="1222474"/>
                </a:cubicBezTo>
                <a:cubicBezTo>
                  <a:pt x="468757" y="1212703"/>
                  <a:pt x="463550" y="1197074"/>
                  <a:pt x="455083" y="1184374"/>
                </a:cubicBezTo>
                <a:cubicBezTo>
                  <a:pt x="459316" y="1158974"/>
                  <a:pt x="467783" y="1133924"/>
                  <a:pt x="467783" y="1108174"/>
                </a:cubicBezTo>
                <a:cubicBezTo>
                  <a:pt x="467783" y="1058857"/>
                  <a:pt x="458744" y="1009160"/>
                  <a:pt x="429683" y="968474"/>
                </a:cubicBezTo>
                <a:cubicBezTo>
                  <a:pt x="419244" y="953859"/>
                  <a:pt x="404283" y="943074"/>
                  <a:pt x="391583" y="930374"/>
                </a:cubicBezTo>
                <a:cubicBezTo>
                  <a:pt x="370722" y="867792"/>
                  <a:pt x="377858" y="896771"/>
                  <a:pt x="366183" y="803374"/>
                </a:cubicBezTo>
                <a:cubicBezTo>
                  <a:pt x="361428" y="765336"/>
                  <a:pt x="362780" y="726264"/>
                  <a:pt x="353483" y="689074"/>
                </a:cubicBezTo>
                <a:cubicBezTo>
                  <a:pt x="349781" y="674266"/>
                  <a:pt x="336550" y="663674"/>
                  <a:pt x="328083" y="650974"/>
                </a:cubicBezTo>
                <a:cubicBezTo>
                  <a:pt x="340783" y="642507"/>
                  <a:pt x="351127" y="628083"/>
                  <a:pt x="366183" y="625574"/>
                </a:cubicBezTo>
                <a:cubicBezTo>
                  <a:pt x="379388" y="623373"/>
                  <a:pt x="403393" y="651631"/>
                  <a:pt x="404283" y="638274"/>
                </a:cubicBezTo>
                <a:cubicBezTo>
                  <a:pt x="424710" y="331870"/>
                  <a:pt x="429683" y="358873"/>
                  <a:pt x="378883" y="206474"/>
                </a:cubicBezTo>
                <a:cubicBezTo>
                  <a:pt x="395599" y="156326"/>
                  <a:pt x="0" y="134507"/>
                  <a:pt x="378883" y="117574"/>
                </a:cubicBezTo>
                <a:close/>
              </a:path>
            </a:pathLst>
          </a:custGeom>
          <a:solidFill>
            <a:srgbClr val="47c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Климатические усло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85680" y="1643040"/>
            <a:ext cx="381636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Большая часть поверхности покрыта льд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олгая холодная зима (-30 - 60°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лярная ночь 4 – 5 меся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роткое холодное лето (+3°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Дожди летом не выпадают, но часто бывают тум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лярный день продолжается несколько меся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олнце поднимается над горизонтом невысоко и мало нагревает поверх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д тонким слоем почвы находится слой вечной мерз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76720" y="1413000"/>
            <a:ext cx="1809720" cy="107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1171420776_arktika_fotografii_07"/>
          <p:cNvPicPr/>
          <p:nvPr/>
        </p:nvPicPr>
        <p:blipFill>
          <a:blip r:embed="rId3"/>
          <a:stretch/>
        </p:blipFill>
        <p:spPr>
          <a:xfrm>
            <a:off x="468360" y="134136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rctica_038"/>
          <p:cNvPicPr/>
          <p:nvPr/>
        </p:nvPicPr>
        <p:blipFill>
          <a:blip r:embed="rId4"/>
          <a:stretch/>
        </p:blipFill>
        <p:spPr>
          <a:xfrm>
            <a:off x="6804000" y="1341360"/>
            <a:ext cx="2087640" cy="1516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rctica_090"/>
          <p:cNvPicPr/>
          <p:nvPr/>
        </p:nvPicPr>
        <p:blipFill>
          <a:blip r:embed="rId5"/>
          <a:stretch/>
        </p:blipFill>
        <p:spPr>
          <a:xfrm>
            <a:off x="468360" y="314172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rctica_083"/>
          <p:cNvPicPr/>
          <p:nvPr/>
        </p:nvPicPr>
        <p:blipFill>
          <a:blip r:embed="rId6"/>
          <a:stretch/>
        </p:blipFill>
        <p:spPr>
          <a:xfrm>
            <a:off x="468360" y="4941720"/>
            <a:ext cx="2158920" cy="151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ночь"/>
          <p:cNvPicPr/>
          <p:nvPr/>
        </p:nvPicPr>
        <p:blipFill>
          <a:blip r:embed="rId7"/>
          <a:stretch/>
        </p:blipFill>
        <p:spPr>
          <a:xfrm>
            <a:off x="6804000" y="3141720"/>
            <a:ext cx="2016000" cy="145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сев"/>
          <p:cNvPicPr/>
          <p:nvPr/>
        </p:nvPicPr>
        <p:blipFill>
          <a:blip r:embed="rId8"/>
          <a:stretch/>
        </p:blipFill>
        <p:spPr>
          <a:xfrm>
            <a:off x="6804000" y="4941720"/>
            <a:ext cx="2016000" cy="1511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25280" y="130320"/>
            <a:ext cx="8893440" cy="6597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755640" y="620640"/>
            <a:ext cx="748836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65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Растите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79480" y="1720800"/>
            <a:ext cx="30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5564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348000" y="184464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714760" y="2000160"/>
            <a:ext cx="3786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ения Арктики представлены лишайниками, мхами, полярными маками, водяными водорослями, карликовыми ивами и березам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5" descr="__1_~1"/>
          <p:cNvPicPr/>
          <p:nvPr/>
        </p:nvPicPr>
        <p:blipFill>
          <a:blip r:embed="rId2"/>
          <a:stretch/>
        </p:blipFill>
        <p:spPr>
          <a:xfrm>
            <a:off x="2195640" y="479736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74404412_ouxSzDXF_Arcticpoppypapaverradicatum"/>
          <p:cNvPicPr/>
          <p:nvPr/>
        </p:nvPicPr>
        <p:blipFill>
          <a:blip r:embed="rId3"/>
          <a:stretch/>
        </p:blipFill>
        <p:spPr>
          <a:xfrm>
            <a:off x="4716360" y="4797360"/>
            <a:ext cx="1770120" cy="177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arctica_078"/>
          <p:cNvPicPr/>
          <p:nvPr/>
        </p:nvPicPr>
        <p:blipFill>
          <a:blip r:embed="rId4"/>
          <a:stretch/>
        </p:blipFill>
        <p:spPr>
          <a:xfrm>
            <a:off x="6588000" y="1052640"/>
            <a:ext cx="2286000" cy="550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ena_2642"/>
          <p:cNvPicPr/>
          <p:nvPr/>
        </p:nvPicPr>
        <p:blipFill>
          <a:blip r:embed="rId5"/>
          <a:stretch/>
        </p:blipFill>
        <p:spPr>
          <a:xfrm>
            <a:off x="250920" y="4797360"/>
            <a:ext cx="1795320" cy="179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thumb--lichen-3"/>
          <p:cNvPicPr/>
          <p:nvPr/>
        </p:nvPicPr>
        <p:blipFill>
          <a:blip r:embed="rId6"/>
          <a:stretch/>
        </p:blipFill>
        <p:spPr>
          <a:xfrm>
            <a:off x="250920" y="2924280"/>
            <a:ext cx="2388960" cy="178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снеж"/>
          <p:cNvPicPr/>
          <p:nvPr/>
        </p:nvPicPr>
        <p:blipFill>
          <a:blip r:embed="rId7"/>
          <a:stretch/>
        </p:blipFill>
        <p:spPr>
          <a:xfrm>
            <a:off x="250920" y="1052640"/>
            <a:ext cx="236844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3"/>
          <p:cNvSpPr/>
          <p:nvPr/>
        </p:nvSpPr>
        <p:spPr>
          <a:xfrm>
            <a:off x="357120" y="428760"/>
            <a:ext cx="3500640" cy="4071960"/>
          </a:xfrm>
          <a:custGeom>
            <a:avLst/>
            <a:gdLst>
              <a:gd name="textAreaLeft" fmla="*/ 170640 w 3500640"/>
              <a:gd name="textAreaRight" fmla="*/ 3330000 w 3500640"/>
              <a:gd name="textAreaTop" fmla="*/ 170640 h 4071960"/>
              <a:gd name="textAreaBottom" fmla="*/ 3901320 h 4071960"/>
            </a:gdLst>
            <a:ahLst/>
            <a:rect l="textAreaLeft" t="textAreaTop" r="textAreaRight" b="textAreaBottom"/>
            <a:pathLst>
              <a:path w="21600" h="25125">
                <a:moveTo>
                  <a:pt x="3600" y="0"/>
                </a:moveTo>
                <a:arcTo wR="3600" hR="3600" stAng="16200000" swAng="-5400000"/>
                <a:lnTo>
                  <a:pt x="0" y="21525"/>
                </a:lnTo>
                <a:arcTo wR="3600" hR="3600" stAng="10800000" swAng="-5400000"/>
                <a:lnTo>
                  <a:pt x="18000" y="251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Box 2" descr=""/>
          <p:cNvPicPr/>
          <p:nvPr/>
        </p:nvPicPr>
        <p:blipFill>
          <a:blip r:embed="rId2"/>
          <a:stretch/>
        </p:blipFill>
        <p:spPr>
          <a:xfrm>
            <a:off x="781200" y="212760"/>
            <a:ext cx="7369200" cy="86040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4"/>
          <p:cNvSpPr/>
          <p:nvPr/>
        </p:nvSpPr>
        <p:spPr>
          <a:xfrm>
            <a:off x="4429080" y="1000080"/>
            <a:ext cx="4572000" cy="4572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42960" y="4714920"/>
            <a:ext cx="5857920" cy="1857240"/>
          </a:xfrm>
          <a:prstGeom prst="roundRect">
            <a:avLst>
              <a:gd name="adj" fmla="val 16667"/>
            </a:avLst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extBox 6" descr=""/>
          <p:cNvPicPr/>
          <p:nvPr/>
        </p:nvPicPr>
        <p:blipFill>
          <a:blip r:embed="rId3"/>
          <a:stretch/>
        </p:blipFill>
        <p:spPr>
          <a:xfrm>
            <a:off x="353880" y="706320"/>
            <a:ext cx="1054080" cy="315936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8" descr=""/>
          <p:cNvPicPr/>
          <p:nvPr/>
        </p:nvPicPr>
        <p:blipFill>
          <a:blip r:embed="rId4"/>
          <a:stretch/>
        </p:blipFill>
        <p:spPr>
          <a:xfrm>
            <a:off x="4853160" y="1079640"/>
            <a:ext cx="3436920" cy="5904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9" descr=""/>
          <p:cNvPicPr/>
          <p:nvPr/>
        </p:nvPicPr>
        <p:blipFill>
          <a:blip r:embed="rId5"/>
          <a:stretch/>
        </p:blipFill>
        <p:spPr>
          <a:xfrm>
            <a:off x="7997760" y="1066680"/>
            <a:ext cx="1013040" cy="47246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0" descr=""/>
          <p:cNvPicPr/>
          <p:nvPr/>
        </p:nvPicPr>
        <p:blipFill>
          <a:blip r:embed="rId6"/>
          <a:stretch/>
        </p:blipFill>
        <p:spPr>
          <a:xfrm>
            <a:off x="781200" y="4492800"/>
            <a:ext cx="919080" cy="2371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H:\kart\20090316-b_330.jpg"/>
          <p:cNvPicPr/>
          <p:nvPr/>
        </p:nvPicPr>
        <p:blipFill>
          <a:blip r:embed="rId7"/>
          <a:stretch/>
        </p:blipFill>
        <p:spPr>
          <a:xfrm>
            <a:off x="928800" y="928800"/>
            <a:ext cx="1779480" cy="118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H:\kart\s320x240.jpg"/>
          <p:cNvPicPr/>
          <p:nvPr/>
        </p:nvPicPr>
        <p:blipFill>
          <a:blip r:embed="rId8"/>
          <a:stretch/>
        </p:blipFill>
        <p:spPr>
          <a:xfrm>
            <a:off x="1000080" y="2643120"/>
            <a:ext cx="1187640" cy="179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H:\kart\arctica_027.jpg"/>
          <p:cNvPicPr/>
          <p:nvPr/>
        </p:nvPicPr>
        <p:blipFill>
          <a:blip r:embed="rId9"/>
          <a:stretch/>
        </p:blipFill>
        <p:spPr>
          <a:xfrm>
            <a:off x="6572160" y="3143160"/>
            <a:ext cx="1663920" cy="237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:\kart\chaiki_i_kairi_01.jpg"/>
          <p:cNvPicPr/>
          <p:nvPr/>
        </p:nvPicPr>
        <p:blipFill>
          <a:blip r:embed="rId10"/>
          <a:stretch/>
        </p:blipFill>
        <p:spPr>
          <a:xfrm>
            <a:off x="1928880" y="2071800"/>
            <a:ext cx="1789200" cy="118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H:\kart\arctica_112.jpg"/>
          <p:cNvPicPr/>
          <p:nvPr/>
        </p:nvPicPr>
        <p:blipFill>
          <a:blip r:embed="rId11"/>
          <a:stretch/>
        </p:blipFill>
        <p:spPr>
          <a:xfrm>
            <a:off x="4500720" y="2928960"/>
            <a:ext cx="217800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H:\kart\arctica_076.jpg"/>
          <p:cNvPicPr/>
          <p:nvPr/>
        </p:nvPicPr>
        <p:blipFill>
          <a:blip r:embed="rId12"/>
          <a:stretch/>
        </p:blipFill>
        <p:spPr>
          <a:xfrm>
            <a:off x="5572080" y="1571760"/>
            <a:ext cx="2211480" cy="15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D:\Документы\kart\272200832_42a4ead48c_o.jpg"/>
          <p:cNvPicPr/>
          <p:nvPr/>
        </p:nvPicPr>
        <p:blipFill>
          <a:blip r:embed="rId13"/>
          <a:stretch/>
        </p:blipFill>
        <p:spPr>
          <a:xfrm>
            <a:off x="3929040" y="4786200"/>
            <a:ext cx="2436840" cy="161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D:\Документы\kart\arctica_064.jpg"/>
          <p:cNvPicPr/>
          <p:nvPr/>
        </p:nvPicPr>
        <p:blipFill>
          <a:blip r:embed="rId14"/>
          <a:stretch/>
        </p:blipFill>
        <p:spPr>
          <a:xfrm>
            <a:off x="1428840" y="4786200"/>
            <a:ext cx="23652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6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2" dur="10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10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58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59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43"/>
          <p:cNvSpPr/>
          <p:nvPr/>
        </p:nvSpPr>
        <p:spPr>
          <a:xfrm>
            <a:off x="500040" y="4572000"/>
            <a:ext cx="8143920" cy="178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142920" y="1571760"/>
            <a:ext cx="8858160" cy="214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Овал 1" descr=""/>
          <p:cNvPicPr/>
          <p:nvPr/>
        </p:nvPicPr>
        <p:blipFill>
          <a:blip r:embed="rId4"/>
          <a:stretch/>
        </p:blipFill>
        <p:spPr>
          <a:xfrm>
            <a:off x="376704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5" name="Овал 2" descr=""/>
          <p:cNvPicPr/>
          <p:nvPr/>
        </p:nvPicPr>
        <p:blipFill>
          <a:blip r:embed="rId5"/>
          <a:stretch/>
        </p:blipFill>
        <p:spPr>
          <a:xfrm>
            <a:off x="562608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6" name="Овал 3" descr=""/>
          <p:cNvPicPr/>
          <p:nvPr/>
        </p:nvPicPr>
        <p:blipFill>
          <a:blip r:embed="rId6"/>
          <a:stretch/>
        </p:blipFill>
        <p:spPr>
          <a:xfrm>
            <a:off x="198108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7" name="Овал 4" descr=""/>
          <p:cNvPicPr/>
          <p:nvPr/>
        </p:nvPicPr>
        <p:blipFill>
          <a:blip r:embed="rId7"/>
          <a:stretch/>
        </p:blipFill>
        <p:spPr>
          <a:xfrm>
            <a:off x="195120" y="205416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118" name="Овал 6" descr=""/>
          <p:cNvPicPr/>
          <p:nvPr/>
        </p:nvPicPr>
        <p:blipFill>
          <a:blip r:embed="rId8"/>
          <a:stretch/>
        </p:blipFill>
        <p:spPr>
          <a:xfrm>
            <a:off x="7412040" y="2054160"/>
            <a:ext cx="1536840" cy="951120"/>
          </a:xfrm>
          <a:prstGeom prst="rect">
            <a:avLst/>
          </a:prstGeom>
          <a:ln w="0">
            <a:noFill/>
          </a:ln>
        </p:spPr>
      </p:pic>
      <p:cxnSp>
        <p:nvCxnSpPr>
          <p:cNvPr id="119" name="Прямая со стрелкой 9"/>
          <p:cNvCxnSpPr/>
          <p:nvPr/>
        </p:nvCxnSpPr>
        <p:spPr>
          <a:xfrm>
            <a:off x="1714320" y="2499840"/>
            <a:ext cx="286200" cy="252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0" name="Прямая со стрелкой 13"/>
          <p:cNvCxnSpPr/>
          <p:nvPr/>
        </p:nvCxnSpPr>
        <p:spPr>
          <a:xfrm>
            <a:off x="3500280" y="2529000"/>
            <a:ext cx="286560" cy="21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1" name="Прямая со стрелкой 15"/>
          <p:cNvCxnSpPr/>
          <p:nvPr/>
        </p:nvCxnSpPr>
        <p:spPr>
          <a:xfrm>
            <a:off x="5285880" y="2529000"/>
            <a:ext cx="358200" cy="21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2" name="Прямая со стрелкой 17"/>
          <p:cNvCxnSpPr/>
          <p:nvPr/>
        </p:nvCxnSpPr>
        <p:spPr>
          <a:xfrm>
            <a:off x="7143840" y="2529000"/>
            <a:ext cx="286560" cy="216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23" name="Овал 23"/>
          <p:cNvSpPr/>
          <p:nvPr/>
        </p:nvSpPr>
        <p:spPr>
          <a:xfrm>
            <a:off x="714240" y="5072040"/>
            <a:ext cx="1643040" cy="928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ро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24"/>
          <p:cNvSpPr/>
          <p:nvPr/>
        </p:nvSpPr>
        <p:spPr>
          <a:xfrm>
            <a:off x="2619360" y="5072040"/>
            <a:ext cx="1643040" cy="928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25"/>
          <p:cNvSpPr/>
          <p:nvPr/>
        </p:nvSpPr>
        <p:spPr>
          <a:xfrm>
            <a:off x="4643280" y="5072040"/>
            <a:ext cx="1643400" cy="928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26"/>
          <p:cNvSpPr/>
          <p:nvPr/>
        </p:nvSpPr>
        <p:spPr>
          <a:xfrm>
            <a:off x="6715080" y="5072040"/>
            <a:ext cx="1643040" cy="928800"/>
          </a:xfrm>
          <a:prstGeom prst="ellipse">
            <a:avLst/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29"/>
          <p:cNvCxnSpPr>
            <a:stCxn id="123" idx="6"/>
            <a:endCxn id="124" idx="2"/>
          </p:cNvCxnSpPr>
          <p:nvPr/>
        </p:nvCxnSpPr>
        <p:spPr>
          <a:xfrm>
            <a:off x="2357280" y="5536800"/>
            <a:ext cx="26280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28" name="Прямая со стрелкой 31"/>
          <p:cNvCxnSpPr>
            <a:stCxn id="124" idx="6"/>
            <a:endCxn id="124" idx="6"/>
          </p:cNvCxnSpPr>
          <p:nvPr/>
        </p:nvCxnSpPr>
        <p:spPr>
          <a:xfrm>
            <a:off x="4262040" y="5536800"/>
            <a:ext cx="25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29" name="Прямая со стрелкой 36"/>
          <p:cNvCxnSpPr>
            <a:stCxn id="124" idx="6"/>
            <a:endCxn id="125" idx="2"/>
          </p:cNvCxnSpPr>
          <p:nvPr/>
        </p:nvCxnSpPr>
        <p:spPr>
          <a:xfrm>
            <a:off x="4262400" y="5536800"/>
            <a:ext cx="38160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30" name="Прямая со стрелкой 42"/>
          <p:cNvCxnSpPr>
            <a:stCxn id="125" idx="6"/>
            <a:endCxn id="126" idx="2"/>
          </p:cNvCxnSpPr>
          <p:nvPr/>
        </p:nvCxnSpPr>
        <p:spPr>
          <a:xfrm>
            <a:off x="6286680" y="5536800"/>
            <a:ext cx="42912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pic>
        <p:nvPicPr>
          <p:cNvPr id="131" name="Прямоугольник 55" descr=""/>
          <p:cNvPicPr/>
          <p:nvPr/>
        </p:nvPicPr>
        <p:blipFill>
          <a:blip r:embed="rId9"/>
          <a:stretch/>
        </p:blipFill>
        <p:spPr>
          <a:xfrm>
            <a:off x="1133640" y="208080"/>
            <a:ext cx="665784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0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с двумя скругленными противолежащими углами 8"/>
          <p:cNvSpPr/>
          <p:nvPr/>
        </p:nvSpPr>
        <p:spPr>
          <a:xfrm>
            <a:off x="5715000" y="285840"/>
            <a:ext cx="3000240" cy="2000160"/>
          </a:xfrm>
          <a:custGeom>
            <a:avLst/>
            <a:gdLst>
              <a:gd name="textAreaLeft" fmla="*/ 97560 w 3000240"/>
              <a:gd name="textAreaRight" fmla="*/ 2902680 w 3000240"/>
              <a:gd name="textAreaTop" fmla="*/ 97560 h 2000160"/>
              <a:gd name="textAreaBottom" fmla="*/ 1902600 h 2000160"/>
            </a:gdLst>
            <a:ahLst/>
            <a:rect l="textAreaLeft" t="textAreaTop" r="textAreaRight" b="textAreaBottom"/>
            <a:pathLst>
              <a:path w="3000375" h="2000250">
                <a:moveTo>
                  <a:pt x="333382" y="0"/>
                </a:moveTo>
                <a:lnTo>
                  <a:pt x="3000375" y="0"/>
                </a:lnTo>
                <a:lnTo>
                  <a:pt x="3000375" y="1666868"/>
                </a:lnTo>
                <a:lnTo>
                  <a:pt x="3000375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Прямоугольник 3"/>
          <p:cNvGrpSpPr/>
          <p:nvPr/>
        </p:nvGrpSpPr>
        <p:grpSpPr>
          <a:xfrm>
            <a:off x="-42840" y="-42840"/>
            <a:ext cx="9236160" cy="6735600"/>
            <a:chOff x="-42840" y="-42840"/>
            <a:chExt cx="9236160" cy="6735600"/>
          </a:xfrm>
        </p:grpSpPr>
        <p:pic>
          <p:nvPicPr>
            <p:cNvPr id="13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-42840" y="-42840"/>
              <a:ext cx="9236160" cy="67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0" y="0"/>
              <a:ext cx="9144000" cy="66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Прямоугольник с двумя скругленными противолежащими углами 6"/>
          <p:cNvSpPr/>
          <p:nvPr/>
        </p:nvSpPr>
        <p:spPr>
          <a:xfrm>
            <a:off x="6000840" y="3929040"/>
            <a:ext cx="2928960" cy="2000160"/>
          </a:xfrm>
          <a:custGeom>
            <a:avLst/>
            <a:gdLst>
              <a:gd name="textAreaLeft" fmla="*/ 97560 w 2928960"/>
              <a:gd name="textAreaRight" fmla="*/ 2831400 w 2928960"/>
              <a:gd name="textAreaTop" fmla="*/ 97560 h 2000160"/>
              <a:gd name="textAreaBottom" fmla="*/ 1902600 h 2000160"/>
            </a:gdLst>
            <a:ahLst/>
            <a:rect l="textAreaLeft" t="textAreaTop" r="textAreaRight" b="textAreaBottom"/>
            <a:pathLst>
              <a:path w="2928938" h="2000250">
                <a:moveTo>
                  <a:pt x="333382" y="0"/>
                </a:moveTo>
                <a:lnTo>
                  <a:pt x="2928938" y="0"/>
                </a:lnTo>
                <a:lnTo>
                  <a:pt x="2928938" y="1666868"/>
                </a:lnTo>
                <a:lnTo>
                  <a:pt x="2928938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4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с двумя скругленными противолежащими углами 7"/>
          <p:cNvSpPr/>
          <p:nvPr/>
        </p:nvSpPr>
        <p:spPr>
          <a:xfrm>
            <a:off x="214200" y="3857760"/>
            <a:ext cx="3000600" cy="2000160"/>
          </a:xfrm>
          <a:custGeom>
            <a:avLst/>
            <a:gdLst>
              <a:gd name="textAreaLeft" fmla="*/ 97560 w 3000600"/>
              <a:gd name="textAreaRight" fmla="*/ 2903040 w 3000600"/>
              <a:gd name="textAreaTop" fmla="*/ 97560 h 2000160"/>
              <a:gd name="textAreaBottom" fmla="*/ 1902600 h 2000160"/>
            </a:gdLst>
            <a:ahLst/>
            <a:rect l="textAreaLeft" t="textAreaTop" r="textAreaRight" b="textAreaBottom"/>
            <a:pathLst>
              <a:path w="3000375" h="2000250">
                <a:moveTo>
                  <a:pt x="333382" y="0"/>
                </a:moveTo>
                <a:lnTo>
                  <a:pt x="3000375" y="0"/>
                </a:lnTo>
                <a:lnTo>
                  <a:pt x="3000375" y="1666868"/>
                </a:lnTo>
                <a:lnTo>
                  <a:pt x="3000375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5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1285920" y="57168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знь люд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Аркт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с двумя скругленными противолежащими углами 9"/>
          <p:cNvSpPr/>
          <p:nvPr/>
        </p:nvSpPr>
        <p:spPr>
          <a:xfrm>
            <a:off x="3929040" y="2500200"/>
            <a:ext cx="3000240" cy="2000520"/>
          </a:xfrm>
          <a:custGeom>
            <a:avLst/>
            <a:gdLst>
              <a:gd name="textAreaLeft" fmla="*/ 97560 w 3000240"/>
              <a:gd name="textAreaRight" fmla="*/ 2902680 w 3000240"/>
              <a:gd name="textAreaTop" fmla="*/ 97560 h 2000520"/>
              <a:gd name="textAreaBottom" fmla="*/ 1902960 h 2000520"/>
            </a:gdLst>
            <a:ahLst/>
            <a:rect l="textAreaLeft" t="textAreaTop" r="textAreaRight" b="textAreaBottom"/>
            <a:pathLst>
              <a:path w="3000375" h="2000250">
                <a:moveTo>
                  <a:pt x="333382" y="0"/>
                </a:moveTo>
                <a:lnTo>
                  <a:pt x="3000375" y="0"/>
                </a:lnTo>
                <a:lnTo>
                  <a:pt x="3000375" y="1666868"/>
                </a:lnTo>
                <a:lnTo>
                  <a:pt x="3000375" y="1666868"/>
                </a:lnTo>
                <a:arcTo wR="333382" hR="333382" stAng="0" swAng="5400000"/>
                <a:lnTo>
                  <a:pt x="0" y="2000250"/>
                </a:lnTo>
                <a:lnTo>
                  <a:pt x="0" y="333382"/>
                </a:lnTo>
                <a:lnTo>
                  <a:pt x="0" y="333382"/>
                </a:lnTo>
                <a:arcTo wR="333382" hR="333382" stAng="10800000" swAng="5400010"/>
                <a:close/>
              </a:path>
            </a:pathLst>
          </a:custGeom>
          <a:blipFill rotWithShape="0">
            <a:blip r:embed="rId6"/>
            <a:srcRect/>
            <a:stretch/>
          </a:blip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714240" y="1071720"/>
            <a:ext cx="7786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рктика - это огромное пространство (…………)  океана, с  (……) и  (……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лнце направляет на это пространство  (………) лучи. Оно  (………), но не (……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имой в Арктике  (…………). Темноту освещают: луна, звезды и  (……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ют  (……….), бушует  (……..). Температура опускается до  (………..)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етом в Арктике  (………..), но  (………) тоже нет. Это зависит от географического (……..) арктическ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емпература лишь на  (…………) выше  (н……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" descr=""/>
          <p:cNvPicPr/>
          <p:nvPr/>
        </p:nvPicPr>
        <p:blipFill>
          <a:blip r:embed="rId2"/>
          <a:stretch/>
        </p:blipFill>
        <p:spPr>
          <a:xfrm>
            <a:off x="781200" y="12600"/>
            <a:ext cx="7229160" cy="11876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4"/>
          <p:cNvSpPr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714240" y="1071720"/>
            <a:ext cx="7786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рктика - это огромное пространство (Северного Ледовитого)  океана, с  (морями) и  (остров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лнце направляет на это пространство  (косые) лучи. Оно  (светит), но не (грее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имой в Арктике  (полярная ночь). Темноту освещают: луна, звезды и  (Северное сиян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ют  (ветры), бушует  (пурга). Температура опускается до  (минус шестидесяти) граду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етом в Арктике  (полярный день), но  (тепла) тоже нет. Это зависит от географического (положения) арктическ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емпература лишь на  (несколько градусов) выше  (ну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рямоугольник 2" descr=""/>
          <p:cNvPicPr/>
          <p:nvPr/>
        </p:nvPicPr>
        <p:blipFill>
          <a:blip r:embed="rId2"/>
          <a:stretch/>
        </p:blipFill>
        <p:spPr>
          <a:xfrm>
            <a:off x="781200" y="55440"/>
            <a:ext cx="72291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6:12:01Z</dcterms:created>
  <dc:creator>cursant</dc:creator>
  <dc:description/>
  <dc:language>en-US</dc:language>
  <cp:lastModifiedBy>учитель</cp:lastModifiedBy>
  <dcterms:modified xsi:type="dcterms:W3CDTF">2013-10-23T18:35:22Z</dcterms:modified>
  <cp:revision>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280000000000010250300207f7000400038000</vt:lpwstr>
  </property>
</Properties>
</file>