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C06A-5C5A-41A6-8978-6937A067B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68A3-7739-4CBB-A357-14C40D575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046C-83BB-47BD-A614-FC104E0DA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1E24-432B-4EC9-A553-97A1BE5AF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A47C-E25B-4364-AB0B-2A237B34C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DC94-D80A-4C2F-82A9-E213D7217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A3AF-931E-4E62-8FA5-702906975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3B29-494E-4302-B0C3-310FD0B1E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B7E5-B1B8-445A-862E-8F0B58A67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AB5C-A321-486D-B0B3-BEB46744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0EF1-DF44-4017-913C-B4BD2CB1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09C9-A278-406D-9B38-D5D7ABC5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F12D-05FA-4A49-B46C-197F0A5C32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5/5f/Mastodonsaurus_DB.jpg" TargetMode="External"/><Relationship Id="rId3" Type="http://schemas.openxmlformats.org/officeDocument/2006/relationships/image" Target="../media/image27.jpeg"/><Relationship Id="rId4" Type="http://schemas.openxmlformats.org/officeDocument/2006/relationships/hyperlink" Target="http://ru.wikipedia.org/wiki/&#1052;&#1072;&#1089;&#1090;&#1086;&#1076;&#1086;&#1085;&#1079;&#1072;&#1074;&#1088;" TargetMode="External"/><Relationship Id="rId5" Type="http://schemas.openxmlformats.org/officeDocument/2006/relationships/hyperlink" Target="http://ru.wikipedia.org/wiki/&#1060;&#1072;&#1081;&#1083;:Mastodonsaurus_DB.jpg" TargetMode="External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59.radikal.ru/i164/0809/36/f88d2166868a.jpg" TargetMode="External"/><Relationship Id="rId3" Type="http://schemas.openxmlformats.org/officeDocument/2006/relationships/image" Target="../media/image28.jpeg"/><Relationship Id="rId4" Type="http://schemas.openxmlformats.org/officeDocument/2006/relationships/hyperlink" Target="http://i047.radikal.ru/0809/9c/e0e860cc0eec.jpg" TargetMode="External"/><Relationship Id="rId5" Type="http://schemas.openxmlformats.org/officeDocument/2006/relationships/image" Target="../media/image29.jpeg"/><Relationship Id="rId6" Type="http://schemas.openxmlformats.org/officeDocument/2006/relationships/hyperlink" Target="http://mirgeo.net/index.php?option=com_datsogallery&amp;Itemid=69&amp;func=wmark&amp;mid=1521" TargetMode="External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d/dd/Ginkgo_biloba_SZ136.png" TargetMode="External"/><Relationship Id="rId3" Type="http://schemas.openxmlformats.org/officeDocument/2006/relationships/image" Target="../media/image31.jpeg"/><Relationship Id="rId4" Type="http://schemas.openxmlformats.org/officeDocument/2006/relationships/hyperlink" Target="http://upload.wikimedia.org/wikipedia/commons/e/e8/Ginkgo_biloba_%28Sch&#246;nbrunn%29_natural_monument_%28Four_Seasons%29.jpg" TargetMode="External"/><Relationship Id="rId5" Type="http://schemas.openxmlformats.org/officeDocument/2006/relationships/image" Target="../media/image32.jpeg"/><Relationship Id="rId6" Type="http://schemas.openxmlformats.org/officeDocument/2006/relationships/hyperlink" Target="http://upload.wikimedia.org/wikipedia/commons/a/a3/Ginkgo_biloba0.jpg" TargetMode="External"/><Relationship Id="rId7" Type="http://schemas.openxmlformats.org/officeDocument/2006/relationships/image" Target="../media/image33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0;&#1072;&#1081;&#1083;:Araucaria_columnaris1.jpg" TargetMode="External"/><Relationship Id="rId3" Type="http://schemas.openxmlformats.org/officeDocument/2006/relationships/image" Target="../media/image34.jpeg"/><Relationship Id="rId4" Type="http://schemas.openxmlformats.org/officeDocument/2006/relationships/hyperlink" Target="http://upload.wikimedia.org/wikipedia/commons/5/52/Araucaria_Columnaris.Serres_d%27Auteuil_003.jpg" TargetMode="External"/><Relationship Id="rId5" Type="http://schemas.openxmlformats.org/officeDocument/2006/relationships/image" Target="../media/image35.jpeg"/><Relationship Id="rId6" Type="http://schemas.openxmlformats.org/officeDocument/2006/relationships/hyperlink" Target="http://upload.wikimedia.org/wikipedia/commons/e/e2/Small_bunyapine.jpg" TargetMode="External"/><Relationship Id="rId7" Type="http://schemas.openxmlformats.org/officeDocument/2006/relationships/image" Target="../media/image36.jpeg"/><Relationship Id="rId8" Type="http://schemas.openxmlformats.org/officeDocument/2006/relationships/hyperlink" Target="http://upload.wikimedia.org/wikipedia/commons/4/45/Araucaria_araucana4.jpg" TargetMode="External"/><Relationship Id="rId9" Type="http://schemas.openxmlformats.org/officeDocument/2006/relationships/image" Target="../media/image37.jpe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0;&#1072;&#1081;&#1083;:TXbaccata.jpg" TargetMode="External"/><Relationship Id="rId3" Type="http://schemas.openxmlformats.org/officeDocument/2006/relationships/image" Target="../media/image38.jpeg"/><Relationship Id="rId4" Type="http://schemas.openxmlformats.org/officeDocument/2006/relationships/hyperlink" Target="http://ru.wikipedia.org/wiki/&#1051;&#1072;&#1090;&#1080;&#1085;&#1089;&#1082;&#1080;&#1081;_&#1103;&#1079;&#1099;&#1082;" TargetMode="External"/><Relationship Id="rId5" Type="http://schemas.openxmlformats.org/officeDocument/2006/relationships/hyperlink" Target="http://www.yugzone.ru/login/trees/yew-a1a.jpg" TargetMode="External"/><Relationship Id="rId6" Type="http://schemas.openxmlformats.org/officeDocument/2006/relationships/image" Target="../media/image39.jpeg"/><Relationship Id="rId7" Type="http://schemas.openxmlformats.org/officeDocument/2006/relationships/hyperlink" Target="http://botany.cz/foto/tisy5.jpg" TargetMode="External"/><Relationship Id="rId8" Type="http://schemas.openxmlformats.org/officeDocument/2006/relationships/image" Target="../media/image40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rgent-vialet.narod.ru/SAGOVNIKI/3.jpg" TargetMode="External"/><Relationship Id="rId3" Type="http://schemas.openxmlformats.org/officeDocument/2006/relationships/image" Target="../media/image41.jpeg"/><Relationship Id="rId4" Type="http://schemas.openxmlformats.org/officeDocument/2006/relationships/hyperlink" Target="http://images.km.ru/images/irgis/sagovnik.jpg" TargetMode="External"/><Relationship Id="rId5" Type="http://schemas.openxmlformats.org/officeDocument/2006/relationships/image" Target="../media/image42.jpeg"/><Relationship Id="rId6" Type="http://schemas.openxmlformats.org/officeDocument/2006/relationships/hyperlink" Target="http://mirpalm.com/main/sagovnik/foto/6.jpg" TargetMode="External"/><Relationship Id="rId7" Type="http://schemas.openxmlformats.org/officeDocument/2006/relationships/image" Target="../media/image43.jpeg"/><Relationship Id="rId8" Type="http://schemas.openxmlformats.org/officeDocument/2006/relationships/hyperlink" Target="http://www.proflowers.ru/pic/small/400x400_573423d20e8b5e26e4b0a36efb8817e2.jpg" TargetMode="External"/><Relationship Id="rId9" Type="http://schemas.openxmlformats.org/officeDocument/2006/relationships/image" Target="../media/image44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rybalka.com/userfiles/upload/3985/1240924178.jpg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hyperlink" Target="http://www.prehistoricsillustrated.com/images_pixs/ichthyosaurus.jpg" TargetMode="External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mmonit.ru/news/260ammonite.jpg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img-fotki.yandex.ru/get/3000/katya1.4/0_1bd8c_8594c30e_XL" TargetMode="External"/><Relationship Id="rId5" Type="http://schemas.openxmlformats.org/officeDocument/2006/relationships/image" Target="../media/image9.jpeg"/><Relationship Id="rId6" Type="http://schemas.openxmlformats.org/officeDocument/2006/relationships/hyperlink" Target="http://selvolostj.narod.ru/MUZEI/POTL/pal1_2.JPG" TargetMode="External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hyperlink" Target="http://www.interesniy.kiev.ua/imglib/prikoly_goroda/urassic_period/ura11.jpg" TargetMode="External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51.radikal.ru/i132/0908/cf/6bdd4a4dc62f.jpg" TargetMode="External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oto.mail.ru/mail/fly_leo/dino/972.html" TargetMode="External"/><Relationship Id="rId3" Type="http://schemas.openxmlformats.org/officeDocument/2006/relationships/image" Target="../media/image16.jpeg"/><Relationship Id="rId4" Type="http://schemas.openxmlformats.org/officeDocument/2006/relationships/hyperlink" Target="http://paleoworld.ucoz.ru/_ph/8/565866413.jpg" TargetMode="External"/><Relationship Id="rId5" Type="http://schemas.openxmlformats.org/officeDocument/2006/relationships/image" Target="../media/image17.jpeg"/><Relationship Id="rId6" Type="http://schemas.openxmlformats.org/officeDocument/2006/relationships/hyperlink" Target="http://s43.radikal.ru/i102/0809/7c/568e847f8c27.jpg" TargetMode="External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hyperlink" Target="http://evolution.powernet.ru/history/Life_07/005.jpg" TargetMode="External"/><Relationship Id="rId4" Type="http://schemas.openxmlformats.org/officeDocument/2006/relationships/image" Target="../media/image20.jpeg"/><Relationship Id="rId5" Type="http://schemas.openxmlformats.org/officeDocument/2006/relationships/hyperlink" Target="http://www.barnaul-altai.ru/rest/afisha/photo/giganti_07_3m.jpg" TargetMode="External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volution.powernet.ru/history/Life_07/002.jpg" TargetMode="External"/><Relationship Id="rId3" Type="http://schemas.openxmlformats.org/officeDocument/2006/relationships/image" Target="../media/image22.jpeg"/><Relationship Id="rId4" Type="http://schemas.openxmlformats.org/officeDocument/2006/relationships/hyperlink" Target="http://paleoworld.ucoz.ru/_ph/8/2/559724702.jpg" TargetMode="External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4/48/Sclerothorax_DB2.jpg" TargetMode="External"/><Relationship Id="rId3" Type="http://schemas.openxmlformats.org/officeDocument/2006/relationships/image" Target="../media/image24.jpeg"/><Relationship Id="rId4" Type="http://schemas.openxmlformats.org/officeDocument/2006/relationships/hyperlink" Target="http://ru.wikipedia.org/wiki/&#1060;&#1072;&#1081;&#1083;:Sclerothorax_DB2.jpg" TargetMode="External"/><Relationship Id="rId5" Type="http://schemas.openxmlformats.org/officeDocument/2006/relationships/image" Target="../media/image25.pn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95280" y="765000"/>
            <a:ext cx="8496360" cy="5381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23240" y="189000"/>
            <a:ext cx="27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перконтинент Панг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Файл:Mastodonsaurus DB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2120" y="709560"/>
            <a:ext cx="7619760" cy="5438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1042920" y="6214320"/>
            <a:ext cx="79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Мастодонзавр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— гигантский среднетриасовый лабиринтод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41760" y="-3986280"/>
            <a:ext cx="142920" cy="1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Картинка 15 из 4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189000"/>
            <a:ext cx="5473440" cy="26589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5512320" y="192960"/>
            <a:ext cx="2575080" cy="3682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здний триас (ЮАР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Картинка 2 из 8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42920" y="3141720"/>
            <a:ext cx="5076720" cy="3552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92" name="" descr="Картинка 7 из 8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788000" y="2716200"/>
            <a:ext cx="4243320" cy="38750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Файл:Ginkgo biloba SZ136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115920"/>
            <a:ext cx="2639880" cy="3529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3065760" y="2637000"/>
            <a:ext cx="869400" cy="3682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нк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Файл:Ginkgo biloba (Schönbrunn) natural monument (Four Seasons)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08000" y="3727440"/>
            <a:ext cx="8893080" cy="2946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96" name="" descr="Файл:Ginkgo biloba0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211640" y="169920"/>
            <a:ext cx="4537080" cy="3402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2849760" y="189000"/>
            <a:ext cx="2507760" cy="3682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ликтовые раст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Араукария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333360"/>
            <a:ext cx="3225600" cy="4680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1626120" y="119880"/>
            <a:ext cx="1343520" cy="3682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раукар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Файл:Araucaria Columnaris.Serres d'Auteuil 003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419640" y="2643120"/>
            <a:ext cx="5465520" cy="4098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01" name=""/>
          <p:cNvSpPr/>
          <p:nvPr/>
        </p:nvSpPr>
        <p:spPr>
          <a:xfrm>
            <a:off x="759960" y="5228640"/>
            <a:ext cx="23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Araucaria columna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Файл:Small bunyapine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020000" y="189000"/>
            <a:ext cx="1917720" cy="2492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03" name=""/>
          <p:cNvSpPr/>
          <p:nvPr/>
        </p:nvSpPr>
        <p:spPr>
          <a:xfrm>
            <a:off x="7037280" y="2419920"/>
            <a:ext cx="2108520" cy="307080"/>
          </a:xfrm>
          <a:prstGeom prst="rect">
            <a:avLst/>
          </a:prstGeom>
          <a:solidFill>
            <a:srgbClr val="e1e5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Араукария Бидвилла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Файл:Araucaria araucana4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635280" y="115920"/>
            <a:ext cx="3168720" cy="2376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4213800" y="2424600"/>
            <a:ext cx="1835640" cy="3070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Araucaria arauc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Тис ягодный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333360"/>
            <a:ext cx="3168360" cy="2754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2634120" y="115200"/>
            <a:ext cx="5760000" cy="3682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ис я́годн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ла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Táxus baccát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расное дерев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Картинка 3 из 7264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156360" y="549360"/>
            <a:ext cx="2828880" cy="3809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09" name="" descr="Картинка 2 из 72644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187280" y="2781360"/>
            <a:ext cx="5077080" cy="3809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Картинка 2 из 30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115920"/>
            <a:ext cx="4105440" cy="3079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4291920" y="553320"/>
            <a:ext cx="1680480" cy="3682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АГОВНИ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Картинка 4 из 305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156360" y="189000"/>
            <a:ext cx="2685960" cy="38098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13" name="" descr="Картинка 5 из 305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39640" y="3357720"/>
            <a:ext cx="4103640" cy="3193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14" name="" descr="Картинка 3 из 305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932360" y="3716280"/>
            <a:ext cx="2262240" cy="2708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08000" y="981000"/>
            <a:ext cx="4392720" cy="4356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643280" y="984240"/>
            <a:ext cx="4415040" cy="4362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2850840" y="260280"/>
            <a:ext cx="3209040" cy="3682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кеаны триасового пери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Картинка 30 из 4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3141720"/>
            <a:ext cx="4762440" cy="3514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256680" y="6308640"/>
            <a:ext cx="1671120" cy="2764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Акула Геликопри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6840" y="136440"/>
            <a:ext cx="2181600" cy="3682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итатели мор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24000" y="620640"/>
            <a:ext cx="3528720" cy="2365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329400" y="2708280"/>
            <a:ext cx="2152800" cy="2764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рская лилия (криноиде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Картинка 1 из 33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24360" y="260280"/>
            <a:ext cx="5076720" cy="3505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7597440" y="3429000"/>
            <a:ext cx="12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хтиозав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Картинка 2 из 1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651640" y="3645000"/>
            <a:ext cx="2152440" cy="2857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4" name="" descr="Картинка 4 из 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0920" y="2852640"/>
            <a:ext cx="5067360" cy="3810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5368320" y="6308640"/>
            <a:ext cx="1301040" cy="3070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ммоноиде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Картинка 1 из 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79280" y="476280"/>
            <a:ext cx="5653080" cy="1950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188640" y="115920"/>
            <a:ext cx="2181600" cy="3682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итатели мор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5040" y="2349360"/>
            <a:ext cx="2661840" cy="3682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ловоногие моллю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640" y="2133720"/>
            <a:ext cx="119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елемни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Картинка 1 из 9"/>
          <p:cNvPicPr/>
          <p:nvPr/>
        </p:nvPicPr>
        <p:blipFill>
          <a:blip r:embed="rId8"/>
          <a:stretch/>
        </p:blipFill>
        <p:spPr>
          <a:xfrm>
            <a:off x="6227640" y="189000"/>
            <a:ext cx="1597320" cy="2232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61" name="" descr="Картинка 7 из 9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877080" y="2133720"/>
            <a:ext cx="2266920" cy="1699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Картинка 4 из 1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8000" y="907920"/>
            <a:ext cx="4626000" cy="5256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741960" y="5753160"/>
            <a:ext cx="808560" cy="3682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ен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4897440" y="189000"/>
            <a:ext cx="4211640" cy="19936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86480" y="2276640"/>
            <a:ext cx="1395360" cy="3682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строзав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Картинка 6 из 13"/>
          <p:cNvPicPr/>
          <p:nvPr/>
        </p:nvPicPr>
        <p:blipFill>
          <a:blip r:embed="rId5"/>
          <a:stretch/>
        </p:blipFill>
        <p:spPr>
          <a:xfrm>
            <a:off x="4859280" y="2852640"/>
            <a:ext cx="4152960" cy="381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8000" y="404640"/>
            <a:ext cx="4417920" cy="5904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8" name=""/>
          <p:cNvSpPr/>
          <p:nvPr/>
        </p:nvSpPr>
        <p:spPr>
          <a:xfrm>
            <a:off x="4868280" y="115920"/>
            <a:ext cx="3995280" cy="3682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андшафты триасового контин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Картинка 5 из 8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16360" y="3645000"/>
            <a:ext cx="4284720" cy="2957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70" name="" descr="Картинка 6 из 8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427640" y="957240"/>
            <a:ext cx="4573440" cy="2411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Птерозавр."/>
          <p:cNvPicPr/>
          <p:nvPr/>
        </p:nvPicPr>
        <p:blipFill>
          <a:blip r:embed="rId2"/>
          <a:stretch/>
        </p:blipFill>
        <p:spPr>
          <a:xfrm>
            <a:off x="179280" y="260280"/>
            <a:ext cx="2163960" cy="2521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Картинка 10 из 4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35280" y="422280"/>
            <a:ext cx="5122800" cy="4584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3" name=""/>
          <p:cNvSpPr/>
          <p:nvPr/>
        </p:nvSpPr>
        <p:spPr>
          <a:xfrm>
            <a:off x="2417040" y="0"/>
            <a:ext cx="1632960" cy="3682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нний три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Картинка 25 из 4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79280" y="3016080"/>
            <a:ext cx="3600720" cy="2700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-2160" y="5880600"/>
            <a:ext cx="3836880" cy="3070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житель поздней перми - раннего триас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11640" y="5161680"/>
            <a:ext cx="4792680" cy="137160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Ящерицеобразная рептилия икарозавр обитала в раннем триасе на территории Северной Америки. У икарозавра были крылья, так сказать, с изменяемой геометрией. Их образовывали участки кожи, туго натянутые на длинные ребра. Когда икарозавр лазил по деревьям, он складывал крылья вдоль тела. А при полете его ребра моментально раздвигались и крылья расправлялись в обе сторон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7320" y="2707200"/>
            <a:ext cx="300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иморфодон (насекомоядный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238520" y="549360"/>
            <a:ext cx="13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карозав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Картинка 5 из 4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1197000"/>
            <a:ext cx="5545080" cy="4832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80" name="" descr="Картинка 2 из 8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43520" y="260280"/>
            <a:ext cx="3970440" cy="4537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81" name=""/>
          <p:cNvSpPr/>
          <p:nvPr/>
        </p:nvSpPr>
        <p:spPr>
          <a:xfrm>
            <a:off x="1630080" y="0"/>
            <a:ext cx="6223320" cy="3682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андшафт триасового континента северного полуша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Файл:Sclerothorax DB2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189000"/>
            <a:ext cx="7619760" cy="3429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83" name=""/>
          <p:cNvSpPr/>
          <p:nvPr/>
        </p:nvSpPr>
        <p:spPr>
          <a:xfrm>
            <a:off x="755640" y="259560"/>
            <a:ext cx="63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леротораксы — раннетриасовые лабиринтодо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41760" y="-2475000"/>
            <a:ext cx="142920" cy="1047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Картинка 1 из 1"/>
          <p:cNvPicPr/>
          <p:nvPr/>
        </p:nvPicPr>
        <p:blipFill>
          <a:blip r:embed="rId6"/>
          <a:stretch/>
        </p:blipFill>
        <p:spPr>
          <a:xfrm>
            <a:off x="2050920" y="3213000"/>
            <a:ext cx="6877080" cy="34196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30T15:09:51Z</dcterms:created>
  <dc:creator>Леонова</dc:creator>
  <dc:description/>
  <dc:language>en-US</dc:language>
  <cp:lastModifiedBy>Леонова</cp:lastModifiedBy>
  <dcterms:modified xsi:type="dcterms:W3CDTF">2009-11-05T19:03:21Z</dcterms:modified>
  <cp:revision>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a14000000000001024140</vt:lpwstr>
  </property>
</Properties>
</file>