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173-2468-4FE9-823B-88478A4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432-C26E-40E1-B50A-27D9B1F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398-1945-4D31-B7CA-B252F87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828-EC86-42D7-84B9-90C1D16D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18E-1BB2-4CC6-A91C-4FE2E81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F4D-0D32-4D62-B42E-3D76182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10D-3329-405B-89C9-0215BC81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690-8B9B-4C2D-9824-7252BE9F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D68-0662-464E-BFEB-31398D07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4A6-D405-460F-AC0D-C9112AC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02D-3FD3-42E4-ACAF-DE66F41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7C0-6DC3-4C8D-87E5-FA43F7B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33B-0B16-457D-A3B0-627DB160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ntes" TargetMode="External"/><Relationship Id="rId2" Type="http://schemas.openxmlformats.org/officeDocument/2006/relationships/hyperlink" Target="http://dic.academic.ru/dic.nsf/ntes" TargetMode="External"/><Relationship Id="rId3" Type="http://schemas.openxmlformats.org/officeDocument/2006/relationships/hyperlink" Target="http://www.xtec.cat/~mmiguela/imatges/atom1.jp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2492280"/>
            <a:ext cx="62643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ат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10000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5013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 МОУ «Куженерская средняя общеобразовательная школа № 2» Пирог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20" y="1197000"/>
            <a:ext cx="9048960" cy="54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364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й элемент-это определенный вид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7128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ь атома Резерф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529080" cy="4319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n119.gif"/>
          <p:cNvPicPr/>
          <p:nvPr/>
        </p:nvPicPr>
        <p:blipFill>
          <a:blip r:embed="rId3"/>
          <a:stretch/>
        </p:blipFill>
        <p:spPr>
          <a:xfrm>
            <a:off x="4788000" y="1773360"/>
            <a:ext cx="3744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48360" y="4869000"/>
            <a:ext cx="1439640" cy="72720"/>
          </a:xfrm>
          <a:prstGeom prst="rightArrow">
            <a:avLst>
              <a:gd name="adj1" fmla="val 50000"/>
              <a:gd name="adj2" fmla="val 494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573360"/>
            <a:ext cx="2232000" cy="71640"/>
          </a:xfrm>
          <a:prstGeom prst="rightArrow">
            <a:avLst>
              <a:gd name="adj1" fmla="val 50000"/>
              <a:gd name="adj2" fmla="val 7788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789360"/>
            <a:ext cx="2089080" cy="71280"/>
          </a:xfrm>
          <a:prstGeom prst="leftArrow">
            <a:avLst>
              <a:gd name="adj1" fmla="val 50000"/>
              <a:gd name="adj2" fmla="val 7327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04920" y="330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2720" y="46004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280" y="351936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5684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ение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http://www.eco.scilib.debryansk.ru/2infres/radiation/image/tab_1.gif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1989000"/>
            <a:ext cx="849780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639720"/>
            <a:ext cx="68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арактеристики элементар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89000"/>
            <a:ext cx="8569080" cy="609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электронов равно числу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836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300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нейтронов определяем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645000"/>
            <a:ext cx="856908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270828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9288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Определите число протонов, электронов и нейтронов в атомах 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00560" y="2297160"/>
            <a:ext cx="23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359244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4869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4724280"/>
            <a:ext cx="11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С.Габриелян. Химия 8 класс.Москва.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dic.academic.ru/dic.nsf/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xtec.cat/~mmiguela/imatges/atom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7:34:01Z</dcterms:created>
  <dc:creator>Саша</dc:creator>
  <dc:description/>
  <dc:language>en-US</dc:language>
  <cp:lastModifiedBy>Саша</cp:lastModifiedBy>
  <dcterms:modified xsi:type="dcterms:W3CDTF">2011-09-15T11:47:46Z</dcterms:modified>
  <cp:revision>5</cp:revision>
  <dc:subject/>
  <dc:title>Слайд 1</dc:title>
</cp:coreProperties>
</file>