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FF8-6540-4E1A-8DFE-1C0BD90C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5D9-4FC5-4458-8162-63115A9D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43B-252B-484A-9310-FBB054C4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E3A-98D5-4608-B2F2-936C76D2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B8E-ABCF-4F2A-8B6B-A61857D2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66AB-8281-4D93-BC24-CCDFDDA0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4F3-E419-46CE-BC9C-6729900C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AE99-7437-4508-8AB2-1359283C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7AB-7793-4034-987F-A5BC6869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75BD-12DF-4BB3-B2B7-473DF411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25E-CF22-4709-81D1-772CCDAC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C8E-863B-4CD9-A8CA-6A69727E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B1E7-698E-462A-8D16-521B01EF6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ntes" TargetMode="External"/><Relationship Id="rId2" Type="http://schemas.openxmlformats.org/officeDocument/2006/relationships/hyperlink" Target="http://dic.academic.ru/dic.nsf/ntes" TargetMode="External"/><Relationship Id="rId3" Type="http://schemas.openxmlformats.org/officeDocument/2006/relationships/hyperlink" Target="http://www.xtec.cat/~mmiguela/imatges/atom1.jpg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476360" y="2492280"/>
            <a:ext cx="626436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ение атом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7596360" y="10000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501336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химии МОУ «Куженерская средняя общеобразовательная школа № 2» Пирогов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520" y="1197000"/>
            <a:ext cx="9048960" cy="547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13644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имический элемент-это определенный вид ато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7128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дель атома Резерфор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3529080" cy="43196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n119.gif"/>
          <p:cNvPicPr/>
          <p:nvPr/>
        </p:nvPicPr>
        <p:blipFill>
          <a:blip r:embed="rId3"/>
          <a:stretch/>
        </p:blipFill>
        <p:spPr>
          <a:xfrm>
            <a:off x="4788000" y="1773360"/>
            <a:ext cx="374472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51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4114800" cy="4572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148360" y="4869000"/>
            <a:ext cx="1439640" cy="72720"/>
          </a:xfrm>
          <a:prstGeom prst="rightArrow">
            <a:avLst>
              <a:gd name="adj1" fmla="val 50000"/>
              <a:gd name="adj2" fmla="val 494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3573360"/>
            <a:ext cx="2232000" cy="71640"/>
          </a:xfrm>
          <a:prstGeom prst="rightArrow">
            <a:avLst>
              <a:gd name="adj1" fmla="val 50000"/>
              <a:gd name="adj2" fmla="val 7788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3789360"/>
            <a:ext cx="2089080" cy="71280"/>
          </a:xfrm>
          <a:prstGeom prst="leftArrow">
            <a:avLst>
              <a:gd name="adj1" fmla="val 50000"/>
              <a:gd name="adj2" fmla="val 7327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04920" y="33037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02720" y="460044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лект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3280" y="351936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йт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24000" y="56844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оение 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http://www.eco.scilib.debryansk.ru/2infres/radiation/image/tab_1.gif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95280" y="1989000"/>
            <a:ext cx="8497800" cy="3816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32000" y="639720"/>
            <a:ext cx="68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арактеристики элементарных час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596360" y="100008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989000"/>
            <a:ext cx="8569080" cy="609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ичество электронов равно числу прот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836640"/>
            <a:ext cx="8642160" cy="609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ичество протонов определяем по порядковому ном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5300640"/>
            <a:ext cx="8642160" cy="609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нейтронов определяем по форму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A-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3645000"/>
            <a:ext cx="8569080" cy="609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ичество протонов определяем по порядковому ном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56000" y="2708280"/>
            <a:ext cx="360360" cy="792000"/>
          </a:xfrm>
          <a:prstGeom prst="downArrow">
            <a:avLst>
              <a:gd name="adj1" fmla="val 50000"/>
              <a:gd name="adj2" fmla="val 5494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596360" y="100008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92880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Определите число протонов, электронов и нейтронов в атомах элемен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00560" y="2297160"/>
            <a:ext cx="239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67280" y="3592440"/>
            <a:ext cx="129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486900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1640" y="4724280"/>
            <a:ext cx="119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.С.Габриелян. Химия 8 класс.Москва.Дро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dic.academic.ru/dic.nsf/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xtec.cat/~mmiguela/imatges/atom1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7:34:01Z</dcterms:created>
  <dc:creator>Саша</dc:creator>
  <dc:description/>
  <dc:language>en-US</dc:language>
  <cp:lastModifiedBy>Саша</cp:lastModifiedBy>
  <dcterms:modified xsi:type="dcterms:W3CDTF">2011-09-15T11:47:46Z</dcterms:modified>
  <cp:revision>5</cp:revision>
  <dc:subject/>
  <dc:title>Слайд 1</dc:title>
</cp:coreProperties>
</file>