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AAA-E38E-40D9-985F-22637918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D38-20CB-4A00-905B-B85364E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A05-7090-4B21-A80A-F63BC65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BF7-6002-4412-BF7D-6EBA72D6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491-28B3-4C44-83F8-0B844AB1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974-819B-4647-982A-834C9E1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502-FA48-4F4A-95CE-CF8DB1E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597-2507-449C-A345-C1CA8D3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156-E55A-4E75-AE25-6E79F698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80C-6A63-41DE-ACAF-0149231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A10-4F7C-41D5-B094-864C7447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823-7DC0-4C9A-A9CE-573BFDB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24E-88C3-460E-99D9-2D93536F8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ntes" TargetMode="External"/><Relationship Id="rId2" Type="http://schemas.openxmlformats.org/officeDocument/2006/relationships/hyperlink" Target="http://dic.academic.ru/dic.nsf/ntes" TargetMode="External"/><Relationship Id="rId3" Type="http://schemas.openxmlformats.org/officeDocument/2006/relationships/hyperlink" Target="http://www.xtec.cat/~mmiguela/imatges/atom1.jpg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76360" y="2492280"/>
            <a:ext cx="62643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ение ат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596360" y="10000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5013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 МОУ «Куженерская средняя общеобразовательная школа № 2» Пирого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20" y="1197000"/>
            <a:ext cx="9048960" cy="54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1364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имический элемент-это определенный вид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7128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ь атома Резерфо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529080" cy="4319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n119.gif"/>
          <p:cNvPicPr/>
          <p:nvPr/>
        </p:nvPicPr>
        <p:blipFill>
          <a:blip r:embed="rId3"/>
          <a:stretch/>
        </p:blipFill>
        <p:spPr>
          <a:xfrm>
            <a:off x="4788000" y="1773360"/>
            <a:ext cx="3744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48360" y="4869000"/>
            <a:ext cx="1439640" cy="72720"/>
          </a:xfrm>
          <a:prstGeom prst="rightArrow">
            <a:avLst>
              <a:gd name="adj1" fmla="val 50000"/>
              <a:gd name="adj2" fmla="val 494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573360"/>
            <a:ext cx="2232000" cy="71640"/>
          </a:xfrm>
          <a:prstGeom prst="rightArrow">
            <a:avLst>
              <a:gd name="adj1" fmla="val 50000"/>
              <a:gd name="adj2" fmla="val 7788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789360"/>
            <a:ext cx="2089080" cy="71280"/>
          </a:xfrm>
          <a:prstGeom prst="leftArrow">
            <a:avLst>
              <a:gd name="adj1" fmla="val 50000"/>
              <a:gd name="adj2" fmla="val 7327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04920" y="330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2720" y="46004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280" y="351936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56844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ение 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http://www.eco.scilib.debryansk.ru/2infres/radiation/image/tab_1.gif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95280" y="1989000"/>
            <a:ext cx="849780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32000" y="639720"/>
            <a:ext cx="68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арактеристики элементар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89000"/>
            <a:ext cx="8569080" cy="609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электронов равно числу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836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300640"/>
            <a:ext cx="864216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нейтронов определяем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A-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645000"/>
            <a:ext cx="856908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протонов определяем по порядковому ном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270828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96360" y="10000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9288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Определите число протонов, электронов и нейтронов в атомах 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00560" y="2297160"/>
            <a:ext cx="23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3592440"/>
            <a:ext cx="129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48690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4724280"/>
            <a:ext cx="11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С.Габриелян. Химия 8 класс.Москва.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dic.academic.ru/dic.nsf/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xtec.cat/~mmiguela/imatges/atom1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7:34:01Z</dcterms:created>
  <dc:creator>Саша</dc:creator>
  <dc:description/>
  <dc:language>en-US</dc:language>
  <cp:lastModifiedBy>Саша</cp:lastModifiedBy>
  <dcterms:modified xsi:type="dcterms:W3CDTF">2011-09-15T11:47:46Z</dcterms:modified>
  <cp:revision>5</cp:revision>
  <dc:subject/>
  <dc:title>Слайд 1</dc:title>
</cp:coreProperties>
</file>