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1EF-BD8E-4507-90BC-63C0DE1B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47C-6A79-4C8F-BD98-E0DDC37A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304-16EE-4AE0-9DEF-A36E491C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9B8-7894-4A6A-A325-89DE299B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63D-548C-408F-82EC-059CDB56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CE4-B9F8-4749-84D1-D5DB2C52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58C-CCF6-46D2-BAB5-5BC587D6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630-57E1-431D-9878-E408A8DF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7AD-039D-4AFF-B988-ED8080CF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CE2-1955-426E-B95B-4FE6342A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00E-0B39-4D74-9F3F-D3ED3CA2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8FE-9229-4D1C-B6A6-1033DEF0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A9AB-C056-4D1C-A0B6-FF9AB0284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87640" y="4724280"/>
            <a:ext cx="41050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хеева В.Н.,               учитель географии МАОУ-Гимназии № 47,  г. Екатерин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124000" y="189000"/>
            <a:ext cx="4657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население и хозяй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 rot="2129400">
            <a:off x="1403280" y="1196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2205000"/>
            <a:ext cx="129708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2205000"/>
            <a:ext cx="129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лотность населения неве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2133720"/>
            <a:ext cx="1871640" cy="25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3640" y="1125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2133720"/>
            <a:ext cx="187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Численность норвежцев составляет около 5 млн. человек, а в Швеции около 9 млн.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9026000">
            <a:off x="7019640" y="1196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2133720"/>
            <a:ext cx="1871640" cy="172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2133720"/>
            <a:ext cx="187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орвежцы и шведы потомки германских пле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2133720"/>
            <a:ext cx="1871640" cy="482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105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2133720"/>
            <a:ext cx="172728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орвегия- рыболовство, лесные промыслы, молочное животноводство. Швеция- электроэнергия, бумага, телефонные аппараты, автомоб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72360" y="4941720"/>
            <a:ext cx="202716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835280" y="476280"/>
            <a:ext cx="5124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траны северной Европ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205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360" y="2205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2205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5640" y="3500280"/>
            <a:ext cx="2114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ланд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348000" y="3213000"/>
            <a:ext cx="2028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орве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12000" y="3573360"/>
            <a:ext cx="169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ве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203640" y="4005360"/>
            <a:ext cx="2448000" cy="225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012000" y="4292640"/>
            <a:ext cx="238752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59280" y="476280"/>
            <a:ext cx="2592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сланд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2421000"/>
            <a:ext cx="770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ландия – далекая приполярная страна,  затерянная в просторах океана, издавна была известна благодаря знаменитым сагам, которые слагали отважные жители острова. Исландия отстоит от материка почти на 1000 км, омывается водами 2-х океанов. Через остров проходят воздушные пути из Старого в Новый Свет, например кратчайшая линия полетов из Москвы в Нью-Йор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093080" y="4581360"/>
            <a:ext cx="18349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348000" y="333360"/>
            <a:ext cx="215892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рир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 rot="2533800">
            <a:off x="2124000" y="1196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2205000"/>
            <a:ext cx="1944720" cy="172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2637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276640"/>
            <a:ext cx="20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стров вулканическ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1484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16360" y="2565360"/>
            <a:ext cx="1584360" cy="25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2565360"/>
            <a:ext cx="165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трана богата водами(ледники, реки, водопады, озера, боло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2565360"/>
            <a:ext cx="1512720" cy="208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1484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2565360"/>
            <a:ext cx="172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Тундровая растительность(мхи, лишайники, кустарнич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2205000"/>
            <a:ext cx="1331640" cy="25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8753000">
            <a:off x="6329880" y="12387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2276640"/>
            <a:ext cx="1366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Животные(северные олени, песцы, лемминги, птицы, рыб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4869000"/>
            <a:ext cx="2819520" cy="181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867280" y="4869000"/>
            <a:ext cx="301968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203640" y="189000"/>
            <a:ext cx="2232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3" name=""/>
          <p:cNvSpPr/>
          <p:nvPr/>
        </p:nvSpPr>
        <p:spPr>
          <a:xfrm rot="1999200">
            <a:off x="1908000" y="1125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2565360"/>
            <a:ext cx="1584360" cy="122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2637000"/>
            <a:ext cx="12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убарктический поя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1484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2637000"/>
            <a:ext cx="1368360" cy="158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2637000"/>
            <a:ext cx="129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Высокая влажность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485600">
            <a:off x="6443280" y="1196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2565360"/>
            <a:ext cx="1512720" cy="1368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263700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ного осадков (500-1000 м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1280" y="4221000"/>
            <a:ext cx="1644480" cy="2240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84720" y="4149720"/>
            <a:ext cx="2760840" cy="218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700360" y="4292640"/>
            <a:ext cx="316872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050920" y="189000"/>
            <a:ext cx="511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население и хозяй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134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2421000"/>
            <a:ext cx="1656000" cy="16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2492280"/>
            <a:ext cx="16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оставляют около 300 тыс.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341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2421000"/>
            <a:ext cx="1440000" cy="338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2421000"/>
            <a:ext cx="1295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В столице – Рейкьявике- живет половина населения всей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93080" y="134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59640" y="2421000"/>
            <a:ext cx="1439640" cy="432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9640" y="2492280"/>
            <a:ext cx="1439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Производство электроэнергии, новых отраслях машиностроения и строительстве. Рыбная 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20257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627280" y="404640"/>
            <a:ext cx="4537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Норвегия и шве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6370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положены на самом большом европейском полуострове. Их называют Скандинавскими странами. Обе страны имеют протяженные морские границы. Море издавна играет главную роль в жизни народов этих стран. Оно связывает их между собой и со всем миром. Береговая линия на западе изрезана фьордами, а у берегов Швеции и Балтийском море много шх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2027160" cy="162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30956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32000" y="404640"/>
            <a:ext cx="2592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рир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141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2492280"/>
            <a:ext cx="1511280" cy="2521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21300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565360"/>
            <a:ext cx="151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снова рельефа – часть Восточно-Европейской плат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141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2492280"/>
            <a:ext cx="1275120" cy="2881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2565360"/>
            <a:ext cx="1295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Большое влияние на рельеф оказало древнее оледе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141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2492280"/>
            <a:ext cx="1657440" cy="3745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2565360"/>
            <a:ext cx="1800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дра стран богаты рудами черных и цветных металлов и бедны топливными полезными ископаем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7958000">
            <a:off x="6904440" y="10958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2492280"/>
            <a:ext cx="1728720" cy="1657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2565360"/>
            <a:ext cx="172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траны богаты поверхностными в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3456600">
            <a:off x="1721160" y="10958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2492280"/>
            <a:ext cx="1511640" cy="3241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2565360"/>
            <a:ext cx="151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Более половины площади Швеции покрыты лесами, но в Норвегии лесов м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5157720"/>
            <a:ext cx="1944720" cy="155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093080" y="5492880"/>
            <a:ext cx="186660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564000" y="333360"/>
            <a:ext cx="194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1628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2565360"/>
            <a:ext cx="1871640" cy="345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637000"/>
            <a:ext cx="180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Страны расположены в северной части умеренного пояса и северные районы в субарктичес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1628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2637000"/>
            <a:ext cx="1871640" cy="194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2360" y="2708280"/>
            <a:ext cx="187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Большое влияние оказывает Северо-атлантическое т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2637000"/>
            <a:ext cx="1871640" cy="16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3876600">
            <a:off x="1617840" y="1197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2708280"/>
            <a:ext cx="165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Западный перенос морских воздушных м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7893200">
            <a:off x="7193520" y="1096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2637000"/>
            <a:ext cx="1871640" cy="158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36000" y="2924280"/>
            <a:ext cx="165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Много осад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56360" y="4581360"/>
            <a:ext cx="2746440" cy="2060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103644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8:38:15Z</dcterms:created>
  <dc:creator>WS</dc:creator>
  <dc:description/>
  <dc:language>en-US</dc:language>
  <cp:lastModifiedBy>Miheeva</cp:lastModifiedBy>
  <dcterms:modified xsi:type="dcterms:W3CDTF">2011-08-29T14:19:15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50000000000010243100207f6000400038000</vt:lpwstr>
  </property>
</Properties>
</file>