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9316-A7E9-4F9E-8498-C4DB2EDB7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89F5-FE96-4D5F-974D-57426BD4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CEE3-3A1B-465B-B349-19EB80DFB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541B-B489-4100-9139-EEDA90D64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A1F6-293E-43AE-B4B5-5682124A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3E16-E183-495D-89F3-DD7AFB5E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88BA-2717-461D-82ED-49905040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9249-E580-40C3-A06C-9661A103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0CBC-A539-4567-B6EE-95176106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7CA3-99BB-4793-B68C-25EA9389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B648-C27A-4CF8-B922-234FC77F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F264-6F8A-4B5B-A771-30557B82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6FEB-C404-4A2A-A7EA-928FFA099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87640" y="4724280"/>
            <a:ext cx="410508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ихеева В.Н.,               учитель географии МАОУ-Гимназии № 47,  г. Екатерин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124000" y="189000"/>
            <a:ext cx="46576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население и хозяйст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 rot="2129400">
            <a:off x="1403280" y="119664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9280" y="2205000"/>
            <a:ext cx="1297080" cy="1944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2205000"/>
            <a:ext cx="1297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лотность населения невел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11640" y="2133720"/>
            <a:ext cx="1871640" cy="252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03640" y="1125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11640" y="2133720"/>
            <a:ext cx="1871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Численность норвежцев составляет около 5 млн. человек, а в Швеции около 9 млн.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9026000">
            <a:off x="7019640" y="11966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43640" y="2133720"/>
            <a:ext cx="1871640" cy="1728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43640" y="2133720"/>
            <a:ext cx="187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Норвежцы и шведы потомки германских плем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35280" y="2133720"/>
            <a:ext cx="1871640" cy="4824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59280" y="105264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08000" y="2133720"/>
            <a:ext cx="1727280" cy="51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Норвегия- рыболовство, лесные промыслы, молочное животноводство. Швеция- электроэнергия, бумага, телефонные аппараты, автомоб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372360" y="4941720"/>
            <a:ext cx="202716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8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835280" y="476280"/>
            <a:ext cx="51242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Страны северной Европ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1763640" y="22050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372360" y="2205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95640" y="22050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55640" y="3500280"/>
            <a:ext cx="21146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сланд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348000" y="3213000"/>
            <a:ext cx="2028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орвег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12000" y="3573360"/>
            <a:ext cx="1695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Шве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11280" y="4149720"/>
            <a:ext cx="2381040" cy="2381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203640" y="4005360"/>
            <a:ext cx="2448000" cy="2254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6012000" y="4292640"/>
            <a:ext cx="238752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059280" y="476280"/>
            <a:ext cx="2592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Исланд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2421000"/>
            <a:ext cx="770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сландия – далекая приполярная страна,  затерянная в просторах океана, издавна была известна благодаря знаменитым сагам, которые слагали отважные жители острова. Исландия отстоит от материка почти на 1000 км, омывается водами 2-х океанов. Через остров проходят воздушные пути из Старого в Новый Свет, например кратчайшая линия полетов из Москвы в Нью-Йор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093080" y="4581360"/>
            <a:ext cx="183492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348000" y="333360"/>
            <a:ext cx="2158920" cy="104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Приро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57" name=""/>
          <p:cNvSpPr/>
          <p:nvPr/>
        </p:nvSpPr>
        <p:spPr>
          <a:xfrm rot="2533800">
            <a:off x="2124000" y="119664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2205000"/>
            <a:ext cx="1944720" cy="1728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263700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2276640"/>
            <a:ext cx="201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стров вулканического происхо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64000" y="14842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16360" y="2565360"/>
            <a:ext cx="1584360" cy="259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16360" y="2565360"/>
            <a:ext cx="1655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Страна богата водами(ледники, реки, водопады, озера, боло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88000" y="2565360"/>
            <a:ext cx="1512720" cy="2087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03640" y="14842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16360" y="2565360"/>
            <a:ext cx="1727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Тундровая растительность(мхи, лишайники, кустарнич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93080" y="2205000"/>
            <a:ext cx="1331640" cy="259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8753000">
            <a:off x="6329880" y="12387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2276640"/>
            <a:ext cx="13665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Животные(северные олени, песцы, лемминги, птицы, рыб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4869000"/>
            <a:ext cx="2819520" cy="1819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867280" y="4869000"/>
            <a:ext cx="3019680" cy="18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203640" y="189000"/>
            <a:ext cx="22320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клима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73" name=""/>
          <p:cNvSpPr/>
          <p:nvPr/>
        </p:nvSpPr>
        <p:spPr>
          <a:xfrm rot="1999200">
            <a:off x="1908000" y="11250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5640" y="2565360"/>
            <a:ext cx="1584360" cy="1224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2637000"/>
            <a:ext cx="129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Субарктический поя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95640" y="14842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64000" y="2637000"/>
            <a:ext cx="1368360" cy="1584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35280" y="2637000"/>
            <a:ext cx="129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Высокая влажность возд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9485600">
            <a:off x="6443280" y="11966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2565360"/>
            <a:ext cx="1512720" cy="1368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32720" y="2637000"/>
            <a:ext cx="143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Много осадков (500-1000 м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11280" y="4221000"/>
            <a:ext cx="1644480" cy="2240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084720" y="4149720"/>
            <a:ext cx="2760840" cy="2185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2700360" y="4292640"/>
            <a:ext cx="316872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050920" y="189000"/>
            <a:ext cx="5113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население и хозяйст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86" name=""/>
          <p:cNvSpPr/>
          <p:nvPr/>
        </p:nvSpPr>
        <p:spPr>
          <a:xfrm>
            <a:off x="1619280" y="1341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00000" y="2421000"/>
            <a:ext cx="1656000" cy="1655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2492280"/>
            <a:ext cx="165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Составляют около 300 тыс.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134136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51280" y="2421000"/>
            <a:ext cx="1440000" cy="3384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24360" y="2421000"/>
            <a:ext cx="1295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В столице – Рейкьявике- живет половина населения всей стр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93080" y="1341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659640" y="2421000"/>
            <a:ext cx="1439640" cy="4321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59640" y="2492280"/>
            <a:ext cx="1439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роизводство электроэнергии, новых отраслях машиностроения и строительстве. Рыбная промышл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68360" y="4653000"/>
            <a:ext cx="202572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627280" y="404640"/>
            <a:ext cx="45370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Норвегия и шве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63700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сположены на самом большом европейском полуострове. Их называют Скандинавскими странами. Обе страны имеют протяженные морские границы. Море издавна играет главную роль в жизни народов этих стран. Оно связывает их между собой и со всем миром. Береговая линия на западе изрезана фьордами, а у берегов Швеции и Балтийском море много шх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2027160" cy="1621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508720" y="4292640"/>
            <a:ext cx="30956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132000" y="404640"/>
            <a:ext cx="2592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Приро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01" name=""/>
          <p:cNvSpPr/>
          <p:nvPr/>
        </p:nvSpPr>
        <p:spPr>
          <a:xfrm>
            <a:off x="2843280" y="1413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2492280"/>
            <a:ext cx="1511280" cy="2521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76360" y="321300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2565360"/>
            <a:ext cx="1511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Основа рельефа – часть Восточно-Европейской платф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11640" y="1413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68360" y="2492280"/>
            <a:ext cx="1275120" cy="28814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68360" y="2565360"/>
            <a:ext cx="1295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Большое влияние на рельеф оказало древнее оледе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51640" y="1413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35280" y="2492280"/>
            <a:ext cx="1657440" cy="3745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64000" y="2565360"/>
            <a:ext cx="1800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Недра стран богаты рудами черных и цветных металлов и бедны топливными полезными ископаем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7958000">
            <a:off x="6904440" y="109584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93080" y="2492280"/>
            <a:ext cx="1728720" cy="16574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93080" y="2565360"/>
            <a:ext cx="172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Страны богаты поверхностными вод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3456600">
            <a:off x="1721160" y="109584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64000" y="2492280"/>
            <a:ext cx="1511640" cy="3241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64000" y="2565360"/>
            <a:ext cx="1511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Более половины площади Швеции покрыты лесами, но в Норвегии лесов м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79280" y="5157720"/>
            <a:ext cx="1944720" cy="1555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7093080" y="5492880"/>
            <a:ext cx="186660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564000" y="333360"/>
            <a:ext cx="1944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клима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16286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8000" y="2565360"/>
            <a:ext cx="1871640" cy="345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2637000"/>
            <a:ext cx="1800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Страны расположены в северной части умеренного пояса и северные районы в субарктичес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80000" y="162864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59280" y="2637000"/>
            <a:ext cx="1871640" cy="1944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32360" y="2708280"/>
            <a:ext cx="1871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Большое влияние оказывает Северо-атлантическое т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27280" y="2637000"/>
            <a:ext cx="1871640" cy="1655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3876600">
            <a:off x="1617840" y="119772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2708280"/>
            <a:ext cx="1657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Западный перенос морских воздушных м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7893200">
            <a:off x="7193520" y="10962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164360" y="2637000"/>
            <a:ext cx="1871640" cy="1584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36000" y="2924280"/>
            <a:ext cx="165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Много осад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156360" y="4581360"/>
            <a:ext cx="2746440" cy="2060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50920" y="115920"/>
            <a:ext cx="1036440" cy="14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8:38:15Z</dcterms:created>
  <dc:creator>WS</dc:creator>
  <dc:description/>
  <dc:language>en-US</dc:language>
  <cp:lastModifiedBy>Miheeva</cp:lastModifiedBy>
  <dcterms:modified xsi:type="dcterms:W3CDTF">2011-08-29T14:19:15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6050000000000010243100207f6000400038000</vt:lpwstr>
  </property>
</Properties>
</file>