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B82-1B9C-4C67-A208-7C153F82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894-4801-4172-844F-E32599DB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894-0B45-4DD9-83E6-52030399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083-7F36-4BBE-A31C-87667D60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A63-156E-4646-9840-03D66087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128-87B8-4279-AF45-749B09D9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022-E759-409A-98E8-D8DC9D6F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E27-EA20-479D-AD45-0037C27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8D3-9701-44B2-B855-9CA7040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370-301E-4251-9EAB-F9D11F3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62C-10A8-48E9-965B-99E6459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9E8-129E-401C-845B-4998F1B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2DC-9B0F-47A0-9A4D-2275FE03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87640" y="4724280"/>
            <a:ext cx="41050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хеева В.Н.,               учитель географии МАОУ-Гимназии № 47,  г. 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124000" y="189000"/>
            <a:ext cx="4657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 rot="2129400">
            <a:off x="140328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205000"/>
            <a:ext cx="129708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205000"/>
            <a:ext cx="129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лотность населения неве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133720"/>
            <a:ext cx="1871640" cy="25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112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2133720"/>
            <a:ext cx="18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Численность норвежцев составляет около 5 млн. человек, а в Швеции около 9 млн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026000">
            <a:off x="701964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133720"/>
            <a:ext cx="187164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13372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жцы и шведы потомки германских пл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133720"/>
            <a:ext cx="1871640" cy="482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133720"/>
            <a:ext cx="17272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гия- рыболовство, лесные промыслы, молочное животноводство. Швеция- электроэнергия, бумага, телефонные аппараты,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2027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35280" y="476280"/>
            <a:ext cx="5124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траны северной Евро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20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3500280"/>
            <a:ext cx="2114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8000" y="321300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2000" y="3573360"/>
            <a:ext cx="169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448000" cy="22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3875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59280" y="476280"/>
            <a:ext cx="259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421000"/>
            <a:ext cx="77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ландия – далекая приполярная страна,  затерянная в просторах океана, издавна была известна благодаря знаменитым сагам, которые слагали отважные жители острова. Исландия отстоит от материка почти на 1000 км, омывается водами 2-х океанов. Через остров проходят воздушные пути из Старого в Новый Свет, например кратчайшая линия полетов из Москвы в Нью-Йо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1834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348000" y="333360"/>
            <a:ext cx="21589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 rot="2533800">
            <a:off x="212400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205000"/>
            <a:ext cx="194472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637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27664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тров вулканическ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565360"/>
            <a:ext cx="158436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2565360"/>
            <a:ext cx="165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а богата водами(ледники, реки, водопады, озера, бол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2565360"/>
            <a:ext cx="151272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2565360"/>
            <a:ext cx="17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ундровая растительность(мхи, лишайники, кустарнич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205000"/>
            <a:ext cx="133164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753000">
            <a:off x="6329880" y="1238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276640"/>
            <a:ext cx="136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Животные(северные олени, песцы, лемминги, птицы, рыб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819520" cy="181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867280" y="4869000"/>
            <a:ext cx="30196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03640" y="189000"/>
            <a:ext cx="22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 rot="1999200">
            <a:off x="1908000" y="112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565360"/>
            <a:ext cx="158436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63700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убарктический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637000"/>
            <a:ext cx="136836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2637000"/>
            <a:ext cx="129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ысокая влажность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485600">
            <a:off x="644328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1512720" cy="136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63700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 (500-1000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1644480" cy="224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76084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700360" y="4292640"/>
            <a:ext cx="316872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050920" y="189000"/>
            <a:ext cx="51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421000"/>
            <a:ext cx="165600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492280"/>
            <a:ext cx="16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ставляют около 300 тыс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34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421000"/>
            <a:ext cx="1440000" cy="33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421000"/>
            <a:ext cx="12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 столице – Рейкьявике- живет половина населения вс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30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421000"/>
            <a:ext cx="143964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492280"/>
            <a:ext cx="143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изводство электроэнергии, новых отраслях машиностроения и строительстве. Рыбная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025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орвегия и 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положены на самом большом европейском полуострове. Их называют Скандинавскими странами. Обе страны имеют протяженные морские границы. Море издавна играет главную роль в жизни народов этих стран. Оно связывает их между собой и со всем миром. Береговая линия на западе изрезана фьордами, а у берегов Швеции и Балтийском море много шх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027160" cy="16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309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32000" y="404640"/>
            <a:ext cx="259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492280"/>
            <a:ext cx="1511280" cy="25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565360"/>
            <a:ext cx="151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снова рельефа – часть Восточно-Европейск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2492280"/>
            <a:ext cx="1275120" cy="2881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565360"/>
            <a:ext cx="12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на рельеф оказало древнее олед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2492280"/>
            <a:ext cx="1657440" cy="3745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565360"/>
            <a:ext cx="180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дра стран богаты рудами черных и цветных металлов и бедны топливными полезными ископае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7958000">
            <a:off x="690444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2492280"/>
            <a:ext cx="1728720" cy="165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565360"/>
            <a:ext cx="172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богаты поверхностными в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456600">
            <a:off x="172116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2492280"/>
            <a:ext cx="1511640" cy="3241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565360"/>
            <a:ext cx="15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ее половины площади Швеции покрыты лесами, но в Норвегии лесов 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093080" y="5492880"/>
            <a:ext cx="186660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564000" y="333360"/>
            <a:ext cx="19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6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565360"/>
            <a:ext cx="1871640" cy="345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637000"/>
            <a:ext cx="18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расположены в северной части умеренного пояса и северные районы в субарктиче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1628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37000"/>
            <a:ext cx="1871640" cy="19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70828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оказывает Северо-атлантическое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637000"/>
            <a:ext cx="187164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876600">
            <a:off x="1617840" y="1197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708280"/>
            <a:ext cx="165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падный перенос морских воздушных м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7893200">
            <a:off x="7193520" y="109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637000"/>
            <a:ext cx="187164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6000" y="2924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274644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0364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8:38:15Z</dcterms:created>
  <dc:creator>WS</dc:creator>
  <dc:description/>
  <dc:language>en-US</dc:language>
  <cp:lastModifiedBy>Miheeva</cp:lastModifiedBy>
  <dcterms:modified xsi:type="dcterms:W3CDTF">2011-08-29T14:19:15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50000000000010243100207f6000400038000</vt:lpwstr>
  </property>
</Properties>
</file>