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243-26BB-4ABF-BA5E-56CB264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1B7-FB93-4620-9573-A33915C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1D3-1D52-4242-B157-3F329FD6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5DC-6FD2-41DE-A270-A6F1B0E8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0F9-CD14-46AB-9635-966B474B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C9D1-A8DE-43D2-AC29-D00EB68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EF88-81D5-4EE0-9533-A1AE486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849B-5CE6-4592-B16D-557F7C7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258-24A7-49FC-8B87-D2E5F583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228-FF14-4A14-B9B2-0E2E4D4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A99E-7894-4AB5-A5A0-6AC32BF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F2D-06B2-41A5-9BF7-3BC8F4A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83AE-A162-4A63-AB16-783143D3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28E1-5DE3-4E60-9B10-F5A7EE3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68C7-38EB-45DD-B6E0-8815890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9278-5926-4C55-87F6-CCCF95E0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314-4CC3-4852-AD52-8A75920E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26E-AA71-4DD1-AFA6-14DFFD1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674-1DB8-4C2E-86CF-49474D7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D4C-6BA6-4FAA-B94B-C8B9C31D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462-5186-44BE-9BF9-26E0A50A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930-F12C-4AA4-B563-BD68CCD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0A8-00CF-4856-96EB-94999E7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6F7-0F1A-4724-A234-9512E6B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A26-64D7-4DDF-A83F-8E03117E733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D80-ED51-4898-B51F-075470CFFEB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Страны мир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роверить знания о населении Земл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расширить знания о политичес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й карте мир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ознакомиться с классификацией стр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знать о формах 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На карте мира много разных  стран. Они различаются по величине, площади и численности насел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Каждая страна уникальна и неповторим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780000" y="542916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6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к – эпоха Великих географических откры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лони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это страна, вся жизнь которой полностью контролируется другой стран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ропол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страны, которые имеют колон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Империя, над которой никогда не заходит солнце». Так называли Великобрита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очем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сунок 89 в учебн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торая половина 20 века - борьба за колониальную независим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201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временные изменения на политической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0 г 20 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динение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Чехос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к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ССС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прос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аком материке никаких изменений на политической карте мира не происходи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рта С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азличия между стран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страна?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Найдите определение в тексте учебник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личия стран по площад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траны – гиган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рликовые государ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редние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атикан – самая маленькая по площади страна мира (0,44 кв.км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Содержимое 3" descr="Ватикан, фото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нарх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такая форма правления, при которой власть принадлежит одному челове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монарх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бсолютная                              Ограничен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28760" y="3429000"/>
            <a:ext cx="316836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23-13"/>
          <p:cNvPicPr/>
          <p:nvPr/>
        </p:nvPicPr>
        <p:blipFill>
          <a:blip r:embed="rId2"/>
          <a:stretch/>
        </p:blipFill>
        <p:spPr>
          <a:xfrm>
            <a:off x="2714760" y="2357280"/>
            <a:ext cx="2124000" cy="197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нархии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Содержимое 3" descr="Монархии мира"/>
          <p:cNvPicPr/>
          <p:nvPr/>
        </p:nvPicPr>
        <p:blipFill>
          <a:blip r:embed="rId1"/>
          <a:stretch/>
        </p:blipFill>
        <p:spPr>
          <a:xfrm>
            <a:off x="1042920" y="1674720"/>
            <a:ext cx="6958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спублика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акая форма правления, при которой власть принадлежит народу стр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акая форма правл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шей стра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3" descr="http://kostroma.rfn.ru/p/m_21893.jpg"/>
          <p:cNvPicPr/>
          <p:nvPr/>
        </p:nvPicPr>
        <p:blipFill>
          <a:blip r:embed="rId1"/>
          <a:stretch/>
        </p:blipFill>
        <p:spPr>
          <a:xfrm>
            <a:off x="2411280" y="3141720"/>
            <a:ext cx="3549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циональные символы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лаг            Герб             Гим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мвол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0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3635280" y="3860640"/>
            <a:ext cx="2160720" cy="26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6084720" y="3429000"/>
          <a:ext cx="2737080" cy="310824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Слова гимна Ро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вященная наша держава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любимая наша стра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Могучая воля, великая слава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Твоё достоянье на все времена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Отечество наше свободное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Братских народов союз вековой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Предками данная мудрость народная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страна! Мы гордимся тобой!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оверка знаний по теме: 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Население Земли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казать о численности населения Земли и размещении людей на планет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388944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волы других государст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Содержимое 3" descr="Герб Великобритании"/>
          <p:cNvPicPr/>
          <p:nvPr/>
        </p:nvPicPr>
        <p:blipFill>
          <a:blip r:embed="rId1"/>
          <a:stretch/>
        </p:blipFill>
        <p:spPr>
          <a:xfrm>
            <a:off x="6659640" y="1773360"/>
            <a:ext cx="197172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6227640" y="3797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еликобритан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4" descr="Герб Ватикана"/>
          <p:cNvPicPr/>
          <p:nvPr/>
        </p:nvPicPr>
        <p:blipFill>
          <a:blip r:embed="rId2"/>
          <a:stretch/>
        </p:blipFill>
        <p:spPr>
          <a:xfrm>
            <a:off x="2556000" y="1773360"/>
            <a:ext cx="1746000" cy="2232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3635280" y="3789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атика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Рисунок 6" descr="Герб Германии"/>
          <p:cNvPicPr/>
          <p:nvPr/>
        </p:nvPicPr>
        <p:blipFill>
          <a:blip r:embed="rId3"/>
          <a:stretch/>
        </p:blipFill>
        <p:spPr>
          <a:xfrm>
            <a:off x="4500720" y="1700280"/>
            <a:ext cx="1971360" cy="2457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7"/>
          <p:cNvSpPr/>
          <p:nvPr/>
        </p:nvSpPr>
        <p:spPr>
          <a:xfrm>
            <a:off x="2286000" y="443700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мании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8" descr="Герб Египта"/>
          <p:cNvPicPr/>
          <p:nvPr/>
        </p:nvPicPr>
        <p:blipFill>
          <a:blip r:embed="rId4"/>
          <a:stretch/>
        </p:blipFill>
        <p:spPr>
          <a:xfrm>
            <a:off x="468360" y="1773360"/>
            <a:ext cx="1714320" cy="230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9"/>
          <p:cNvSpPr/>
          <p:nvPr/>
        </p:nvSpPr>
        <p:spPr>
          <a:xfrm>
            <a:off x="53964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Египта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верим усвоение новых знани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Вопросы рубрики «Проверим знания» стр. 1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«А теперь более сложные вопросы» стр. 14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«Поработаем с картой» стр. 148 (по цепочк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ем с контурной карт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Отметьте на карте 4 самые большие страны ми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692360" y="2957400"/>
            <a:ext cx="53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аботаем в тетра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Выберите страну с наибольшей численностью насел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4360" y="2060640"/>
            <a:ext cx="617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Бразил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Индоне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9640" y="3645000"/>
            <a:ext cx="63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Самая маленькая страна по площади и по численности населения эт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68360" y="436572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Люксем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Монак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Ватика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ндор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41-03"/>
          <p:cNvPicPr/>
          <p:nvPr/>
        </p:nvPicPr>
        <p:blipFill>
          <a:blip r:embed="rId2"/>
          <a:stretch/>
        </p:blipFill>
        <p:spPr>
          <a:xfrm>
            <a:off x="7740720" y="18900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. Выделите часть света, где нет государств с монархической формой правл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39640" y="1916280"/>
            <a:ext cx="631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Европ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А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Аме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ф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95280" y="3573360"/>
            <a:ext cx="65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4. Выделите полуостровное государство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68360" y="386064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Австр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Япо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41-03"/>
          <p:cNvPicPr/>
          <p:nvPr/>
        </p:nvPicPr>
        <p:blipFill>
          <a:blip r:embed="rId2"/>
          <a:stretch/>
        </p:blipFill>
        <p:spPr>
          <a:xfrm>
            <a:off x="7596360" y="189000"/>
            <a:ext cx="1363320" cy="1727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аграф 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857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полнительный 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Назовите районы планеты, неудобные для проживания. Покажите их на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Задайте дополнительные вопросы по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полни задания в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№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ители каких рас здесь изображены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655640" cy="172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3635280" y="2924280"/>
            <a:ext cx="1800360" cy="170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151272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1863360" y="477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55720" y="4897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809760" y="4809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277920"/>
            <a:ext cx="677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из этих религий относятся к мировым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Исл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Будд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Языче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Православ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3</a:t>
            </a:r>
            <a:br>
              <a:rPr sz="40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то это?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384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20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384720" cy="2305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0" y="3429000"/>
            <a:ext cx="4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50920" y="634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7128000" y="5848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ие 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Негроидная 2. Европеоидная 3. Монголоид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,2,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Храм Василия Блаженного в Москв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Тадж – Махал в Инд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Буддистский монастырь в Гималая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 теперь узнаем о странах мир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 – это карта стра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— тематическая карта, на которой показаны государственные границы всех стран мира. Её называют зеркалом эпохи, поскольку на ней находят своё отраж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се процессы, происходящие в мире на разных этапах развития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изучения новог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. Политическая карта мира, изменения на н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Многообразие стран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Первые страны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траны на карте Средневековь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Эпоха Великих географических открыт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) Современные изменения на политической карте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. Страны ми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змеры территор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мы пр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имволы государст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58:32Z</dcterms:created>
  <dc:creator>XTreme</dc:creator>
  <dc:description/>
  <dc:language>en-US</dc:language>
  <cp:lastModifiedBy>User</cp:lastModifiedBy>
  <dcterms:modified xsi:type="dcterms:W3CDTF">2013-04-05T17:12:55Z</dcterms:modified>
  <cp:revision>64</cp:revision>
  <dc:subject/>
  <dc:title>Слайд 1</dc:title>
</cp:coreProperties>
</file>