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7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jpeg" ContentType="image/jpeg"/>
  <Override PartName="/ppt/media/image26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8F8F-9B34-453F-8764-D69584EEB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B15D-2B4C-4434-98C9-B1F61CBC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122F-3D1D-436A-A638-71DBFD5DE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5611-5502-44F3-8B51-A574350EA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9D01-6FF6-4E5F-8EC1-3F2E5A9FF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2745-D138-475E-B800-34A710FC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3FBF-B2B4-4535-916F-24E1155B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EF0C-86EE-4827-ABC8-823E84D8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4F9A-59EB-40F0-80D5-F26AA8DC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4094-EF91-473F-AAC5-CDD4C6D0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97BF-D1F6-450A-9FC9-8C905447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CF3F-DF21-4A64-A644-15271F75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EE3E-83C0-40C5-8806-FE915D56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E376-91C1-4BAB-90B8-7A0C8B30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4906-2C62-45B0-9045-B8B5C8B7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99DE-21A3-4A9D-BBF9-7AD3B2BF1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3B7E-6DDA-45CC-B393-99B267434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26CD-FE44-40A8-9212-3C446D24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E293-2B70-4B85-A3BA-B2E5BA77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45F3-A239-4752-8BEF-72AC6E5F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484F-47D8-461E-A564-E35C31DA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A6A4-EBE4-41EF-A3B1-70C397A9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48D5-47D8-4AAF-A68F-6C6B9820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5F6B-886A-4347-A1BB-0EF00E18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3DD0-FEA4-4C6F-B364-F3BD4E90129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925F-8E85-465F-BEBC-59C6598D46EE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Тема урока: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«Страны мира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Цели урока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проверить знания о населении Земл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расширить знания о политическ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й карте мира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познакомиться с классификацией стран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узнать о формах правлени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На карте мира много разных  стран. Они различаются по величине, площади и численности населени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Verdana"/>
              </a:rPr>
              <a:t>Каждая страна уникальна и неповторима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3780000" y="5429160"/>
            <a:ext cx="1368360" cy="123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16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ек – эпоха Великих географических открыти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олония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– это страна, вся жизнь которой полностью контролируется другой страно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Метрополии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– страны, которые имеют колон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«Империя, над которой никогда не заходит солнце». Так называли Великобританию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опрос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почему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исунок 89 в учебник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Вторая половина 20 века - борьба за колониальную независимость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900000" y="1600200"/>
            <a:ext cx="7201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Современные изменения на политической карт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90 г 20 век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бъединение Герман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спад Чехос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ак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спад ССС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Вопрос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каком материке никаких изменений на политической карте мира не происходит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арта ССС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1042920" y="1600200"/>
            <a:ext cx="70581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Различия между странам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акое страна?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(Найдите определение в тексте учебника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Различия стран по площади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) Страны – гигант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) Карликовые государств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) Средние стран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Ватикан – самая маленькая по площади страна мира (0,44 кв.км.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1" name="Содержимое 3" descr="Ватикан, фото"/>
          <p:cNvPicPr/>
          <p:nvPr/>
        </p:nvPicPr>
        <p:blipFill>
          <a:blip r:embed="rId1"/>
          <a:stretch/>
        </p:blipFill>
        <p:spPr>
          <a:xfrm>
            <a:off x="1176480" y="1600200"/>
            <a:ext cx="67910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Формы правления стран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Монархи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– такая форма правления, при которой власть принадлежит одному человеку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иды монарх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Абсолютная                              Ограниченна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28760" y="3429000"/>
            <a:ext cx="3168360" cy="2952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C23-13"/>
          <p:cNvPicPr/>
          <p:nvPr/>
        </p:nvPicPr>
        <p:blipFill>
          <a:blip r:embed="rId2"/>
          <a:stretch/>
        </p:blipFill>
        <p:spPr>
          <a:xfrm>
            <a:off x="2714760" y="2357280"/>
            <a:ext cx="2124000" cy="1971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онархии ми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7" name="Содержимое 3" descr="Монархии мира"/>
          <p:cNvPicPr/>
          <p:nvPr/>
        </p:nvPicPr>
        <p:blipFill>
          <a:blip r:embed="rId1"/>
          <a:stretch/>
        </p:blipFill>
        <p:spPr>
          <a:xfrm>
            <a:off x="1042920" y="1674720"/>
            <a:ext cx="695808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Формы правления стра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Республика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такая форма правления, при которой власть принадлежит народу стран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опрос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какая форма правления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нашей страны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Рисунок 3" descr="http://kostroma.rfn.ru/p/m_21893.jpg"/>
          <p:cNvPicPr/>
          <p:nvPr/>
        </p:nvPicPr>
        <p:blipFill>
          <a:blip r:embed="rId1"/>
          <a:stretch/>
        </p:blipFill>
        <p:spPr>
          <a:xfrm>
            <a:off x="2411280" y="3141720"/>
            <a:ext cx="35499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Национальные символы стра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лаг            Герб             Гим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мволы Росс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Picture 20" descr=""/>
          <p:cNvPicPr/>
          <p:nvPr/>
        </p:nvPicPr>
        <p:blipFill>
          <a:blip r:embed="rId1"/>
          <a:stretch/>
        </p:blipFill>
        <p:spPr>
          <a:xfrm>
            <a:off x="250920" y="3716280"/>
            <a:ext cx="3132000" cy="2084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"/>
          <p:cNvPicPr/>
          <p:nvPr/>
        </p:nvPicPr>
        <p:blipFill>
          <a:blip r:embed="rId2"/>
          <a:stretch/>
        </p:blipFill>
        <p:spPr>
          <a:xfrm>
            <a:off x="3635280" y="3860640"/>
            <a:ext cx="2160720" cy="263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5" name=""/>
          <p:cNvGraphicFramePr/>
          <p:nvPr/>
        </p:nvGraphicFramePr>
        <p:xfrm>
          <a:off x="6084720" y="3429000"/>
          <a:ext cx="2737080" cy="3108240"/>
        </p:xfrm>
        <a:graphic>
          <a:graphicData uri="http://schemas.openxmlformats.org/drawingml/2006/table">
            <a:tbl>
              <a:tblPr/>
              <a:tblGrid>
                <a:gridCol w="2737080"/>
              </a:tblGrid>
              <a:tr h="31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Слова гимна Росс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Arial"/>
                          <a:ea typeface="Times New Roman"/>
                        </a:rPr>
                        <a:t>Россия </a:t>
                      </a: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Verdana"/>
                          <a:ea typeface="Times New Roman"/>
                        </a:rPr>
                        <a:t>—</a:t>
                      </a: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Arial"/>
                          <a:ea typeface="Times New Roman"/>
                        </a:rPr>
                        <a:t> священная наша держава,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Verdana"/>
                          <a:ea typeface="Times New Roman"/>
                        </a:rPr>
                        <a:t>   </a:t>
                      </a: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Arial"/>
                          <a:ea typeface="Times New Roman"/>
                        </a:rPr>
                        <a:t> Россия </a:t>
                      </a: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Verdana"/>
                          <a:ea typeface="Times New Roman"/>
                        </a:rPr>
                        <a:t>—</a:t>
                      </a: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Arial"/>
                          <a:ea typeface="Times New Roman"/>
                        </a:rPr>
                        <a:t> любимая наша страна.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Verdana"/>
                          <a:ea typeface="Times New Roman"/>
                        </a:rPr>
                        <a:t>   </a:t>
                      </a: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Arial"/>
                          <a:ea typeface="Times New Roman"/>
                        </a:rPr>
                        <a:t> Могучая воля, великая слава </a:t>
                      </a: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Verdana"/>
                          <a:ea typeface="Times New Roman"/>
                        </a:rPr>
                        <a:t>—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Verdana"/>
                          <a:ea typeface="Times New Roman"/>
                        </a:rPr>
                        <a:t>   </a:t>
                      </a: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Arial"/>
                          <a:ea typeface="Times New Roman"/>
                        </a:rPr>
                        <a:t> Твоё достоянье на все времена!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Verdana"/>
                          <a:ea typeface="Times New Roman"/>
                        </a:rPr>
                        <a:t>       </a:t>
                      </a: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Arial"/>
                          <a:ea typeface="Times New Roman"/>
                        </a:rPr>
                        <a:t> Славься, Отечество наше свободное,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Verdana"/>
                          <a:ea typeface="Times New Roman"/>
                        </a:rPr>
                        <a:t>       </a:t>
                      </a: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Arial"/>
                          <a:ea typeface="Times New Roman"/>
                        </a:rPr>
                        <a:t> Братских народов союз вековой,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Verdana"/>
                          <a:ea typeface="Times New Roman"/>
                        </a:rPr>
                        <a:t>       </a:t>
                      </a: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Arial"/>
                          <a:ea typeface="Times New Roman"/>
                        </a:rPr>
                        <a:t> Предками данная мудрость народная!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Verdana"/>
                          <a:ea typeface="Times New Roman"/>
                        </a:rPr>
                        <a:t>       </a:t>
                      </a: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Arial"/>
                          <a:ea typeface="Times New Roman"/>
                        </a:rPr>
                        <a:t> Славься, страна! Мы гордимся тобой!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Проверка знаний по теме: </a:t>
            </a:r>
            <a:br>
              <a:rPr sz="3200"/>
            </a:b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«Население Земли»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ассказать о численности населения Земли и размещении людей на планет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2411280" y="2852640"/>
            <a:ext cx="3889440" cy="30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имволы других государст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Содержимое 3" descr="Герб Великобритании"/>
          <p:cNvPicPr/>
          <p:nvPr/>
        </p:nvPicPr>
        <p:blipFill>
          <a:blip r:embed="rId1"/>
          <a:stretch/>
        </p:blipFill>
        <p:spPr>
          <a:xfrm>
            <a:off x="6659640" y="1773360"/>
            <a:ext cx="1971720" cy="18288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4"/>
          <p:cNvSpPr/>
          <p:nvPr/>
        </p:nvSpPr>
        <p:spPr>
          <a:xfrm>
            <a:off x="6227640" y="3797640"/>
            <a:ext cx="26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Schoolbook"/>
                <a:ea typeface="Century Schoolbook"/>
              </a:rPr>
              <a:t>Герб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Schoolbook"/>
                <a:ea typeface="Century Schoolbook"/>
              </a:rPr>
              <a:t>Великобритании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Рисунок 4" descr="Герб Ватикана"/>
          <p:cNvPicPr/>
          <p:nvPr/>
        </p:nvPicPr>
        <p:blipFill>
          <a:blip r:embed="rId2"/>
          <a:stretch/>
        </p:blipFill>
        <p:spPr>
          <a:xfrm>
            <a:off x="2556000" y="1773360"/>
            <a:ext cx="1746000" cy="223200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5"/>
          <p:cNvSpPr/>
          <p:nvPr/>
        </p:nvSpPr>
        <p:spPr>
          <a:xfrm>
            <a:off x="3635280" y="3789360"/>
            <a:ext cx="25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Schoolbook"/>
                <a:ea typeface="Century Schoolbook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Schoolbook"/>
                <a:ea typeface="Century Schoolbook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Century Schoolbook"/>
                <a:ea typeface="Century Schoolbook"/>
              </a:rPr>
              <a:t>Герб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Schoolbook"/>
                <a:ea typeface="Century Schoolbook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Century Schoolbook"/>
                <a:ea typeface="Century Schoolbook"/>
              </a:rPr>
              <a:t>Ватикан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1" name="Рисунок 6" descr="Герб Германии"/>
          <p:cNvPicPr/>
          <p:nvPr/>
        </p:nvPicPr>
        <p:blipFill>
          <a:blip r:embed="rId3"/>
          <a:stretch/>
        </p:blipFill>
        <p:spPr>
          <a:xfrm>
            <a:off x="4500720" y="1700280"/>
            <a:ext cx="1971360" cy="245736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7"/>
          <p:cNvSpPr/>
          <p:nvPr/>
        </p:nvSpPr>
        <p:spPr>
          <a:xfrm>
            <a:off x="2286000" y="4437000"/>
            <a:ext cx="192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  <a:ea typeface="Century Schoolbook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entury Schoolbook"/>
                <a:ea typeface="Century Schoolbook"/>
              </a:rPr>
              <a:t>Герб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  <a:ea typeface="Century Schoolbook"/>
              </a:rPr>
              <a:t>Германии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3" name="Рисунок 8" descr="Герб Египта"/>
          <p:cNvPicPr/>
          <p:nvPr/>
        </p:nvPicPr>
        <p:blipFill>
          <a:blip r:embed="rId4"/>
          <a:stretch/>
        </p:blipFill>
        <p:spPr>
          <a:xfrm>
            <a:off x="468360" y="1773360"/>
            <a:ext cx="1714320" cy="230508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9"/>
          <p:cNvSpPr/>
          <p:nvPr/>
        </p:nvSpPr>
        <p:spPr>
          <a:xfrm>
            <a:off x="539640" y="429264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  <a:ea typeface="Century Schoolbook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entury Schoolbook"/>
                <a:ea typeface="Century Schoolbook"/>
              </a:rPr>
              <a:t>Герб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  <a:ea typeface="Century Schoolbook"/>
              </a:rPr>
              <a:t>Египта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Проверим усвоение новых знаний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 Вопросы рубрики «Проверим знания» стр. 14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 «А теперь более сложные вопросы» стр. 14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 «Поработаем с картой» стр. 148 (по цепочке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аботаем с контурной карто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 Отметьте на карте 4 самые большие страны мир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1692360" y="2957400"/>
            <a:ext cx="532764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работаем в тетрад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ст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. Выберите страну с наибольшей численностью населения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684360" y="2060640"/>
            <a:ext cx="61736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А) Инди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Б) Бразили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) Индонези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Г) Росси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539640" y="3645000"/>
            <a:ext cx="631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2. Самая маленькая страна по площади и по численности населения это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468360" y="4365720"/>
            <a:ext cx="6389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А) Люксембург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Б) Монако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) Ватикан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Г) Андорра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5" name="Picture 7" descr=""/>
          <p:cNvPicPr/>
          <p:nvPr/>
        </p:nvPicPr>
        <p:blipFill>
          <a:blip r:embed="rId1"/>
          <a:stretch/>
        </p:blipFill>
        <p:spPr>
          <a:xfrm>
            <a:off x="6156360" y="2997360"/>
            <a:ext cx="2592360" cy="2376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C41-03"/>
          <p:cNvPicPr/>
          <p:nvPr/>
        </p:nvPicPr>
        <p:blipFill>
          <a:blip r:embed="rId2"/>
          <a:stretch/>
        </p:blipFill>
        <p:spPr>
          <a:xfrm>
            <a:off x="7740720" y="189000"/>
            <a:ext cx="14032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ес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3. Выделите часть света, где нет государств с монархической формой правления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539640" y="1916280"/>
            <a:ext cx="6318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А) Европа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Б) Ази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) Америка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Г) Африка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395280" y="3573360"/>
            <a:ext cx="65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4. Выделите полуостровное государство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468360" y="3860640"/>
            <a:ext cx="6389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А) Австри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Б) Инди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) Росси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Г) Япони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Picture 10" descr=""/>
          <p:cNvPicPr/>
          <p:nvPr/>
        </p:nvPicPr>
        <p:blipFill>
          <a:blip r:embed="rId1"/>
          <a:stretch/>
        </p:blipFill>
        <p:spPr>
          <a:xfrm>
            <a:off x="6156360" y="2997360"/>
            <a:ext cx="2592360" cy="2376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C41-03"/>
          <p:cNvPicPr/>
          <p:nvPr/>
        </p:nvPicPr>
        <p:blipFill>
          <a:blip r:embed="rId2"/>
          <a:stretch/>
        </p:blipFill>
        <p:spPr>
          <a:xfrm>
            <a:off x="7596360" y="189000"/>
            <a:ext cx="1363320" cy="17272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раграф 1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Picture 5" descr=""/>
          <p:cNvPicPr/>
          <p:nvPr/>
        </p:nvPicPr>
        <p:blipFill>
          <a:blip r:embed="rId1"/>
          <a:stretch/>
        </p:blipFill>
        <p:spPr>
          <a:xfrm>
            <a:off x="5292720" y="1557360"/>
            <a:ext cx="28576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Дополнительный вопрос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Verdana"/>
              </a:rPr>
              <a:t>Назовите районы планеты, неудобные для проживания. Покажите их на карт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Verdana"/>
              </a:rPr>
              <a:t>Задайте дополнительные вопросы по карт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4" descr="C41-12"/>
          <p:cNvPicPr/>
          <p:nvPr/>
        </p:nvPicPr>
        <p:blipFill>
          <a:blip r:embed="rId1"/>
          <a:stretch/>
        </p:blipFill>
        <p:spPr>
          <a:xfrm>
            <a:off x="0" y="0"/>
            <a:ext cx="1692360" cy="16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ыполни задания в тетрад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дание №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едставители каких рас здесь изображены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4" descr="C41-12"/>
          <p:cNvPicPr/>
          <p:nvPr/>
        </p:nvPicPr>
        <p:blipFill>
          <a:blip r:embed="rId1"/>
          <a:stretch/>
        </p:blipFill>
        <p:spPr>
          <a:xfrm>
            <a:off x="0" y="0"/>
            <a:ext cx="1692360" cy="1627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2"/>
          <a:stretch/>
        </p:blipFill>
        <p:spPr>
          <a:xfrm>
            <a:off x="971640" y="2997360"/>
            <a:ext cx="1655640" cy="1726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"/>
          <p:cNvPicPr/>
          <p:nvPr/>
        </p:nvPicPr>
        <p:blipFill>
          <a:blip r:embed="rId3"/>
          <a:stretch/>
        </p:blipFill>
        <p:spPr>
          <a:xfrm>
            <a:off x="3635280" y="2924280"/>
            <a:ext cx="1800360" cy="1704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"/>
          <p:cNvPicPr/>
          <p:nvPr/>
        </p:nvPicPr>
        <p:blipFill>
          <a:blip r:embed="rId4"/>
          <a:stretch/>
        </p:blipFill>
        <p:spPr>
          <a:xfrm>
            <a:off x="6372360" y="2997360"/>
            <a:ext cx="1512720" cy="16556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0"/>
          <p:cNvSpPr/>
          <p:nvPr/>
        </p:nvSpPr>
        <p:spPr>
          <a:xfrm>
            <a:off x="1863360" y="4772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4455720" y="4897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6809760" y="4809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08000" y="277920"/>
            <a:ext cx="6778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Задание №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ие из этих религий относятся к мировым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) Исла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) Буддиз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)Язычеств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)Христианств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5) Православи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4" descr="C41-12"/>
          <p:cNvPicPr/>
          <p:nvPr/>
        </p:nvPicPr>
        <p:blipFill>
          <a:blip r:embed="rId1"/>
          <a:stretch/>
        </p:blipFill>
        <p:spPr>
          <a:xfrm>
            <a:off x="0" y="0"/>
            <a:ext cx="169236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Задание №3</a:t>
            </a:r>
            <a:br>
              <a:rPr sz="40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Что это?</a:t>
            </a:r>
            <a:br>
              <a:rPr sz="40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3538440" cy="2664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205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3"/>
          <a:stretch/>
        </p:blipFill>
        <p:spPr>
          <a:xfrm>
            <a:off x="539640" y="4292640"/>
            <a:ext cx="3384720" cy="23050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9"/>
          <p:cNvSpPr/>
          <p:nvPr/>
        </p:nvSpPr>
        <p:spPr>
          <a:xfrm>
            <a:off x="0" y="3429000"/>
            <a:ext cx="4683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250920" y="63482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7128000" y="58482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авильные отве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дание 1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. Негроидная 2. Европеоидная 3. Монголоидна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дание 2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,2,4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дание 3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 Храм Василия Блаженного в Москв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 Тадж – Махал в Инди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. Буддистский монастырь в Гималая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А теперь узнаем о странах мира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литическая карта мира – это карта стран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олитическая карта мир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— тематическая карта, на которой показаны государственные границы всех стран мира. Её называют зеркалом эпохи, поскольку на ней находят своё отражен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все процессы, происходящие в мире на разных этапах развития человеческого обществ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лан изучения нового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1. Политическая карта мира, изменения на не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) Многообразие стран мир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) Первые страны мир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) Страны на карте Средневековь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) Эпоха Великих географических открыти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) Современные изменения на политической карте мир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2. Страны мира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)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змеры территори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)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рмы правлен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) Символы государств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1:58:32Z</dcterms:created>
  <dc:creator>XTreme</dc:creator>
  <dc:description/>
  <dc:language>en-US</dc:language>
  <cp:lastModifiedBy>User</cp:lastModifiedBy>
  <dcterms:modified xsi:type="dcterms:W3CDTF">2013-04-05T17:12:55Z</dcterms:modified>
  <cp:revision>64</cp:revision>
  <dc:subject/>
  <dc:title>Слайд 1</dc:title>
</cp:coreProperties>
</file>