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4A0-8069-41AE-A0B1-DE5755C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225-6090-497F-A411-6B728B2B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E0C-FA86-4D59-AB5A-93DF1147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68E-9F77-44DB-BE4B-417C9B3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F07-FD30-449B-AB8A-8D480EF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713-F7FD-4432-A762-98F89E42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06C5-8E5F-407F-8998-D576DA0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63F-C4DA-4D43-99BB-3AD1092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711-E2EC-4D28-8ED0-D7EFC9A5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B74-40A8-46DC-AF27-B8CB2C87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F726-757E-4772-A75E-EF77618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9BF-7E9D-4D02-A126-1CF06B1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9A01-D406-4A9C-A23A-6962BC9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DB48-2CB4-40FE-AA7B-F718631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A02-4B3C-42D0-B172-B3663FC2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5E9D-16A2-4952-A264-12B7FB91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1FCA-374A-4469-83EE-A2E51E1C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B68-4DF8-4458-9AB4-43308E3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C86-F361-49D1-8D20-2138053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054-0429-4B43-95A2-D7211E6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35F-4A99-433E-BCD1-EE90BF81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193-03E8-4795-92FC-F666FC8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598-E291-437F-9A2A-0362A08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178-AB9C-498A-9513-89B196E9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50F-F35B-4EAA-8C48-B9DFA2E660E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4C8-AF7C-488F-AAFB-95364A01A5E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Страны мир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роверить знания о населении Земл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расширить знания о политичес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й карте мир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познакомиться с классификацией стран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узнать о формах 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На карте мира много разных  стран. Они различаются по величине, площади и численности насел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Каждая страна уникальна и неповторим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780000" y="5429160"/>
            <a:ext cx="136836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6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к – эпоха Великих географических откры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лония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это страна, вся жизнь которой полностью контролируется другой стран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ропол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страны, которые имеют колон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Империя, над которой никогда не заходит солнце». Так называли Великобрита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почем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сунок 89 в учебни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торая половина 20 века - борьба за колониальную независим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201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временные изменения на политической карт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0 г 20 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динение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Чехос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к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ад ССС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прос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аком материке никаких изменений на политической карте мира не происходи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рта ССС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Различия между стран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ое страна?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Найдите определение в тексте учебник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личия стран по площад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траны – гиган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рликовые государств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редние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атикан – самая маленькая по площади страна мира (0,44 кв.км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Содержимое 3" descr="Ватикан, фото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онарх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такая форма правления, при которой власть принадлежит одному челове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монарх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бсолютная                              Ограничен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28760" y="3429000"/>
            <a:ext cx="316836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23-13"/>
          <p:cNvPicPr/>
          <p:nvPr/>
        </p:nvPicPr>
        <p:blipFill>
          <a:blip r:embed="rId2"/>
          <a:stretch/>
        </p:blipFill>
        <p:spPr>
          <a:xfrm>
            <a:off x="2714760" y="2357280"/>
            <a:ext cx="2124000" cy="1971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нархии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Содержимое 3" descr="Монархии мира"/>
          <p:cNvPicPr/>
          <p:nvPr/>
        </p:nvPicPr>
        <p:blipFill>
          <a:blip r:embed="rId1"/>
          <a:stretch/>
        </p:blipFill>
        <p:spPr>
          <a:xfrm>
            <a:off x="1042920" y="1674720"/>
            <a:ext cx="6958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рмы правления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спублика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акая форма правления, при которой власть принадлежит народу стр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опрос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акая форма правл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нашей стран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3" descr="http://kostroma.rfn.ru/p/m_21893.jpg"/>
          <p:cNvPicPr/>
          <p:nvPr/>
        </p:nvPicPr>
        <p:blipFill>
          <a:blip r:embed="rId1"/>
          <a:stretch/>
        </p:blipFill>
        <p:spPr>
          <a:xfrm>
            <a:off x="2411280" y="3141720"/>
            <a:ext cx="3549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циональные символы стра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лаг            Герб             Гим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мвол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0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3635280" y="3860640"/>
            <a:ext cx="2160720" cy="26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6084720" y="3429000"/>
          <a:ext cx="2737080" cy="310824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Century Schoolbook"/>
                          <a:ea typeface="Times New Roman"/>
                        </a:rPr>
                        <a:t>Слова гимна Росс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вященная наша держава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Россия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любимая наша страна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Могучая воля, великая слава 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—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Твоё достоянье на все времена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Отечество наше свободное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Братских народов союз вековой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Предками данная мудрость народная!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Verdana"/>
                          <a:ea typeface="Times New Roman"/>
                        </a:rPr>
                        <a:t>       </a:t>
                      </a:r>
                      <a:r>
                        <a:rPr b="0" lang="ru-RU" sz="1200" spc="-1" strike="noStrike">
                          <a:solidFill>
                            <a:srgbClr val="505050"/>
                          </a:solidFill>
                          <a:latin typeface="Arial"/>
                          <a:ea typeface="Times New Roman"/>
                        </a:rPr>
                        <a:t> Славься, страна! Мы гордимся тобой!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оверка знаний по теме: 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Население Земли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казать о численности населения Земли и размещении людей на планет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388944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волы других государст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Содержимое 3" descr="Герб Великобритании"/>
          <p:cNvPicPr/>
          <p:nvPr/>
        </p:nvPicPr>
        <p:blipFill>
          <a:blip r:embed="rId1"/>
          <a:stretch/>
        </p:blipFill>
        <p:spPr>
          <a:xfrm>
            <a:off x="6659640" y="1773360"/>
            <a:ext cx="197172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6227640" y="3797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еликобритан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4" descr="Герб Ватикана"/>
          <p:cNvPicPr/>
          <p:nvPr/>
        </p:nvPicPr>
        <p:blipFill>
          <a:blip r:embed="rId2"/>
          <a:stretch/>
        </p:blipFill>
        <p:spPr>
          <a:xfrm>
            <a:off x="2556000" y="1773360"/>
            <a:ext cx="1746000" cy="2232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3635280" y="3789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Ватика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Рисунок 6" descr="Герб Германии"/>
          <p:cNvPicPr/>
          <p:nvPr/>
        </p:nvPicPr>
        <p:blipFill>
          <a:blip r:embed="rId3"/>
          <a:stretch/>
        </p:blipFill>
        <p:spPr>
          <a:xfrm>
            <a:off x="4500720" y="1700280"/>
            <a:ext cx="1971360" cy="245736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7"/>
          <p:cNvSpPr/>
          <p:nvPr/>
        </p:nvSpPr>
        <p:spPr>
          <a:xfrm>
            <a:off x="2286000" y="443700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мании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8" descr="Герб Египта"/>
          <p:cNvPicPr/>
          <p:nvPr/>
        </p:nvPicPr>
        <p:blipFill>
          <a:blip r:embed="rId4"/>
          <a:stretch/>
        </p:blipFill>
        <p:spPr>
          <a:xfrm>
            <a:off x="468360" y="1773360"/>
            <a:ext cx="1714320" cy="230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9"/>
          <p:cNvSpPr/>
          <p:nvPr/>
        </p:nvSpPr>
        <p:spPr>
          <a:xfrm>
            <a:off x="53964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  <a:ea typeface="Century Schoolbook"/>
              </a:rPr>
              <a:t>Египта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верим усвоение новых знани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Вопросы рубрики «Проверим знания» стр. 14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«А теперь более сложные вопросы» стр. 14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«Поработаем с картой» стр. 148 (по цепочк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ботаем с контурной карт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 Отметьте на карте 4 самые большие страны ми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692360" y="2957400"/>
            <a:ext cx="53276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аботаем в тетра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Выберите страну с наибольшей численностью населен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4360" y="2060640"/>
            <a:ext cx="6173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Бразил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Индоне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9640" y="3645000"/>
            <a:ext cx="631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Самая маленькая страна по площади и по численности населения эт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68360" y="436572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Люксем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Монак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Ватика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ндор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41-03"/>
          <p:cNvPicPr/>
          <p:nvPr/>
        </p:nvPicPr>
        <p:blipFill>
          <a:blip r:embed="rId2"/>
          <a:stretch/>
        </p:blipFill>
        <p:spPr>
          <a:xfrm>
            <a:off x="7740720" y="18900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3. Выделите часть света, где нет государств с монархической формой правл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39640" y="1916280"/>
            <a:ext cx="631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Европ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Аз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Аме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Афр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95280" y="3573360"/>
            <a:ext cx="65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4. Выделите полуостровное государство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68360" y="386064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) Австр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) Инд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) Росс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) Япо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41-03"/>
          <p:cNvPicPr/>
          <p:nvPr/>
        </p:nvPicPr>
        <p:blipFill>
          <a:blip r:embed="rId2"/>
          <a:stretch/>
        </p:blipFill>
        <p:spPr>
          <a:xfrm>
            <a:off x="7596360" y="189000"/>
            <a:ext cx="1363320" cy="1727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аграф 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857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полнительный вопр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Назовите районы планеты, неудобные для проживания. Покажите их на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Задайте дополнительные вопросы по кар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полни задания в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№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ители каких рас здесь изображены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655640" cy="172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3635280" y="2924280"/>
            <a:ext cx="1800360" cy="170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151272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1863360" y="477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55720" y="4897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809760" y="4809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8000" y="277920"/>
            <a:ext cx="6778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из этих религий относятся к мировым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Исл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Будд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Языче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Православ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C41-12"/>
          <p:cNvPicPr/>
          <p:nvPr/>
        </p:nvPicPr>
        <p:blipFill>
          <a:blip r:embed="rId1"/>
          <a:stretch/>
        </p:blipFill>
        <p:spPr>
          <a:xfrm>
            <a:off x="0" y="0"/>
            <a:ext cx="16923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№3</a:t>
            </a:r>
            <a:br>
              <a:rPr sz="40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то это?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384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20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384720" cy="2305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0" y="3429000"/>
            <a:ext cx="4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50920" y="6348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7128000" y="5848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ие 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Негроидная 2. Европеоидная 3. Монголоид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,2,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Храм Василия Блаженного в Москв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Тадж – Махал в Инд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Буддистский монастырь в Гималая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 теперь узнаем о странах мир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 – это карта стра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итическая карта ми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— тематическая карта, на которой показаны государственные границы всех стран мира. Её называют зеркалом эпохи, поскольку на ней находят своё отраж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се процессы, происходящие в мире на разных этапах развития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 изучения нового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. Политическая карта мира, изменения на н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Многообразие стран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Первые страны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траны на карте Средневековь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Эпоха Великих географических открыт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) Современные изменения на политической карте ми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. Страны ми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змеры территор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мы правле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Символы государст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58:32Z</dcterms:created>
  <dc:creator>XTreme</dc:creator>
  <dc:description/>
  <dc:language>en-US</dc:language>
  <cp:lastModifiedBy>User</cp:lastModifiedBy>
  <dcterms:modified xsi:type="dcterms:W3CDTF">2013-04-05T17:12:55Z</dcterms:modified>
  <cp:revision>64</cp:revision>
  <dc:subject/>
  <dc:title>Слайд 1</dc:title>
</cp:coreProperties>
</file>