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BF4-11F0-4F46-9331-3F375CED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267-502D-4EAA-A2FE-4A253F4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E6F-1281-4F17-B729-CF015BE3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DE7-0660-4EA8-99D1-8C238D46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82A-4B51-47DC-8E93-9F4D1B23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11B7-641D-4AE0-A9C5-3C07F53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087E-192C-4B1D-ADB4-CC3669E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ADB6-1FF0-48A3-8B84-2D0118C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837-7075-42C8-B340-5F25C4F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BC7A-0C34-4003-99D7-10E24DF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8280-1A88-48E4-9447-72BA006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854-5B0E-4A01-90C6-5483035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6808-8604-4D83-88C6-37CD2977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38AC-91EF-49BC-AE57-30F8DFB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4169-C6A2-46F6-BC26-375C0832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8ACC-E544-482D-86E8-5C453742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2C9-4D4E-4C4F-906F-7BE765A4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2ED-13D2-4EB8-BF57-9D05D49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000-9149-48EE-A0E2-999FEA14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04F-B986-42D2-BC52-F871C82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8FF-DC1B-4F57-B49D-39AFDADE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FC4-6139-46A0-BC0A-111D524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C3C-0329-4BCA-B343-CE2B1BE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007-0C71-49E2-856C-B457745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9346-B45B-4227-83D6-017533791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304A-AE7C-459B-AD77-664142000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spain.html" TargetMode="External"/><Relationship Id="rId3" Type="http://schemas.openxmlformats.org/officeDocument/2006/relationships/hyperlink" Target="http://www.c.weare1.info/europe-andorra.html" TargetMode="External"/><Relationship Id="rId4" Type="http://schemas.openxmlformats.org/officeDocument/2006/relationships/hyperlink" Target="http://www.c.weare1.info/europe-monako.html" TargetMode="External"/><Relationship Id="rId5" Type="http://schemas.openxmlformats.org/officeDocument/2006/relationships/hyperlink" Target="http://www.c.weare1.info/europe-italy.html" TargetMode="External"/><Relationship Id="rId6" Type="http://schemas.openxmlformats.org/officeDocument/2006/relationships/hyperlink" Target="http://www.c.weare1.info/europe-belgium.html" TargetMode="External"/><Relationship Id="rId7" Type="http://schemas.openxmlformats.org/officeDocument/2006/relationships/hyperlink" Target="http://www.c.weare1.info/europe-luxemburg.html" TargetMode="External"/><Relationship Id="rId8" Type="http://schemas.openxmlformats.org/officeDocument/2006/relationships/hyperlink" Target="http://www.c.weare1.info/europe-swiss.html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abc.ru/map/map_evropa/Map_2evro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czech.html" TargetMode="External"/><Relationship Id="rId4" Type="http://schemas.openxmlformats.org/officeDocument/2006/relationships/hyperlink" Target="http://www.c.weare1.info/europe-italy.html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.weare1.info/europe-germany.html" TargetMode="External"/><Relationship Id="rId3" Type="http://schemas.openxmlformats.org/officeDocument/2006/relationships/hyperlink" Target="http://www.c.weare1.info/europe-norway.html" TargetMode="External"/><Relationship Id="rId4" Type="http://schemas.openxmlformats.org/officeDocument/2006/relationships/hyperlink" Target="http://www.c.weare1.info/europe-sweden.html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1557360"/>
            <a:ext cx="69138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ны Европ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549360"/>
            <a:ext cx="4043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Франц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анция расположена на западе Европы. На юге граничит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спан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орро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юг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онако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Итал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северо-востоке — с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Бельг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Люксембург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, на востоке — со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Швейцарией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и  Германией. От Великобритании Францию отделяет пролив Ла-Манш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На юге Франция омывается Средиземным морем, на западе — водами Бискайского залива, на северо-западе — проливами Ла-Манш и Па-де-Кале. Остров Корсика - девятый по величине среди европейских островов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Франции принадлежат: Мартиника, Гваделупа, Реюньон, Французская Гвиана, Французская Полинезия, Новая Каледония, Сен-Пьер и Микелон. 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Западная и северная части Франции расположены преимущественно на равнинной местности. Горы расположены на юго-западе (Пиренеи), юго-востоке (Альпы с горой Монблан - 4807 м). В центральной и восточной частях Франции горы по высоте значительно уступают Пиренеям и Альп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флаг франции"/>
          <p:cNvPicPr/>
          <p:nvPr/>
        </p:nvPicPr>
        <p:blipFill>
          <a:blip r:embed="rId9"/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риж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город, который не нуждается в представлении. Эйфелева башня, Триумфальная арка, Версальский дворец, Нотр-Дам-де-Пари, Елисейские поля, Лувр, Центр исскуств Помпиду, Музей Родена - все это лишь маленькая толика Париж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60.2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547 030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Париж (2 150 тыс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президентская республик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француз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католиче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герб франции"/>
          <p:cNvPicPr/>
          <p:nvPr/>
        </p:nvPicPr>
        <p:blipFill>
          <a:blip r:embed="rId2"/>
          <a:stretch/>
        </p:blipFill>
        <p:spPr>
          <a:xfrm>
            <a:off x="7020000" y="4508640"/>
            <a:ext cx="16668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5349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Шве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одна из четырех скандинавских стран, располагается на севере Европы. Ее берега омываются водами Балтийского моря и Ботнического залива. Швеция имеет сухопутные границы с Финляндией и Норвегие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ция имеет два больших острова: Эланд (1344 км²) и Готланд (3001 км²). По плошади Готланд занимает 17 место среди всех островов Европы, а Эланд - 20-е. Не стоит забывать, что в Европе есть такие большие острова как Великобритания, Исландия и Ирланд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имат в Швеции схож с климатом северной части Росс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ременная Швеция - туристическая страна. Особенно популярны новогодние туры и горнолыжные тур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флаг швеции"/>
          <p:cNvPicPr/>
          <p:nvPr/>
        </p:nvPicPr>
        <p:blipFill>
          <a:blip r:embed="rId2"/>
          <a:stretch/>
        </p:blipFill>
        <p:spPr>
          <a:xfrm>
            <a:off x="250920" y="260280"/>
            <a:ext cx="27367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окголь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Швеции, самый крупный город страны. Основан в 1252 году, столицей Швеции является с 14 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еление - 8.9 млн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щадь - 449 964 км²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лица - Стокгольм (1 200 тыс.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фициальный язык - шведски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люта - шведская кр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герб швеции"/>
          <p:cNvPicPr/>
          <p:nvPr/>
        </p:nvPicPr>
        <p:blipFill>
          <a:blip r:embed="rId2"/>
          <a:stretch/>
        </p:blipFill>
        <p:spPr>
          <a:xfrm>
            <a:off x="6012000" y="3716280"/>
            <a:ext cx="2590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вроп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наиболее плотно населенная часть света. В Европе на данный момент 45 стран без учета России. Европейские страны наиболее развитые. В "большую семерку (восьмерку - если брать Россию)" входит четыре европейских страны: Великобритания, Германия, Франция и Италия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Австр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ходится в центральной части Европы. На севере она граничит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Чех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На западе - с Лихтенштейном и Швейцарией. На юге - с </a:t>
            </a:r>
            <a:r>
              <a:rPr b="0" lang="ru-RU" sz="2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Итали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 Словенией. На востоке - с Венгрией и Словакие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еление - 8.2 млн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лощадь - 83 858 км²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лица - Вена (1.54 млн)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федеративная республика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фициальный язык - немецкий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сновные религии: католицизм, протестанство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алюта - евр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флаг австрии"/>
          <p:cNvPicPr/>
          <p:nvPr/>
        </p:nvPicPr>
        <p:blipFill>
          <a:blip r:embed="rId5"/>
          <a:stretch/>
        </p:blipFill>
        <p:spPr>
          <a:xfrm>
            <a:off x="395280" y="333360"/>
            <a:ext cx="1905120" cy="12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95640" y="62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рупнейшие города Австри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а - 1 540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ц - 223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нц - 186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льцбург - 145 тыс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брук - 115 ты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столица Австрии и крупнейший город страны. В 18-19 веках Вена была столицей Музыки. Моцарт, Гайдн, Бетховен, Шуберт, Штраус - все они жили и творили в Вен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герб австрии"/>
          <p:cNvPicPr/>
          <p:nvPr/>
        </p:nvPicPr>
        <p:blipFill>
          <a:blip r:embed="rId2"/>
          <a:stretch/>
        </p:blipFill>
        <p:spPr>
          <a:xfrm>
            <a:off x="6659640" y="907920"/>
            <a:ext cx="2000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536400"/>
            <a:ext cx="31669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Германия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занимает 13 место в мире и первое в Европе по численности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мания одна из самых экономически развитых стран не только Европы, но и мир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Германии находятся сразу несколько автомобильных гигантов. Это DaimlerChrysler (автомобили Mercedes, Chrysler), Volkswagen (Volkswagen, Audi), BMW (BMW, Rolls-Royse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флаг германии"/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7512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рли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столица Германии. Второй город в Европе по численности населения (после Лондона). После второй мировой войны Берлин был на 2 части: Берлин (столицу ГДР) и Западный Берлин, являвшийся городом-государством. В 1961 году была воздвигнута Берлинская стена, разрушенная в 1989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герб германии"/>
          <p:cNvPicPr/>
          <p:nvPr/>
        </p:nvPicPr>
        <p:blipFill>
          <a:blip r:embed="rId2"/>
          <a:stretch/>
        </p:blipFill>
        <p:spPr>
          <a:xfrm>
            <a:off x="5651640" y="1484280"/>
            <a:ext cx="2708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549360"/>
            <a:ext cx="3959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Д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ия - одна из четырех скандинавских стран. Большая часть Дании расположена на полуострове Ютландия. К Дании также относятся Фарерские острова и Гренландия, которые пользуются внутренней автономией. Крупнейшие датские острова: Зеландия (11 место среди всех европейских островов), Фюн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хопутные границы Дания имеет только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рман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 юге), морские - с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Норвег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Швец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флаг дании"/>
          <p:cNvPicPr/>
          <p:nvPr/>
        </p:nvPicPr>
        <p:blipFill>
          <a:blip r:embed="rId5"/>
          <a:stretch/>
        </p:blipFill>
        <p:spPr>
          <a:xfrm>
            <a:off x="250920" y="260280"/>
            <a:ext cx="20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пенгаге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толица Дании и крупнейший город страны, один из старейших городов Европы. Копенгаген расположен на острове Зеландия. В 1996 году Копенгаген получил почетное звание "Культурная столица Европы-96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селение - 5.4 мл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щадь - 43 094 км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а - Копенгаген (1 750 тыс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-федеральное устройство - конституционная монарх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фициальный язык - датски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религии: лютеранств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юта - датская крон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герб дании"/>
          <p:cNvPicPr/>
          <p:nvPr/>
        </p:nvPicPr>
        <p:blipFill>
          <a:blip r:embed="rId2"/>
          <a:stretch/>
        </p:blipFill>
        <p:spPr>
          <a:xfrm>
            <a:off x="7451640" y="3500280"/>
            <a:ext cx="1343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13:21Z</dcterms:created>
  <dc:creator>eMachines</dc:creator>
  <dc:description/>
  <dc:language>en-US</dc:language>
  <cp:lastModifiedBy>eMachines</cp:lastModifiedBy>
  <dcterms:modified xsi:type="dcterms:W3CDTF">2011-09-24T16:13:58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040000000000010250300207f7000400038000</vt:lpwstr>
  </property>
</Properties>
</file>