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4DA-3043-482D-9963-85F4D460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DB7-590A-412D-9324-6FFA3508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48F-2017-45BD-9E52-C7A0C5EE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1E5-27F9-4E55-AEF1-266E18E4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02A5-E5BE-4332-BDE4-8E07E270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A557-4826-4385-9EA9-8AA5ACCE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5390-DD0B-4182-BB2F-989CE157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BE8F-82A7-4D6C-B6F3-34282DA1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9A37-9F62-4F75-87E5-E0FC08D9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10FE-B652-41BA-ADDC-52E1825E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3ADA-6A9C-4FA9-B314-77C1B15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8C9-CAC3-4519-99BF-BACFAF8E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FD69-6520-4466-9667-C1204E60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8C14-AA04-4C81-8324-BCB15DD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FEF1-46D4-4173-8A9D-2F067E70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7375-8E7B-4A0E-8631-6311C0CE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1F4D-E2DA-4F1C-A383-F81EE845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69E-649A-4F57-BD4D-CF7B1FD6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BBD-A951-4425-A5D1-9EFFA67B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EF9-BEA8-4C30-BE51-B55B32C9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33B-0B1C-4C59-A045-021FBA41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918-EDB1-453F-86C8-D406AD5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AE6-2B70-4F60-9AE8-0A9A0575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692-2D94-47EC-8114-2E9FEC1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7A4-3CE3-4D94-ADE5-B5E71CFCA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86B4-4267-4871-AB5C-3AA3E7705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spain.html" TargetMode="External"/><Relationship Id="rId3" Type="http://schemas.openxmlformats.org/officeDocument/2006/relationships/hyperlink" Target="http://www.c.weare1.info/europe-andorra.html" TargetMode="External"/><Relationship Id="rId4" Type="http://schemas.openxmlformats.org/officeDocument/2006/relationships/hyperlink" Target="http://www.c.weare1.info/europe-monako.html" TargetMode="External"/><Relationship Id="rId5" Type="http://schemas.openxmlformats.org/officeDocument/2006/relationships/hyperlink" Target="http://www.c.weare1.info/europe-italy.html" TargetMode="External"/><Relationship Id="rId6" Type="http://schemas.openxmlformats.org/officeDocument/2006/relationships/hyperlink" Target="http://www.c.weare1.info/europe-belgium.html" TargetMode="External"/><Relationship Id="rId7" Type="http://schemas.openxmlformats.org/officeDocument/2006/relationships/hyperlink" Target="http://www.c.weare1.info/europe-luxemburg.html" TargetMode="External"/><Relationship Id="rId8" Type="http://schemas.openxmlformats.org/officeDocument/2006/relationships/hyperlink" Target="http://www.c.weare1.info/europe-swiss.html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abc.ru/map/map_evropa/Map_2evro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germany.html" TargetMode="External"/><Relationship Id="rId3" Type="http://schemas.openxmlformats.org/officeDocument/2006/relationships/hyperlink" Target="http://www.c.weare1.info/europe-czech.html" TargetMode="External"/><Relationship Id="rId4" Type="http://schemas.openxmlformats.org/officeDocument/2006/relationships/hyperlink" Target="http://www.c.weare1.info/europe-italy.html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germany.html" TargetMode="External"/><Relationship Id="rId3" Type="http://schemas.openxmlformats.org/officeDocument/2006/relationships/hyperlink" Target="http://www.c.weare1.info/europe-norway.html" TargetMode="External"/><Relationship Id="rId4" Type="http://schemas.openxmlformats.org/officeDocument/2006/relationships/hyperlink" Target="http://www.c.weare1.info/europe-sweden.html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1557360"/>
            <a:ext cx="69138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ы Европ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549360"/>
            <a:ext cx="4043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Франц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анция расположена на западе Европы. На юге граничит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спан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ндорро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юго-востоке —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онако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Итал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северо-востоке —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Бельг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Люксембург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востоке — со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Швейцар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  Германией. От Великобритании Францию отделяет пролив Ла-Манш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На юге Франция омывается Средиземным морем, на западе — водами Бискайского залива, на северо-западе — проливами Ла-Манш и Па-де-Кале. Остров Корсика - девятый по величине среди европейских островов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Франции принадлежат: Мартиника, Гваделупа, Реюньон, Французская Гвиана, Французская Полинезия, Новая Каледония, Сен-Пьер и Микелон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Западная и северная части Франции расположены преимущественно на равнинной местности. Горы расположены на юго-западе (Пиренеи), юго-востоке (Альпы с горой Монблан - 4807 м). В центральной и восточной частях Франции горы по высоте значительно уступают Пиренеям и Альп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флаг франции"/>
          <p:cNvPicPr/>
          <p:nvPr/>
        </p:nvPicPr>
        <p:blipFill>
          <a:blip r:embed="rId9"/>
          <a:stretch/>
        </p:blipFill>
        <p:spPr>
          <a:xfrm>
            <a:off x="179280" y="189000"/>
            <a:ext cx="2448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риж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город, который не нуждается в представлении. Эйфелева башня, Триумфальная арка, Версальский дворец, Нотр-Дам-де-Пари, Елисейские поля, Лувр, Центр исскуств Помпиду, Музей Родена - все это лишь маленькая толика Париж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еление - 60.2 мл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щадь - 547 030 км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ица - Париж (2 150 тыс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президентская республик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ициальный язык - французск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религии: католиче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люта - ев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герб франции"/>
          <p:cNvPicPr/>
          <p:nvPr/>
        </p:nvPicPr>
        <p:blipFill>
          <a:blip r:embed="rId2"/>
          <a:stretch/>
        </p:blipFill>
        <p:spPr>
          <a:xfrm>
            <a:off x="7020000" y="4508640"/>
            <a:ext cx="16668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5349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Шве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ция одна из четырех скандинавских стран, располагается на севере Европы. Ее берега омываются водами Балтийского моря и Ботнического залива. Швеция имеет сухопутные границы с Финляндией и Норвегие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ция имеет два больших острова: Эланд (1344 км²) и Готланд (3001 км²). По плошади Готланд занимает 17 место среди всех островов Европы, а Эланд - 20-е. Не стоит забывать, что в Европе есть такие большие острова как Великобритания, Исландия и Ирланд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имат в Швеции схож с климатом северной части Росси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ременная Швеция - туристическая страна. Особенно популярны новогодние туры и горнолыжные ту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флаг швеции"/>
          <p:cNvPicPr/>
          <p:nvPr/>
        </p:nvPicPr>
        <p:blipFill>
          <a:blip r:embed="rId2"/>
          <a:stretch/>
        </p:blipFill>
        <p:spPr>
          <a:xfrm>
            <a:off x="250920" y="260280"/>
            <a:ext cx="27367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окголь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толица Швеции, самый крупный город страны. Основан в 1252 году, столицей Швеции является с 14 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селение - 8.9 млн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ощадь - 449 964 км²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лица - Стокгольм (1 200 тыс.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конституционная монархи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ициальный язык - шведски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е религии: лютеранство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люта - шведская кр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герб швеции"/>
          <p:cNvPicPr/>
          <p:nvPr/>
        </p:nvPicPr>
        <p:blipFill>
          <a:blip r:embed="rId2"/>
          <a:stretch/>
        </p:blipFill>
        <p:spPr>
          <a:xfrm>
            <a:off x="6012000" y="3716280"/>
            <a:ext cx="2590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вроп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наиболее плотно населенная часть света. В Европе на данный момент 45 стран без учета России. Европейские страны наиболее развитые. В "большую семерку (восьмерку - если брать Россию)" входит четыре европейских страны: Великобритания, Германия, Франция и Италия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встр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ходится в центральной части Европы. На севере она граничит с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Герман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Чех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На западе - с Лихтенштейном и Швейцарией. На юге - с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Итал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 Словенией. На востоке - с Венгрией и Словаки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селение - 8.2 млн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лощадь - 83 858 км²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олица - Вена (1.54 млн)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федеративная республика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фициальный язык - немецкий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сновные религии: католицизм, протестанство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алюта - евро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флаг австрии"/>
          <p:cNvPicPr/>
          <p:nvPr/>
        </p:nvPicPr>
        <p:blipFill>
          <a:blip r:embed="rId5"/>
          <a:stretch/>
        </p:blipFill>
        <p:spPr>
          <a:xfrm>
            <a:off x="395280" y="333360"/>
            <a:ext cx="1905120" cy="125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95640" y="62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вс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рупнейшие города Австрии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на - 1 540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ц - 223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нц - 186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льцбург - 145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брук - 115 ты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толица Австрии и крупнейший город страны. В 18-19 веках Вена была столицей Музыки. Моцарт, Гайдн, Бетховен, Шуберт, Штраус - все они жили и творили в Вен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герб австрии"/>
          <p:cNvPicPr/>
          <p:nvPr/>
        </p:nvPicPr>
        <p:blipFill>
          <a:blip r:embed="rId2"/>
          <a:stretch/>
        </p:blipFill>
        <p:spPr>
          <a:xfrm>
            <a:off x="6659640" y="907920"/>
            <a:ext cx="2000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536400"/>
            <a:ext cx="31669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Герман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мания занимает 13 место в мире и первое в Европе по численност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мания одна из самых экономически развитых стран не только Европы, но и мир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Германии находятся сразу несколько автомобильных гигантов. Это DaimlerChrysler (автомобили Mercedes, Chrysler), Volkswagen (Volkswagen, Audi), BMW (BMW, Rolls-Roys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флаг германии"/>
          <p:cNvPicPr/>
          <p:nvPr/>
        </p:nvPicPr>
        <p:blipFill>
          <a:blip r:embed="rId2"/>
          <a:stretch/>
        </p:blipFill>
        <p:spPr>
          <a:xfrm>
            <a:off x="179280" y="189000"/>
            <a:ext cx="21956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7512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рли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толица Германии. Второй город в Европе по численности населения (после Лондона). После второй мировой войны Берлин был на 2 части: Берлин (столицу ГДР) и Западный Берлин, являвшийся городом-государством. В 1961 году была воздвигнута Берлинская стена, разрушенная в 1989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герб германии"/>
          <p:cNvPicPr/>
          <p:nvPr/>
        </p:nvPicPr>
        <p:blipFill>
          <a:blip r:embed="rId2"/>
          <a:stretch/>
        </p:blipFill>
        <p:spPr>
          <a:xfrm>
            <a:off x="5651640" y="1484280"/>
            <a:ext cx="2708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549360"/>
            <a:ext cx="395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Д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ия - одна из четырех скандинавских стран. Большая часть Дании расположена на полуострове Ютландия. К Дании также относятся Фарерские острова и Гренландия, которые пользуются внутренней автономией. Крупнейшие датские острова: Зеландия (11 место среди всех европейских островов), Фюн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хопутные границы Дания имеет только с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Герман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 юге), морские - с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Норвег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Швец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флаг дании"/>
          <p:cNvPicPr/>
          <p:nvPr/>
        </p:nvPicPr>
        <p:blipFill>
          <a:blip r:embed="rId5"/>
          <a:stretch/>
        </p:blipFill>
        <p:spPr>
          <a:xfrm>
            <a:off x="250920" y="260280"/>
            <a:ext cx="20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пенгаге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толица Дании и крупнейший город страны, один из старейших городов Европы. Копенгаген расположен на острове Зеландия. В 1996 году Копенгаген получил почетное звание "Культурная столица Европы-96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еление - 5.4 мл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щадь - 43 094 км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ица - Копенгаген (1 750 тыс)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конституционная монарх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ициальный язык - датск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религии: лютеран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люта - датская крон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герб дании"/>
          <p:cNvPicPr/>
          <p:nvPr/>
        </p:nvPicPr>
        <p:blipFill>
          <a:blip r:embed="rId2"/>
          <a:stretch/>
        </p:blipFill>
        <p:spPr>
          <a:xfrm>
            <a:off x="7451640" y="3500280"/>
            <a:ext cx="1343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6:13:21Z</dcterms:created>
  <dc:creator>eMachines</dc:creator>
  <dc:description/>
  <dc:language>en-US</dc:language>
  <cp:lastModifiedBy>eMachines</cp:lastModifiedBy>
  <dcterms:modified xsi:type="dcterms:W3CDTF">2011-09-24T16:13:58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40000000000010250300207f7000400038000</vt:lpwstr>
  </property>
</Properties>
</file>