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2E4-750F-40E4-9A43-0E859F65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19B-C3E4-428F-BB98-B33AF8D4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6E6-A36A-4567-BBCD-E9DA93C8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82C-9AE0-428E-AF5E-59E45177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54D1-ECC2-4D8E-9BCC-591EC9DC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467C-9423-4E27-A1B1-8118D7E2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E5EE-B488-4235-AB73-302D45D0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F981-AE3C-46D4-B03A-C67C3D35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2DFA-2B12-4EA2-B123-31AFA976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1039-0561-4228-BB91-6685F7C4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86CA-D212-49D2-9867-E5B8C9F6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BEF-867E-436B-9781-99C2A008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61FC-ED9D-40FE-8716-9A06DDF6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4FE7-3D59-4840-A7DF-0B6EDFA1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8A0E-6929-423A-9876-CBF3B229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58E9-9BC3-41DE-983D-9DC8D56F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7840-C16E-414B-B4C9-359A90EA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35E-881C-4305-961D-70120949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465-4E3E-4752-86A9-51968954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FF5-5AAE-45B0-804E-AA9F5D4A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725-C163-4664-877D-0721B769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C1C-4DA8-4368-B611-8BA3EEB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9A2-E8E3-4391-849B-402B23CF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3DF-9276-4A7C-A088-BE1119CE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6F1D-E650-407F-A2FC-700575A54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68C1-B611-4008-8C85-9A4950D20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.weare1.info/europe-spain.html" TargetMode="External"/><Relationship Id="rId3" Type="http://schemas.openxmlformats.org/officeDocument/2006/relationships/hyperlink" Target="http://www.c.weare1.info/europe-andorra.html" TargetMode="External"/><Relationship Id="rId4" Type="http://schemas.openxmlformats.org/officeDocument/2006/relationships/hyperlink" Target="http://www.c.weare1.info/europe-monako.html" TargetMode="External"/><Relationship Id="rId5" Type="http://schemas.openxmlformats.org/officeDocument/2006/relationships/hyperlink" Target="http://www.c.weare1.info/europe-italy.html" TargetMode="External"/><Relationship Id="rId6" Type="http://schemas.openxmlformats.org/officeDocument/2006/relationships/hyperlink" Target="http://www.c.weare1.info/europe-belgium.html" TargetMode="External"/><Relationship Id="rId7" Type="http://schemas.openxmlformats.org/officeDocument/2006/relationships/hyperlink" Target="http://www.c.weare1.info/europe-luxemburg.html" TargetMode="External"/><Relationship Id="rId8" Type="http://schemas.openxmlformats.org/officeDocument/2006/relationships/hyperlink" Target="http://www.c.weare1.info/europe-swiss.html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rabc.ru/map/map_evropa/Map_2evro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.weare1.info/europe-germany.html" TargetMode="External"/><Relationship Id="rId3" Type="http://schemas.openxmlformats.org/officeDocument/2006/relationships/hyperlink" Target="http://www.c.weare1.info/europe-czech.html" TargetMode="External"/><Relationship Id="rId4" Type="http://schemas.openxmlformats.org/officeDocument/2006/relationships/hyperlink" Target="http://www.c.weare1.info/europe-italy.html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.weare1.info/europe-germany.html" TargetMode="External"/><Relationship Id="rId3" Type="http://schemas.openxmlformats.org/officeDocument/2006/relationships/hyperlink" Target="http://www.c.weare1.info/europe-norway.html" TargetMode="External"/><Relationship Id="rId4" Type="http://schemas.openxmlformats.org/officeDocument/2006/relationships/hyperlink" Target="http://www.c.weare1.info/europe-sweden.html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87280" y="1557360"/>
            <a:ext cx="691380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ны Европ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549360"/>
            <a:ext cx="4043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Франц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ранция расположена на западе Европы. На юге граничит с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спание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Андорро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на юго-востоке — с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Монако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Италие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на северо-востоке — с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Бельгие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Люксембург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на востоке — со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Швейцарие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  Германией. От Великобритании Францию отделяет пролив Ла-Манш. 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На юге Франция омывается Средиземным морем, на западе — водами Бискайского залива, на северо-западе — проливами Ла-Манш и Па-де-Кале. Остров Корсика - девятый по величине среди европейских островов. 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Франции принадлежат: Мартиника, Гваделупа, Реюньон, Французская Гвиана, Французская Полинезия, Новая Каледония, Сен-Пьер и Микелон. 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Западная и северная части Франции расположены преимущественно на равнинной местности. Горы расположены на юго-западе (Пиренеи), юго-востоке (Альпы с горой Монблан - 4807 м). В центральной и восточной частях Франции горы по высоте значительно уступают Пиренеям и Альп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флаг франции"/>
          <p:cNvPicPr/>
          <p:nvPr/>
        </p:nvPicPr>
        <p:blipFill>
          <a:blip r:embed="rId9"/>
          <a:stretch/>
        </p:blipFill>
        <p:spPr>
          <a:xfrm>
            <a:off x="179280" y="189000"/>
            <a:ext cx="24480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риж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город, который не нуждается в представлении. Эйфелева башня, Триумфальная арка, Версальский дворец, Нотр-Дам-де-Пари, Елисейские поля, Лувр, Центр исскуств Помпиду, Музей Родена - все это лишь маленькая толика Париж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селение - 60.2 мл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ощадь - 547 030 км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ица - Париж (2 150 тыс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о-федеральное устройство - президентская республик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фициальный язык - французск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религии: католичеств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люта - евр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герб франции"/>
          <p:cNvPicPr/>
          <p:nvPr/>
        </p:nvPicPr>
        <p:blipFill>
          <a:blip r:embed="rId2"/>
          <a:stretch/>
        </p:blipFill>
        <p:spPr>
          <a:xfrm>
            <a:off x="7020000" y="4508640"/>
            <a:ext cx="16668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5349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Швец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веция одна из четырех скандинавских стран, располагается на севере Европы. Ее берега омываются водами Балтийского моря и Ботнического залива. Швеция имеет сухопутные границы с Финляндией и Норвегие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веция имеет два больших острова: Эланд (1344 км²) и Готланд (3001 км²). По плошади Готланд занимает 17 место среди всех островов Европы, а Эланд - 20-е. Не стоит забывать, что в Европе есть такие большие острова как Великобритания, Исландия и Ирланд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имат в Швеции схож с климатом северной части Росси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ременная Швеция - туристическая страна. Особенно популярны новогодние туры и горнолыжные тур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флаг швеции"/>
          <p:cNvPicPr/>
          <p:nvPr/>
        </p:nvPicPr>
        <p:blipFill>
          <a:blip r:embed="rId2"/>
          <a:stretch/>
        </p:blipFill>
        <p:spPr>
          <a:xfrm>
            <a:off x="250920" y="260280"/>
            <a:ext cx="27367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токголь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столица Швеции, самый крупный город страны. Основан в 1252 году, столицей Швеции является с 14 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селение - 8.9 млн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лощадь - 449 964 км²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лица - Стокгольм (1 200 тыс.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дминистративно-федеральное устройство - конституционная монархия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фициальный язык - шведский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ые религии: лютеранство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люта - шведская кр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герб швеции"/>
          <p:cNvPicPr/>
          <p:nvPr/>
        </p:nvPicPr>
        <p:blipFill>
          <a:blip r:embed="rId2"/>
          <a:stretch/>
        </p:blipFill>
        <p:spPr>
          <a:xfrm>
            <a:off x="6012000" y="3716280"/>
            <a:ext cx="25905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вроп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наиболее плотно населенная часть света. В Европе на данный момент 45 стран без учета России. Европейские страны наиболее развитые. В "большую семерку (восьмерку - если брать Россию)" входит четыре европейских страны: Великобритания, Германия, Франция и Италия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Австр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находится в центральной части Европы. На севере она граничит с </a:t>
            </a:r>
            <a:r>
              <a:rPr b="0" lang="ru-RU" sz="2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Германи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Чехи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На западе - с Лихтенштейном и Швейцарией. На юге - с </a:t>
            </a:r>
            <a:r>
              <a:rPr b="0" lang="ru-RU" sz="2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Итали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 Словенией. На востоке - с Венгрией и Словакие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селение - 8.2 млн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лощадь - 83 858 км²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толица - Вена (1.54 млн)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дминистративно-федеральное устройство - федеративная республика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фициальный язык - немецкий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сновные религии: католицизм, протестанство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алюта - евро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флаг австрии"/>
          <p:cNvPicPr/>
          <p:nvPr/>
        </p:nvPicPr>
        <p:blipFill>
          <a:blip r:embed="rId5"/>
          <a:stretch/>
        </p:blipFill>
        <p:spPr>
          <a:xfrm>
            <a:off x="395280" y="333360"/>
            <a:ext cx="1905120" cy="1257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95640" y="620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вс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рупнейшие города Австрии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на - 1 540 ты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ц - 223 ты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нц - 186 ты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льцбург - 145 ты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брук - 115 ты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столица Австрии и крупнейший город страны. В 18-19 веках Вена была столицей Музыки. Моцарт, Гайдн, Бетховен, Шуберт, Штраус - все они жили и творили в Вен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герб австрии"/>
          <p:cNvPicPr/>
          <p:nvPr/>
        </p:nvPicPr>
        <p:blipFill>
          <a:blip r:embed="rId2"/>
          <a:stretch/>
        </p:blipFill>
        <p:spPr>
          <a:xfrm>
            <a:off x="6659640" y="907920"/>
            <a:ext cx="20001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536400"/>
            <a:ext cx="31669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Германи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мания занимает 13 место в мире и первое в Европе по численности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мания одна из самых экономически развитых стран не только Европы, но и мир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Германии находятся сразу несколько автомобильных гигантов. Это DaimlerChrysler (автомобили Mercedes, Chrysler), Volkswagen (Volkswagen, Audi), BMW (BMW, Rolls-Roys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флаг германии"/>
          <p:cNvPicPr/>
          <p:nvPr/>
        </p:nvPicPr>
        <p:blipFill>
          <a:blip r:embed="rId2"/>
          <a:stretch/>
        </p:blipFill>
        <p:spPr>
          <a:xfrm>
            <a:off x="179280" y="189000"/>
            <a:ext cx="21956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7512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ерли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столица Германии. Второй город в Европе по численности населения (после Лондона). После второй мировой войны Берлин был на 2 части: Берлин (столицу ГДР) и Западный Берлин, являвшийся городом-государством. В 1961 году была воздвигнута Берлинская стена, разрушенная в 1989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герб германии"/>
          <p:cNvPicPr/>
          <p:nvPr/>
        </p:nvPicPr>
        <p:blipFill>
          <a:blip r:embed="rId2"/>
          <a:stretch/>
        </p:blipFill>
        <p:spPr>
          <a:xfrm>
            <a:off x="5651640" y="1484280"/>
            <a:ext cx="2708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640" y="549360"/>
            <a:ext cx="3959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Д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4649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ия - одна из четырех скандинавских стран. Большая часть Дании расположена на полуострове Ютландия. К Дании также относятся Фарерские острова и Гренландия, которые пользуются внутренней автономией. Крупнейшие датские острова: Зеландия (11 место среди всех европейских островов), Фюн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хопутные границы Дания имеет только с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Герман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а юге), морские - с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Норвег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Швец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флаг дании"/>
          <p:cNvPicPr/>
          <p:nvPr/>
        </p:nvPicPr>
        <p:blipFill>
          <a:blip r:embed="rId5"/>
          <a:stretch/>
        </p:blipFill>
        <p:spPr>
          <a:xfrm>
            <a:off x="250920" y="260280"/>
            <a:ext cx="2089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пенгаге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толица Дании и крупнейший город страны, один из старейших городов Европы. Копенгаген расположен на острове Зеландия. В 1996 году Копенгаген получил почетное звание "Культурная столица Европы-96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селение - 5.4 мл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ощадь - 43 094 км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ица - Копенгаген (1 750 тыс)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о-федеральное устройство - конституционная монарх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фициальный язык - датск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религии: лютеранств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люта - датская крон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герб дании"/>
          <p:cNvPicPr/>
          <p:nvPr/>
        </p:nvPicPr>
        <p:blipFill>
          <a:blip r:embed="rId2"/>
          <a:stretch/>
        </p:blipFill>
        <p:spPr>
          <a:xfrm>
            <a:off x="7451640" y="3500280"/>
            <a:ext cx="13431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6:13:21Z</dcterms:created>
  <dc:creator>eMachines</dc:creator>
  <dc:description/>
  <dc:language>en-US</dc:language>
  <cp:lastModifiedBy>eMachines</cp:lastModifiedBy>
  <dcterms:modified xsi:type="dcterms:W3CDTF">2011-09-24T16:13:58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40000000000010250300207f7000400038000</vt:lpwstr>
  </property>
</Properties>
</file>