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5.gif" ContentType="image/gif"/>
  <Override PartName="/ppt/media/image6.jpeg" ContentType="image/jpeg"/>
  <Override PartName="/ppt/media/image27.gif" ContentType="image/gif"/>
  <Override PartName="/ppt/media/image22.jpeg" ContentType="image/jpeg"/>
  <Override PartName="/ppt/media/image21.jpeg" ContentType="image/jpeg"/>
  <Override PartName="/ppt/media/image18.jpeg" ContentType="image/jpeg"/>
  <Override PartName="/ppt/media/image8.gif" ContentType="image/gif"/>
  <Override PartName="/ppt/media/image4.jpeg" ContentType="image/jpeg"/>
  <Override PartName="/ppt/media/image11.jpeg" ContentType="image/jpeg"/>
  <Override PartName="/ppt/media/image31.gif" ContentType="image/gif"/>
  <Override PartName="/ppt/media/image26.jpeg" ContentType="image/jpeg"/>
  <Override PartName="/ppt/media/image5.jpeg" ContentType="image/jpeg"/>
  <Override PartName="/ppt/media/image7.gif" ContentType="image/gif"/>
  <Override PartName="/ppt/media/image24.jpeg" ContentType="image/jpeg"/>
  <Override PartName="/ppt/media/image30.jpeg" ContentType="image/jpeg"/>
  <Override PartName="/ppt/media/image9.gif" ContentType="image/gif"/>
  <Override PartName="/ppt/media/image34.gif" ContentType="image/gif"/>
  <Override PartName="/ppt/media/image10.gif" ContentType="image/gif"/>
  <Override PartName="/ppt/media/wind.wav" ContentType="audio/x-wav"/>
  <Override PartName="/ppt/media/image13.gif" ContentType="image/gif"/>
  <Override PartName="/ppt/media/image33.gif" ContentType="image/gif"/>
  <Override PartName="/ppt/media/image3.gif" ContentType="image/gif"/>
  <Override PartName="/ppt/media/image2.jpeg" ContentType="image/jpeg"/>
  <Override PartName="/ppt/media/image23.jpeg" ContentType="image/jpeg"/>
  <Override PartName="/ppt/media/image1.png" ContentType="image/png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32.gif" ContentType="image/gif"/>
  <Override PartName="/ppt/media/image19.jpeg" ContentType="image/jpeg"/>
  <Override PartName="/ppt/media/image2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EFA-D605-48C0-B90D-A55C2BDE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98B-030A-4502-BE55-84FA79F1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626-92A2-443D-971E-89FDD65D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F98-A1FF-449A-83ED-9EF2BC2B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79A7-B2E0-4D09-A104-21565CB4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692A-B00E-4F11-8D4E-D5289EE9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CDAD-0CCF-424A-B57B-FBD1EB9A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C139-4DF7-4590-9913-AFEB6C61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BC8A-2A14-4A9B-BE4E-26FEC82E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EE9B-4AA9-4C17-8750-842BF659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91F3-A8AC-44AD-AACE-FC51D95D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406-77B5-44CF-B6E2-D430678E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76CD-7414-4569-B177-23A2E3F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BC71-5627-4D7C-BD96-7C31573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4F70-4C40-4592-9BDE-A56C3BE2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3B50-5839-407E-9C02-8960272E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74D9-39FD-4C2A-A648-9552334A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3D0-90B6-4691-9684-9C6C0296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6E2-4F18-4030-8853-58A81FCE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137-5EC5-4B5E-9355-06D59478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C4F-D4A6-4A25-9364-4E4BAB73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76B-A4E3-466F-92AE-53F00226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115-4DF1-4A8F-832D-B3E65B4D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3F7-E420-4501-998B-F8113AA2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68ae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872-FD8F-4B31-BBCC-670F4145A6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68ae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68ae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68a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89AB-F2A9-4866-B46F-227880D5C9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3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5.gif"/><Relationship Id="rId4" Type="http://schemas.openxmlformats.org/officeDocument/2006/relationships/image" Target="../media/image14.gif"/><Relationship Id="rId5" Type="http://schemas.openxmlformats.org/officeDocument/2006/relationships/image" Target="../media/image28.gif"/><Relationship Id="rId6" Type="http://schemas.openxmlformats.org/officeDocument/2006/relationships/image" Target="../media/image25.gif"/><Relationship Id="rId7" Type="http://schemas.openxmlformats.org/officeDocument/2006/relationships/image" Target="../media/image29.gif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3.jpeg"/><Relationship Id="rId3" Type="http://schemas.openxmlformats.org/officeDocument/2006/relationships/image" Target="../media/image29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3.gi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2.gif"/><Relationship Id="rId3" Type="http://schemas.openxmlformats.org/officeDocument/2006/relationships/image" Target="../media/image34.gif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image" Target="../media/image9.gif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photoline.ru/secbase/pic/1105714557.jpg" TargetMode="External"/><Relationship Id="rId5" Type="http://schemas.openxmlformats.org/officeDocument/2006/relationships/image" Target="../media/image11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07280" cy="1755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тороны горизонта. Ориентирование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аменцева Еле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.Новочеркас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БОУ СОШ №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j0189205"/>
          <p:cNvPicPr/>
          <p:nvPr/>
        </p:nvPicPr>
        <p:blipFill>
          <a:blip r:embed="rId2"/>
          <a:stretch/>
        </p:blipFill>
        <p:spPr>
          <a:xfrm>
            <a:off x="250920" y="4869000"/>
            <a:ext cx="1430280" cy="1441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4"/>
          <p:cNvPicPr/>
          <p:nvPr/>
        </p:nvPicPr>
        <p:blipFill>
          <a:blip r:embed="rId1"/>
          <a:stretch/>
        </p:blipFill>
        <p:spPr>
          <a:xfrm>
            <a:off x="395280" y="1125360"/>
            <a:ext cx="3600360" cy="3240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4356000" y="2565360"/>
            <a:ext cx="446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сли положить на ладонь часы так, чтобы часовая стрелка была направлена на Солнце и разделить угол между часовой стрелкой  и цифрой 1 пополам, то эта линия покажет направление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евер- юг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Помните: по летнему времени полдень – в 13 часов.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5435640" y="836640"/>
            <a:ext cx="1851120" cy="1800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1042920" y="4869000"/>
            <a:ext cx="1924200" cy="1800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539640" y="189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иентирование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с помощью Солнца и  часов .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24" name="Picture 9" descr="j0315782"/>
          <p:cNvPicPr/>
          <p:nvPr/>
        </p:nvPicPr>
        <p:blipFill>
          <a:blip r:embed="rId2"/>
          <a:stretch/>
        </p:blipFill>
        <p:spPr>
          <a:xfrm>
            <a:off x="7451640" y="836640"/>
            <a:ext cx="1440000" cy="1368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900000" y="115920"/>
            <a:ext cx="84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Ориентирование с помощью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гномона.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26" name="Picture 5" descr="8"/>
          <p:cNvPicPr/>
          <p:nvPr/>
        </p:nvPicPr>
        <p:blipFill>
          <a:blip r:embed="rId1"/>
          <a:stretch/>
        </p:blipFill>
        <p:spPr>
          <a:xfrm>
            <a:off x="3492360" y="2852640"/>
            <a:ext cx="5327640" cy="37450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6"/>
          <p:cNvSpPr/>
          <p:nvPr/>
        </p:nvSpPr>
        <p:spPr>
          <a:xfrm>
            <a:off x="324000" y="8366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   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324000" y="836640"/>
            <a:ext cx="864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ровной солнечной площадке установить по отвесу шест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коло 10-11 часов отметить конец тени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 колышка А с помощью шнура прочертить окружность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блюдать за тенью. Когда она вновь дойдет до окружности, отметить ее конец колышком Б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395280" y="3213000"/>
            <a:ext cx="28796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единить точки А и Б по прямой, отметить ее середину В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ямая от шеста до точки В показывает точное направление на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1800" spc="-1" strike="noStrike" u="sng">
                <a:solidFill>
                  <a:srgbClr val="0068ae"/>
                </a:solidFill>
                <a:uFillTx/>
                <a:latin typeface="Arial"/>
              </a:rPr>
              <a:t>. 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30" name="Picture 10" descr="j0323767"/>
          <p:cNvPicPr/>
          <p:nvPr/>
        </p:nvPicPr>
        <p:blipFill>
          <a:blip r:embed="rId2"/>
          <a:stretch/>
        </p:blipFill>
        <p:spPr>
          <a:xfrm>
            <a:off x="2050920" y="5950080"/>
            <a:ext cx="1000080" cy="907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324000" y="189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Ориентирование с помощью компаса.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95280" y="836640"/>
            <a:ext cx="8353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тобы определить точное направление на предмет, нужно определить азимут на предмет по компасу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ЗИМУТ – это угол между направлением на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и направлением на какой-то предмет, отсчитываемый от направления на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по часовой стрелке. Величину азимута выражают в градусах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08000" y="4221000"/>
            <a:ext cx="6696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ЕМ ОПРЕДЕЛЕНИЯ АЗИМУТА: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Установить компас так, чтобы темный конец его стрелки показывал на 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евер /буква С/.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Компас ориентирован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оложить на компас тонкую палочку по направлению от центра компаса к предмету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зимут отсчитывают от темного конца стрелки до палочки по часовой стрелке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34" name="Picture 7" descr="9"/>
          <p:cNvPicPr/>
          <p:nvPr/>
        </p:nvPicPr>
        <p:blipFill>
          <a:blip r:embed="rId1"/>
          <a:stretch/>
        </p:blipFill>
        <p:spPr>
          <a:xfrm>
            <a:off x="900000" y="2565360"/>
            <a:ext cx="4754520" cy="1546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ksh"/>
          <p:cNvPicPr/>
          <p:nvPr/>
        </p:nvPicPr>
        <p:blipFill>
          <a:blip r:embed="rId2"/>
          <a:stretch/>
        </p:blipFill>
        <p:spPr>
          <a:xfrm>
            <a:off x="6718320" y="4292640"/>
            <a:ext cx="2425680" cy="2349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j0318097"/>
          <p:cNvPicPr/>
          <p:nvPr/>
        </p:nvPicPr>
        <p:blipFill>
          <a:blip r:embed="rId3"/>
          <a:stretch/>
        </p:blipFill>
        <p:spPr>
          <a:xfrm>
            <a:off x="6804000" y="2565360"/>
            <a:ext cx="1513080" cy="1295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4" name="wind.wav"/>
      </p:stSnd>
    </p:sndAc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5"/>
          <p:cNvSpPr/>
          <p:nvPr/>
        </p:nvSpPr>
        <p:spPr>
          <a:xfrm>
            <a:off x="468360" y="40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риентирование по плану местности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38" name="Picture 6" descr="5"/>
          <p:cNvPicPr/>
          <p:nvPr/>
        </p:nvPicPr>
        <p:blipFill>
          <a:blip r:embed="rId1"/>
          <a:stretch/>
        </p:blipFill>
        <p:spPr>
          <a:xfrm>
            <a:off x="395280" y="1700280"/>
            <a:ext cx="4176720" cy="46800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7"/>
          <p:cNvSpPr/>
          <p:nvPr/>
        </p:nvSpPr>
        <p:spPr>
          <a:xfrm>
            <a:off x="4859280" y="1773360"/>
            <a:ext cx="403380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плане местности верхний край листа условно считают северным, нижний – южным, правый – восточным, левый – западным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ужно мысленно представить себе схему основных направлений сторон горизонта и поместить ее центр в точку, от которой будет определяться заданное направление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0" name="Picture 9" descr="j0318098"/>
          <p:cNvPicPr/>
          <p:nvPr/>
        </p:nvPicPr>
        <p:blipFill>
          <a:blip r:embed="rId2"/>
          <a:stretch/>
        </p:blipFill>
        <p:spPr>
          <a:xfrm>
            <a:off x="7956720" y="2924280"/>
            <a:ext cx="974520" cy="1152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6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6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6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7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1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250920" y="333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риентирование по местным признакам.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2" name="Picture 5" descr="6"/>
          <p:cNvPicPr/>
          <p:nvPr/>
        </p:nvPicPr>
        <p:blipFill>
          <a:blip r:embed="rId1"/>
          <a:stretch/>
        </p:blipFill>
        <p:spPr>
          <a:xfrm>
            <a:off x="179280" y="1197000"/>
            <a:ext cx="3961080" cy="5327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6"/>
          <p:cNvSpPr/>
          <p:nvPr/>
        </p:nvSpPr>
        <p:spPr>
          <a:xfrm>
            <a:off x="4788000" y="1125360"/>
            <a:ext cx="4032000" cy="52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ороны горизонта можно определять по местным признакам. Например: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весеннему таянию снега на склонах оврага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таянию снега на крышах домов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толщине годичных колец пня спиленного дерева, росшего отдельно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густоте ветвей отдельно растущего дерева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 лишайникам на стволе дерева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4" name="Picture 7" descr="j0318096"/>
          <p:cNvPicPr/>
          <p:nvPr/>
        </p:nvPicPr>
        <p:blipFill>
          <a:blip r:embed="rId2"/>
          <a:stretch/>
        </p:blipFill>
        <p:spPr>
          <a:xfrm>
            <a:off x="8459640" y="5805360"/>
            <a:ext cx="495360" cy="752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j0318096"/>
          <p:cNvPicPr/>
          <p:nvPr/>
        </p:nvPicPr>
        <p:blipFill>
          <a:blip r:embed="rId3"/>
          <a:stretch/>
        </p:blipFill>
        <p:spPr>
          <a:xfrm>
            <a:off x="4356000" y="1844640"/>
            <a:ext cx="495360" cy="7524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4" name="wind.wav"/>
      </p:stSnd>
    </p:sndAc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1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3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PLAKAT10"/>
          <p:cNvPicPr/>
          <p:nvPr/>
        </p:nvPicPr>
        <p:blipFill>
          <a:blip r:embed="rId1"/>
          <a:stretch/>
        </p:blipFill>
        <p:spPr>
          <a:xfrm>
            <a:off x="611280" y="260280"/>
            <a:ext cx="5256000" cy="64087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6"/>
          <p:cNvSpPr/>
          <p:nvPr/>
        </p:nvSpPr>
        <p:spPr>
          <a:xfrm>
            <a:off x="6516720" y="1484280"/>
            <a:ext cx="2160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сли вы заблудились в лесу, вспомните ориентирование по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стным признакам.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48" name="Picture 7" descr="j0318093"/>
          <p:cNvPicPr/>
          <p:nvPr/>
        </p:nvPicPr>
        <p:blipFill>
          <a:blip r:embed="rId2"/>
          <a:stretch/>
        </p:blipFill>
        <p:spPr>
          <a:xfrm>
            <a:off x="8244000" y="260280"/>
            <a:ext cx="609480" cy="743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j0318096"/>
          <p:cNvPicPr/>
          <p:nvPr/>
        </p:nvPicPr>
        <p:blipFill>
          <a:blip r:embed="rId3"/>
          <a:stretch/>
        </p:blipFill>
        <p:spPr>
          <a:xfrm>
            <a:off x="8244000" y="5661000"/>
            <a:ext cx="495360" cy="752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318098"/>
          <p:cNvPicPr/>
          <p:nvPr/>
        </p:nvPicPr>
        <p:blipFill>
          <a:blip r:embed="rId4"/>
          <a:stretch/>
        </p:blipFill>
        <p:spPr>
          <a:xfrm>
            <a:off x="7020000" y="508464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318100"/>
          <p:cNvPicPr/>
          <p:nvPr/>
        </p:nvPicPr>
        <p:blipFill>
          <a:blip r:embed="rId5"/>
          <a:stretch/>
        </p:blipFill>
        <p:spPr>
          <a:xfrm>
            <a:off x="6156360" y="5589720"/>
            <a:ext cx="744480" cy="79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j0318096"/>
          <p:cNvPicPr/>
          <p:nvPr/>
        </p:nvPicPr>
        <p:blipFill>
          <a:blip r:embed="rId6"/>
          <a:stretch/>
        </p:blipFill>
        <p:spPr>
          <a:xfrm>
            <a:off x="6659640" y="333360"/>
            <a:ext cx="568080" cy="752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j0336898"/>
          <p:cNvPicPr/>
          <p:nvPr/>
        </p:nvPicPr>
        <p:blipFill>
          <a:blip r:embed="rId7"/>
          <a:stretch/>
        </p:blipFill>
        <p:spPr>
          <a:xfrm>
            <a:off x="7236000" y="6021360"/>
            <a:ext cx="661680" cy="647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8" name="wind.wav"/>
      </p:stSnd>
    </p:sndAc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324000" y="1159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дания для закрепления изученного материала: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55" name="Picture 6" descr="img1"/>
          <p:cNvPicPr/>
          <p:nvPr/>
        </p:nvPicPr>
        <p:blipFill>
          <a:blip r:embed="rId1"/>
          <a:stretch/>
        </p:blipFill>
        <p:spPr>
          <a:xfrm>
            <a:off x="179280" y="836640"/>
            <a:ext cx="2592360" cy="2879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5"/>
          <p:cNvPicPr/>
          <p:nvPr/>
        </p:nvPicPr>
        <p:blipFill>
          <a:blip r:embed="rId2"/>
          <a:stretch/>
        </p:blipFill>
        <p:spPr>
          <a:xfrm>
            <a:off x="2987640" y="836640"/>
            <a:ext cx="2448000" cy="2808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8"/>
          <p:cNvSpPr/>
          <p:nvPr/>
        </p:nvSpPr>
        <p:spPr>
          <a:xfrm>
            <a:off x="6300720" y="3429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евер 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6372360" y="6021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Юг 18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5651640" y="573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5651640" y="479592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1" name="Line 16"/>
          <p:cNvSpPr/>
          <p:nvPr/>
        </p:nvSpPr>
        <p:spPr>
          <a:xfrm flipV="1">
            <a:off x="6084720" y="4005000"/>
            <a:ext cx="1295640" cy="165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5940360" y="4148280"/>
            <a:ext cx="172872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3" name="Line 28"/>
          <p:cNvSpPr/>
          <p:nvPr/>
        </p:nvSpPr>
        <p:spPr>
          <a:xfrm flipH="1">
            <a:off x="6732720" y="3860640"/>
            <a:ext cx="71280" cy="201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4859280" y="4653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Запад 27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7956720" y="465300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осток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90</a:t>
            </a:r>
            <a:r>
              <a:rPr b="1" i="1" lang="ru-RU" sz="16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7380360" y="3645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565164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8" name="Text Box 35"/>
          <p:cNvSpPr/>
          <p:nvPr/>
        </p:nvSpPr>
        <p:spPr>
          <a:xfrm>
            <a:off x="5724360" y="5661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69" name="Text Box 36"/>
          <p:cNvSpPr/>
          <p:nvPr/>
        </p:nvSpPr>
        <p:spPr>
          <a:xfrm>
            <a:off x="7667640" y="5445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0" name="Text Box 38"/>
          <p:cNvSpPr/>
          <p:nvPr/>
        </p:nvSpPr>
        <p:spPr>
          <a:xfrm>
            <a:off x="1187280" y="378936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ис. 1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1" name="Text Box 39"/>
          <p:cNvSpPr/>
          <p:nvPr/>
        </p:nvSpPr>
        <p:spPr>
          <a:xfrm>
            <a:off x="3780000" y="3789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ис. 2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2" name="Text Box 40"/>
          <p:cNvSpPr/>
          <p:nvPr/>
        </p:nvSpPr>
        <p:spPr>
          <a:xfrm>
            <a:off x="0" y="4292640"/>
            <a:ext cx="3960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пределить стороны горизонта со знаком «?» по рис.1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о рис.2 определите направление улицы в селе Новинки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3" name="Text Box 41"/>
          <p:cNvSpPr/>
          <p:nvPr/>
        </p:nvSpPr>
        <p:spPr>
          <a:xfrm>
            <a:off x="468360" y="550692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4" name="Text Box 42"/>
          <p:cNvSpPr/>
          <p:nvPr/>
        </p:nvSpPr>
        <p:spPr>
          <a:xfrm>
            <a:off x="6443640" y="6381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ис. 3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75" name="Text Box 43"/>
          <p:cNvSpPr/>
          <p:nvPr/>
        </p:nvSpPr>
        <p:spPr>
          <a:xfrm>
            <a:off x="6084720" y="1197000"/>
            <a:ext cx="2232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о рис . 3 определите, чему равен азимут сторон горизонта под знаком «?».</a:t>
            </a:r>
            <a:endParaRPr b="1" i="1" lang="en-US" sz="1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76" name="Picture 44" descr="j0336898"/>
          <p:cNvPicPr/>
          <p:nvPr/>
        </p:nvPicPr>
        <p:blipFill>
          <a:blip r:embed="rId3"/>
          <a:stretch/>
        </p:blipFill>
        <p:spPr>
          <a:xfrm>
            <a:off x="2843280" y="3789360"/>
            <a:ext cx="865080" cy="792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5" descr="j0336905"/>
          <p:cNvPicPr/>
          <p:nvPr/>
        </p:nvPicPr>
        <p:blipFill>
          <a:blip r:embed="rId4"/>
          <a:stretch/>
        </p:blipFill>
        <p:spPr>
          <a:xfrm>
            <a:off x="3780000" y="5300640"/>
            <a:ext cx="1079280" cy="1100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7" descr="j0303418"/>
          <p:cNvPicPr/>
          <p:nvPr/>
        </p:nvPicPr>
        <p:blipFill>
          <a:blip r:embed="rId5"/>
          <a:stretch/>
        </p:blipFill>
        <p:spPr>
          <a:xfrm>
            <a:off x="7956720" y="2708280"/>
            <a:ext cx="820440" cy="890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8" descr="j0303418"/>
          <p:cNvPicPr/>
          <p:nvPr/>
        </p:nvPicPr>
        <p:blipFill>
          <a:blip r:embed="rId6"/>
          <a:stretch/>
        </p:blipFill>
        <p:spPr>
          <a:xfrm>
            <a:off x="7956720" y="2708280"/>
            <a:ext cx="820440" cy="890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7" name="wind.wav"/>
      </p:stSnd>
    </p:sndAc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пределите стороны горизонта под знаком «?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Line 4"/>
          <p:cNvSpPr/>
          <p:nvPr/>
        </p:nvSpPr>
        <p:spPr>
          <a:xfrm>
            <a:off x="4356000" y="2349360"/>
            <a:ext cx="0" cy="316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2" name="Line 5"/>
          <p:cNvSpPr/>
          <p:nvPr/>
        </p:nvSpPr>
        <p:spPr>
          <a:xfrm>
            <a:off x="2484360" y="3933720"/>
            <a:ext cx="388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2916360" y="2636640"/>
            <a:ext cx="3097080" cy="24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059280" y="2852640"/>
            <a:ext cx="2736720" cy="23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6084720" y="2060640"/>
            <a:ext cx="574920" cy="555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1692360" y="3573360"/>
            <a:ext cx="623880" cy="6256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2195640" y="2349360"/>
            <a:ext cx="576000" cy="552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012000" y="4941720"/>
            <a:ext cx="64764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4140360" y="1700280"/>
            <a:ext cx="555480" cy="4824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С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1908000" y="4869000"/>
            <a:ext cx="698760" cy="6267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ЮЗ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3995640" y="5734080"/>
            <a:ext cx="62712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Ю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659640" y="3573360"/>
            <a:ext cx="55404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8ae"/>
                </a:solidFill>
                <a:latin typeface="Arial"/>
              </a:rPr>
              <a:t>В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93" name="Picture 16" descr="j0285261"/>
          <p:cNvPicPr/>
          <p:nvPr/>
        </p:nvPicPr>
        <p:blipFill>
          <a:blip r:embed="rId1"/>
          <a:stretch/>
        </p:blipFill>
        <p:spPr>
          <a:xfrm>
            <a:off x="395280" y="1052640"/>
            <a:ext cx="933480" cy="1209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7" descr="j0318091"/>
          <p:cNvPicPr/>
          <p:nvPr/>
        </p:nvPicPr>
        <p:blipFill>
          <a:blip r:embed="rId2"/>
          <a:stretch/>
        </p:blipFill>
        <p:spPr>
          <a:xfrm>
            <a:off x="7740720" y="119700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8" descr="j0303418"/>
          <p:cNvPicPr/>
          <p:nvPr/>
        </p:nvPicPr>
        <p:blipFill>
          <a:blip r:embed="rId3"/>
          <a:stretch/>
        </p:blipFill>
        <p:spPr>
          <a:xfrm>
            <a:off x="8028000" y="5229360"/>
            <a:ext cx="820800" cy="890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9" descr="j0288928"/>
          <p:cNvPicPr/>
          <p:nvPr/>
        </p:nvPicPr>
        <p:blipFill>
          <a:blip r:embed="rId4"/>
          <a:stretch/>
        </p:blipFill>
        <p:spPr>
          <a:xfrm>
            <a:off x="250920" y="537372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wind.wav"/>
      </p:stSnd>
    </p:sndAc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8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8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8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83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38" dur="1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840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41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84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44" dur="1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84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847" dur="1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пределите стороны горизонта под знаком  «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8" name="Picture 25" descr="j0318091"/>
          <p:cNvPicPr/>
          <p:nvPr/>
        </p:nvPicPr>
        <p:blipFill>
          <a:blip r:embed="rId1"/>
          <a:stretch/>
        </p:blipFill>
        <p:spPr>
          <a:xfrm>
            <a:off x="7451640" y="1341360"/>
            <a:ext cx="1079640" cy="1008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7" descr="j0303418"/>
          <p:cNvPicPr/>
          <p:nvPr/>
        </p:nvPicPr>
        <p:blipFill>
          <a:blip r:embed="rId2"/>
          <a:stretch/>
        </p:blipFill>
        <p:spPr>
          <a:xfrm>
            <a:off x="7956720" y="4076640"/>
            <a:ext cx="820440" cy="890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9" descr="j0288928"/>
          <p:cNvPicPr/>
          <p:nvPr/>
        </p:nvPicPr>
        <p:blipFill>
          <a:blip r:embed="rId3"/>
          <a:stretch/>
        </p:blipFill>
        <p:spPr>
          <a:xfrm>
            <a:off x="324000" y="5229360"/>
            <a:ext cx="1247760" cy="1180800"/>
          </a:xfrm>
          <a:prstGeom prst="rect">
            <a:avLst/>
          </a:prstGeom>
          <a:ln w="0">
            <a:noFill/>
          </a:ln>
        </p:spPr>
      </p:pic>
      <p:sp>
        <p:nvSpPr>
          <p:cNvPr id="401" name="Line 5"/>
          <p:cNvSpPr/>
          <p:nvPr/>
        </p:nvSpPr>
        <p:spPr>
          <a:xfrm>
            <a:off x="4716360" y="2492280"/>
            <a:ext cx="71640" cy="2808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2" name="Line 6"/>
          <p:cNvSpPr/>
          <p:nvPr/>
        </p:nvSpPr>
        <p:spPr>
          <a:xfrm>
            <a:off x="2987640" y="386064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3" name="Line 7"/>
          <p:cNvSpPr/>
          <p:nvPr/>
        </p:nvSpPr>
        <p:spPr>
          <a:xfrm flipH="1">
            <a:off x="3635280" y="2708280"/>
            <a:ext cx="2160720" cy="23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3635280" y="2924280"/>
            <a:ext cx="2376720" cy="1944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4427640" y="1844640"/>
            <a:ext cx="4824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С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6012000" y="2060640"/>
            <a:ext cx="482400" cy="482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2843280" y="2349360"/>
            <a:ext cx="48240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2050920" y="3573360"/>
            <a:ext cx="55584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09" name="Rectangle 15"/>
          <p:cNvSpPr/>
          <p:nvPr/>
        </p:nvSpPr>
        <p:spPr>
          <a:xfrm>
            <a:off x="2700360" y="4941720"/>
            <a:ext cx="625320" cy="6256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8ae"/>
                </a:solidFill>
                <a:latin typeface="Arial"/>
              </a:rPr>
              <a:t>ЮЗ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4427640" y="5373720"/>
            <a:ext cx="62712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Ю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6732720" y="3573360"/>
            <a:ext cx="55404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В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6372360" y="4941720"/>
            <a:ext cx="554040" cy="554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8ae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3" name="Rectangle 19"/>
          <p:cNvSpPr/>
          <p:nvPr/>
        </p:nvSpPr>
        <p:spPr>
          <a:xfrm>
            <a:off x="2050920" y="3573360"/>
            <a:ext cx="554040" cy="5540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З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4" name="Rectangle 20"/>
          <p:cNvSpPr/>
          <p:nvPr/>
        </p:nvSpPr>
        <p:spPr>
          <a:xfrm>
            <a:off x="2843280" y="2349360"/>
            <a:ext cx="554040" cy="5558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СЗ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5" name="Rectangle 21"/>
          <p:cNvSpPr/>
          <p:nvPr/>
        </p:nvSpPr>
        <p:spPr>
          <a:xfrm>
            <a:off x="5940360" y="1989000"/>
            <a:ext cx="554040" cy="5558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8ae"/>
                </a:solidFill>
                <a:latin typeface="Arial"/>
              </a:rPr>
              <a:t>СВ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6" name="Rectangle 22"/>
          <p:cNvSpPr/>
          <p:nvPr/>
        </p:nvSpPr>
        <p:spPr>
          <a:xfrm>
            <a:off x="6372360" y="4941720"/>
            <a:ext cx="625320" cy="576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8ae"/>
                </a:solidFill>
                <a:latin typeface="Arial"/>
              </a:rPr>
              <a:t>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417" name="AutoShape 24">
            <a:hlinkClick r:id="rId4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418" name="Picture 31" descr="j0285261"/>
          <p:cNvPicPr/>
          <p:nvPr/>
        </p:nvPicPr>
        <p:blipFill>
          <a:blip r:embed="rId5"/>
          <a:stretch/>
        </p:blipFill>
        <p:spPr>
          <a:xfrm>
            <a:off x="395280" y="1125360"/>
            <a:ext cx="1152360" cy="1584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6" name="wind.wav"/>
      </p:stSnd>
    </p:sndAc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0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8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8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8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8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895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9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9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9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9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15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9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9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933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34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9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53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0050"/>
          <p:cNvPicPr/>
          <p:nvPr/>
        </p:nvPicPr>
        <p:blipFill>
          <a:blip r:embed="rId1"/>
          <a:stretch/>
        </p:blipFill>
        <p:spPr>
          <a:xfrm>
            <a:off x="324000" y="3789360"/>
            <a:ext cx="3794040" cy="2863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14"/>
          <p:cNvPicPr/>
          <p:nvPr/>
        </p:nvPicPr>
        <p:blipFill>
          <a:blip r:embed="rId2"/>
          <a:stretch/>
        </p:blipFill>
        <p:spPr>
          <a:xfrm>
            <a:off x="4500720" y="3716280"/>
            <a:ext cx="4413240" cy="295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pics"/>
          <p:cNvPicPr/>
          <p:nvPr/>
        </p:nvPicPr>
        <p:blipFill>
          <a:blip r:embed="rId3"/>
          <a:stretch/>
        </p:blipFill>
        <p:spPr>
          <a:xfrm>
            <a:off x="324000" y="476280"/>
            <a:ext cx="3528720" cy="26478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4"/>
          <p:cNvSpPr/>
          <p:nvPr/>
        </p:nvSpPr>
        <p:spPr>
          <a:xfrm>
            <a:off x="4500720" y="476280"/>
            <a:ext cx="4392360" cy="26654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Стрелка компаса на север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Показала направленье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И по плану ты проверил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Путь дальнейшего движенья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Между севером и точкой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Отсчитай «по солнцу» градус-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Это азимут.Он точно 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8ae"/>
                </a:solidFill>
                <a:latin typeface="Arial"/>
              </a:rPr>
              <a:t>Курс тебе укажет сразу.</a:t>
            </a: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18" name="Picture 16" descr="j0282781"/>
          <p:cNvPicPr/>
          <p:nvPr/>
        </p:nvPicPr>
        <p:blipFill>
          <a:blip r:embed="rId4"/>
          <a:stretch/>
        </p:blipFill>
        <p:spPr>
          <a:xfrm>
            <a:off x="3708360" y="2852640"/>
            <a:ext cx="1276560" cy="1219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5" name="wind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Стороны горизон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2158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г 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ад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к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116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межуточ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о-запад С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о-восток С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о-запад Ю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о-восток Ю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-северо-запад СС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ад-северо-запад ЗС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ад-юго-запад ЗЮ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-юго-запад ЮЮ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вер-северо-восток СС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к-северо-восток ВС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к-юго-восток ВЮ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г-юго-восток ЮЮ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j0283649"/>
          <p:cNvPicPr/>
          <p:nvPr/>
        </p:nvPicPr>
        <p:blipFill>
          <a:blip r:embed="rId1"/>
          <a:stretch/>
        </p:blipFill>
        <p:spPr>
          <a:xfrm>
            <a:off x="1403280" y="4149720"/>
            <a:ext cx="1665360" cy="23050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1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1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1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1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1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1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2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611280" y="189000"/>
            <a:ext cx="820872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тороны горизонта</a:t>
            </a:r>
            <a:endParaRPr b="1" i="1" lang="en-US" sz="5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468360" y="2205000"/>
            <a:ext cx="3959280" cy="1276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4716360" y="2205000"/>
            <a:ext cx="4103640" cy="136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межуточные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6" name="Oval 13"/>
          <p:cNvSpPr/>
          <p:nvPr/>
        </p:nvSpPr>
        <p:spPr>
          <a:xfrm>
            <a:off x="2411280" y="494172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7" name="Oval 14"/>
          <p:cNvSpPr/>
          <p:nvPr/>
        </p:nvSpPr>
        <p:spPr>
          <a:xfrm>
            <a:off x="3059280" y="386064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8" name="Oval 15"/>
          <p:cNvSpPr/>
          <p:nvPr/>
        </p:nvSpPr>
        <p:spPr>
          <a:xfrm>
            <a:off x="324000" y="36450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29" name="Oval 16"/>
          <p:cNvSpPr/>
          <p:nvPr/>
        </p:nvSpPr>
        <p:spPr>
          <a:xfrm>
            <a:off x="826920" y="48690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0" name="Oval 17"/>
          <p:cNvSpPr/>
          <p:nvPr/>
        </p:nvSpPr>
        <p:spPr>
          <a:xfrm>
            <a:off x="5076720" y="4149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ЮЗ 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1" name="Oval 18"/>
          <p:cNvSpPr/>
          <p:nvPr/>
        </p:nvSpPr>
        <p:spPr>
          <a:xfrm>
            <a:off x="6372360" y="4581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2" name="Oval 19"/>
          <p:cNvSpPr/>
          <p:nvPr/>
        </p:nvSpPr>
        <p:spPr>
          <a:xfrm>
            <a:off x="7308720" y="429264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ЮВ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3" name="Oval 20"/>
          <p:cNvSpPr/>
          <p:nvPr/>
        </p:nvSpPr>
        <p:spPr>
          <a:xfrm>
            <a:off x="8229600" y="3500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4" name="Oval 21"/>
          <p:cNvSpPr/>
          <p:nvPr/>
        </p:nvSpPr>
        <p:spPr>
          <a:xfrm>
            <a:off x="4067280" y="450864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5" name="Oval 22"/>
          <p:cNvSpPr/>
          <p:nvPr/>
        </p:nvSpPr>
        <p:spPr>
          <a:xfrm>
            <a:off x="5003640" y="5229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6" name="Oval 23"/>
          <p:cNvSpPr/>
          <p:nvPr/>
        </p:nvSpPr>
        <p:spPr>
          <a:xfrm>
            <a:off x="7093080" y="566100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ЮЮВ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8229600" y="458136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ЮЮЗ</a:t>
            </a:r>
            <a:endParaRPr b="1" i="1" lang="en-US" sz="2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8" name="Oval 25"/>
          <p:cNvSpPr/>
          <p:nvPr/>
        </p:nvSpPr>
        <p:spPr>
          <a:xfrm>
            <a:off x="5867280" y="5589720"/>
            <a:ext cx="936720" cy="907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39" name="Oval 26"/>
          <p:cNvSpPr/>
          <p:nvPr/>
        </p:nvSpPr>
        <p:spPr>
          <a:xfrm>
            <a:off x="4211640" y="350028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0" name="Line 27"/>
          <p:cNvSpPr/>
          <p:nvPr/>
        </p:nvSpPr>
        <p:spPr>
          <a:xfrm flipH="1">
            <a:off x="755640" y="3284640"/>
            <a:ext cx="216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1" name="Line 28"/>
          <p:cNvSpPr/>
          <p:nvPr/>
        </p:nvSpPr>
        <p:spPr>
          <a:xfrm flipH="1">
            <a:off x="1332000" y="3429000"/>
            <a:ext cx="57600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2" name="Line 29"/>
          <p:cNvSpPr/>
          <p:nvPr/>
        </p:nvSpPr>
        <p:spPr>
          <a:xfrm>
            <a:off x="2195640" y="3573360"/>
            <a:ext cx="43164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2916360" y="3500280"/>
            <a:ext cx="36036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4" name="Line 31"/>
          <p:cNvSpPr/>
          <p:nvPr/>
        </p:nvSpPr>
        <p:spPr>
          <a:xfrm flipH="1">
            <a:off x="5003280" y="3284640"/>
            <a:ext cx="287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5" name="Line 32"/>
          <p:cNvSpPr/>
          <p:nvPr/>
        </p:nvSpPr>
        <p:spPr>
          <a:xfrm flipH="1">
            <a:off x="4858920" y="3573360"/>
            <a:ext cx="792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6" name="Line 33"/>
          <p:cNvSpPr/>
          <p:nvPr/>
        </p:nvSpPr>
        <p:spPr>
          <a:xfrm flipH="1">
            <a:off x="5796000" y="3573360"/>
            <a:ext cx="216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7" name="Line 34"/>
          <p:cNvSpPr/>
          <p:nvPr/>
        </p:nvSpPr>
        <p:spPr>
          <a:xfrm flipH="1">
            <a:off x="5795640" y="3645000"/>
            <a:ext cx="64764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8" name="Line 36"/>
          <p:cNvSpPr/>
          <p:nvPr/>
        </p:nvSpPr>
        <p:spPr>
          <a:xfrm>
            <a:off x="7308720" y="3645000"/>
            <a:ext cx="287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49" name="Line 37"/>
          <p:cNvSpPr/>
          <p:nvPr/>
        </p:nvSpPr>
        <p:spPr>
          <a:xfrm>
            <a:off x="7020000" y="3645000"/>
            <a:ext cx="504720" cy="20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0" name="Line 38"/>
          <p:cNvSpPr/>
          <p:nvPr/>
        </p:nvSpPr>
        <p:spPr>
          <a:xfrm>
            <a:off x="7885080" y="3429000"/>
            <a:ext cx="358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1" name="Line 39"/>
          <p:cNvSpPr/>
          <p:nvPr/>
        </p:nvSpPr>
        <p:spPr>
          <a:xfrm>
            <a:off x="7596360" y="3573360"/>
            <a:ext cx="86328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2" name="Line 41"/>
          <p:cNvSpPr/>
          <p:nvPr/>
        </p:nvSpPr>
        <p:spPr>
          <a:xfrm>
            <a:off x="6732720" y="3645000"/>
            <a:ext cx="712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3" name="Line 42"/>
          <p:cNvSpPr/>
          <p:nvPr/>
        </p:nvSpPr>
        <p:spPr>
          <a:xfrm flipH="1">
            <a:off x="6300720" y="3645000"/>
            <a:ext cx="28728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4" name="Line 44"/>
          <p:cNvSpPr/>
          <p:nvPr/>
        </p:nvSpPr>
        <p:spPr>
          <a:xfrm>
            <a:off x="212400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5" name="Line 46"/>
          <p:cNvSpPr/>
          <p:nvPr/>
        </p:nvSpPr>
        <p:spPr>
          <a:xfrm>
            <a:off x="665964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4067280" y="5589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7" name="Oval 48"/>
          <p:cNvSpPr/>
          <p:nvPr/>
        </p:nvSpPr>
        <p:spPr>
          <a:xfrm>
            <a:off x="8028000" y="5589720"/>
            <a:ext cx="914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8" name="Line 49"/>
          <p:cNvSpPr/>
          <p:nvPr/>
        </p:nvSpPr>
        <p:spPr>
          <a:xfrm flipH="1">
            <a:off x="4787640" y="3573360"/>
            <a:ext cx="115236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59" name="Line 50"/>
          <p:cNvSpPr/>
          <p:nvPr/>
        </p:nvSpPr>
        <p:spPr>
          <a:xfrm>
            <a:off x="7524720" y="3573360"/>
            <a:ext cx="71928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60" name="Picture 51" descr="j0285261"/>
          <p:cNvPicPr/>
          <p:nvPr/>
        </p:nvPicPr>
        <p:blipFill>
          <a:blip r:embed="rId1"/>
          <a:stretch/>
        </p:blipFill>
        <p:spPr>
          <a:xfrm>
            <a:off x="1547640" y="5373720"/>
            <a:ext cx="1224000" cy="1484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Line 4"/>
          <p:cNvSpPr/>
          <p:nvPr/>
        </p:nvSpPr>
        <p:spPr>
          <a:xfrm flipH="1">
            <a:off x="4140360" y="476280"/>
            <a:ext cx="71280" cy="504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1332000" y="285264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763280" y="765000"/>
            <a:ext cx="4824360" cy="417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835280" y="907920"/>
            <a:ext cx="4681440" cy="388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 flipH="1">
            <a:off x="3132000" y="981000"/>
            <a:ext cx="1944720" cy="396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3059280" y="765000"/>
            <a:ext cx="2233440" cy="410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V="1">
            <a:off x="1979640" y="2060640"/>
            <a:ext cx="4537080" cy="151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1979640" y="2060640"/>
            <a:ext cx="4319640" cy="151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3995640" y="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5516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900000" y="256536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7164360" y="263700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1258920" y="40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6443640" y="33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1116000" y="486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6588000" y="4724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4859280" y="486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411280" y="486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Ю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6372360" y="3429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Ю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971640" y="342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Ю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1042920" y="1628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2484360" y="26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З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5003640" y="3333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6622920" y="1628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В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1619280" y="62164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Стороны горизонта.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286" name="Picture 30" descr="j0285315"/>
          <p:cNvPicPr/>
          <p:nvPr/>
        </p:nvPicPr>
        <p:blipFill>
          <a:blip r:embed="rId1"/>
          <a:stretch/>
        </p:blipFill>
        <p:spPr>
          <a:xfrm>
            <a:off x="7093080" y="4941720"/>
            <a:ext cx="1871640" cy="1727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6"/>
          <p:cNvSpPr/>
          <p:nvPr/>
        </p:nvSpPr>
        <p:spPr>
          <a:xfrm>
            <a:off x="539640" y="1413000"/>
            <a:ext cx="80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218440" cy="33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риентировани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– умение находить стороны горизонта, а также в каком направлении от человека находится предмет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Picture 9" descr="0050"/>
          <p:cNvPicPr/>
          <p:nvPr/>
        </p:nvPicPr>
        <p:blipFill>
          <a:blip r:embed="rId1"/>
          <a:stretch/>
        </p:blipFill>
        <p:spPr>
          <a:xfrm>
            <a:off x="250920" y="189000"/>
            <a:ext cx="3289320" cy="2359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14"/>
          <p:cNvPicPr/>
          <p:nvPr/>
        </p:nvPicPr>
        <p:blipFill>
          <a:blip r:embed="rId2"/>
          <a:stretch/>
        </p:blipFill>
        <p:spPr>
          <a:xfrm>
            <a:off x="4500720" y="3933720"/>
            <a:ext cx="4413240" cy="2741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pics"/>
          <p:cNvPicPr/>
          <p:nvPr/>
        </p:nvPicPr>
        <p:blipFill>
          <a:blip r:embed="rId3"/>
          <a:stretch/>
        </p:blipFill>
        <p:spPr>
          <a:xfrm>
            <a:off x="395280" y="4005360"/>
            <a:ext cx="3529080" cy="2647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Картинка 4 из 62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15920"/>
            <a:ext cx="3726000" cy="25812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6" name="wind.wav"/>
      </p:stSnd>
    </p:sndAc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6"/>
          <p:cNvSpPr/>
          <p:nvPr/>
        </p:nvSpPr>
        <p:spPr>
          <a:xfrm>
            <a:off x="611280" y="404640"/>
            <a:ext cx="727236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уществуют различные способы ориентирования на местност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Солнцу 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 помощью компаса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звездам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 помощью Солнца и часов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 помощью гномона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плану местности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 местным признакам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 для всех этих способов есть общие действия: сначала определяют, где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а затем все остальные стороны горизонта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3492360" y="1484280"/>
            <a:ext cx="1059120" cy="1079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5" name="AutoShape 14"/>
          <p:cNvSpPr/>
          <p:nvPr/>
        </p:nvSpPr>
        <p:spPr>
          <a:xfrm>
            <a:off x="7812000" y="98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6588000" y="1052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7740720" y="537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8" name="AutoShape 17"/>
          <p:cNvSpPr/>
          <p:nvPr/>
        </p:nvSpPr>
        <p:spPr>
          <a:xfrm>
            <a:off x="630072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0" y="189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00" name="Picture 19" descr="j0286667"/>
          <p:cNvPicPr/>
          <p:nvPr/>
        </p:nvPicPr>
        <p:blipFill>
          <a:blip r:embed="rId1"/>
          <a:stretch/>
        </p:blipFill>
        <p:spPr>
          <a:xfrm>
            <a:off x="7667640" y="4005360"/>
            <a:ext cx="1297080" cy="12636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21"/>
          <p:cNvSpPr/>
          <p:nvPr/>
        </p:nvSpPr>
        <p:spPr>
          <a:xfrm>
            <a:off x="8028000" y="1628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02" name="Picture 22" descr="j0318097"/>
          <p:cNvPicPr/>
          <p:nvPr/>
        </p:nvPicPr>
        <p:blipFill>
          <a:blip r:embed="rId2"/>
          <a:stretch/>
        </p:blipFill>
        <p:spPr>
          <a:xfrm>
            <a:off x="5003640" y="2276640"/>
            <a:ext cx="1009800" cy="934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3" descr="j0318098"/>
          <p:cNvPicPr/>
          <p:nvPr/>
        </p:nvPicPr>
        <p:blipFill>
          <a:blip r:embed="rId3"/>
          <a:stretch/>
        </p:blipFill>
        <p:spPr>
          <a:xfrm>
            <a:off x="4284720" y="3645000"/>
            <a:ext cx="974520" cy="1152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4" name="wind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1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10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 flipV="1">
            <a:off x="0" y="1051560"/>
            <a:ext cx="792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68360" y="682560"/>
            <a:ext cx="792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258920" y="3789360"/>
            <a:ext cx="777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971640" y="476280"/>
            <a:ext cx="763272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Ориентирование по Солнцу.</a:t>
            </a:r>
            <a:endParaRPr b="1" i="1" lang="en-US" sz="32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олнечную погоду ориентируются на местности по направлению тени в полдень. Полуденная тень от предметов всегда направлена на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вер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сли встать лицом к северу и развести руками в стороны, то по направлению правой руки будет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осток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по направлению левой –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запад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, а сзади –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юг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08" name="Picture 9" descr="7"/>
          <p:cNvPicPr/>
          <p:nvPr/>
        </p:nvPicPr>
        <p:blipFill>
          <a:blip r:embed="rId1"/>
          <a:stretch/>
        </p:blipFill>
        <p:spPr>
          <a:xfrm>
            <a:off x="324000" y="3716280"/>
            <a:ext cx="8496000" cy="2737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j0315782"/>
          <p:cNvPicPr/>
          <p:nvPr/>
        </p:nvPicPr>
        <p:blipFill>
          <a:blip r:embed="rId2"/>
          <a:stretch/>
        </p:blipFill>
        <p:spPr>
          <a:xfrm>
            <a:off x="7524720" y="333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  <p:sndAc>
      <p:stSnd>
        <p:snd r:embed="rId3" name="wind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339840" y="5382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pic>
        <p:nvPicPr>
          <p:cNvPr id="311" name="Picture 6" descr="3"/>
          <p:cNvPicPr/>
          <p:nvPr/>
        </p:nvPicPr>
        <p:blipFill>
          <a:blip r:embed="rId1"/>
          <a:stretch/>
        </p:blipFill>
        <p:spPr>
          <a:xfrm>
            <a:off x="684360" y="1125360"/>
            <a:ext cx="7778520" cy="36007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1116000" y="4581360"/>
            <a:ext cx="727380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обходимо найти ковш Большой Медведицы из семи ярких звезд. Мысленно отложить на продолжении линии между крайними звездами ковша еще 5 таких отрезков. Здесь находится Полярная звезда. Полярная звезда всегда находится над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еверной стороной горизонта.</a:t>
            </a:r>
            <a:endParaRPr b="1" i="1" lang="en-US" sz="20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0" y="26028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Ориентирование по звездам.</a:t>
            </a:r>
            <a:endParaRPr b="1" i="1" lang="en-US" sz="36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250920" y="537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795672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7812000" y="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8028000" y="216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318" name="AutoShape 15"/>
          <p:cNvSpPr/>
          <p:nvPr/>
        </p:nvSpPr>
        <p:spPr>
          <a:xfrm>
            <a:off x="8244000" y="431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68ae"/>
              </a:solidFill>
              <a:latin typeface="Arial"/>
            </a:endParaRPr>
          </a:p>
        </p:txBody>
      </p:sp>
    </p:spTree>
  </p:cSld>
  <p:transition spd="med" advTm="4000">
    <p:wheel spokes="8"/>
    <p:sndAc>
      <p:stSnd>
        <p:snd r:embed="rId2" name="wind.wav"/>
      </p:stSnd>
    </p:sndAc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1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5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5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5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1:44:00Z</dcterms:created>
  <dc:creator>user49</dc:creator>
  <dc:description/>
  <dc:language>en-US</dc:language>
  <cp:lastModifiedBy>PAPA</cp:lastModifiedBy>
  <dcterms:modified xsi:type="dcterms:W3CDTF">2014-03-04T16:51:55Z</dcterms:modified>
  <cp:revision>89</cp:revision>
  <dc:subject/>
  <dc:title>Стороны горизонта. Ориентирова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1e0000000000010250300207f7000400038000</vt:lpwstr>
  </property>
</Properties>
</file>