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E49F-8BD1-4261-BEB0-F3967ECC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04CE-86CC-4DC9-B1A0-D4313749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3DF4-013F-42F4-8416-9D469D07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22BF-0CCD-49F3-8D3E-66A139FA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5B93-4670-4BB5-B34E-E9F804D2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B058-98A1-4028-BA08-9EB3639F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A6A-FFAA-4EDE-8AD3-0AC01975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6A1B-7BD5-4D49-951C-089A441E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9D28-3B21-4D10-98FB-03D5A2B4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9A7-9D41-42ED-BDAD-8BEFF8AB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1E1C-C321-4420-A9C7-C0BC5E42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1B49-D427-4CEA-8423-116A94AE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93FB-F74E-4A57-B690-E532A1BF3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371520" y="1365120"/>
            <a:ext cx="8650080" cy="2828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ература воздух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июл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т +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1-23, в январ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 -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душные массы (облачность): мТВ, мВУШ, кА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адки: о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0- 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 м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2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714240" y="1571760"/>
            <a:ext cx="7643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ки: Дон( длина 1870 км, площадь бассейна 422 тыс. кв. км., Волга, Ишим, Обь ( длина 5410 км, площадь бассейна 2990 тыс. кв.км.), Шилка, Аргинь, Енисей ( длина 4092 км., площадь бассейна 2580тыс кв. км.), Иртыш( длина 4248 км., площадь бассейна 1643 тыс. кв. км.), Волга ( длина 3530км., площадь бассейна 1360 тыс. кв.км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450720" y="-219240"/>
            <a:ext cx="8242560" cy="251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2071440"/>
            <a:ext cx="822960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епь – главная зерновая житница страны. Здесь выращивают пшеницу, кукурузу, подсолнечник и другие важные культуры. Так же скотоводство и рыболовство по берегам р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8:33:12Z</dcterms:created>
  <dc:creator>катька</dc:creator>
  <dc:description/>
  <dc:language>en-US</dc:language>
  <cp:lastModifiedBy>eMachines</cp:lastModifiedBy>
  <dcterms:modified xsi:type="dcterms:W3CDTF">2011-09-24T07:24:20Z</dcterms:modified>
  <cp:revision>13</cp:revision>
  <dc:subject/>
  <dc:title>Степи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f0000000000010250300207f7000400038000</vt:lpwstr>
  </property>
</Properties>
</file>