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C8A-078B-4CE7-9356-9F66E56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B28-6869-49F9-A842-4DB66B4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27F-846A-4531-BF88-CD7BED5A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680-AE99-44F9-BD3B-3C7F035B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82B-E204-46E3-9928-3047809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308-DC76-4FF1-B611-1F1D1715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B1C-DF6A-4A25-8F30-66628CE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A84-E3F2-4AF6-AACA-ABA7823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811-048A-4457-951F-E20A77C5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9C2-3AA7-4CC3-BB74-54DB9CD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4B9-1349-466B-BF5B-E4C97BB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7E7-8A41-41D0-BB9C-D58EB31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489-D7F0-4811-B63D-AC28FA1C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71520" y="1365120"/>
            <a:ext cx="865008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воздух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ю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-23, в янва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душные массы (облачность): мТВ, мВУШ, к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адки: 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0-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714240" y="157176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и: Дон( длина 1870 км, площадь бассейна 422 тыс. кв. км., Волга, Ишим, Обь ( длина 5410 км, площадь бассейна 2990 тыс. кв.км.), Шилка, Аргинь, Енисей ( длина 4092 км., площадь бассейна 2580тыс кв. км.), Иртыш( длина 4248 км., площадь бассейна 1643 тыс. кв. км.), Волга ( длина 3530км., площадь бассейна 1360 тыс. кв.км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251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207144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ь – главная зерновая житница страны. Здесь выращивают пшеницу, кукурузу, подсолнечник и другие важные культуры. Так же скотоводство и рыболовство по берегам р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33:12Z</dcterms:created>
  <dc:creator>катька</dc:creator>
  <dc:description/>
  <dc:language>en-US</dc:language>
  <cp:lastModifiedBy>eMachines</cp:lastModifiedBy>
  <dcterms:modified xsi:type="dcterms:W3CDTF">2011-09-24T07:24:20Z</dcterms:modified>
  <cp:revision>13</cp:revision>
  <dc:subject/>
  <dc:title>Степ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50300207f7000400038000</vt:lpwstr>
  </property>
</Properties>
</file>