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FB5-3AF4-481E-82CF-2A2E137C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D41-054F-4E8F-87DA-51CC6CF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0E6-CDF1-4DDB-8242-B8FD5CDB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DC4-B55D-4B5D-8B22-6592D65F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C7F-1421-454D-85DC-249B6BF8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977-6513-4FA1-9076-601F0136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7B1-BDF0-4948-9918-35651893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3DE-2544-4F22-93E4-D470536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BDA-28B9-436D-BCD2-38BD0348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0AF-F343-49EB-A48C-E693B0F2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1EB-A9C8-4F4B-B8E4-BA19B9C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A59-6B54-46F9-B598-04AE54D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4CF0-152F-413E-952B-D466B6CE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371520" y="1365120"/>
            <a:ext cx="8650080" cy="282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а воздух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ю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-23, в январ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о -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душные массы (облачность): мТВ, мВУШ, к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адки: 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0-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м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714240" y="1571760"/>
            <a:ext cx="7643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ки: Дон( длина 1870 км, площадь бассейна 422 тыс. кв. км., Волга, Ишим, Обь ( длина 5410 км, площадь бассейна 2990 тыс. кв.км.), Шилка, Аргинь, Енисей ( длина 4092 км., площадь бассейна 2580тыс кв. км.), Иртыш( длина 4248 км., площадь бассейна 1643 тыс. кв. км.), Волга ( длина 3530км., площадь бассейна 1360 тыс. кв.км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251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207144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ь – главная зерновая житница страны. Здесь выращивают пшеницу, кукурузу, подсолнечник и другие важные культуры. Так же скотоводство и рыболовство по берегам р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33:12Z</dcterms:created>
  <dc:creator>катька</dc:creator>
  <dc:description/>
  <dc:language>en-US</dc:language>
  <cp:lastModifiedBy>eMachines</cp:lastModifiedBy>
  <dcterms:modified xsi:type="dcterms:W3CDTF">2011-09-24T07:24:20Z</dcterms:modified>
  <cp:revision>13</cp:revision>
  <dc:subject/>
  <dc:title>Степ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f0000000000010250300207f7000400038000</vt:lpwstr>
  </property>
</Properties>
</file>