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22.wmf" ContentType="image/x-wmf"/>
  <Override PartName="/ppt/media/image21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8A4-AF71-4FBA-826A-81BC7AC8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518-4C7B-4742-90BE-305C48BF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DE7-FE42-4E37-A6ED-35AB42C8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2C0-EA14-42E5-9FE6-EFF2A5E5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E09-D06D-4647-8C60-74C73CA2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DA8-D7BB-4A33-BE24-11BAB2F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FD2-2CA5-4DF2-A6F3-1C3A12E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D89-94F9-4B77-88BA-6029815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156-A90B-413C-A60D-483D921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878-9ED1-491F-BBCC-CA3EF38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56C-C7D3-4931-8829-FD2D57A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F65-A920-4599-8D15-9B3D52B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935-49B1-43A1-BF67-676D757F8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Elephant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33520" y="-90360"/>
            <a:ext cx="10591920" cy="694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752480" y="0"/>
            <a:ext cx="120394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еп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в физической географии —равнина, поросшая травянистой растительностью, в умеренных и субтропических зонах северного и южного полушария. Характерной особенностью степей является практически полное отсутствие деревьев (не считая искусственных насаждений и лесополос вдоль водоём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9372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 Евразии наибольшие площади степей находятся на территории Российской Федерации, Казахстана, Украины и Монголии. В горах образует высотный пояс (горная степь); на равнинах — природную зону, расположенную между лесостепной зоной на севере и полупустынной зоной на юге. Атмосферные осадки от 250 до 450 мм в год. Средняя температура января от-3ºС до -20ºС, а в июле от +18ºС до +27º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939600" y="838080"/>
            <a:ext cx="7252920" cy="4270320"/>
            <a:chOff x="939600" y="838080"/>
            <a:chExt cx="7252920" cy="4270320"/>
          </a:xfrm>
        </p:grpSpPr>
        <p:sp>
          <p:nvSpPr>
            <p:cNvPr id="53" name=""/>
            <p:cNvSpPr/>
            <p:nvPr/>
          </p:nvSpPr>
          <p:spPr>
            <a:xfrm>
              <a:off x="108864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432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272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528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312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3960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8108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9552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36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96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3832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66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84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676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62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9600" y="1989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96760" y="1989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8960" y="1989000"/>
              <a:ext cx="533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1989000"/>
              <a:ext cx="22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8640" y="1989000"/>
              <a:ext cx="18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браз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8880" y="1989000"/>
              <a:ext cx="184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сот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9960" y="2373120"/>
              <a:ext cx="837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я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7760" y="23731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7640" y="2373120"/>
              <a:ext cx="120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9040" y="2373120"/>
              <a:ext cx="100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теп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03080" y="2373120"/>
              <a:ext cx="33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)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39680" y="237312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2320" y="2373120"/>
              <a:ext cx="1677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внин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237312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0680" y="2757240"/>
              <a:ext cx="20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рирод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63600" y="2757240"/>
              <a:ext cx="80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4600" y="2757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1600" y="2757240"/>
              <a:ext cx="286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сположен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0680" y="3141360"/>
              <a:ext cx="1136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ежд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4760" y="3141360"/>
              <a:ext cx="227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лесостеп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1840" y="314136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3760" y="314136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08200" y="3141360"/>
              <a:ext cx="1227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еве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39600" y="35258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6400" y="3525840"/>
              <a:ext cx="28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лупустын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67360" y="352584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06400" y="352584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19400" y="3525840"/>
              <a:ext cx="64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юг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8120" y="3525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2120" y="3909960"/>
              <a:ext cx="254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тмосфер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94600" y="3909960"/>
              <a:ext cx="1235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са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2720" y="390996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9440" y="39099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5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4960" y="390996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7840" y="3909960"/>
              <a:ext cx="595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0840" y="3909960"/>
              <a:ext cx="524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74000" y="390996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9600" y="4297320"/>
              <a:ext cx="59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928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9800" y="4297320"/>
              <a:ext cx="152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редня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8440" y="4297320"/>
              <a:ext cx="2248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емп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8160" y="4297320"/>
              <a:ext cx="1262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январ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9320" y="429732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59200" y="42973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36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5280" y="4297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7400" y="429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96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0680" y="4681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99840" y="4681440"/>
              <a:ext cx="39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69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72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356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8408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81440" y="46814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160" y="4681440"/>
              <a:ext cx="945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юл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40440" y="468144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752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05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626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194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120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564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596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50840" y="468144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ная черта степи — безлесье огромных равнин, покрытых богатой травянистой растительностью. Травы, образующие сомкнутый или почти сомкнутый ковёр: ковыль, типчак, тонконог, мятлик, овсец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-685800" y="2133720"/>
            <a:ext cx="4876920" cy="68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-990720" y="4267080"/>
            <a:ext cx="4807080" cy="674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48520" y="3086280"/>
            <a:ext cx="2895480" cy="37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257800" y="2286000"/>
            <a:ext cx="5035680" cy="706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429000" y="316224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133720" y="2362320"/>
            <a:ext cx="511164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висимости от соотношения злаков и разнотравья выделяют следующие типы степ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настоящие с преобладанием многолетних дерновинных злаков, главным образом ковыля так называемые ковыльные степи; 2.луговые или разнотравные степи ; 3.пустынные степи с участием пустынных трав и полукустарников полыни и прутняка, а также эфемеров и эфемеро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85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04920" y="1219320"/>
            <a:ext cx="82422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по видовому составу, так и по некоторым экологическим особенностям животный мир степи имеет много общего с животным миром пустыни. Также как и в пустыне, степь характеризуется высокой засушливостью, лишь немногим меньшей чем в пустыне. Животные активны летом преимущественно ночью. Растения также приспосабливаются к неблагоприятным условиям. Многие из них засухоустойчивы либо активны весной, когда ещё остаётся влага после зим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363320" cy="690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78160" y="0"/>
            <a:ext cx="4965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3080" y="2666880"/>
            <a:ext cx="23623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опытных типичны виды, отличающиеся острым зрением и способностями к быстрому и длительному бегу например, антилопы; из грызунов — строящие сложные норы суслики, сурки, слепыши и прыгающие виды тушканчики, кенгуровые крысы. Большая часть птиц на зиму улетает. Обычны: степной орёл, дрофа, степной лунь, степная пустельга, жаворонки. Многочисленны пресмыкающиеся и насеко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2819520" cy="2711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2438280" cy="51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505320" y="4203720"/>
            <a:ext cx="2666880" cy="265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57600" y="3429000"/>
            <a:ext cx="1987560" cy="83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753240" y="3048120"/>
            <a:ext cx="23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Выполнила : Глазкова К.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МОУ СОШ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г. Гелендж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читель : Сбитнева Е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1-04-26T11:33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70000000000010250300207f7000400038000</vt:lpwstr>
  </property>
  <property fmtid="{D5CDD505-2E9C-101B-9397-08002B2CF9AE}" pid="3" name="Version">
    <vt:r8>1</vt:r8>
  </property>
</Properties>
</file>