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0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22.wmf" ContentType="image/x-wmf"/>
  <Override PartName="/ppt/media/image21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7.jpeg" ContentType="image/jpeg"/>
  <Override PartName="/ppt/media/image16.wmf" ContentType="image/x-wmf"/>
  <Override PartName="/ppt/media/image15.jpeg" ContentType="image/jpeg"/>
  <Override PartName="/ppt/media/image14.wmf" ContentType="image/x-wmf"/>
  <Override PartName="/ppt/media/image23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7BD-E9B7-4FBB-A7FB-10B107DD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F66-4C3F-4313-915A-BC0BE1AD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A3A-8058-4E03-8995-5C558782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160-5AF0-443A-BFD7-41534691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C25-551A-451D-B4C7-8CD501F2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2B2-042A-4CE6-A476-7257B47E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A6E-FD85-403D-9DD7-788084C1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712-339D-41F6-995C-A62D3DA0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3CB-05CF-4A5C-BBB1-DDF71F66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204-E65A-4906-80ED-31D938DD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F0A-C0E6-4FBD-B62C-97A54BBA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FD9-E5A3-4492-B35C-1F76440E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28B9-818C-4F16-BA69-FA64FA602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12.wmf"/><Relationship Id="rId8" Type="http://schemas.openxmlformats.org/officeDocument/2006/relationships/image" Target="../media/image13.jpe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Elephant"/>
              </a:rPr>
              <a:t>Степ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533520" y="-90360"/>
            <a:ext cx="10591920" cy="694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1752480" y="0"/>
            <a:ext cx="120394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еп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в физической географии —равнина, поросшая травянистой растительностью, в умеренных и субтропических зонах северного и южного полушария. Характерной особенностью степей является практически полное отсутствие деревьев (не считая искусственных насаждений и лесополос вдоль водоёмо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10287000" cy="686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93726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 Евразии наибольшие площади степей находятся на территории Российской Федерации, Казахстана, Украины и Монголии. В горах образует высотный пояс (горная степь); на равнинах — природную зону, расположенную между лесостепной зоной на севере и полупустынной зоной на юге. Атмосферные осадки от 250 до 450 мм в год. Средняя температура января от-3ºС до -20ºС, а в июле от +18ºС до +27º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939600" y="838080"/>
            <a:ext cx="7252920" cy="4270320"/>
            <a:chOff x="939600" y="838080"/>
            <a:chExt cx="7252920" cy="4270320"/>
          </a:xfrm>
        </p:grpSpPr>
        <p:sp>
          <p:nvSpPr>
            <p:cNvPr id="53" name=""/>
            <p:cNvSpPr/>
            <p:nvPr/>
          </p:nvSpPr>
          <p:spPr>
            <a:xfrm>
              <a:off x="1088640" y="838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44320" y="838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27240" y="83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52840" y="83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53120" y="83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39600" y="1222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81080" y="1222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95520" y="1222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360" y="1222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3960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3832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3668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0840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676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5628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39600" y="19890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96760" y="19890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8960" y="1989000"/>
              <a:ext cx="533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81080" y="1989000"/>
              <a:ext cx="22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гора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8640" y="1989000"/>
              <a:ext cx="182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бразуе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8880" y="1989000"/>
              <a:ext cx="184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ысот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39960" y="2373120"/>
              <a:ext cx="837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оя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7760" y="237312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97640" y="2373120"/>
              <a:ext cx="120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гор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9040" y="2373120"/>
              <a:ext cx="100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теп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03080" y="2373120"/>
              <a:ext cx="33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);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39680" y="2373120"/>
              <a:ext cx="41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2320" y="2373120"/>
              <a:ext cx="1677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авнина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9280" y="237312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0680" y="2757240"/>
              <a:ext cx="2024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риродну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63600" y="2757240"/>
              <a:ext cx="806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зон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64600" y="27572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71600" y="2757240"/>
              <a:ext cx="2867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асположенну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40680" y="3141360"/>
              <a:ext cx="1136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межд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74760" y="3141360"/>
              <a:ext cx="227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лесостеп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51840" y="3141360"/>
              <a:ext cx="1043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зо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93760" y="3141360"/>
              <a:ext cx="41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08200" y="3141360"/>
              <a:ext cx="1227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евер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39600" y="3525840"/>
              <a:ext cx="21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56400" y="3525840"/>
              <a:ext cx="2808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олупустын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67360" y="3525840"/>
              <a:ext cx="1043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зо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06400" y="3525840"/>
              <a:ext cx="41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19400" y="3525840"/>
              <a:ext cx="649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юг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68120" y="35258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2120" y="3909960"/>
              <a:ext cx="254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Атмосфер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94600" y="3909960"/>
              <a:ext cx="1235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сад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2720" y="3909960"/>
              <a:ext cx="39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19440" y="390996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5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14960" y="3909960"/>
              <a:ext cx="442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д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57840" y="3909960"/>
              <a:ext cx="595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50840" y="3909960"/>
              <a:ext cx="524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м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74000" y="3909960"/>
              <a:ext cx="21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39600" y="4297320"/>
              <a:ext cx="590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г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9280" y="42973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29800" y="4297320"/>
              <a:ext cx="152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редня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8440" y="4297320"/>
              <a:ext cx="2248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температу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08160" y="4297320"/>
              <a:ext cx="1262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январ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69320" y="4297320"/>
              <a:ext cx="39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59200" y="429732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8360" y="42973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5280" y="429732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07400" y="42973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39600" y="4681440"/>
              <a:ext cx="442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д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0680" y="46814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99840" y="4681440"/>
              <a:ext cx="39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96920" y="46814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27240" y="46814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83560" y="46814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84080" y="46814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81440" y="4681440"/>
              <a:ext cx="21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160" y="4681440"/>
              <a:ext cx="945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июл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40440" y="4681440"/>
              <a:ext cx="39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27520" y="4681440"/>
              <a:ext cx="60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0520" y="46814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62640" y="46814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19400" y="4681440"/>
              <a:ext cx="442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д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61200" y="4681440"/>
              <a:ext cx="60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65640" y="46814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95960" y="46814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50840" y="468144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арактерная черта степи — безлесье огромных равнин, покрытых богатой травянистой растительностью. Травы, образующие сомкнутый или почти сомкнутый ковёр: ковыль, типчак, тонконог, мятлик, овсец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-685800" y="2133720"/>
            <a:ext cx="4876920" cy="684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19112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-990720" y="4267080"/>
            <a:ext cx="4807080" cy="674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248520" y="3086280"/>
            <a:ext cx="2895480" cy="3771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257800" y="2286000"/>
            <a:ext cx="5035680" cy="706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3429000" y="3162240"/>
            <a:ext cx="2771640" cy="3695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2133720" y="2362320"/>
            <a:ext cx="5111640" cy="7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зависимости от соотношения злаков и разнотравья выделяют следующие типы степ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настоящие с преобладанием многолетних дерновинных злаков, главным образом ковыля так называемые ковыльные степи; 2.луговые или разнотравные степи ; 3.пустынные степи с участием пустынных трав и полукустарников полыни и прутняка, а также эфемеров и эфемеро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685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04920" y="1219320"/>
            <a:ext cx="82422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91120" y="0"/>
            <a:ext cx="4952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по видовому составу, так и по некоторым экологическим особенностям животный мир степи имеет много общего с животным миром пустыни. Также как и в пустыне, степь характеризуется высокой засушливостью, лишь немногим меньшей чем в пустыне. Животные активны летом преимущественно ночью. Растения также приспосабливаются к неблагоприятным условиям. Многие из них засухоустойчивы либо активны весной, когда ещё остаётся влага после зим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914400" y="0"/>
            <a:ext cx="10363320" cy="6902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178160" y="0"/>
            <a:ext cx="496584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3080" y="2666880"/>
            <a:ext cx="236232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копытных типичны виды, отличающиеся острым зрением и способностями к быстрому и длительному бегу например, антилопы; из грызунов — строящие сложные норы суслики, сурки, слепыши и прыгающие виды тушканчики, кенгуровые крысы. Большая часть птиц на зиму улетает. Обычны: степной орёл, дрофа, степной лунь, степная пустельга, жаворонки. Многочисленны пресмыкающиеся и насеком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4146480"/>
            <a:ext cx="2819520" cy="2711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2438280" cy="511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505320" y="4203720"/>
            <a:ext cx="2666880" cy="265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657600" y="3429000"/>
            <a:ext cx="1987560" cy="833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753240" y="3048120"/>
            <a:ext cx="2390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Выполнила : Глазкова К.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МОУ СОШ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г. Гелендж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Учитель : Сбитнева Е.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7</cp:lastModifiedBy>
  <dcterms:modified xsi:type="dcterms:W3CDTF">2011-04-26T11:33:0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70000000000010250300207f7000400038000</vt:lpwstr>
  </property>
  <property fmtid="{D5CDD505-2E9C-101B-9397-08002B2CF9AE}" pid="3" name="Version">
    <vt:r8>1</vt:r8>
  </property>
</Properties>
</file>