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0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22.wmf" ContentType="image/x-wmf"/>
  <Override PartName="/ppt/media/image21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7.jpeg" ContentType="image/jpeg"/>
  <Override PartName="/ppt/media/image16.wmf" ContentType="image/x-wmf"/>
  <Override PartName="/ppt/media/image15.jpeg" ContentType="image/jpeg"/>
  <Override PartName="/ppt/media/image14.wmf" ContentType="image/x-wmf"/>
  <Override PartName="/ppt/media/image23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A64-A9B4-4DC1-9538-1A0A53F4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C75-DE27-473C-B9DC-24F8D9B0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15D-3AE6-4148-B1A9-5222BB66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498-410A-4620-B01C-79B7CFAD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7F8-960C-4A1C-9F67-7E2FF444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D27-7396-407A-BD63-D6B6836F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85F-8EA1-46ED-BBCA-D64D2E6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014-30FE-4865-9636-DF64E99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58A-6D9F-41C8-B452-26A09E30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B9C-732B-4457-9C4E-702CFEE7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5D2-CEB5-4B61-A9B2-CFC5BFE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2C8-5F93-4882-9E53-25E73288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8ECC-1876-472C-B494-D24EDAF5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12.wmf"/><Relationship Id="rId8" Type="http://schemas.openxmlformats.org/officeDocument/2006/relationships/image" Target="../media/image13.jpe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Elephant"/>
              </a:rPr>
              <a:t>Степ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533520" y="-90360"/>
            <a:ext cx="10591920" cy="694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1752480" y="0"/>
            <a:ext cx="120394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еп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в физической географии —равнина, поросшая травянистой растительностью, в умеренных и субтропических зонах северного и южного полушария. Характерной особенностью степей является практически полное отсутствие деревьев (не считая искусственных насаждений и лесополос вдоль водоёмо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93726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 Евразии наибольшие площади степей находятся на территории Российской Федерации, Казахстана, Украины и Монголии. В горах образует высотный пояс (горная степь); на равнинах — природную зону, расположенную между лесостепной зоной на севере и полупустынной зоной на юге. Атмосферные осадки от 250 до 450 мм в год. Средняя температура января от-3ºС до -20ºС, а в июле от +18ºС до +27º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939600" y="838080"/>
            <a:ext cx="7252920" cy="4270320"/>
            <a:chOff x="939600" y="838080"/>
            <a:chExt cx="7252920" cy="4270320"/>
          </a:xfrm>
        </p:grpSpPr>
        <p:sp>
          <p:nvSpPr>
            <p:cNvPr id="53" name=""/>
            <p:cNvSpPr/>
            <p:nvPr/>
          </p:nvSpPr>
          <p:spPr>
            <a:xfrm>
              <a:off x="1088640" y="838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4320" y="838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27240" y="83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52840" y="83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53120" y="83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3960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8108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9552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360" y="1222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3960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3832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3668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840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676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56280" y="16048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39600" y="19890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96760" y="19890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8960" y="1989000"/>
              <a:ext cx="533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81080" y="1989000"/>
              <a:ext cx="2247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ора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8640" y="1989000"/>
              <a:ext cx="182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бразу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8880" y="1989000"/>
              <a:ext cx="184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ысот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39960" y="2373120"/>
              <a:ext cx="837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я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7760" y="23731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97640" y="2373120"/>
              <a:ext cx="120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ор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9040" y="2373120"/>
              <a:ext cx="100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теп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03080" y="2373120"/>
              <a:ext cx="33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);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39680" y="2373120"/>
              <a:ext cx="41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2320" y="2373120"/>
              <a:ext cx="1677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авнина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29280" y="2373120"/>
              <a:ext cx="35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0680" y="2757240"/>
              <a:ext cx="2024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риродну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63600" y="2757240"/>
              <a:ext cx="806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зон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64600" y="27572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71600" y="2757240"/>
              <a:ext cx="2867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расположенну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40680" y="3141360"/>
              <a:ext cx="1136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межд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74760" y="3141360"/>
              <a:ext cx="227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лесостеп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51840" y="3141360"/>
              <a:ext cx="1043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зо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93760" y="3141360"/>
              <a:ext cx="41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08200" y="3141360"/>
              <a:ext cx="1227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евер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39600" y="3525840"/>
              <a:ext cx="2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56400" y="3525840"/>
              <a:ext cx="280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полупустын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67360" y="3525840"/>
              <a:ext cx="1043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зон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06400" y="3525840"/>
              <a:ext cx="41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19400" y="3525840"/>
              <a:ext cx="649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юг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68120" y="35258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2120" y="3909960"/>
              <a:ext cx="254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Атмосфер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94600" y="3909960"/>
              <a:ext cx="1235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сад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2720" y="3909960"/>
              <a:ext cx="39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9440" y="390996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5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14960" y="390996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д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57840" y="3909960"/>
              <a:ext cx="595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50840" y="3909960"/>
              <a:ext cx="524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м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74000" y="3909960"/>
              <a:ext cx="2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9600" y="4297320"/>
              <a:ext cx="590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9280" y="42973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29800" y="4297320"/>
              <a:ext cx="152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редня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58440" y="4297320"/>
              <a:ext cx="2248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температу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08160" y="4297320"/>
              <a:ext cx="1262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январ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69320" y="4297320"/>
              <a:ext cx="39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59200" y="42973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8360" y="42973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5280" y="42973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07400" y="42973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39600" y="468144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д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0680" y="46814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99840" y="4681440"/>
              <a:ext cx="39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96920" y="4681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27240" y="46814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3560" y="4681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84080" y="4681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81440" y="4681440"/>
              <a:ext cx="21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160" y="4681440"/>
              <a:ext cx="945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июл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40440" y="4681440"/>
              <a:ext cx="39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о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27520" y="4681440"/>
              <a:ext cx="60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0520" y="4681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62640" y="46814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19400" y="468144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д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61200" y="4681440"/>
              <a:ext cx="60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65640" y="4681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95960" y="46814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50840" y="468144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арактерная черта степи — безлесье огромных равнин, покрытых богатой травянистой растительностью. Травы, образующие сомкнутый или почти сомкнутый ковёр: ковыль, типчак, тонконог, мятлик, овсец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-685800" y="2133720"/>
            <a:ext cx="4876920" cy="684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-990720" y="4267080"/>
            <a:ext cx="4807080" cy="674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248520" y="3086280"/>
            <a:ext cx="2895480" cy="3771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257800" y="2286000"/>
            <a:ext cx="5035680" cy="706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3429000" y="3162240"/>
            <a:ext cx="2771640" cy="3695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2133720" y="2362320"/>
            <a:ext cx="511164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зависимости от соотношения злаков и разнотравья выделяют следующие типы степ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настоящие с преобладанием многолетних дерновинных злаков, главным образом ковыля так называемые ковыльные степи; 2.луговые или разнотравные степи ; 3.пустынные степи с участием пустынных трав и полукустарников полыни и прутняка, а также эфемеров и эфемеро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685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04920" y="1219320"/>
            <a:ext cx="82422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91120" y="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 по видовому составу, так и по некоторым экологическим особенностям животный мир степи имеет много общего с животным миром пустыни. Также как и в пустыне, степь характеризуется высокой засушливостью, лишь немногим меньшей чем в пустыне. Животные активны летом преимущественно ночью. Растения также приспосабливаются к неблагоприятным условиям. Многие из них засухоустойчивы либо активны весной, когда ещё остаётся влага после зим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0363320" cy="6902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78160" y="0"/>
            <a:ext cx="49658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3080" y="2666880"/>
            <a:ext cx="236232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опытных типичны виды, отличающиеся острым зрением и способностями к быстрому и длительному бегу например, антилопы; из грызунов — строящие сложные норы суслики, сурки, слепыши и прыгающие виды тушканчики, кенгуровые крысы. Большая часть птиц на зиму улетает. Обычны: степной орёл, дрофа, степной лунь, степная пустельга, жаворонки. Многочисленны пресмыкающиеся и насеком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4146480"/>
            <a:ext cx="2819520" cy="2711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2438280" cy="511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505320" y="4203720"/>
            <a:ext cx="2666880" cy="265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657600" y="3429000"/>
            <a:ext cx="1987560" cy="833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753240" y="3048120"/>
            <a:ext cx="2390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Выполнила : Глазкова К.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МОУ СОШ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г. Гелендж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Учитель : Сбитнева Е.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7</cp:lastModifiedBy>
  <dcterms:modified xsi:type="dcterms:W3CDTF">2011-04-26T11:33:0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70000000000010250300207f7000400038000</vt:lpwstr>
  </property>
  <property fmtid="{D5CDD505-2E9C-101B-9397-08002B2CF9AE}" pid="3" name="Version">
    <vt:r8>1</vt:r8>
  </property>
</Properties>
</file>