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CC4-6912-4E07-B4B0-BF242ECB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9C3-C78B-4D44-8556-EB907883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9D2-78F8-4D4B-9C5C-5DFDC5AC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1EA-0BF4-40A2-8689-3F24B3A7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01CB2-0230-428B-B569-130770F0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99F26-C006-4E4B-A250-1FC2FBA3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BCA6B-2519-4287-BBC5-7D2DD5A1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E7E0F-CB93-4613-A125-201AD698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C5AAF-9A70-4457-83E2-F360A291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F0867-4D4C-45AE-8015-183145E3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24774-382B-450B-98CF-B2EBFC15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DB0-8492-40D6-B545-EFF97ABA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C8F32-9DC1-49E1-AE08-6F7F7432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8E269-E17C-4415-8545-789CCA6D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B1D4B-6F47-43C0-9A69-44F9F54E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70441-A593-477C-9163-E2AFD759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2E5BE-9262-4FFB-AC9D-0E2292FA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C35-6B13-47F7-AAB5-E56150E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52B-0F81-4F8B-9625-15FF7ADD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5AE-ABAC-40B9-B1B9-10634A3E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BCF-4093-4048-885B-21748858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C67-0DF2-4089-9542-E6A1C0BF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48E-805D-4678-85AF-D870C47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227-99D1-46EC-9B14-DC859A7D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8F1D-7C35-4E07-8A5A-885C1F377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5771-BB20-49A6-AB38-D20C9F1EA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790" TargetMode="External"/><Relationship Id="rId3" Type="http://schemas.openxmlformats.org/officeDocument/2006/relationships/hyperlink" Target="http://ru.wikipedia.org/wiki/1860" TargetMode="External"/><Relationship Id="rId4" Type="http://schemas.openxmlformats.org/officeDocument/2006/relationships/hyperlink" Target="http://ru.wikipedia.org/wiki/1900" TargetMode="External"/><Relationship Id="rId5" Type="http://schemas.openxmlformats.org/officeDocument/2006/relationships/hyperlink" Target="http://ru.wikipedia.org/wiki/1971" TargetMode="External"/><Relationship Id="rId6" Type="http://schemas.openxmlformats.org/officeDocument/2006/relationships/hyperlink" Target="http://ru.wikipedia.org/wiki/1983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единенные Штаты Америки   United States of Americ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43560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333360"/>
            <a:ext cx="82296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79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,9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86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1,4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0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76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7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16,8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98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34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0 г. — 275,6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7 г. — 303,3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8 г. — 305,1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9 г. — 308,0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10 г. — 309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138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29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2600" cy="589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05040" y="2703600"/>
            <a:ext cx="55389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5320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06720" y="2930400"/>
            <a:ext cx="52372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616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ашингтон (Федеральный округ Колумбия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4824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24:06Z</dcterms:created>
  <dc:creator>www.PHILka.RU</dc:creator>
  <dc:description/>
  <dc:language>en-US</dc:language>
  <cp:lastModifiedBy>www.PHILka.RU</cp:lastModifiedBy>
  <dcterms:modified xsi:type="dcterms:W3CDTF">2011-03-31T20:00:03Z</dcterms:modified>
  <cp:revision>3</cp:revision>
  <dc:subject/>
  <dc:title>Соединенные Штаты Америки   United States of Americ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d0000000000010250300207f7000400038000</vt:lpwstr>
  </property>
</Properties>
</file>