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0CE-DF7C-4994-958B-B50E381A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785-B088-4C2C-9A9F-F08CB263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E39-CFF4-471A-B81E-E4BEB6CD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509-EE80-4659-8CA3-2E21071A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0532A-9608-40C3-A02D-7C06152B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10FED-1A63-4817-92EC-EF51760D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0E6C8-BE81-4C1C-A6AD-D3698A4D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937D7-2C1F-4D3D-A572-6359F0D2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8C116-CB7B-40F0-8152-7CB96C33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DE153-303C-4235-BDB8-38244C19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A342E-3BB0-4D37-BC88-CDDC6D78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1B8-F315-41AB-AA4E-BF7C6124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8E88B-DBDF-4392-B54C-4BC77AA1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EDD4B-2FBA-4A90-9049-433169F9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D4285-E593-4195-80F5-B6CFDC87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DB442-A7FC-48C0-B7E6-D6B81083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8B656-6CCC-40D0-B4EF-7E3DEEC9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A4C-F3C1-4385-B19C-49A3D230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0F8-5915-43FA-AF14-83372FB1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81B-FFD4-4651-9B03-E0FB3C1B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E6E-F7DC-4E4C-AE55-DE4AC974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F4A-8780-4712-8629-BC5236F3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21A-F4EE-4A96-A64F-11303A9E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753-8FD7-441C-8DA9-4C81B92F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642B-1CF6-4430-8CFC-D0DA37DA9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4B06-EFDB-4AF6-83B3-253E86C9D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790" TargetMode="External"/><Relationship Id="rId3" Type="http://schemas.openxmlformats.org/officeDocument/2006/relationships/hyperlink" Target="http://ru.wikipedia.org/wiki/1860" TargetMode="External"/><Relationship Id="rId4" Type="http://schemas.openxmlformats.org/officeDocument/2006/relationships/hyperlink" Target="http://ru.wikipedia.org/wiki/1900" TargetMode="External"/><Relationship Id="rId5" Type="http://schemas.openxmlformats.org/officeDocument/2006/relationships/hyperlink" Target="http://ru.wikipedia.org/wiki/1971" TargetMode="External"/><Relationship Id="rId6" Type="http://schemas.openxmlformats.org/officeDocument/2006/relationships/hyperlink" Target="http://ru.wikipedia.org/wiki/1983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единенные Штаты Америки   United States of Americ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43560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333360"/>
            <a:ext cx="82296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79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,9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86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1,4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0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76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7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16,8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98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34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0 г. — 275,6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7 г. — 303,3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8 г. — 305,1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9 г. — 308,0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10 г. — 309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138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29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2600" cy="589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05040" y="2703600"/>
            <a:ext cx="55389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5320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06720" y="2930400"/>
            <a:ext cx="52372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616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ашингтон (Федеральный округ Колумбия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4824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24:06Z</dcterms:created>
  <dc:creator>www.PHILka.RU</dc:creator>
  <dc:description/>
  <dc:language>en-US</dc:language>
  <cp:lastModifiedBy>www.PHILka.RU</cp:lastModifiedBy>
  <dcterms:modified xsi:type="dcterms:W3CDTF">2011-03-31T20:00:03Z</dcterms:modified>
  <cp:revision>3</cp:revision>
  <dc:subject/>
  <dc:title>Соединенные Штаты Америки   United States of Americ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d0000000000010250300207f7000400038000</vt:lpwstr>
  </property>
</Properties>
</file>