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C5A1-81DB-4D02-B092-F5DDD0F9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9153-48E0-4353-A41F-3BAF2D15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334F-4AA2-41E0-A2F8-852BB701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8015-FFBC-4B81-895F-08ACD3EE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884DC-4F63-4E03-A2A1-64134E40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3C041-0BEA-492D-B53D-FE1B2B60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C80F4-1C95-4EBD-9788-93E3FA22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2247F-58C4-4949-A787-B8A6C37D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D6F40-FEA8-4BFD-AE0D-4EA3D2B8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9827D-8327-4E47-8C32-049A546C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B908D-23EA-421B-BABE-F01C71EA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1C71-1FBE-4310-BDCC-33C11B2A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8768D-AE10-4EBD-BEFD-81590F6D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6DE39-9FDF-4141-87D2-D3C58ED4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683EC-FE98-4F91-A91B-7EAAE058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FC9A2-0A18-4C94-ACA3-4E5FC2A8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14DD3-A3F7-4B76-8D0A-9AB89C4E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72A0-AE24-4EAC-9171-6BA37778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5845-293B-4ACE-855C-47E75A7D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9FF-26AC-48B4-BA00-E3E580DF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8710-4FDF-4A93-A60F-ADEA3E5A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F19B-A1D2-4AF2-9A33-CC183C57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47C-262A-4155-8642-1BDC892F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AA88-C511-463B-827A-B9121B4B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D24E-E873-458D-8C1F-1527946EC8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DDE3-4593-4729-93CA-20F7A2840A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1790" TargetMode="External"/><Relationship Id="rId3" Type="http://schemas.openxmlformats.org/officeDocument/2006/relationships/hyperlink" Target="http://ru.wikipedia.org/wiki/1860" TargetMode="External"/><Relationship Id="rId4" Type="http://schemas.openxmlformats.org/officeDocument/2006/relationships/hyperlink" Target="http://ru.wikipedia.org/wiki/1900" TargetMode="External"/><Relationship Id="rId5" Type="http://schemas.openxmlformats.org/officeDocument/2006/relationships/hyperlink" Target="http://ru.wikipedia.org/wiki/1971" TargetMode="External"/><Relationship Id="rId6" Type="http://schemas.openxmlformats.org/officeDocument/2006/relationships/hyperlink" Target="http://ru.wikipedia.org/wiki/1983" TargetMode="Externa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единенные Штаты Америки   United States of America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788000" y="2205000"/>
            <a:ext cx="435600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333360"/>
            <a:ext cx="82296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исленность насе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179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3,9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186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31,4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190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76,2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1971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216,8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1983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234,2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00 г. — 275,6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07 г. — 303,3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08 г. — 305,1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09 г. — 308,0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10 г. — 309,2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713800" cy="62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2296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476280"/>
            <a:ext cx="82296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2600" cy="5897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605040" y="2703600"/>
            <a:ext cx="553896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53200" cy="401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906720" y="2930400"/>
            <a:ext cx="52372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6160" cy="3162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067280" y="3049560"/>
            <a:ext cx="50767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ашингтон (Федеральный округ Колумбия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4824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8:24:06Z</dcterms:created>
  <dc:creator>www.PHILka.RU</dc:creator>
  <dc:description/>
  <dc:language>en-US</dc:language>
  <cp:lastModifiedBy>www.PHILka.RU</cp:lastModifiedBy>
  <dcterms:modified xsi:type="dcterms:W3CDTF">2011-03-31T20:00:03Z</dcterms:modified>
  <cp:revision>3</cp:revision>
  <dc:subject/>
  <dc:title>Соединенные Штаты Америки   United States of Americ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d0000000000010250300207f7000400038000</vt:lpwstr>
  </property>
</Properties>
</file>