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A0D9-95DB-4B4A-BD58-1EE62FC8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A984-FCA1-4754-BD65-9550FF8C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34BD-17A1-4CA3-A2CC-4C728719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A472-3F7A-425D-93B5-9D75521B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7F793-BF43-420D-839D-41AABAAA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C6239-335E-4C3C-BE88-F3FF3B62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68E53-41FE-461E-925A-02B36138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4A4D2-ACB1-4476-9170-D05072BB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F3CEB-C60B-47D3-8DC2-8AE1779B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A3985-9FDE-4DD3-B33D-9DADEFE3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F3562-A28F-4010-B972-0E0C0200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4762-C1AE-40C4-B5F9-B21AD554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FA4FA-4201-47B9-A603-3DD8C8A7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7027C-47DD-4FD3-8B24-1C4E35FB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4FEBC-36DD-4424-912F-FCCDB63A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61714-DD11-4FAE-8813-43E4D024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52BAC-D021-4145-B117-095FAF1B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6853-6954-4F35-AF4D-DB366700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9DC5-52DF-43A0-AB2F-94133C1C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8D62-C71C-469D-8636-0123AFD3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B5F-379E-4C81-BCC7-87C9B562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8BC3-5E48-44D7-AE67-C9D58BFB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275D-EE00-4B73-B996-FB9AE56A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9D18-B804-4F5B-B1BF-CDA73A83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A5EE-7579-4CD7-A9AC-FB6ACBC0B3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28E6-D85A-43EA-B36C-D90C76343E5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790" TargetMode="External"/><Relationship Id="rId2" Type="http://schemas.openxmlformats.org/officeDocument/2006/relationships/hyperlink" Target="http://ru.wikipedia.org/wiki/1860" TargetMode="External"/><Relationship Id="rId3" Type="http://schemas.openxmlformats.org/officeDocument/2006/relationships/hyperlink" Target="http://ru.wikipedia.org/wiki/1900" TargetMode="External"/><Relationship Id="rId4" Type="http://schemas.openxmlformats.org/officeDocument/2006/relationships/hyperlink" Target="http://ru.wikipedia.org/wiki/1971" TargetMode="External"/><Relationship Id="rId5" Type="http://schemas.openxmlformats.org/officeDocument/2006/relationships/hyperlink" Target="http://ru.wikipedia.org/wiki/1983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единенные Штаты Америки   United States of America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4788000" y="2205000"/>
            <a:ext cx="435600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исленность насе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179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г. — 3,9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186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г. — 31,4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190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г. — 76,2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1971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г. — 216,8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1983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г. — 234,2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00 г. — 275,6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07 г. — 303,3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08 г. — 305,1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09 г. — 308,0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10 г. — 309,2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713800" cy="62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296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457200" y="476280"/>
            <a:ext cx="82296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5897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3605040" y="2703600"/>
            <a:ext cx="553896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353200" cy="4014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3906720" y="2930400"/>
            <a:ext cx="523728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286160" cy="3162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4067280" y="3049560"/>
            <a:ext cx="507672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ашингтон (Федеральный округ Колумбия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2124000" y="1197000"/>
            <a:ext cx="4824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8:24:06Z</dcterms:created>
  <dc:creator>www.PHILka.RU</dc:creator>
  <dc:description/>
  <dc:language>en-US</dc:language>
  <cp:lastModifiedBy>Анастасия Владимиров</cp:lastModifiedBy>
  <dcterms:modified xsi:type="dcterms:W3CDTF">2011-09-22T14:55:39Z</dcterms:modified>
  <cp:revision>4</cp:revision>
  <dc:subject/>
  <dc:title>Соединенные Штаты Америки   United States of Americ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0e0000000000010250300207f7000400038000</vt:lpwstr>
  </property>
</Properties>
</file>