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3284-B54C-42F5-B22D-2559B528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1C5-679E-4FB3-B9EF-B2C4CA95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1A2-E169-4ED2-A2F4-5989DE7F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A1C-5633-4845-B812-041365AA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FBA3A-E00C-4360-80E9-F812C12B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A32F8-902E-4D32-8359-E1BC72BD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20638-111D-485A-AF88-88BC13D9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C674C-6CE8-414B-98B5-C3FAF8C1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A3639-DDA4-4523-A600-BBC0454F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ED68B-4BAF-4646-9C30-7D39CE96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2BDC6-C72D-4A3D-A7C9-20654EE4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071-1D74-4349-9781-437A5CFE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4C8B9-9342-4D89-BAAF-40C38793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7B38E-F222-44C9-B6EC-8DC17ADE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CA52F-4DA6-439F-B911-B0B0F407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7BC42-AFF2-471C-80F4-5C83943E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B545A-604F-468A-993A-31D26AC6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1A8-9E90-48FF-B900-B4E233F9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2EB-392C-4318-8DCD-C8FD06A7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0F1-FD99-4940-B6CB-40B45AD6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67C-92E6-4F19-98B2-267629B9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FF1-609A-493E-B9EE-2746F42A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860-E879-4AB7-9D41-69941CD8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8F9-B999-46BF-9804-F9F534AC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E67A-615D-4FDE-9B2A-145C9B7D7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67F5-DC37-42AB-9400-838CAC7C9B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90" TargetMode="External"/><Relationship Id="rId2" Type="http://schemas.openxmlformats.org/officeDocument/2006/relationships/hyperlink" Target="http://ru.wikipedia.org/wiki/1860" TargetMode="External"/><Relationship Id="rId3" Type="http://schemas.openxmlformats.org/officeDocument/2006/relationships/hyperlink" Target="http://ru.wikipedia.org/wiki/1900" TargetMode="External"/><Relationship Id="rId4" Type="http://schemas.openxmlformats.org/officeDocument/2006/relationships/hyperlink" Target="http://ru.wikipedia.org/wiki/1971" TargetMode="External"/><Relationship Id="rId5" Type="http://schemas.openxmlformats.org/officeDocument/2006/relationships/hyperlink" Target="http://ru.wikipedia.org/wiki/1983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единенные Штаты Америки   United States of Americ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43560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исленность на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179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3,9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86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31,4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90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76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197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216,8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198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г. — 234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0 г. — 275,6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7 г. — 303,3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8 г. — 305,1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9 г. — 308,0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10 г. — 309,2 млн ч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1380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29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5897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605040" y="2703600"/>
            <a:ext cx="55389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353200" cy="401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3906720" y="2930400"/>
            <a:ext cx="52372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8616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4067280" y="3049560"/>
            <a:ext cx="5076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ашингтон (Федеральный округ Колумбия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4824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24:06Z</dcterms:created>
  <dc:creator>www.PHILka.RU</dc:creator>
  <dc:description/>
  <dc:language>en-US</dc:language>
  <cp:lastModifiedBy>Анастасия Владимиров</cp:lastModifiedBy>
  <dcterms:modified xsi:type="dcterms:W3CDTF">2011-09-22T14:55:39Z</dcterms:modified>
  <cp:revision>4</cp:revision>
  <dc:subject/>
  <dc:title>Соединенные Штаты Америки   United States of Americ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e0000000000010250300207f7000400038000</vt:lpwstr>
  </property>
</Properties>
</file>