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5.png" ContentType="image/png"/>
  <Override PartName="/ppt/media/image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0B2A1-1E1D-4F84-807E-24D329551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01951-331D-4B1C-9AFE-3A4F4F7DC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A3064-4B2F-40F8-A9FE-D85B0006E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4D62A-0895-456C-8ED2-875B47F3A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A43A94-9AB6-4F68-9033-3AA241845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F07110-34C2-4911-9B99-CD1119841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1B5BF3-94AF-41AA-9B6B-4E000E8C7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66BA1E-321E-4FEF-892F-6F46F82F1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5BF6D2-9B9F-4332-BEDC-4F9643E40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9C819E-1B08-48FA-B9E2-FC8E746C4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7C58F8-A98B-4289-BCB5-F093D45DF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8B31E-1BFE-4DD1-B844-4016D9EA7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BF3F62-BB4B-4D4F-BBEA-871AB2EFF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335D9A-45B2-4470-A934-9E204CD2B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F9B895-D2BD-4BB6-A192-B614D3F62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DCFCE0-9718-49E4-9443-0E8A8CA1B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024FDD-4C3A-456A-8F5B-1E62328AC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C98E4-AD2E-4074-8397-29279839F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345E4-4047-400D-B88D-064F21D7D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35684-713D-40BE-8E92-56A567FAD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0661F-B669-44D5-9069-24D626F64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816D6-2B53-4F37-B397-EBCA41912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23CF1-5DE7-47A7-85A3-2B25B5373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9156B-E3FC-4D82-B383-2B9331F1A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08006-78FF-4C37-A33A-7CABF089BF8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2246D-D0C4-4245-8607-63D95A59407D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ru.wikipedia.org/wiki/1790" TargetMode="External"/><Relationship Id="rId2" Type="http://schemas.openxmlformats.org/officeDocument/2006/relationships/hyperlink" Target="http://ru.wikipedia.org/wiki/1860" TargetMode="External"/><Relationship Id="rId3" Type="http://schemas.openxmlformats.org/officeDocument/2006/relationships/hyperlink" Target="http://ru.wikipedia.org/wiki/1900" TargetMode="External"/><Relationship Id="rId4" Type="http://schemas.openxmlformats.org/officeDocument/2006/relationships/hyperlink" Target="http://ru.wikipedia.org/wiki/1971" TargetMode="External"/><Relationship Id="rId5" Type="http://schemas.openxmlformats.org/officeDocument/2006/relationships/hyperlink" Target="http://ru.wikipedia.org/wiki/1983" TargetMode="External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549000"/>
            <a:ext cx="7772400" cy="15843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Соединенные Штаты Америки   United States of America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4" name="Picture 4" descr=""/>
          <p:cNvPicPr/>
          <p:nvPr/>
        </p:nvPicPr>
        <p:blipFill>
          <a:blip r:embed="rId1"/>
          <a:stretch/>
        </p:blipFill>
        <p:spPr>
          <a:xfrm>
            <a:off x="395280" y="2349360"/>
            <a:ext cx="3816360" cy="38163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"/>
          <p:cNvPicPr/>
          <p:nvPr/>
        </p:nvPicPr>
        <p:blipFill>
          <a:blip r:embed="rId2"/>
          <a:stretch/>
        </p:blipFill>
        <p:spPr>
          <a:xfrm>
            <a:off x="4788000" y="2205000"/>
            <a:ext cx="4356000" cy="22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Picture 3" descr=""/>
          <p:cNvPicPr/>
          <p:nvPr/>
        </p:nvPicPr>
        <p:blipFill>
          <a:blip r:embed="rId1"/>
          <a:stretch/>
        </p:blipFill>
        <p:spPr>
          <a:xfrm>
            <a:off x="457200" y="333360"/>
            <a:ext cx="8229600" cy="568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Численность населен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cc00"/>
                </a:solidFill>
                <a:uFillTx/>
                <a:latin typeface="Tahoma"/>
                <a:hlinkClick r:id="rId1"/>
              </a:rPr>
              <a:t>1790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 г. — 3,9 млн чел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cc00"/>
                </a:solidFill>
                <a:uFillTx/>
                <a:latin typeface="Tahoma"/>
                <a:hlinkClick r:id="rId2"/>
              </a:rPr>
              <a:t>1860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 г. — 31,4 млн чел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cc00"/>
                </a:solidFill>
                <a:uFillTx/>
                <a:latin typeface="Tahoma"/>
                <a:hlinkClick r:id="rId3"/>
              </a:rPr>
              <a:t>1900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 г. — 76,2 млн чел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cc00"/>
                </a:solidFill>
                <a:uFillTx/>
                <a:latin typeface="Tahoma"/>
                <a:hlinkClick r:id="rId4"/>
              </a:rPr>
              <a:t>1971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 г. — 216,8 млн чел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cc00"/>
                </a:solidFill>
                <a:uFillTx/>
                <a:latin typeface="Tahoma"/>
                <a:hlinkClick r:id="rId5"/>
              </a:rPr>
              <a:t>1983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 г. — 234,2 млн чел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2000 г. — 275,6 млн чел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2007 г. — 303,3 млн чел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2008 г. — 305,1 млн чел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2009 г. — 308,0 млн чел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2010 г. — 309,2 млн чел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7" name="Picture 3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8713800" cy="625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3" descr=""/>
          <p:cNvPicPr/>
          <p:nvPr/>
        </p:nvPicPr>
        <p:blipFill>
          <a:blip r:embed="rId1"/>
          <a:stretch/>
        </p:blipFill>
        <p:spPr>
          <a:xfrm>
            <a:off x="468360" y="404640"/>
            <a:ext cx="8229600" cy="59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3" descr=""/>
          <p:cNvPicPr/>
          <p:nvPr/>
        </p:nvPicPr>
        <p:blipFill>
          <a:blip r:embed="rId1"/>
          <a:stretch/>
        </p:blipFill>
        <p:spPr>
          <a:xfrm>
            <a:off x="457200" y="476280"/>
            <a:ext cx="8229600" cy="55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4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4422600" cy="58975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" descr=""/>
          <p:cNvPicPr/>
          <p:nvPr/>
        </p:nvPicPr>
        <p:blipFill>
          <a:blip r:embed="rId2"/>
          <a:stretch/>
        </p:blipFill>
        <p:spPr>
          <a:xfrm>
            <a:off x="3605040" y="2703600"/>
            <a:ext cx="5538960" cy="415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5353200" cy="40147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5" descr=""/>
          <p:cNvPicPr/>
          <p:nvPr/>
        </p:nvPicPr>
        <p:blipFill>
          <a:blip r:embed="rId2"/>
          <a:stretch/>
        </p:blipFill>
        <p:spPr>
          <a:xfrm>
            <a:off x="3906720" y="2930400"/>
            <a:ext cx="5237280" cy="392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4286160" cy="31622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5" descr=""/>
          <p:cNvPicPr/>
          <p:nvPr/>
        </p:nvPicPr>
        <p:blipFill>
          <a:blip r:embed="rId2"/>
          <a:stretch/>
        </p:blipFill>
        <p:spPr>
          <a:xfrm>
            <a:off x="4067280" y="3049560"/>
            <a:ext cx="5076720" cy="38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-171360"/>
            <a:ext cx="8229600" cy="151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Вашингтон (Федеральный округ Колумбия)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Picture 3" descr=""/>
          <p:cNvPicPr/>
          <p:nvPr/>
        </p:nvPicPr>
        <p:blipFill>
          <a:blip r:embed="rId1"/>
          <a:stretch/>
        </p:blipFill>
        <p:spPr>
          <a:xfrm>
            <a:off x="2124000" y="1197000"/>
            <a:ext cx="4824360" cy="56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7T18:24:06Z</dcterms:created>
  <dc:creator>www.PHILka.RU</dc:creator>
  <dc:description/>
  <dc:language>en-US</dc:language>
  <cp:lastModifiedBy>Анастасия Владимиров</cp:lastModifiedBy>
  <dcterms:modified xsi:type="dcterms:W3CDTF">2011-09-22T14:55:39Z</dcterms:modified>
  <cp:revision>4</cp:revision>
  <dc:subject/>
  <dc:title>Соединенные Штаты Америки   United States of America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60e0000000000010250300207f7000400038000</vt:lpwstr>
  </property>
</Properties>
</file>