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3D3-5FAC-4F84-94BF-97AA41120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3D1-37A4-46D8-86A9-08B694B823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BFC-A45A-4926-A42D-D068E06B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718-134C-4D61-B650-45F8B05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5FA-10E3-4D7B-AB81-8061F144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61F-CF64-4C13-A136-670CF464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F221-2992-4F94-BD7F-B708A364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F18-FC59-4701-B2E9-4808585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62B-B45A-4440-9BD6-A142F568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6419-717C-42D1-913A-4A63098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9590-6011-485C-9CCA-B4F64BC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7897-F1C6-4601-955F-C769C90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6653-629B-4576-800C-D2EB9E0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CBF-26D2-4218-8BC3-9632AE0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28F2-E0F6-4676-9608-6C83631C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DCB2-4E05-4EEB-A7BD-CD27286D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7B7-BF6B-4BA3-8239-94CC2FC6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AE5-0995-4026-BBE4-01572F85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B93A-74A5-454D-B59F-06E40858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4E08-E924-4B34-8DE7-A6A972AB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2B74-6C32-4063-A360-AA795308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65B8-94BF-48F2-A3C3-21B197E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0737-88FB-4B5A-A506-BC0D14F6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717C-D73B-417E-B495-6CC726E2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0AF-B7E9-4068-8B6A-3A0CB0C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7E04-9924-463C-A9A8-6DC5301B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A9DE-125F-4C02-9EBD-D4B63FB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8A37-265E-46D4-8DBB-4B201D8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E3DF-83D3-43D7-B062-4EE703F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3623-C25A-4E71-95C3-D647368E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DFB6-F795-44C1-8C81-5397DEF6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22C3-D0DD-4102-98D7-B65D152C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3CC4-B4C8-4085-BB07-060B8D89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EA69-C661-40C3-BCE3-633EF330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893F-8233-46FD-B44D-012DB1A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158-95F2-43C4-8964-93E3AE9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C2C3-BD9B-45A0-B121-4803C55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509A-FEB3-4B19-936F-246145DE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7008-9633-4272-8AFB-E143C9C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0C67-BBE6-464B-87C1-C32642C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C181-5945-4543-A3FC-68980E3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C84F-33A4-4AD7-9962-1A053582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9BE1-D0FC-4DBD-BF6A-B517B48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B0CD-C47C-4545-BFC6-3DF2882E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31162-907D-4CF4-9869-EC54B682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C8C-EE41-41F2-9364-4AC28F5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2B3-A51E-4586-A920-F80D07A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969-D611-4780-BB99-7A8CA0C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378-5E5A-4EE2-9C0A-7539315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EFA-5C53-4D25-806E-5AA5A8C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1AB4-C7C7-4AA7-8B19-9F9F3234CF44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873-CC0B-4E6B-81FF-E10BEA4A6BA6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641-0461-4F51-A281-AF99B68C74B5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352-21D7-4DA7-9404-5E11B6A27DD3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7" descr="S6300054.JPG"/>
          <p:cNvPicPr/>
          <p:nvPr/>
        </p:nvPicPr>
        <p:blipFill>
          <a:blip r:embed="rId1"/>
          <a:stretch/>
        </p:blipFill>
        <p:spPr>
          <a:xfrm>
            <a:off x="609480" y="2286000"/>
            <a:ext cx="7467840" cy="403848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8" descr=""/>
          <p:cNvPicPr/>
          <p:nvPr/>
        </p:nvPicPr>
        <p:blipFill>
          <a:blip r:embed="rId2"/>
          <a:stretch/>
        </p:blipFill>
        <p:spPr>
          <a:xfrm>
            <a:off x="603360" y="1109520"/>
            <a:ext cx="7785000" cy="115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9120" y="3657240"/>
            <a:ext cx="3044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-44352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6e9d6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304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Зона смешанных лесов располагается южнее тайги, в основном на Русской равнине. В России занимаемая ею площадь постепенно сужается к востоку. За Урал смешанные леса заходят только узкой полосой в Западной Сибири; в Восточной Сибири их нет; снова появляются смешанные леса на юге Дальнего Востока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Куединском районе природные зоны представлены именно такими лесам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4" descr="Фото 0127.jpg"/>
          <p:cNvPicPr/>
          <p:nvPr/>
        </p:nvPicPr>
        <p:blipFill>
          <a:blip r:embed="rId1"/>
          <a:stretch/>
        </p:blipFill>
        <p:spPr>
          <a:xfrm>
            <a:off x="22860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Фото 0144.jpg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-443880"/>
            <a:ext cx="7772400" cy="90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d87b5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ля зоны смешанных лесов характерен климат с холодной снежной зимой и тёплым летом. Зимние температуры в районах морского умеренного климата положительные, а по мере удаления от океанов опускаются до -10 °С. Июльские температуры держатс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пределах 17—19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оличество осадков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00-1000 мм в год –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намного превосходит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спаряемос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Рисунок 3" descr="Фото 0247.jpg"/>
          <p:cNvPicPr/>
          <p:nvPr/>
        </p:nvPicPr>
        <p:blipFill>
          <a:blip r:embed="rId1"/>
          <a:stretch/>
        </p:blipFill>
        <p:spPr>
          <a:xfrm>
            <a:off x="3557520" y="2209680"/>
            <a:ext cx="55864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7dc7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мешанные леса состоят из лиственных и хвойных деревьев. Кроме хвойных и лиственных деревьев, встречающихся и в тайге, для зоны смешанных лесов характерны широколиственные деревья — дуб, липа, клен, ясень и другие. Смешанные леса отличаются хорошо заметной ярусностью, то есть изменением состава растительности по высоте. Верхний древесный ярус занимают высокие сосны и ели, а ниже растут дубы, липы, клёны, берёзы, вязы. Под кустарниковым ярусом, образованным малиной, калиной, шиповником, боярышником, растут кустарнички, травы, мхи и лишайники. Хвойно-мелколиственные леса, состоящие из берёзы, осины, ольхи, представляют собой промежуточные леса в процессе формирования хвойного лес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Рисунок 3" descr="S6300001.JPG"/>
          <p:cNvPicPr/>
          <p:nvPr/>
        </p:nvPicPr>
        <p:blipFill>
          <a:blip r:embed="rId1"/>
          <a:stretch/>
        </p:blipFill>
        <p:spPr>
          <a:xfrm>
            <a:off x="0" y="3048120"/>
            <a:ext cx="541008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S6300027.JPG"/>
          <p:cNvPicPr/>
          <p:nvPr/>
        </p:nvPicPr>
        <p:blipFill>
          <a:blip r:embed="rId2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5657400" y="5715000"/>
            <a:ext cx="121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928160" y="15228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dc5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2" descr="C:\Documents and Settings\Admin\Мои документы\дуб.jpg"/>
          <p:cNvPicPr/>
          <p:nvPr/>
        </p:nvPicPr>
        <p:blipFill>
          <a:blip r:embed="rId1"/>
          <a:stretch/>
        </p:blipFill>
        <p:spPr>
          <a:xfrm>
            <a:off x="0" y="32767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Admin\Мои документы\липа.jpg"/>
          <p:cNvPicPr/>
          <p:nvPr/>
        </p:nvPicPr>
        <p:blipFill>
          <a:blip r:embed="rId2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Admin\Мои документы\орех.jpg"/>
          <p:cNvPicPr/>
          <p:nvPr/>
        </p:nvPicPr>
        <p:blipFill>
          <a:blip r:embed="rId3"/>
          <a:stretch/>
        </p:blipFill>
        <p:spPr>
          <a:xfrm>
            <a:off x="0" y="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Admin\Мои документы\бер.jpg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C:\Documents and Settings\Admin\Мои документы\клен.jpg"/>
          <p:cNvPicPr/>
          <p:nvPr/>
        </p:nvPicPr>
        <p:blipFill>
          <a:blip r:embed="rId5"/>
          <a:stretch/>
        </p:blipFill>
        <p:spPr>
          <a:xfrm>
            <a:off x="1571760" y="380880"/>
            <a:ext cx="6000480" cy="6096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:\Documents and Settings\Admin\Мои документы\чер.jpeg"/>
          <p:cNvPicPr/>
          <p:nvPr/>
        </p:nvPicPr>
        <p:blipFill>
          <a:blip r:embed="rId6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Admin\Мои документы\малина.jpg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Admin\Мои документы\img_37744038_3854_1.jpg"/>
          <p:cNvPicPr/>
          <p:nvPr/>
        </p:nvPicPr>
        <p:blipFill>
          <a:blip r:embed="rId8"/>
          <a:stretch/>
        </p:blipFill>
        <p:spPr>
          <a:xfrm>
            <a:off x="4343400" y="0"/>
            <a:ext cx="5038560" cy="7086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C:\Documents and Settings\Admin\Мои документы\tradeboard1yd9UK_img.jpg"/>
          <p:cNvPicPr/>
          <p:nvPr/>
        </p:nvPicPr>
        <p:blipFill>
          <a:blip r:embed="rId9"/>
          <a:stretch/>
        </p:blipFill>
        <p:spPr>
          <a:xfrm>
            <a:off x="-228600" y="0"/>
            <a:ext cx="4800600" cy="7086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Documents and Settings\Admin\Мои документы\0_179dc_95335459_XL.jpeg"/>
          <p:cNvPicPr/>
          <p:nvPr/>
        </p:nvPicPr>
        <p:blipFill>
          <a:blip r:embed="rId10"/>
          <a:stretch/>
        </p:blipFill>
        <p:spPr>
          <a:xfrm>
            <a:off x="-228600" y="0"/>
            <a:ext cx="9601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В наших лесах можно встретить  много  животных: зайцы-беляки, лоси, белки, белки-летяги, глухари, кабаны.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D:\фото\Браконьеры и Охотники\DSC).jpg"/>
          <p:cNvPicPr/>
          <p:nvPr/>
        </p:nvPicPr>
        <p:blipFill>
          <a:blip r:embed="rId1"/>
          <a:stretch/>
        </p:blipFill>
        <p:spPr>
          <a:xfrm>
            <a:off x="0" y="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\Мои документы\белка.jpg"/>
          <p:cNvPicPr/>
          <p:nvPr/>
        </p:nvPicPr>
        <p:blipFill>
          <a:blip r:embed="rId2"/>
          <a:stretch/>
        </p:blipFill>
        <p:spPr>
          <a:xfrm>
            <a:off x="4114800" y="3124080"/>
            <a:ext cx="5029200" cy="3733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Admin\Мои документы\еж.jp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Admin\Мои документы\глухарь.jpg"/>
          <p:cNvPicPr/>
          <p:nvPr/>
        </p:nvPicPr>
        <p:blipFill>
          <a:blip r:embed="rId4"/>
          <a:stretch/>
        </p:blipFill>
        <p:spPr>
          <a:xfrm>
            <a:off x="0" y="350532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Мои документы\кабан.jpg"/>
          <p:cNvPicPr/>
          <p:nvPr/>
        </p:nvPicPr>
        <p:blipFill>
          <a:blip r:embed="rId5"/>
          <a:stretch/>
        </p:blipFill>
        <p:spPr>
          <a:xfrm>
            <a:off x="0" y="-14400"/>
            <a:ext cx="9144000" cy="7012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волк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Documents and Settings\Admin\Мои документы\лиса.jpg"/>
          <p:cNvPicPr/>
          <p:nvPr/>
        </p:nvPicPr>
        <p:blipFill>
          <a:blip r:embed="rId7"/>
          <a:stretch/>
        </p:blipFill>
        <p:spPr>
          <a:xfrm>
            <a:off x="14400" y="0"/>
            <a:ext cx="922176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Мои документы\рысь.jpg"/>
          <p:cNvPicPr/>
          <p:nvPr/>
        </p:nvPicPr>
        <p:blipFill>
          <a:blip r:embed="rId8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fff2a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53370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af7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— важный объект хозяйственной деятельности человека. Различают главное и побочное лесопользование. При главном лесопользовании в лесах заготовляется древесина. При побочном — грибы и ягоды, лекарственные растения. К побочному лесопользованию относится и охота на лосей, кабанов, зайцев, куниц, колонков, глухарей, рябчиков и других промысло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     </a:t>
            </a:r>
            <a:r>
              <a:rPr b="1" lang="ru-RU" sz="2000" spc="-1" strike="noStrike">
                <a:solidFill>
                  <a:srgbClr val="e3eaf7"/>
                </a:solidFill>
                <a:latin typeface="Calibri"/>
              </a:rPr>
              <a:t>Леса играют рекреационную роль — это место отдыха сельского населения. Обогащенный кислородом и насыщенный целительными выделениями растений (фитонцидами) лес — источник здоровь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4" name="Рисунок 3" descr="WallpaperauthorCharly33.jpg"/>
          <p:cNvPicPr/>
          <p:nvPr/>
        </p:nvPicPr>
        <p:blipFill>
          <a:blip r:embed="rId1"/>
          <a:stretch/>
        </p:blipFill>
        <p:spPr>
          <a:xfrm>
            <a:off x="5621400" y="304920"/>
            <a:ext cx="3522600" cy="26668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CA0PQBMP.jpg"/>
          <p:cNvPicPr/>
          <p:nvPr/>
        </p:nvPicPr>
        <p:blipFill>
          <a:blip r:embed="rId2"/>
          <a:stretch/>
        </p:blipFill>
        <p:spPr>
          <a:xfrm>
            <a:off x="5616720" y="3733920"/>
            <a:ext cx="352728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19T21:33:05Z</dcterms:modified>
  <cp:revision>17</cp:revision>
  <dc:subject/>
  <dc:title>Смешанные л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430000000000010243100207f6000400038000</vt:lpwstr>
  </property>
</Properties>
</file>