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8BC-4BC1-4216-8CA4-2126519F73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BDF9-746A-4D06-8D37-7185C85D2A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760-6CB0-4B3D-BA74-21733F97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6C9-656F-4D40-B1B0-4AB1AEDE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A89-D831-439E-8972-BFB258A0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694-4D47-432D-98C1-D7C9A3DF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C37C-9099-4124-9E0B-BDC8EBF5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35C-D090-4E83-ADEF-BB470A1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A989-9AAA-4A39-B20C-96A514B2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08E-C920-412C-867D-9DB7796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E24-AC40-43AF-89DB-560BD59B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E598-7037-4AB4-9E31-49DFEE8B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F8F4-E849-417F-8E80-A3DA365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1C5-986A-4DF4-B263-FC6D4920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710-353B-4941-8531-679F7EB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FA6-C5F6-4ECC-A091-9F8B59E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7CF4-A1FC-41A7-ADDB-DAD1444E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980A-9842-4041-A972-558CD11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590-F552-4A18-A1A0-545251EF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14F4-6793-4736-A70B-394431BA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CC3F-5B24-4845-8BDA-C4A41961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1D8E-1AE9-4FC5-AD46-A0A868E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ECB0-9388-4018-91CC-D7F5734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8B0E-346D-43F6-B547-DF0EA49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C7C-E1B5-428C-9981-52AFFC8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3B08-CDE6-4AEE-AD77-CB95E6C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67D6-E7A9-4BE7-AF27-6821B62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F9C5-B26F-4C8A-8EC9-A1DACD3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BD6B-D86F-4D73-B953-D3ED9A5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EC58-17F5-41CA-81DF-55C00E0F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3AC5-FE6C-4711-A8BD-6B1512A0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55A1-B351-4A4D-BDFE-7E9BE5A6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3FE6-DCD5-46E6-B6D9-A2E911FA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17D2-30CB-42F4-8F5E-6423A48D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5A59-4691-4EBA-B8C8-B49FF5F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120-34D9-4C6D-AB94-DD33CE3C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0927-EE73-48E6-B6C1-1525D80B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2E35-C754-4F6D-9D36-77EDCB8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F0A9-A4B9-46AE-8A91-5EE096F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457F-50C6-4061-ACB0-FFD5312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8E89-0E24-400F-9239-C857500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6EE4-5641-4C0E-AA71-5C0F56A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B2BD-8465-411B-BECE-04D766A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1925-CFBC-46BA-BAE1-BD380576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E807-5951-4A70-BED4-BEC96D1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0F1-BCA2-419F-9210-D9C9F302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DF2-C123-490C-9668-9135E0B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6F2-DB7E-4DDA-A056-74E2464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6AA-E9AC-43D0-A636-96DFC3B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047-2D52-4E17-A6F0-FE2CD12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1D56-F1DF-4821-BB48-46235444C3A7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484-651A-4A1C-BB81-C3ED30BAA8DA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C93-01C6-482F-90CC-2785645EDE9D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537-FE58-4B60-B2FE-D1D919C6974D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7" descr="S6300054.JPG"/>
          <p:cNvPicPr/>
          <p:nvPr/>
        </p:nvPicPr>
        <p:blipFill>
          <a:blip r:embed="rId1"/>
          <a:stretch/>
        </p:blipFill>
        <p:spPr>
          <a:xfrm>
            <a:off x="609480" y="2286000"/>
            <a:ext cx="7467840" cy="403848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8" descr=""/>
          <p:cNvPicPr/>
          <p:nvPr/>
        </p:nvPicPr>
        <p:blipFill>
          <a:blip r:embed="rId2"/>
          <a:stretch/>
        </p:blipFill>
        <p:spPr>
          <a:xfrm>
            <a:off x="603360" y="1109520"/>
            <a:ext cx="7785000" cy="115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9120" y="3657240"/>
            <a:ext cx="3044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44352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6e9d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304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Зона смешанных лесов располагается южнее тайги, в основном на Русской равнине. В России занимаемая ею площадь постепенно сужается к востоку. За Урал смешанные леса заходят только узкой полосой в Западной Сибири; в Восточной Сибири их нет; снова появляются смешанные леса на юге Дальнего Востока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Куединском районе природные зоны представлены именно такими леса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4" descr="Фото 0127.jpg"/>
          <p:cNvPicPr/>
          <p:nvPr/>
        </p:nvPicPr>
        <p:blipFill>
          <a:blip r:embed="rId1"/>
          <a:stretch/>
        </p:blipFill>
        <p:spPr>
          <a:xfrm>
            <a:off x="22860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Фото 0144.jpg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-44388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d87b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ля зоны смешанных лесов характерен климат с холодной снежной зимой и тёплым летом. Зимние температуры в районах морского умеренного климата положительные, а по мере удаления от океанов опускаются до -10 °С. Июльские температуры держатс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пределах 17—19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оличество осадков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00-1000 мм в год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намного превосходит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спаряемос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Рисунок 3" descr="Фото 0247.jpg"/>
          <p:cNvPicPr/>
          <p:nvPr/>
        </p:nvPicPr>
        <p:blipFill>
          <a:blip r:embed="rId1"/>
          <a:stretch/>
        </p:blipFill>
        <p:spPr>
          <a:xfrm>
            <a:off x="3557520" y="2209680"/>
            <a:ext cx="55864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7dc7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мешанные леса состоят из лиственных и хвойных деревьев. Кроме хвойных и лиственных деревьев, встречающихся и в тайге, для зоны смешанных лесов характерны широколиственные деревья — дуб, липа, клен, ясень и другие. Смешанные леса отличаются хорошо заметной ярусностью, то есть изменением состава растительности по высоте. Верхний древесный ярус занимают высокие сосны и ели, а ниже растут дубы, липы, клёны, берёзы, вязы. Под кустарниковым ярусом, образованным малиной, калиной, шиповником, боярышником, растут кустарнички, травы, мхи и лишайники. Хвойно-мелколиственные леса, состоящие из берёзы, осины, ольхи, представляют собой промежуточные леса в процессе формирования хвойного лес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Рисунок 3" descr="S6300001.JPG"/>
          <p:cNvPicPr/>
          <p:nvPr/>
        </p:nvPicPr>
        <p:blipFill>
          <a:blip r:embed="rId1"/>
          <a:stretch/>
        </p:blipFill>
        <p:spPr>
          <a:xfrm>
            <a:off x="0" y="304812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S6300027.JPG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5657400" y="5715000"/>
            <a:ext cx="121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928160" y="15228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C:\Documents and Settings\Admin\Мои документы\дуб.jpg"/>
          <p:cNvPicPr/>
          <p:nvPr/>
        </p:nvPicPr>
        <p:blipFill>
          <a:blip r:embed="rId1"/>
          <a:stretch/>
        </p:blipFill>
        <p:spPr>
          <a:xfrm>
            <a:off x="0" y="32767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Admin\Мои документы\липа.jpg"/>
          <p:cNvPicPr/>
          <p:nvPr/>
        </p:nvPicPr>
        <p:blipFill>
          <a:blip r:embed="rId2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Admin\Мои документы\орех.jpg"/>
          <p:cNvPicPr/>
          <p:nvPr/>
        </p:nvPicPr>
        <p:blipFill>
          <a:blip r:embed="rId3"/>
          <a:stretch/>
        </p:blipFill>
        <p:spPr>
          <a:xfrm>
            <a:off x="0" y="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Admin\Мои документы\бер.jpg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C:\Documents and Settings\Admin\Мои документы\клен.jpg"/>
          <p:cNvPicPr/>
          <p:nvPr/>
        </p:nvPicPr>
        <p:blipFill>
          <a:blip r:embed="rId5"/>
          <a:stretch/>
        </p:blipFill>
        <p:spPr>
          <a:xfrm>
            <a:off x="1571760" y="380880"/>
            <a:ext cx="6000480" cy="6096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:\Documents and Settings\Admin\Мои документы\чер.jpeg"/>
          <p:cNvPicPr/>
          <p:nvPr/>
        </p:nvPicPr>
        <p:blipFill>
          <a:blip r:embed="rId6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Admin\Мои документы\малина.jpg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Admin\Мои документы\img_37744038_3854_1.jpg"/>
          <p:cNvPicPr/>
          <p:nvPr/>
        </p:nvPicPr>
        <p:blipFill>
          <a:blip r:embed="rId8"/>
          <a:stretch/>
        </p:blipFill>
        <p:spPr>
          <a:xfrm>
            <a:off x="4343400" y="0"/>
            <a:ext cx="5038560" cy="708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C:\Documents and Settings\Admin\Мои документы\tradeboard1yd9UK_img.jpg"/>
          <p:cNvPicPr/>
          <p:nvPr/>
        </p:nvPicPr>
        <p:blipFill>
          <a:blip r:embed="rId9"/>
          <a:stretch/>
        </p:blipFill>
        <p:spPr>
          <a:xfrm>
            <a:off x="-228600" y="0"/>
            <a:ext cx="4800600" cy="7086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Documents and Settings\Admin\Мои документы\0_179dc_95335459_XL.jpeg"/>
          <p:cNvPicPr/>
          <p:nvPr/>
        </p:nvPicPr>
        <p:blipFill>
          <a:blip r:embed="rId10"/>
          <a:stretch/>
        </p:blipFill>
        <p:spPr>
          <a:xfrm>
            <a:off x="-228600" y="0"/>
            <a:ext cx="9601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В наших лесах можно встретить  много  животных: зайцы-беляки, лоси, белки, белки-летяги, глухари, кабаны.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D:\фото\Браконьеры и Охотники\DSC).jpg"/>
          <p:cNvPicPr/>
          <p:nvPr/>
        </p:nvPicPr>
        <p:blipFill>
          <a:blip r:embed="rId1"/>
          <a:stretch/>
        </p:blipFill>
        <p:spPr>
          <a:xfrm>
            <a:off x="0" y="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\Мои документы\белка.jpg"/>
          <p:cNvPicPr/>
          <p:nvPr/>
        </p:nvPicPr>
        <p:blipFill>
          <a:blip r:embed="rId2"/>
          <a:stretch/>
        </p:blipFill>
        <p:spPr>
          <a:xfrm>
            <a:off x="4114800" y="312408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Admin\Мои документы\еж.jp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Admin\Мои документы\глухарь.jpg"/>
          <p:cNvPicPr/>
          <p:nvPr/>
        </p:nvPicPr>
        <p:blipFill>
          <a:blip r:embed="rId4"/>
          <a:stretch/>
        </p:blipFill>
        <p:spPr>
          <a:xfrm>
            <a:off x="0" y="350532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Мои документы\кабан.jpg"/>
          <p:cNvPicPr/>
          <p:nvPr/>
        </p:nvPicPr>
        <p:blipFill>
          <a:blip r:embed="rId5"/>
          <a:stretch/>
        </p:blipFill>
        <p:spPr>
          <a:xfrm>
            <a:off x="0" y="-14400"/>
            <a:ext cx="9144000" cy="7012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волк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Мои документы\лиса.jpg"/>
          <p:cNvPicPr/>
          <p:nvPr/>
        </p:nvPicPr>
        <p:blipFill>
          <a:blip r:embed="rId7"/>
          <a:stretch/>
        </p:blipFill>
        <p:spPr>
          <a:xfrm>
            <a:off x="1440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Мои документы\рысь.jpg"/>
          <p:cNvPicPr/>
          <p:nvPr/>
        </p:nvPicPr>
        <p:blipFill>
          <a:blip r:embed="rId8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f2a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53370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af7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— важный объект хозяйственной деятельности человека. Различают главное и побочное лесопользование. При главном лесопользовании в лесах заготовляется древесина. При побочном — грибы и ягоды, лекарственные растения. К побочному лесопользованию относится и охота на лосей, кабанов, зайцев, куниц, колонков, глухарей, рябчиков и других промысло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играют рекреационную роль — это место отдыха сельского населения. Обогащенный кислородом и насыщенный целительными выделениями растений (фитонцидами) лес — источник здоровь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4" name="Рисунок 3" descr="WallpaperauthorCharly33.jpg"/>
          <p:cNvPicPr/>
          <p:nvPr/>
        </p:nvPicPr>
        <p:blipFill>
          <a:blip r:embed="rId1"/>
          <a:stretch/>
        </p:blipFill>
        <p:spPr>
          <a:xfrm>
            <a:off x="5621400" y="304920"/>
            <a:ext cx="352260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CA0PQBMP.jpg"/>
          <p:cNvPicPr/>
          <p:nvPr/>
        </p:nvPicPr>
        <p:blipFill>
          <a:blip r:embed="rId2"/>
          <a:stretch/>
        </p:blipFill>
        <p:spPr>
          <a:xfrm>
            <a:off x="5616720" y="3733920"/>
            <a:ext cx="352728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19T21:33:05Z</dcterms:modified>
  <cp:revision>17</cp:revision>
  <dc:subject/>
  <dc:title>Смешанные л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430000000000010243100207f6000400038000</vt:lpwstr>
  </property>
</Properties>
</file>