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C70-42C5-4771-B099-D1F85F34C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D944-780E-4490-98A1-A63BBC795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F27-9B49-4E56-8A48-305350D7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E11-6CAE-440B-85B5-ECD8DE8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F2E-ED2C-44D5-B7A3-DC357737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161-9D1E-4E46-B478-D4638C34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0732-4F9E-48AA-B459-B634EEF3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C09-D908-4B63-B6AD-253AEC6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BBA6-25E2-4DA1-9A05-E7F75397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76DB-AE78-42C8-A89F-798A7B6C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7D5A-E455-40FF-A80B-CF2B70E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64A-20EC-47E5-9123-16464BF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74AA-036F-4539-B041-D9BD5FB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30-B227-4AD2-A5A5-53F945C6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2CF-9223-42B2-9F83-BF9D1B4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7C51-44BF-4177-BEC0-6CB5EC2B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050-796C-482A-AE4B-DF63546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292-A197-4F58-8A98-57DC4C4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ED12-D71A-4521-B82B-A778E443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EEC1-A0C6-4B73-9966-1AAAC2C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A675-62C3-4CEF-AFC4-E23B0B4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EFBA-59AD-44E4-9A18-56630B24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B5DB-2BD0-4274-97E6-0D11471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6533-F8B4-4DFC-8393-4E9B0A0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871-479C-4479-BA88-88887FE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90AB-0F75-4349-8EE6-32F2CA1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B6D1-2800-4AA4-9C25-F7A9437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2426-E496-4535-93B1-3EC35DF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5139-722B-49B7-AA9E-17C05D1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A94C-ADE7-4B8F-BB78-C4D25A8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BC21-53D2-4CB4-832A-93CD0E9A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0AF4-0C78-42F7-BE5B-AA0C1330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666E-DBAA-44BE-A30E-10A2AD78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F234-58C5-4E01-A389-1CF26F12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57CEF-FEAB-4ECF-BC10-113CBB5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15C-067A-4185-B668-4300115E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3FB4-23BD-44B6-8D2D-E8321F89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4B28-49C3-4A36-855E-0A25D3C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C14A-C045-461A-9484-74AA4371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51DC-6B40-4092-9011-B08C8AF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53BA-C105-49F8-B1D4-85B8FDA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2603-DED0-4596-AAAE-D7B289F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E6AF-D252-467C-92CA-32AE8984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97A6-20BE-4850-B854-620518F4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57B1-9733-4918-8094-C24897D6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6E8-9F32-4B69-9FC8-B8EAE66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0B3-81BA-4CEB-9238-AF5D4EA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DCA-8B07-4927-9B29-D66AA07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D5D-31D9-4B79-8A23-7192A41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0D8-E90E-49D3-8A95-EBA48F51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A55-4690-476E-B418-0E990CFB019F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650-F749-433B-B943-5EE9254F29FB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123D-4C7A-4E14-AE3D-07E12BCF95D2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6221-5E8A-43A9-BE2F-59DA13F6BF28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7" descr="S6300054.JPG"/>
          <p:cNvPicPr/>
          <p:nvPr/>
        </p:nvPicPr>
        <p:blipFill>
          <a:blip r:embed="rId1"/>
          <a:stretch/>
        </p:blipFill>
        <p:spPr>
          <a:xfrm>
            <a:off x="609480" y="2286000"/>
            <a:ext cx="7467840" cy="403848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8" descr=""/>
          <p:cNvPicPr/>
          <p:nvPr/>
        </p:nvPicPr>
        <p:blipFill>
          <a:blip r:embed="rId2"/>
          <a:stretch/>
        </p:blipFill>
        <p:spPr>
          <a:xfrm>
            <a:off x="603360" y="1109520"/>
            <a:ext cx="7785000" cy="115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9120" y="3657240"/>
            <a:ext cx="3044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44352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6e9d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304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Зона смешанных лесов располагается южнее тайги, в основном на Русской равнине. В России занимаемая ею площадь постепенно сужается к востоку. За Урал смешанные леса заходят только узкой полосой в Западной Сибири; в Восточной Сибири их нет; снова появляются смешанные леса на юге Дальнего Востока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Куединском районе природные зоны представлены именно такими леса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4" descr="Фото 0127.jpg"/>
          <p:cNvPicPr/>
          <p:nvPr/>
        </p:nvPicPr>
        <p:blipFill>
          <a:blip r:embed="rId1"/>
          <a:stretch/>
        </p:blipFill>
        <p:spPr>
          <a:xfrm>
            <a:off x="22860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Фото 0144.jpg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-44388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d87b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ля зоны смешанных лесов характерен климат с холодной снежной зимой и тёплым летом. Зимние температуры в районах морского умеренного климата положительные, а по мере удаления от океанов опускаются до -10 °С. Июльские температуры держатс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пределах 17—19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оличество осадков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00-1000 мм в год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намного превосходит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спаряемос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Рисунок 3" descr="Фото 0247.jpg"/>
          <p:cNvPicPr/>
          <p:nvPr/>
        </p:nvPicPr>
        <p:blipFill>
          <a:blip r:embed="rId1"/>
          <a:stretch/>
        </p:blipFill>
        <p:spPr>
          <a:xfrm>
            <a:off x="3557520" y="2209680"/>
            <a:ext cx="55864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7dc7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мешанные леса состоят из лиственных и хвойных деревьев. Кроме хвойных и лиственных деревьев, встречающихся и в тайге, для зоны смешанных лесов характерны широколиственные деревья — дуб, липа, клен, ясень и другие. Смешанные леса отличаются хорошо заметной ярусностью, то есть изменением состава растительности по высоте. Верхний древесный ярус занимают высокие сосны и ели, а ниже растут дубы, липы, клёны, берёзы, вязы. Под кустарниковым ярусом, образованным малиной, калиной, шиповником, боярышником, растут кустарнички, травы, мхи и лишайники. Хвойно-мелколиственные леса, состоящие из берёзы, осины, ольхи, представляют собой промежуточные леса в процессе формирования хвойного лес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Рисунок 3" descr="S6300001.JPG"/>
          <p:cNvPicPr/>
          <p:nvPr/>
        </p:nvPicPr>
        <p:blipFill>
          <a:blip r:embed="rId1"/>
          <a:stretch/>
        </p:blipFill>
        <p:spPr>
          <a:xfrm>
            <a:off x="0" y="304812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S6300027.JPG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5657400" y="5715000"/>
            <a:ext cx="121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928160" y="15228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C:\Documents and Settings\Admin\Мои документы\дуб.jpg"/>
          <p:cNvPicPr/>
          <p:nvPr/>
        </p:nvPicPr>
        <p:blipFill>
          <a:blip r:embed="rId1"/>
          <a:stretch/>
        </p:blipFill>
        <p:spPr>
          <a:xfrm>
            <a:off x="0" y="32767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Admin\Мои документы\липа.jpg"/>
          <p:cNvPicPr/>
          <p:nvPr/>
        </p:nvPicPr>
        <p:blipFill>
          <a:blip r:embed="rId2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Admin\Мои документы\орех.jpg"/>
          <p:cNvPicPr/>
          <p:nvPr/>
        </p:nvPicPr>
        <p:blipFill>
          <a:blip r:embed="rId3"/>
          <a:stretch/>
        </p:blipFill>
        <p:spPr>
          <a:xfrm>
            <a:off x="0" y="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Admin\Мои документы\бер.jpg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C:\Documents and Settings\Admin\Мои документы\клен.jpg"/>
          <p:cNvPicPr/>
          <p:nvPr/>
        </p:nvPicPr>
        <p:blipFill>
          <a:blip r:embed="rId5"/>
          <a:stretch/>
        </p:blipFill>
        <p:spPr>
          <a:xfrm>
            <a:off x="1571760" y="380880"/>
            <a:ext cx="6000480" cy="6096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:\Documents and Settings\Admin\Мои документы\чер.jpeg"/>
          <p:cNvPicPr/>
          <p:nvPr/>
        </p:nvPicPr>
        <p:blipFill>
          <a:blip r:embed="rId6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Admin\Мои документы\малина.jpg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Admin\Мои документы\img_37744038_3854_1.jpg"/>
          <p:cNvPicPr/>
          <p:nvPr/>
        </p:nvPicPr>
        <p:blipFill>
          <a:blip r:embed="rId8"/>
          <a:stretch/>
        </p:blipFill>
        <p:spPr>
          <a:xfrm>
            <a:off x="4343400" y="0"/>
            <a:ext cx="5038560" cy="708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C:\Documents and Settings\Admin\Мои документы\tradeboard1yd9UK_img.jpg"/>
          <p:cNvPicPr/>
          <p:nvPr/>
        </p:nvPicPr>
        <p:blipFill>
          <a:blip r:embed="rId9"/>
          <a:stretch/>
        </p:blipFill>
        <p:spPr>
          <a:xfrm>
            <a:off x="-228600" y="0"/>
            <a:ext cx="4800600" cy="7086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Documents and Settings\Admin\Мои документы\0_179dc_95335459_XL.jpeg"/>
          <p:cNvPicPr/>
          <p:nvPr/>
        </p:nvPicPr>
        <p:blipFill>
          <a:blip r:embed="rId10"/>
          <a:stretch/>
        </p:blipFill>
        <p:spPr>
          <a:xfrm>
            <a:off x="-228600" y="0"/>
            <a:ext cx="9601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В наших лесах можно встретить  много  животных: зайцы-беляки, лоси, белки, белки-летяги, глухари, кабаны.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D:\фото\Браконьеры и Охотники\DSC).jpg"/>
          <p:cNvPicPr/>
          <p:nvPr/>
        </p:nvPicPr>
        <p:blipFill>
          <a:blip r:embed="rId1"/>
          <a:stretch/>
        </p:blipFill>
        <p:spPr>
          <a:xfrm>
            <a:off x="0" y="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\Мои документы\белка.jpg"/>
          <p:cNvPicPr/>
          <p:nvPr/>
        </p:nvPicPr>
        <p:blipFill>
          <a:blip r:embed="rId2"/>
          <a:stretch/>
        </p:blipFill>
        <p:spPr>
          <a:xfrm>
            <a:off x="4114800" y="312408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Admin\Мои документы\еж.jp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Admin\Мои документы\глухарь.jpg"/>
          <p:cNvPicPr/>
          <p:nvPr/>
        </p:nvPicPr>
        <p:blipFill>
          <a:blip r:embed="rId4"/>
          <a:stretch/>
        </p:blipFill>
        <p:spPr>
          <a:xfrm>
            <a:off x="0" y="350532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Мои документы\кабан.jpg"/>
          <p:cNvPicPr/>
          <p:nvPr/>
        </p:nvPicPr>
        <p:blipFill>
          <a:blip r:embed="rId5"/>
          <a:stretch/>
        </p:blipFill>
        <p:spPr>
          <a:xfrm>
            <a:off x="0" y="-14400"/>
            <a:ext cx="9144000" cy="7012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волк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Мои документы\лиса.jpg"/>
          <p:cNvPicPr/>
          <p:nvPr/>
        </p:nvPicPr>
        <p:blipFill>
          <a:blip r:embed="rId7"/>
          <a:stretch/>
        </p:blipFill>
        <p:spPr>
          <a:xfrm>
            <a:off x="1440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Мои документы\рысь.jpg"/>
          <p:cNvPicPr/>
          <p:nvPr/>
        </p:nvPicPr>
        <p:blipFill>
          <a:blip r:embed="rId8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f2a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53370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af7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— важный объект хозяйственной деятельности человека. Различают главное и побочное лесопользование. При главном лесопользовании в лесах заготовляется древесина. При побочном — грибы и ягоды, лекарственные растения. К побочному лесопользованию относится и охота на лосей, кабанов, зайцев, куниц, колонков, глухарей, рябчиков и других промысло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играют рекреационную роль — это место отдыха сельского населения. Обогащенный кислородом и насыщенный целительными выделениями растений (фитонцидами) лес — источник здоровь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4" name="Рисунок 3" descr="WallpaperauthorCharly33.jpg"/>
          <p:cNvPicPr/>
          <p:nvPr/>
        </p:nvPicPr>
        <p:blipFill>
          <a:blip r:embed="rId1"/>
          <a:stretch/>
        </p:blipFill>
        <p:spPr>
          <a:xfrm>
            <a:off x="5621400" y="304920"/>
            <a:ext cx="352260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CA0PQBMP.jpg"/>
          <p:cNvPicPr/>
          <p:nvPr/>
        </p:nvPicPr>
        <p:blipFill>
          <a:blip r:embed="rId2"/>
          <a:stretch/>
        </p:blipFill>
        <p:spPr>
          <a:xfrm>
            <a:off x="5616720" y="3733920"/>
            <a:ext cx="352728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19T21:33:05Z</dcterms:modified>
  <cp:revision>17</cp:revision>
  <dc:subject/>
  <dc:title>Смешанные л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430000000000010243100207f6000400038000</vt:lpwstr>
  </property>
</Properties>
</file>