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EBD-A556-4C52-88E7-C692FED0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367-138E-45BA-9E3F-6128CEA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36A-0A9E-40BA-821A-27A9B334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133-E7EB-45B0-8E58-FF29FB8F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C9A-BBDE-4309-AB68-8E52DA43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1C6-DEAB-4780-86B5-E1FCE403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490-EA79-4846-9922-EDF48FCC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7EA-4600-4495-82CE-E3C36E5F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9A9-044E-41BE-BC1E-677DFD12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AEC-F973-427F-8B9C-5B0B96E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D2E-1482-422F-A2A9-132E860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F04-5DD9-4A06-A218-8F471C5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7B91-F814-47CC-B7AC-CF05B007D4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0" descr=""/>
          <p:cNvPicPr/>
          <p:nvPr/>
        </p:nvPicPr>
        <p:blipFill>
          <a:blip r:embed="rId1"/>
          <a:stretch/>
        </p:blipFill>
        <p:spPr>
          <a:xfrm>
            <a:off x="682560" y="304920"/>
            <a:ext cx="7845480" cy="282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5" descr="http://history.rsuh.ru/historycd/history/graph/pictures/portrets/arhimed.jpg"/>
          <p:cNvPicPr/>
          <p:nvPr/>
        </p:nvPicPr>
        <p:blipFill>
          <a:blip r:embed="rId2"/>
          <a:stretch/>
        </p:blipFill>
        <p:spPr>
          <a:xfrm>
            <a:off x="3429000" y="3429000"/>
            <a:ext cx="2571840" cy="30322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1925640" y="195120"/>
            <a:ext cx="5896080" cy="314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Рис. 1."/>
          <p:cNvPicPr/>
          <p:nvPr/>
        </p:nvPicPr>
        <p:blipFill>
          <a:blip r:embed="rId2"/>
          <a:srcRect l="0" t="0" r="134" b="0"/>
          <a:stretch/>
        </p:blipFill>
        <p:spPr>
          <a:xfrm>
            <a:off x="3071880" y="3571920"/>
            <a:ext cx="3500280" cy="300024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341280"/>
            <a:ext cx="6870960" cy="215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Опыт с прибором Ведерко Архимеда иллюстрирует, что архимедова сила равна весу вытесненной телом жидкости"/>
          <p:cNvPicPr/>
          <p:nvPr/>
        </p:nvPicPr>
        <p:blipFill>
          <a:blip r:embed="rId2"/>
          <a:stretch/>
        </p:blipFill>
        <p:spPr>
          <a:xfrm>
            <a:off x="1000080" y="3357720"/>
            <a:ext cx="7172280" cy="24048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1779480" y="554040"/>
            <a:ext cx="587052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Text Box 6" descr=""/>
          <p:cNvPicPr/>
          <p:nvPr/>
        </p:nvPicPr>
        <p:blipFill>
          <a:blip r:embed="rId2"/>
          <a:stretch/>
        </p:blipFill>
        <p:spPr>
          <a:xfrm>
            <a:off x="1139760" y="2736720"/>
            <a:ext cx="743112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ponomareva.com/risunki/arhimed.gif"/>
          <p:cNvPicPr/>
          <p:nvPr/>
        </p:nvPicPr>
        <p:blipFill>
          <a:blip r:embed="rId1"/>
          <a:stretch/>
        </p:blipFill>
        <p:spPr>
          <a:xfrm>
            <a:off x="0" y="3643200"/>
            <a:ext cx="2828880" cy="3214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33200" y="73080"/>
            <a:ext cx="8991720" cy="15904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7" descr=""/>
          <p:cNvPicPr/>
          <p:nvPr/>
        </p:nvPicPr>
        <p:blipFill>
          <a:blip r:embed="rId3"/>
          <a:stretch/>
        </p:blipFill>
        <p:spPr>
          <a:xfrm>
            <a:off x="853920" y="1627200"/>
            <a:ext cx="8296560" cy="31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3" descr=""/>
          <p:cNvPicPr/>
          <p:nvPr/>
        </p:nvPicPr>
        <p:blipFill>
          <a:blip r:embed="rId1"/>
          <a:stretch/>
        </p:blipFill>
        <p:spPr>
          <a:xfrm>
            <a:off x="920880" y="2627280"/>
            <a:ext cx="7802280" cy="461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fiz.1september.ru/2007/03/04-03.gif"/>
          <p:cNvPicPr/>
          <p:nvPr/>
        </p:nvPicPr>
        <p:blipFill>
          <a:blip r:embed="rId2"/>
          <a:stretch/>
        </p:blipFill>
        <p:spPr>
          <a:xfrm>
            <a:off x="3500280" y="142920"/>
            <a:ext cx="2500560" cy="25812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2992320" y="55440"/>
            <a:ext cx="6127920" cy="658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spim.ru/i/tolk/korona.jpg"/>
          <p:cNvPicPr/>
          <p:nvPr/>
        </p:nvPicPr>
        <p:blipFill>
          <a:blip r:embed="rId2"/>
          <a:stretch/>
        </p:blipFill>
        <p:spPr>
          <a:xfrm>
            <a:off x="214200" y="285840"/>
            <a:ext cx="3000600" cy="198756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Documents and Settings\User\Рабочий стол\math.gif"/>
          <p:cNvPicPr/>
          <p:nvPr/>
        </p:nvPicPr>
        <p:blipFill>
          <a:blip r:embed="rId1"/>
          <a:stretch/>
        </p:blipFill>
        <p:spPr>
          <a:xfrm>
            <a:off x="2428920" y="3500280"/>
            <a:ext cx="4286160" cy="304020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281160" y="60480"/>
            <a:ext cx="8581680" cy="65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gazeta.lv/images/evrika(2).jpg"/>
          <p:cNvPicPr/>
          <p:nvPr/>
        </p:nvPicPr>
        <p:blipFill>
          <a:blip r:embed="rId1"/>
          <a:srcRect l="0" t="0" r="0" b="101"/>
          <a:stretch/>
        </p:blipFill>
        <p:spPr>
          <a:xfrm>
            <a:off x="142920" y="3286080"/>
            <a:ext cx="2090520" cy="335772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2139840" y="981000"/>
            <a:ext cx="6723000" cy="46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2" descr=""/>
          <p:cNvPicPr/>
          <p:nvPr/>
        </p:nvPicPr>
        <p:blipFill>
          <a:blip r:embed="rId1"/>
          <a:stretch/>
        </p:blipFill>
        <p:spPr>
          <a:xfrm>
            <a:off x="1706400" y="55440"/>
            <a:ext cx="6370920" cy="461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home-edu.ru/user/f/00001491/Les_06/Les_06/Pict_06/arhimed.jpg"/>
          <p:cNvPicPr/>
          <p:nvPr/>
        </p:nvPicPr>
        <p:blipFill>
          <a:blip r:embed="rId2"/>
          <a:stretch/>
        </p:blipFill>
        <p:spPr>
          <a:xfrm>
            <a:off x="3643200" y="4643280"/>
            <a:ext cx="2695680" cy="20386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1195560"/>
            <a:ext cx="4748040" cy="16635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122400" y="2193840"/>
            <a:ext cx="7100640" cy="314640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10"/>
          <p:cNvGrpSpPr/>
          <p:nvPr/>
        </p:nvGrpSpPr>
        <p:grpSpPr>
          <a:xfrm>
            <a:off x="6143400" y="1500120"/>
            <a:ext cx="2506680" cy="3367080"/>
            <a:chOff x="6143400" y="1500120"/>
            <a:chExt cx="2506680" cy="3367080"/>
          </a:xfrm>
        </p:grpSpPr>
        <p:grpSp>
          <p:nvGrpSpPr>
            <p:cNvPr id="59" name="Группа 8"/>
            <p:cNvGrpSpPr/>
            <p:nvPr/>
          </p:nvGrpSpPr>
          <p:grpSpPr>
            <a:xfrm>
              <a:off x="6143400" y="1500120"/>
              <a:ext cx="2506680" cy="3367080"/>
              <a:chOff x="6143400" y="1500120"/>
              <a:chExt cx="2506680" cy="3367080"/>
            </a:xfrm>
          </p:grpSpPr>
          <p:pic>
            <p:nvPicPr>
              <p:cNvPr id="60" name="Picture 2" descr="http://www.luckyicon.com/pictures/evrika/evrika-banner.png"/>
              <p:cNvPicPr/>
              <p:nvPr/>
            </p:nvPicPr>
            <p:blipFill>
              <a:blip r:embed="rId3"/>
              <a:stretch/>
            </p:blipFill>
            <p:spPr>
              <a:xfrm flipH="1">
                <a:off x="6143400" y="1500120"/>
                <a:ext cx="2506680" cy="3367080"/>
              </a:xfrm>
              <a:prstGeom prst="rect">
                <a:avLst/>
              </a:prstGeom>
              <a:ln w="25560">
                <a:solidFill>
                  <a:srgbClr val="ffc000"/>
                </a:solidFill>
                <a:miter/>
              </a:ln>
            </p:spPr>
          </p:pic>
          <p:sp>
            <p:nvSpPr>
              <p:cNvPr id="61" name="TextBox 7"/>
              <p:cNvSpPr/>
              <p:nvPr/>
            </p:nvSpPr>
            <p:spPr>
              <a:xfrm>
                <a:off x="6357960" y="2143080"/>
                <a:ext cx="157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 = </a:t>
                </a: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</a:rPr>
                  <a:t>ρ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·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Box 9"/>
            <p:cNvSpPr/>
            <p:nvPr/>
          </p:nvSpPr>
          <p:spPr>
            <a:xfrm>
              <a:off x="6429600" y="235728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ар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55440"/>
            <a:ext cx="7444080" cy="560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vip.km.ru/vschool/kids/images/184-2-2.gif"/>
          <p:cNvPicPr/>
          <p:nvPr/>
        </p:nvPicPr>
        <p:blipFill>
          <a:blip r:embed="rId2"/>
          <a:stretch/>
        </p:blipFill>
        <p:spPr>
          <a:xfrm>
            <a:off x="3143160" y="5357880"/>
            <a:ext cx="4110120" cy="1214280"/>
          </a:xfrm>
          <a:prstGeom prst="rect">
            <a:avLst/>
          </a:prstGeom>
          <a:ln w="25560">
            <a:solidFill>
              <a:srgbClr val="ffc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3:06Z</dcterms:created>
  <dc:creator>www.PHILka.RU</dc:creator>
  <dc:description/>
  <dc:language>en-US</dc:language>
  <cp:lastModifiedBy>User</cp:lastModifiedBy>
  <dcterms:modified xsi:type="dcterms:W3CDTF">2009-04-08T14:50:17Z</dcterms:modified>
  <cp:revision>1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c0000000000010250300207f7000400038000</vt:lpwstr>
  </property>
</Properties>
</file>