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4BB-B196-4119-95AE-C5B13C54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663-C778-40C3-AF72-1D0EF1A7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B52-C349-4368-99DA-CA88B669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5AB-CFB7-4C12-AD22-55E5EC97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340-16BD-4021-AB2F-46ADF86C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F13-294B-4CBF-A232-1BBACD7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F80-55FA-42BF-8C71-3671ED26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6EC-26A3-49D0-ACE4-7642018A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5EF-36DC-4DC3-9081-BF8205F5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931-352A-41E4-BA8A-2C1F22A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5C1-3D65-4E57-BFB4-5E4933EE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CA8-9460-4957-804C-2CF8210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CC88-2DB7-48AF-8363-CDEEC80A7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2276640"/>
            <a:ext cx="4824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Швейцария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 spd="slow">
    <p:wipe dir="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404640"/>
            <a:ext cx="3743280" cy="626436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374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вейца́рия – Столица Берн.Официальное название — Швейца́рская Конфедера́ция— государство в Западной Европе. Граничит на севере с Германией, на юге  с Италией, на западе  с Францией, на востоке  с Австрией и Лихтенштейном. Название происходит от наименования кантона Швиц, образованного от древненемецкого «жеч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фициальными языками Швейцарии являются: немецкий, французский, итальянский и романшский (последний является официальным только для общения с лицами-носителями романшского язы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03640" y="2565360"/>
            <a:ext cx="2533680" cy="3809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2233800" cy="1663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5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476280"/>
            <a:ext cx="3456000" cy="590544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76280"/>
            <a:ext cx="3382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актически отсутствуют полезные ископаемые. Есть лишь небольшие запасы угля, залежи железных руд и мелкие месторождения графита, талька и асфальта. Добыча каменной соли, ведущаяся в верховьях Роны и по Рейну у границы с Германией, покрывает потребности страны. Имеется сырье для строительной промышленности: песок, глина, камень. 11,5 % энергии произведено при помощи водной энергии. 55 % потребления электроэнергии за счет гидроэлектростан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3600360" cy="349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620640"/>
            <a:ext cx="3095640" cy="23162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4680000" cy="655308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89000"/>
            <a:ext cx="4608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Швейцарии преобладает континентальный климат. Зимы холодные, на плато и в долинах температура достигает нуля, а в горных районах−10°C и ниже. Средняя температура летом в низинах +18-20°C,несколько ниже в горах. Особенность — сильные северные и южные ветры. Значительная часть осадков выпадает зимой в виде снега. Некоторые районы постоянно находятся под слоем льда .Особым качеством восточных Альп является то, что около 65 % количества годовых осадков выпадает в виде снега. Нередко даже в мае-июне, на высоте больше 1 500 м выпадают осадки в виде снежной крупы. Климат варьируется в различных областях Швейцарии. Как в Арктике в Швейцарии можно обнаружить мхи и лишайники, а также пальмы и мим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3490920" cy="26114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292720" y="404640"/>
            <a:ext cx="3527280" cy="2646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4176720" cy="446400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341360"/>
            <a:ext cx="410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ольшая часть страны расположена на территории Альп. На юге находятся Пеннинские Альпы, Лепонтинские Альпы, Ретийские Альпы и массив Бернина. Для ландшафта горной Швейцарии характерно большое количество ледников и ледниковых форм рельефа, общая площадь оледенения — 1 950 км². Всего в Швейцарии насчитывается примерно 140 крупных долинных ледников, есть также каровые и висячие лед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313080" cy="2478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64000" y="357336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125360"/>
            <a:ext cx="3384720" cy="431964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268280"/>
            <a:ext cx="35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бщая численность населения составляет 7 580 000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зрастная структура насе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0-14 лет: 15,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5-64 года: 68,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тарше 65 лет: 1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редний возраст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редний: 4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ужчины: 39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енщины: 4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378288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3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333360"/>
            <a:ext cx="3816360" cy="626436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04640"/>
            <a:ext cx="36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вейцария в первую очередь знаменита как самая гористая страна Европы.Женевское озеро со всех сторон окружено горами, из-за этого в его окрестностях весьма своеобразный, более тёплый климат. Его окрестности с давних времён пользуются популярностью как курорт. Вблизи озера, в Монтрё, даже растут паль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чень красива гора Пилатус, расположенная неподалёку от Люцерна, её высота составляет 2128,5 метров.Одним из самых известных символов Швейцарии, даже запечатлённым в шоколаде марки Тоблерон, является гора Маттерхо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527280" cy="244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148360" y="620640"/>
            <a:ext cx="3025800" cy="225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8000" y="115920"/>
            <a:ext cx="5040360" cy="655308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496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льское хозяйство имеет ярко выраженную животноводческую направленность,отличается высокой урожайностью и производительностью труда.Характерно преобладание мелких хозяйств.Швейцарский сыр уже не одно столетие хорошо известен во многих странах мира. В целом сельское хозяйство обеспечивает потребности страны в продуктах питания на 56-57 %.Швейцария поддерживает внешнеторговые связи практически со всеми странами мира. Экономика страны в значительной степени зависит от внешней торговли — как в импорте сырья и полуфабрикатов, так и в экспорте изделий промышленности (на экспорт идет более 50 % продукции текстильной, около 70 % машиностроительной, свыше 90 % химической и фармацевтической, 98 % часовой промышлен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3132360" cy="2082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580000" y="69228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197000"/>
            <a:ext cx="4535280" cy="360036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484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есять крупнейших озёр Швейцар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Женевское озеро (582,4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оденское озеро (539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ёвшательское озеро (217,9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аго-Маджоре (212,3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ирвальдштетское озеро (113,8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юрихское озеро (88,4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угано (48,8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ун (48,4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ильское озеро (40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угское озеро (38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519640" cy="1887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356000" y="5084640"/>
            <a:ext cx="3168720" cy="152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796000" y="2997360"/>
            <a:ext cx="2571840" cy="1709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5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46:02Z</dcterms:created>
  <dc:creator>Admin</dc:creator>
  <dc:description/>
  <dc:language>en-US</dc:language>
  <cp:lastModifiedBy>Admin</cp:lastModifiedBy>
  <dcterms:modified xsi:type="dcterms:W3CDTF">2011-04-17T15:20:00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50000000000010243100207f6000400038000</vt:lpwstr>
  </property>
</Properties>
</file>