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chimes.wav" ContentType="audio/x-wav"/>
  <Override PartName="/ppt/media/image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E103-2198-4629-9E58-06A187B37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CF58-0BA6-4A36-BAB1-A3E715CCE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9835-CA2D-4DB9-9E80-0A86ACE27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8247-A3A4-4EA6-BD0E-7C530D70A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2E0B-9C5E-47AC-BB7E-3CBC46D98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DF63-3BF8-46C6-B0C7-4890D0FBC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9D2C-0057-419F-8715-5C7A84B3D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3C01-3C5D-42AE-94E2-E57AA7BAB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A756-6ADF-44FE-BFB3-D4A713264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C369-4C77-42D4-ADDC-9AACE08F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48ED-1A4C-4C1B-A539-121971A41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FBE2-65AC-4BB1-B2A6-3E8631A1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8BD23-39E4-409F-B562-073C9650C1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9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4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340000" y="2276640"/>
            <a:ext cx="482436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Швейцария</a:t>
            </a:r>
            <a:endParaRPr b="1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p:transition spd="slow">
    <p:wipe dir="u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68360" y="404640"/>
            <a:ext cx="3743280" cy="6264360"/>
          </a:xfrm>
          <a:prstGeom prst="flowChartAlternateProcess">
            <a:avLst/>
          </a:prstGeom>
          <a:solidFill>
            <a:srgbClr val="c7ecb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476280"/>
            <a:ext cx="37447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Швейца́рия – Столица Берн.Официальное название — Швейца́рская Конфедера́ция— государство в Западной Европе. Граничит на севере с Германией, на юге  с Италией, на западе  с Францией, на востоке  с Австрией и Лихтенштейном. Название происходит от наименования кантона Швиц, образованного от древненемецкого «жечь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Официальными языками Швейцарии являются: немецкий, французский, итальянский и романшский (последний является официальным только для общения с лицами-носителями романшского язык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572000" y="476280"/>
            <a:ext cx="2448000" cy="1836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003640" y="2565360"/>
            <a:ext cx="2533680" cy="380988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588000" y="1341360"/>
            <a:ext cx="2233800" cy="166392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p:transition spd="slow">
    <p:wipe dir="u"/>
    <p:sndAc>
      <p:stSnd>
        <p:snd r:embed="rId5" name="chimes.wav"/>
      </p:stSnd>
    </p:sndAc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9640" y="476280"/>
            <a:ext cx="3456000" cy="5905440"/>
          </a:xfrm>
          <a:prstGeom prst="flowChartAlternateProcess">
            <a:avLst/>
          </a:prstGeom>
          <a:solidFill>
            <a:srgbClr val="c7ecb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476280"/>
            <a:ext cx="33829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Практически отсутствуют полезные ископаемые. Есть лишь небольшие запасы угля, залежи железных руд и мелкие месторождения графита, талька и асфальта. Добыча каменной соли, ведущаяся в верховьях Роны и по Рейну у границы с Германией, покрывает потребности страны. Имеется сырье для строительной промышленности: песок, глина, камень. 11,5 % энергии произведено при помощи водной энергии. 55 % потребления электроэнергии за счет гидроэлектростанц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859280" y="3068640"/>
            <a:ext cx="3600360" cy="3498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076720" y="620640"/>
            <a:ext cx="3095640" cy="231624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p:transition spd="slow">
    <p:wipe dir="u"/>
    <p:sndAc>
      <p:stSnd>
        <p:snd r:embed="rId4" name="chimes.wav"/>
      </p:stSnd>
    </p:sndAc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08000" y="115920"/>
            <a:ext cx="4680000" cy="6553080"/>
          </a:xfrm>
          <a:prstGeom prst="flowChartAlternateProcess">
            <a:avLst/>
          </a:prstGeom>
          <a:solidFill>
            <a:srgbClr val="c7ecb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9280" y="189000"/>
            <a:ext cx="460872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В Швейцарии преобладает континентальный климат. Зимы холодные, на плато и в долинах температура достигает нуля, а в горных районах−10°C и ниже. Средняя температура летом в низинах +18-20°C,несколько ниже в горах. Особенность — сильные северные и южные ветры. Значительная часть осадков выпадает зимой в виде снега. Некоторые районы постоянно находятся под слоем льда .Особым качеством восточных Альп является то, что около 65 % количества годовых осадков выпадает в виде снега. Нередко даже в мае-июне, на высоте больше 1 500 м выпадают осадки в виде снежной крупы. Климат варьируется в различных областях Швейцарии. Как в Арктике в Швейцарии можно обнаружить мхи и лишайники, а также пальмы и мимоз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292720" y="3860640"/>
            <a:ext cx="3490920" cy="261144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5292720" y="404640"/>
            <a:ext cx="3527280" cy="264636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p:transition spd="slow">
    <p:wipe dir="u"/>
    <p:sndAc>
      <p:stSnd>
        <p:snd r:embed="rId4" name="chimes.wav"/>
      </p:stSnd>
    </p:sndAc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68360" y="1197000"/>
            <a:ext cx="4176720" cy="4464000"/>
          </a:xfrm>
          <a:prstGeom prst="flowChartAlternateProcess">
            <a:avLst/>
          </a:prstGeom>
          <a:solidFill>
            <a:srgbClr val="c7ecb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1341360"/>
            <a:ext cx="41036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Большая часть страны расположена на территории Альп. На юге находятся Пеннинские Альпы, Лепонтинские Альпы, Ретийские Альпы и массив Бернина. Для ландшафта горной Швейцарии характерно большое количество ледников и ледниковых форм рельефа, общая площадь оледенения — 1 950 км². Всего в Швейцарии насчитывается примерно 140 крупных долинных ледников, есть также каровые и висячие ледн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219640" y="907920"/>
            <a:ext cx="3313080" cy="24782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5364000" y="3573360"/>
            <a:ext cx="3168720" cy="2376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  <p:sndAc>
      <p:stSnd>
        <p:snd r:embed="rId4" name="chimes.wav"/>
      </p:stSnd>
    </p:sndAc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9640" y="1125360"/>
            <a:ext cx="3384720" cy="4319640"/>
          </a:xfrm>
          <a:prstGeom prst="flowChartAlternateProcess">
            <a:avLst/>
          </a:prstGeom>
          <a:solidFill>
            <a:srgbClr val="c7ecb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1268280"/>
            <a:ext cx="35276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Общая численность населения составляет 7 580 000 ч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Возрастная структура насел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0-14 лет: 15,8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5-64 года: 68,2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старше 65 лет: 16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Средний возраст насе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средний: 40,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мужчины: 39,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женщины: 41,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572000" y="549360"/>
            <a:ext cx="3782880" cy="568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  <p:sndAc>
      <p:stSnd>
        <p:snd r:embed="rId3" name="chimes.wav"/>
      </p:stSnd>
    </p:sndAc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95280" y="333360"/>
            <a:ext cx="3816360" cy="6264360"/>
          </a:xfrm>
          <a:prstGeom prst="flowChartAlternateProcess">
            <a:avLst/>
          </a:prstGeom>
          <a:solidFill>
            <a:srgbClr val="c7ecb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404640"/>
            <a:ext cx="3672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Швейцария в первую очередь знаменита как самая гористая страна Европы.Женевское озеро со всех сторон окружено горами, из-за этого в его окрестностях весьма своеобразный, более тёплый климат. Его окрестности с давних времён пользуются популярностью как курорт. Вблизи озера, в Монтрё, даже растут паль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Очень красива гора Пилатус, расположенная неподалёку от Люцерна, её высота составляет 2128,5 метров.Одним из самых известных символов Швейцарии, даже запечатлённым в шоколаде марки Тоблерон, является гора Маттерхор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932360" y="3429000"/>
            <a:ext cx="3527280" cy="2441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5148360" y="620640"/>
            <a:ext cx="3025800" cy="225432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  <p:sndAc>
      <p:stSnd>
        <p:snd r:embed="rId4" name="chimes.wav"/>
      </p:stSnd>
    </p:sndAc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08000" y="115920"/>
            <a:ext cx="5040360" cy="6553080"/>
          </a:xfrm>
          <a:prstGeom prst="flowChartAlternateProcess">
            <a:avLst/>
          </a:prstGeom>
          <a:solidFill>
            <a:srgbClr val="c7ecb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260280"/>
            <a:ext cx="4968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Сельское хозяйство имеет ярко выраженную животноводческую направленность,отличается высокой урожайностью и производительностью труда.Характерно преобладание мелких хозяйств.Швейцарский сыр уже не одно столетие хорошо известен во многих странах мира. В целом сельское хозяйство обеспечивает потребности страны в продуктах питания на 56-57 %.Швейцария поддерживает внешнеторговые связи практически со всеми странами мира. Экономика страны в значительной степени зависит от внешней торговли — как в импорте сырья и полуфабрикатов, так и в экспорте изделий промышленности (на экспорт идет более 50 % продукции текстильной, около 70 % машиностроительной, свыше 90 % химической и фармацевтической, 98 % часовой промышленност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580000" y="3789360"/>
            <a:ext cx="3132360" cy="20829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5580000" y="692280"/>
            <a:ext cx="3024360" cy="2266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  <p:sndAc>
      <p:stSnd>
        <p:snd r:embed="rId4" name="chimes.wav"/>
      </p:stSnd>
    </p:sndAc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68360" y="1197000"/>
            <a:ext cx="4535280" cy="3600360"/>
          </a:xfrm>
          <a:prstGeom prst="flowChartAlternateProcess">
            <a:avLst/>
          </a:prstGeom>
          <a:solidFill>
            <a:srgbClr val="c7ecb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8360" y="1484280"/>
            <a:ext cx="4572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Десять крупнейших озёр Швейцар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Женевское озеро (582,4 км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Боденское озеро (539 км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Нёвшательское озеро (217,9 км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Лаго-Маджоре (212,3 км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Фирвальдштетское озеро (113,8 км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Цюрихское озеро (88,4 км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Лугано (48,8 км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Тун (48,4 км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Бильское озеро (40 км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Цугское озеро (38 км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084720" y="549360"/>
            <a:ext cx="2519640" cy="188748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4356000" y="5084640"/>
            <a:ext cx="3168720" cy="1521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5796000" y="2997360"/>
            <a:ext cx="2571840" cy="170964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p:transition spd="slow">
    <p:wipe dir="u"/>
    <p:sndAc>
      <p:stSnd>
        <p:snd r:embed="rId5" name="chimes.wav"/>
      </p:stSnd>
    </p:sndAc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7T14:46:02Z</dcterms:created>
  <dc:creator>Admin</dc:creator>
  <dc:description/>
  <dc:language>en-US</dc:language>
  <cp:lastModifiedBy>Admin</cp:lastModifiedBy>
  <dcterms:modified xsi:type="dcterms:W3CDTF">2011-04-17T15:20:00Z</dcterms:modified>
  <cp:revision>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6050000000000010243100207f6000400038000</vt:lpwstr>
  </property>
</Properties>
</file>