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2.gif" ContentType="image/gif"/>
  <Override PartName="/ppt/media/image16.jpeg" ContentType="image/jpeg"/>
  <Override PartName="/ppt/media/image15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43.jpeg" ContentType="image/jpeg"/>
  <Override PartName="/ppt/media/image45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1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BD559-7BAA-4063-9715-78A9261FF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87117-DE79-4138-A8CC-A7E7C016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B5FBC-A678-4C36-9A7F-1A31AA7BE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7BE88-97F9-4CFB-992B-4C891BE2B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AE46-D5C4-4BF6-AA12-3C0118F5C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7D0B-C998-461F-8D5D-ED611FEE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0AB1-2C93-4F8B-84BB-F86486C6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FF86-AE81-40FB-B460-77AD96E3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0145-7D8D-495B-A092-CBCA73CE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237B-22BF-46A0-80C5-5E3580AA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A182-9190-428A-9DCE-64E03FAA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F3E4C-8CED-485F-A47F-4AEAB280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56267-6AC0-4943-83DE-F8A1F2AF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826E-663D-4BEA-BAEC-78B5E201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632F-6152-4541-90EC-7360A0B5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ECA3-7229-4BDE-A637-8FB29045F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F7F65-DAE9-407C-BA66-6EF834D43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FB5EB-4719-45FA-A0B1-5CDEA2E3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5B295-F475-46B1-9459-E18EB386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5423A-3C79-4BF9-88BD-29D942D2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A6585-21F7-40F0-A0CD-4AE600AB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021CD-C1D0-45FD-875B-5164DEA5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728C0-9CEE-4FED-BB1B-5E7EDC47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07D1B-6323-4917-B3F2-FEAF293B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868B-59E4-47B2-A4BC-ED0F0DC5C6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387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387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d7900"/>
                  </a:gs>
                  <a:gs pos="100000">
                    <a:srgbClr val="4a94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4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18200"/>
                  </a:gs>
                  <a:gs pos="100000">
                    <a:srgbClr val="4a94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3f7d00"/>
                </a:gs>
                <a:gs pos="100000">
                  <a:srgbClr val="4a9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4a9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ae8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387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387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d7900"/>
                  </a:gs>
                  <a:gs pos="100000">
                    <a:srgbClr val="4a94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4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18200"/>
                  </a:gs>
                  <a:gs pos="100000">
                    <a:srgbClr val="4a94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3f7d00"/>
                </a:gs>
                <a:gs pos="100000">
                  <a:srgbClr val="4a9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4a9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ae8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DEDD-47AA-4C26-A5E8-F479497C120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image" Target="../media/image33.jpeg"/><Relationship Id="rId10" Type="http://schemas.openxmlformats.org/officeDocument/2006/relationships/image" Target="../media/image34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labirint.com.ru/se/sweden-karta.gif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srg27.narod.ru/gerb_sweden.gif" TargetMode="External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hyperlink" Target="http://smiles.rc-mir.com/smile.60846.html" TargetMode="External"/><Relationship Id="rId6" Type="http://schemas.openxmlformats.org/officeDocument/2006/relationships/image" Target="../media/image11.gif"/><Relationship Id="rId7" Type="http://schemas.openxmlformats.org/officeDocument/2006/relationships/hyperlink" Target="http://smiles.rc-mir.com/smile.60870.html" TargetMode="External"/><Relationship Id="rId8" Type="http://schemas.openxmlformats.org/officeDocument/2006/relationships/image" Target="../media/image12.gi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hyperlink" Target="http://www.adm.ru/scand/fin/info_fin/euro.jpg" TargetMode="External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hyperlink" Target="http://turistua.com/pictures/gallery/24873.jpg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bae8ba"/>
                </a:solidFill>
                <a:latin typeface="Garamond"/>
              </a:rPr>
              <a:t>Швеция  - Финляндия</a:t>
            </a:r>
            <a:endParaRPr b="1" lang="en-US" sz="8800" spc="-1" strike="noStrike">
              <a:solidFill>
                <a:srgbClr val="bae8ba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ae8ba"/>
                </a:solidFill>
                <a:latin typeface="Garamond"/>
              </a:rPr>
              <a:t>Транспорт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68360" y="836640"/>
          <a:ext cx="8229600" cy="4741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Финлянд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Шве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16" descr="Картинка 215 из 6657"/>
          <p:cNvPicPr/>
          <p:nvPr/>
        </p:nvPicPr>
        <p:blipFill>
          <a:blip r:embed="rId2"/>
          <a:stretch/>
        </p:blipFill>
        <p:spPr>
          <a:xfrm>
            <a:off x="395280" y="1628640"/>
            <a:ext cx="3809880" cy="25336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39" name="Picture 21" descr="810de50b324et"/>
          <p:cNvPicPr/>
          <p:nvPr/>
        </p:nvPicPr>
        <p:blipFill>
          <a:blip r:embed="rId3"/>
          <a:srcRect l="0" t="0" r="0" b="150"/>
          <a:stretch/>
        </p:blipFill>
        <p:spPr>
          <a:xfrm>
            <a:off x="826920" y="4508640"/>
            <a:ext cx="3097440" cy="20160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40" name="Picture 23" descr="i?id=3704021&amp;tov=3"/>
          <p:cNvPicPr/>
          <p:nvPr/>
        </p:nvPicPr>
        <p:blipFill>
          <a:blip r:embed="rId4"/>
          <a:stretch/>
        </p:blipFill>
        <p:spPr>
          <a:xfrm>
            <a:off x="5219640" y="1844640"/>
            <a:ext cx="2305080" cy="17287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41" name="Picture 25" descr="Картинка 84 из 86"/>
          <p:cNvPicPr/>
          <p:nvPr/>
        </p:nvPicPr>
        <p:blipFill>
          <a:blip r:embed="rId5"/>
          <a:stretch/>
        </p:blipFill>
        <p:spPr>
          <a:xfrm>
            <a:off x="4572000" y="3789360"/>
            <a:ext cx="3809880" cy="28576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324000" y="274680"/>
          <a:ext cx="8362800" cy="5815080"/>
        </p:xfrm>
        <a:graphic>
          <a:graphicData uri="http://schemas.openxmlformats.org/drawingml/2006/table">
            <a:tbl>
              <a:tblPr/>
              <a:tblGrid>
                <a:gridCol w="4359240"/>
                <a:gridCol w="400356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Финлянд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Шве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4" marL="18288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lvl="4" marL="18288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lvl="4" marL="18288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UPM Kymmene Ltd. — Один из самых больших производителей бумаги в мир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lvl="4" marL="18288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3" name="Picture 19" descr="Volvo%20S40"/>
          <p:cNvPicPr/>
          <p:nvPr/>
        </p:nvPicPr>
        <p:blipFill>
          <a:blip r:embed="rId2"/>
          <a:srcRect l="0" t="0" r="-69" b="-52"/>
          <a:stretch/>
        </p:blipFill>
        <p:spPr>
          <a:xfrm>
            <a:off x="4716360" y="2060640"/>
            <a:ext cx="4175280" cy="2087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7" descr="96__volvo_logo_162"/>
          <p:cNvPicPr/>
          <p:nvPr/>
        </p:nvPicPr>
        <p:blipFill>
          <a:blip r:embed="rId3"/>
          <a:stretch/>
        </p:blipFill>
        <p:spPr>
          <a:xfrm>
            <a:off x="4788000" y="1052640"/>
            <a:ext cx="1871640" cy="13986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1" descr="i?id=30852539&amp;tov=5"/>
          <p:cNvPicPr/>
          <p:nvPr/>
        </p:nvPicPr>
        <p:blipFill>
          <a:blip r:embed="rId4"/>
          <a:stretch/>
        </p:blipFill>
        <p:spPr>
          <a:xfrm>
            <a:off x="6443640" y="4365720"/>
            <a:ext cx="1655640" cy="1533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9" descr="a"/>
          <p:cNvPicPr/>
          <p:nvPr/>
        </p:nvPicPr>
        <p:blipFill>
          <a:blip r:embed="rId5"/>
          <a:stretch/>
        </p:blipFill>
        <p:spPr>
          <a:xfrm>
            <a:off x="250920" y="4149720"/>
            <a:ext cx="4367160" cy="21178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30"/>
          <p:cNvSpPr/>
          <p:nvPr/>
        </p:nvSpPr>
        <p:spPr>
          <a:xfrm>
            <a:off x="-65880" y="6155280"/>
            <a:ext cx="523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Garamond"/>
              </a:rPr>
              <a:t>Nokia — крупнейший производитель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Garamond"/>
              </a:rPr>
              <a:t>мобильных телефонов в мире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Picture 32" descr="a"/>
          <p:cNvPicPr/>
          <p:nvPr/>
        </p:nvPicPr>
        <p:blipFill>
          <a:blip r:embed="rId6"/>
          <a:stretch/>
        </p:blipFill>
        <p:spPr>
          <a:xfrm>
            <a:off x="468360" y="981000"/>
            <a:ext cx="3754440" cy="216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4" descr="i?id=7479699&amp;tov=6"/>
          <p:cNvPicPr/>
          <p:nvPr/>
        </p:nvPicPr>
        <p:blipFill>
          <a:blip r:embed="rId7"/>
          <a:stretch/>
        </p:blipFill>
        <p:spPr>
          <a:xfrm>
            <a:off x="324000" y="1052640"/>
            <a:ext cx="4032000" cy="28494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50" name="Picture 35" descr="i?id=38706150&amp;tov=3"/>
          <p:cNvPicPr/>
          <p:nvPr/>
        </p:nvPicPr>
        <p:blipFill>
          <a:blip r:embed="rId8"/>
          <a:stretch/>
        </p:blipFill>
        <p:spPr>
          <a:xfrm>
            <a:off x="324000" y="4005360"/>
            <a:ext cx="4248000" cy="26938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51" name="Picture 39" descr="Картинка 13 из 52"/>
          <p:cNvPicPr/>
          <p:nvPr/>
        </p:nvPicPr>
        <p:blipFill>
          <a:blip r:embed="rId9"/>
          <a:stretch/>
        </p:blipFill>
        <p:spPr>
          <a:xfrm>
            <a:off x="4788000" y="1125360"/>
            <a:ext cx="3960720" cy="29419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52" name="Picture 43" descr="i?id=27044896&amp;tov=2"/>
          <p:cNvPicPr/>
          <p:nvPr/>
        </p:nvPicPr>
        <p:blipFill>
          <a:blip r:embed="rId10"/>
          <a:stretch/>
        </p:blipFill>
        <p:spPr>
          <a:xfrm>
            <a:off x="5867280" y="4334040"/>
            <a:ext cx="2592360" cy="19317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Достопримечательности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39640" y="1052640"/>
          <a:ext cx="8229600" cy="5256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Финлянд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Шве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5" name="Picture 30" descr="IMGP0087"/>
          <p:cNvPicPr/>
          <p:nvPr/>
        </p:nvPicPr>
        <p:blipFill>
          <a:blip r:embed="rId1"/>
          <a:stretch/>
        </p:blipFill>
        <p:spPr>
          <a:xfrm>
            <a:off x="468360" y="1844640"/>
            <a:ext cx="4129200" cy="3097080"/>
          </a:xfrm>
          <a:prstGeom prst="rect">
            <a:avLst/>
          </a:prstGeom>
          <a:ln w="38160">
            <a:solidFill>
              <a:srgbClr val="0066ff"/>
            </a:solidFill>
            <a:miter/>
          </a:ln>
        </p:spPr>
      </p:pic>
      <p:pic>
        <p:nvPicPr>
          <p:cNvPr id="156" name="Picture 36" descr="IMGP0116"/>
          <p:cNvPicPr/>
          <p:nvPr/>
        </p:nvPicPr>
        <p:blipFill>
          <a:blip r:embed="rId2"/>
          <a:stretch/>
        </p:blipFill>
        <p:spPr>
          <a:xfrm>
            <a:off x="4932360" y="1989000"/>
            <a:ext cx="3448080" cy="25862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57" name="Rectangle 37"/>
          <p:cNvSpPr/>
          <p:nvPr/>
        </p:nvSpPr>
        <p:spPr>
          <a:xfrm>
            <a:off x="-171000" y="4941720"/>
            <a:ext cx="256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амятник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Яну Сибелиус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8" descr="image010"/>
          <p:cNvPicPr/>
          <p:nvPr/>
        </p:nvPicPr>
        <p:blipFill>
          <a:blip r:embed="rId2"/>
          <a:stretch/>
        </p:blipFill>
        <p:spPr>
          <a:xfrm>
            <a:off x="4186080" y="2924280"/>
            <a:ext cx="4957920" cy="36716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graphicFrame>
        <p:nvGraphicFramePr>
          <p:cNvPr id="159" name=""/>
          <p:cNvGraphicFramePr/>
          <p:nvPr/>
        </p:nvGraphicFramePr>
        <p:xfrm>
          <a:off x="250920" y="115920"/>
          <a:ext cx="8229600" cy="2328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328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Финлянд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Шве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0" name="Picture 43" descr="Картинка 82 из 7252"/>
          <p:cNvPicPr/>
          <p:nvPr/>
        </p:nvPicPr>
        <p:blipFill>
          <a:blip r:embed="rId3"/>
          <a:stretch/>
        </p:blipFill>
        <p:spPr>
          <a:xfrm>
            <a:off x="0" y="1844640"/>
            <a:ext cx="4840200" cy="36003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611280" y="189000"/>
          <a:ext cx="8075520" cy="5154480"/>
        </p:xfrm>
        <a:graphic>
          <a:graphicData uri="http://schemas.openxmlformats.org/drawingml/2006/table">
            <a:tbl>
              <a:tblPr/>
              <a:tblGrid>
                <a:gridCol w="4038480"/>
                <a:gridCol w="403704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Финлянд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Шве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2" name="Picture 41" descr="r_p_553492310145b10b8219c4a457c35a31"/>
          <p:cNvPicPr/>
          <p:nvPr/>
        </p:nvPicPr>
        <p:blipFill>
          <a:blip r:embed="rId2"/>
          <a:srcRect l="0" t="0" r="-70" b="-29"/>
          <a:stretch/>
        </p:blipFill>
        <p:spPr>
          <a:xfrm>
            <a:off x="4500720" y="981000"/>
            <a:ext cx="4321080" cy="42483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63" name="Picture 42" descr="IMGP0097"/>
          <p:cNvPicPr/>
          <p:nvPr/>
        </p:nvPicPr>
        <p:blipFill>
          <a:blip r:embed="rId3"/>
          <a:stretch/>
        </p:blipFill>
        <p:spPr>
          <a:xfrm>
            <a:off x="324000" y="907920"/>
            <a:ext cx="3743280" cy="28083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64" name="Picture 43" descr="IMGP0098"/>
          <p:cNvPicPr/>
          <p:nvPr/>
        </p:nvPicPr>
        <p:blipFill>
          <a:blip r:embed="rId4"/>
          <a:stretch/>
        </p:blipFill>
        <p:spPr>
          <a:xfrm>
            <a:off x="468360" y="3860640"/>
            <a:ext cx="3744720" cy="28101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Картинка 3 из 90"/>
          <p:cNvPicPr/>
          <p:nvPr/>
        </p:nvPicPr>
        <p:blipFill>
          <a:blip r:embed="rId1"/>
          <a:stretch/>
        </p:blipFill>
        <p:spPr>
          <a:xfrm>
            <a:off x="324000" y="189000"/>
            <a:ext cx="5041800" cy="37814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66" name="Picture 5" descr="Картинка 15 из 90"/>
          <p:cNvPicPr/>
          <p:nvPr/>
        </p:nvPicPr>
        <p:blipFill>
          <a:blip r:embed="rId2"/>
          <a:stretch/>
        </p:blipFill>
        <p:spPr>
          <a:xfrm>
            <a:off x="5076720" y="3716280"/>
            <a:ext cx="3672000" cy="27543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67" name="Picture 6" descr="i?id=693656&amp;tov=7"/>
          <p:cNvPicPr/>
          <p:nvPr/>
        </p:nvPicPr>
        <p:blipFill>
          <a:blip r:embed="rId3"/>
          <a:stretch/>
        </p:blipFill>
        <p:spPr>
          <a:xfrm>
            <a:off x="5867280" y="1197000"/>
            <a:ext cx="2808360" cy="20462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68" name="Picture 7" descr="image026"/>
          <p:cNvPicPr/>
          <p:nvPr/>
        </p:nvPicPr>
        <p:blipFill>
          <a:blip r:embed="rId4"/>
          <a:stretch/>
        </p:blipFill>
        <p:spPr>
          <a:xfrm>
            <a:off x="1042920" y="4149720"/>
            <a:ext cx="3529080" cy="26463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ae8ba"/>
                </a:solidFill>
                <a:latin typeface="Garamond"/>
              </a:rPr>
              <a:t>Территория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0" y="692280"/>
          <a:ext cx="9325080" cy="4052880"/>
        </p:xfrm>
        <a:graphic>
          <a:graphicData uri="http://schemas.openxmlformats.org/drawingml/2006/table">
            <a:tbl>
              <a:tblPr/>
              <a:tblGrid>
                <a:gridCol w="4809960"/>
                <a:gridCol w="4515120"/>
              </a:tblGrid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Финлянд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Шве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</a:t>
                      </a: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лощадь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– 33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,15 тыс. км².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</a:t>
                      </a: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лощадь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– 450 тыс. км².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Rectangle 63"/>
          <p:cNvSpPr/>
          <p:nvPr/>
        </p:nvSpPr>
        <p:spPr>
          <a:xfrm>
            <a:off x="2927520" y="23680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925720" y="3009960"/>
          <a:ext cx="3292560" cy="1479600"/>
        </p:xfrm>
        <a:graphic>
          <a:graphicData uri="http://schemas.openxmlformats.org/drawingml/2006/table">
            <a:tbl>
              <a:tblPr/>
              <a:tblGrid>
                <a:gridCol w="3292560"/>
              </a:tblGrid>
              <a:tr h="147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7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" name="Picture 78" descr="Картинка 3 из 1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32360" y="1989000"/>
            <a:ext cx="3492360" cy="4869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9" descr="skd_"/>
          <p:cNvPicPr/>
          <p:nvPr/>
        </p:nvPicPr>
        <p:blipFill>
          <a:blip r:embed="rId4"/>
          <a:stretch/>
        </p:blipFill>
        <p:spPr>
          <a:xfrm>
            <a:off x="611280" y="1844640"/>
            <a:ext cx="34923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skd_fin"/>
          <p:cNvPicPr/>
          <p:nvPr/>
        </p:nvPicPr>
        <p:blipFill>
          <a:blip r:embed="rId1"/>
          <a:stretch/>
        </p:blipFill>
        <p:spPr>
          <a:xfrm>
            <a:off x="1908000" y="549360"/>
            <a:ext cx="430056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ae8ba"/>
                </a:solidFill>
                <a:latin typeface="Garamond"/>
              </a:rPr>
              <a:t>Государственный строй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08000" y="1295280"/>
          <a:ext cx="8856720" cy="5518440"/>
        </p:xfrm>
        <a:graphic>
          <a:graphicData uri="http://schemas.openxmlformats.org/drawingml/2006/table">
            <a:tbl>
              <a:tblPr/>
              <a:tblGrid>
                <a:gridCol w="4535280"/>
                <a:gridCol w="4321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Финлянд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Шве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арламентская республик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нституционная монархия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0" name="Picture 36" descr="image009"/>
          <p:cNvPicPr/>
          <p:nvPr/>
        </p:nvPicPr>
        <p:blipFill>
          <a:blip r:embed="rId2"/>
          <a:stretch/>
        </p:blipFill>
        <p:spPr>
          <a:xfrm>
            <a:off x="6705720" y="5013360"/>
            <a:ext cx="2438280" cy="1638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7" descr="image008"/>
          <p:cNvPicPr/>
          <p:nvPr/>
        </p:nvPicPr>
        <p:blipFill>
          <a:blip r:embed="rId3"/>
          <a:stretch/>
        </p:blipFill>
        <p:spPr>
          <a:xfrm>
            <a:off x="6156360" y="3213000"/>
            <a:ext cx="2663640" cy="1789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8" descr="i?id=32862500&amp;tov=0"/>
          <p:cNvPicPr/>
          <p:nvPr/>
        </p:nvPicPr>
        <p:blipFill>
          <a:blip r:embed="rId4"/>
          <a:stretch/>
        </p:blipFill>
        <p:spPr>
          <a:xfrm>
            <a:off x="3968640" y="3429000"/>
            <a:ext cx="1946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457200" y="274680"/>
          <a:ext cx="8229600" cy="5851440"/>
        </p:xfrm>
        <a:graphic>
          <a:graphicData uri="http://schemas.openxmlformats.org/drawingml/2006/table">
            <a:tbl>
              <a:tblPr/>
              <a:tblGrid>
                <a:gridCol w="4246560"/>
                <a:gridCol w="3983040"/>
              </a:tblGrid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Финлянд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Шве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4" name="Picture 18" descr="герб финляндии"/>
          <p:cNvPicPr/>
          <p:nvPr/>
        </p:nvPicPr>
        <p:blipFill>
          <a:blip r:embed="rId1"/>
          <a:stretch/>
        </p:blipFill>
        <p:spPr>
          <a:xfrm>
            <a:off x="1258920" y="1197000"/>
            <a:ext cx="1420920" cy="1739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9" descr="Картинка 43 из 5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15200" y="1125360"/>
            <a:ext cx="1911240" cy="2159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0" descr="shvecia"/>
          <p:cNvPicPr/>
          <p:nvPr/>
        </p:nvPicPr>
        <p:blipFill>
          <a:blip r:embed="rId4"/>
          <a:srcRect l="0" t="0" r="0" b="-25"/>
          <a:stretch/>
        </p:blipFill>
        <p:spPr>
          <a:xfrm>
            <a:off x="5003640" y="1700280"/>
            <a:ext cx="1198800" cy="1728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1" descr="f79918288581dd90a714394fa72df67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42920" y="3789360"/>
            <a:ext cx="3024360" cy="2049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2" descr="8937a191b2f59a2b383fcecb9b77452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92720" y="3860640"/>
            <a:ext cx="2951280" cy="20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ae8ba"/>
                </a:solidFill>
                <a:latin typeface="Garamond"/>
              </a:rPr>
              <a:t>Население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0" y="1197000"/>
          <a:ext cx="9144000" cy="4973760"/>
        </p:xfrm>
        <a:graphic>
          <a:graphicData uri="http://schemas.openxmlformats.org/drawingml/2006/table">
            <a:tbl>
              <a:tblPr/>
              <a:tblGrid>
                <a:gridCol w="4718160"/>
                <a:gridCol w="4425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Финлянд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Шве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,15 млн.чел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фициальный язык - финский, шведский.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сновные религии: христианство, лютеранство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,9  млн.чел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фициальный язык - шведский.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сновная религия: христианство.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ae8ba"/>
                </a:solidFill>
                <a:latin typeface="Garamond"/>
              </a:rPr>
              <a:t>Валюта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0" y="836640"/>
          <a:ext cx="9144000" cy="6021360"/>
        </p:xfrm>
        <a:graphic>
          <a:graphicData uri="http://schemas.openxmlformats.org/drawingml/2006/table">
            <a:tbl>
              <a:tblPr/>
              <a:tblGrid>
                <a:gridCol w="4859280"/>
                <a:gridCol w="428472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Финлянд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Шве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инская марка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(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 пени), </a:t>
                      </a: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евро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шведская крона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100 ере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3" name="Picture 4" descr="cn_sweden5kr1983a"/>
          <p:cNvPicPr/>
          <p:nvPr/>
        </p:nvPicPr>
        <p:blipFill>
          <a:blip r:embed="rId2"/>
          <a:stretch/>
        </p:blipFill>
        <p:spPr>
          <a:xfrm>
            <a:off x="5148360" y="2852640"/>
            <a:ext cx="1296720" cy="1297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1" descr="cn_sweden5kr1983b"/>
          <p:cNvPicPr/>
          <p:nvPr/>
        </p:nvPicPr>
        <p:blipFill>
          <a:blip r:embed="rId3"/>
          <a:stretch/>
        </p:blipFill>
        <p:spPr>
          <a:xfrm>
            <a:off x="6732720" y="285264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2" descr="cn_sweden1kr1999a"/>
          <p:cNvPicPr/>
          <p:nvPr/>
        </p:nvPicPr>
        <p:blipFill>
          <a:blip r:embed="rId4"/>
          <a:stretch/>
        </p:blipFill>
        <p:spPr>
          <a:xfrm>
            <a:off x="5292720" y="436572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3" descr="cn_sweden1kr1999b"/>
          <p:cNvPicPr/>
          <p:nvPr/>
        </p:nvPicPr>
        <p:blipFill>
          <a:blip r:embed="rId5"/>
          <a:stretch/>
        </p:blipFill>
        <p:spPr>
          <a:xfrm>
            <a:off x="6659640" y="436572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4" descr="cn_sweden2ore2000a"/>
          <p:cNvPicPr/>
          <p:nvPr/>
        </p:nvPicPr>
        <p:blipFill>
          <a:blip r:embed="rId6"/>
          <a:stretch/>
        </p:blipFill>
        <p:spPr>
          <a:xfrm>
            <a:off x="5292720" y="5734080"/>
            <a:ext cx="800280" cy="799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5" descr="cn_sweden2ore2000b"/>
          <p:cNvPicPr/>
          <p:nvPr/>
        </p:nvPicPr>
        <p:blipFill>
          <a:blip r:embed="rId7"/>
          <a:stretch/>
        </p:blipFill>
        <p:spPr>
          <a:xfrm>
            <a:off x="6372360" y="5734080"/>
            <a:ext cx="799920" cy="799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7" descr="Картинка 1 из 16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79280" y="2781360"/>
            <a:ext cx="22212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ae8ba"/>
                </a:solidFill>
                <a:latin typeface="Garamond"/>
              </a:rPr>
              <a:t>Столица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539640" y="1413000"/>
          <a:ext cx="8282160" cy="4626000"/>
        </p:xfrm>
        <a:graphic>
          <a:graphicData uri="http://schemas.openxmlformats.org/drawingml/2006/table">
            <a:tbl>
              <a:tblPr/>
              <a:tblGrid>
                <a:gridCol w="4141800"/>
                <a:gridCol w="414036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Финлянд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Шве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ельсинк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окгольм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2" name="Picture 18" descr="IMGP0115"/>
          <p:cNvPicPr/>
          <p:nvPr/>
        </p:nvPicPr>
        <p:blipFill>
          <a:blip r:embed="rId2"/>
          <a:srcRect l="0" t="0" r="26" b="-35"/>
          <a:stretch/>
        </p:blipFill>
        <p:spPr>
          <a:xfrm>
            <a:off x="4788000" y="2924280"/>
            <a:ext cx="3960720" cy="293040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133" name="Picture 22" descr="Картинка 13 из 725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2924280"/>
            <a:ext cx="3952800" cy="293364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ae8ba"/>
                </a:solidFill>
                <a:latin typeface="Times New Roman"/>
              </a:rPr>
              <a:t>Наиболее крупные города</a:t>
            </a:r>
            <a:endParaRPr b="1" lang="en-US" sz="4800" spc="-1" strike="noStrike">
              <a:solidFill>
                <a:srgbClr val="bae8ba"/>
              </a:solidFill>
              <a:latin typeface="Garamond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50920" y="907920"/>
          <a:ext cx="8713800" cy="4413240"/>
        </p:xfrm>
        <a:graphic>
          <a:graphicData uri="http://schemas.openxmlformats.org/drawingml/2006/table">
            <a:tbl>
              <a:tblPr/>
              <a:tblGrid>
                <a:gridCol w="4541760"/>
                <a:gridCol w="4172040"/>
              </a:tblGrid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Финлянд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Шве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99ff33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</a:t>
                      </a: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ельсинки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91 тыс.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99ff33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спу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5 тыс.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99ff33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ампере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 тыс.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99ff33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антаа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5 тыс.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ff33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урку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5 тыс.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99ff33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окгольм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99ff33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ётеборг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99ff33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льмё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06:39:14Z</dcterms:created>
  <dc:creator>XTreme</dc:creator>
  <dc:description/>
  <dc:language>en-US</dc:language>
  <cp:lastModifiedBy>STAR</cp:lastModifiedBy>
  <dcterms:modified xsi:type="dcterms:W3CDTF">2012-09-02T05:41:44Z</dcterms:modified>
  <cp:revision>11</cp:revision>
  <dc:subject/>
  <dc:title>Швеция Финлянд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6110000000000010250300207f7000400038000</vt:lpwstr>
  </property>
</Properties>
</file>