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54285-7EFB-4A52-9AB2-1ED32AC153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6453B-52BD-4E53-BC5B-D5070CFD30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C062E-F0AF-405B-BBD0-B21ECFCF24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274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0904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462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274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0904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17E36-A295-4A6E-9023-3EA70B8408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EF4A5-2D0B-404A-8B7E-057EC4327F6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991FA-869B-4819-AA54-9DABA93571B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4E272-DB4B-4DEE-8986-057DEE8ED71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96D0B-3E3B-40A9-8965-253FA266038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D4169-41BF-4928-9245-D9D3EB7B9B5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71040" y="635040"/>
            <a:ext cx="78058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E3E2A-9123-4AB5-85C9-9041EA0F987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1C879-F048-448C-8DEF-F301EDE72B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FC94E-44BE-4676-A62C-FC58398A1A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4F102-F9BD-4AC6-8BC1-DDCA6FBA103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D02EC-1D58-4B32-B92B-6FFE6D86A2D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C25C6-F1CD-496C-86C2-83051234FB1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B87A4-131E-4B76-A229-A510425D89D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274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0904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7462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274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0904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6BDD9-5C02-4AD3-A1AD-48A92F8FDC4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88BD3-96F2-43A2-9EF7-81301B5FCA5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71040" y="635040"/>
            <a:ext cx="78058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274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904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7462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274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904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FBB6B-C78A-435A-870E-ECE141B01CE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71040" y="635040"/>
            <a:ext cx="78058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274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0904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7462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274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0904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DBF69-2DB3-4889-997D-3283B7CDBB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71040" y="635040"/>
            <a:ext cx="78058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0E17C-4A0D-413C-AD9E-BA7DC6F6B6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39503-7591-4A36-9F65-AC8A000EDE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A1BFE-5F76-48A2-B87D-722DBB5BC5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ACCFB-7A70-43EF-A76E-1FF3281ECD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2376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16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520"/>
            <a:ext cx="2125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D5FC6C-6F37-4C28-991E-7AD1B8E67E46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1440"/>
          </a:xfrm>
          <a:prstGeom prst="line">
            <a:avLst/>
          </a:prstGeom>
          <a:ln cap="sq"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228600" y="2889360"/>
            <a:ext cx="8602560" cy="193680"/>
            <a:chOff x="228600" y="2889360"/>
            <a:chExt cx="8602560" cy="193680"/>
          </a:xfrm>
        </p:grpSpPr>
        <p:sp>
          <p:nvSpPr>
            <p:cNvPr id="46" name=""/>
            <p:cNvSpPr/>
            <p:nvPr/>
          </p:nvSpPr>
          <p:spPr>
            <a:xfrm>
              <a:off x="228600" y="2889360"/>
              <a:ext cx="2862360" cy="19368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98880" y="2889360"/>
              <a:ext cx="2862360" cy="1936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969160" y="2889360"/>
              <a:ext cx="2862000" cy="19368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2376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16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25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B0C3914-D5B9-4155-B269-25CF4B03B37D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45920" y="1937880"/>
            <a:ext cx="762948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1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67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67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90600" y="431640"/>
            <a:ext cx="8105760" cy="58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е́верный Кавка́з (осет. Цæгат Кавказ, чеч. Къилбаседан Кавказ, карач. -балк. Шымал Кавказ, абх. Нхыҵ[) — регион в Восточной Европе, находится в Европейской части Российской Федерации, включающий Предкавказье, северную часть склона Большого Кавказского хребта (исключая его восточную часть, относящуюся к Азербайджану) , западную часть южного склона до реки Псоу (по которой проходит граница между Россией и Абхазией) . Самый многонациональный район Росси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еверный Кавказ — крупнейшая сельскохозяйственная база России, в которой сельскохозяйственные угодья занимают более 70 % территории. Регион — место расположения лучших морских и горных курортов России, среди них курорты Краснодарского края, кавказские Минеральные Воды, Домбай, перспективное Каспийское побережьеЗначительны природные ресурсы региона: имеются запасы нефти и газа, высокий гидроэнергетический и геотермальный потенциал, запасы руд промышленных металлов, урановых руд, строительного сырья, ценных пород древесины, запасы водных биологических ресурсов (рыба и морепродукты) 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бережья Северного Кавказа обладают особым торговым значением для страны, здесь расположены важные порты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71280"/>
            <a:ext cx="9144000" cy="6786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4280" y="2376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23760"/>
            <a:ext cx="91882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23760"/>
            <a:ext cx="91882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23760"/>
            <a:ext cx="91882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23760"/>
            <a:ext cx="91882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73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100" spc="-1" strike="noStrike">
                <a:solidFill>
                  <a:srgbClr val="99284c"/>
                </a:solidFill>
                <a:latin typeface="Arial"/>
              </a:rPr>
              <a:t>Актуальность исследования</a:t>
            </a: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31640" y="1152360"/>
            <a:ext cx="8136000" cy="58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удьба народов Северного Кавказа, их история в последние несколько столетий тесно связана с судьбой народов Российской империи, Советского Союза и Российской Федерации. И все социальные, экономические и политические процессы происходили в рамках развития общероссийской цивилизации. В полной мере это относится и к процессу формирования, становления и развития светской системы образования на Северном Кавказе. Сложность строительства системы образования в этом регионе определяется уже тем, что здесь испокон веков проживают сорок пять автохтонных народов, говорящих на языках кавказской, алтайской и индоевропейской языковых семей. Они пришли к анализируемому нами периоду с различным экономическим и социальным уровнем развития, а также политическим опытом. Уже на основании этого можно говорить об уникальности Северного Кавказа по национальному составу, социально-политическому и историческому положению. Именно поэтому опыт строительства цивилизованного общества в этом сложном регионе является бесценны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31640" y="647640"/>
            <a:ext cx="8280720" cy="53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еверный Кавказ служил неким мостом, который связывал культуры южных степных районов с культурными традициями Древнего Востока через Закавказье. В связи с чем, история племен Северного Кавказа оказала тесно переплетенной с историей других племен и народов древнего мир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 конца II и почти до самой серединки I тысячелетия до н.э. весь северо-восточный Кавказ (Дагестан и восточную часть Чечни и Ингушетии) занимала изученная только в советские годы каякентско-хорочоевская археологическая культура. Установлено, что в ее становлении сказалась известная роль культур Закавказья и именно так называемой культуры ходжалы-кедабекско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границах Кавказа в северо-западной части и в Прикубанье, на основе местной, культуры медно-бронзового века, возникает прикубанская культура. Позднее, на ее основе и в тесном взаимодействии с культурами киммерийцев и скифов, формируются культурно-политические союзы синдов, меотов и прочих народностей Кавказа в северо-западной его части, связавших свою судьбу с историей Боспорского царств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23760"/>
            <a:ext cx="91882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71280"/>
            <a:ext cx="9144000" cy="6786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23760"/>
            <a:ext cx="91882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7T14:13:04Z</dcterms:created>
  <dc:creator>Teymur</dc:creator>
  <dc:description/>
  <dc:language>en-US</dc:language>
  <cp:lastModifiedBy>эв</cp:lastModifiedBy>
  <dcterms:modified xsi:type="dcterms:W3CDTF">2012-02-20T09:30:27Z</dcterms:modified>
  <cp:revision>61</cp:revision>
  <dc:subject/>
  <dc:title>Азербайджа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2210000000000010250300207f7000400038000</vt:lpwstr>
  </property>
</Properties>
</file>