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CB18-545E-4F67-B1DE-18A2161EA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8ACB-910C-410D-88E5-D432B8BF0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4746-2C85-4B2C-8974-CCDBDBCBB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8517-314B-4072-8934-184B04E44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F156-EA70-41ED-B225-93BD2F584E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732D-8946-4538-8239-840CB752CA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469F-8C40-49C9-A11C-3B5548116C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0EE8-FA08-4FD6-B7E3-BF2ED64D4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797D-BD95-40BC-9686-C06A91617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433A-F351-4754-BAA7-8C4A2AE3E8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416D-CD2B-4BD6-B16D-76DFCC0FD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6F9B-5292-449E-AB6B-365637846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2801-1378-4C43-B2A9-AFA7D5DC91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161B-A9B2-484C-A6B2-C785586BEB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BA93-6598-4372-9360-8E25A1B7EB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9021-B917-4051-9D14-6693C3A90F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B994-635F-49A0-B5FB-B29EF9FD53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6AA6-6386-4CA0-9951-829C719438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ABF6-6953-4FB3-BB1B-9C70405723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8182-B0D5-4898-98DB-083E9315C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4CAC-79E9-4EE8-AE89-4E2E444C6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981E-B2B3-4D21-AF98-5E4374959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A3BC-6A08-4754-90CD-C6D2D007B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5135-08AE-4628-A117-EBD5EB057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C8D84-51F9-45EA-ABFF-6540DCD61BE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2560" cy="193680"/>
            <a:chOff x="228600" y="2889360"/>
            <a:chExt cx="8602560" cy="19368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2360" cy="19368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2360" cy="193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2000" cy="19368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75B50A-1C8F-4F8C-AE59-385487B59FB4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45920" y="1937880"/>
            <a:ext cx="76294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0600" y="431640"/>
            <a:ext cx="81057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́верный Кавка́з (осет. Цæгат Кавказ, чеч. Къилбаседан Кавказ, карач. -балк. Шымал Кавказ, абх. Нхыҵ[) — регион в Восточной Европе, находится в Европейской части Российской Федерации, включающий Предкавказье, северную часть склона Большого Кавказского хребта (исключая его восточную часть, относящуюся к Азербайджану) , западную часть южного склона до реки Псоу (по которой проходит граница между Россией и Абхазией) . Самый многонациональный район Росс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верный Кавказ — крупнейшая сельскохозяйственная база России, в которой сельскохозяйственные угодья занимают более 70 % территории. Регион — место расположения лучших морских и горных курортов России, среди них курорты Краснодарского края, кавказские Минеральные Воды, Домбай, перспективное Каспийское побережьеЗначительны природные ресурсы региона: имеются запасы нефти и газа, высокий гидроэнергетический и геотермальный потенциал, запасы руд промышленных металлов, урановых руд, строительного сырья, ценных пород древесины, запасы водных биологических ресурсов (рыба и морепродукты)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бережья Северного Кавказа обладают особым торговым значением для страны, здесь расположены важные пор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4280" y="23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Актуальность исследования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1640" y="1152360"/>
            <a:ext cx="813600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дьба народов Северного Кавказа, их история в последние несколько столетий тесно связана с судьбой народов Российской империи, Советского Союза и Российской Федерации. И все социальные, экономические и политические процессы происходили в рамках развития общероссийской цивилизации. В полной мере это относится и к процессу формирования, становления и развития светской системы образования на Северном Кавказе. Сложность строительства системы образования в этом регионе определяется уже тем, что здесь испокон веков проживают сорок пять автохтонных народов, говорящих на языках кавказской, алтайской и индоевропейской языковых семей. Они пришли к анализируемому нами периоду с различным экономическим и социальным уровнем развития, а также политическим опытом. Уже на основании этого можно говорить об уникальности Северного Кавказа по национальному составу, социально-политическому и историческому положению. Именно поэтому опыт строительства цивилизованного общества в этом сложном регионе является бесценн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31640" y="647640"/>
            <a:ext cx="82807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верный Кавказ служил неким мостом, который связывал культуры южных степных районов с культурными традициями Древнего Востока через Закавказье. В связи с чем, история племен Северного Кавказа оказала тесно переплетенной с историей других племен и народов древнего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конца II и почти до самой серединки I тысячелетия до н.э. весь северо-восточный Кавказ (Дагестан и восточную часть Чечни и Ингушетии) занимала изученная только в советские годы каякентско-хорочоевская археологическая культура. Установлено, что в ее становлении сказалась известная роль культур Закавказья и именно так называемой культуры ходжалы-кедабекс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границах Кавказа в северо-западной части и в Прикубанье, на основе местной, культуры медно-бронзового века, возникает прикубанская культура. Позднее, на ее основе и в тесном взаимодействии с культурами киммерийцев и скифов, формируются культурно-политические союзы синдов, меотов и прочих народностей Кавказа в северо-западной его части, связавших свою судьбу с историей Боспорского ц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Teymur</dc:creator>
  <dc:description/>
  <dc:language>en-US</dc:language>
  <cp:lastModifiedBy>эв</cp:lastModifiedBy>
  <dcterms:modified xsi:type="dcterms:W3CDTF">2012-02-20T09:30:27Z</dcterms:modified>
  <cp:revision>61</cp:revision>
  <dc:subject/>
  <dc:title>Азербайдж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10000000000010250300207f7000400038000</vt:lpwstr>
  </property>
</Properties>
</file>