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DF40-99FF-4EA5-8B7F-FC12186CE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96BF-9C8A-40FC-B647-BC3EF01D1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4B7D-F4AC-4C09-BA2D-CCC120109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B1DC-4A60-41FE-9708-B463E1D81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02B5-5975-437A-93BA-4776799577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8A39-F463-4903-A24A-0E2CBDF471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066F-3D10-4E1C-8076-A9606D613F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A3E1-7ECA-46F6-9F75-3973DF57D2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8A9D-5BD6-41F0-B9A5-C53FAF3DB3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11FD-A6BA-4E4B-8A36-E16A66EBA7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39ED-747E-4564-8E78-F51D33D48D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2DF0-EFA1-4C77-82BB-C28801056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B932-40BA-4640-AB17-6175018CEA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5B12-0820-4A66-B953-5192CF654A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A552-6C9B-4430-A271-280A895D78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2ED5-B3A6-477F-AD01-9AC301442F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15F65-C3AA-4C24-A038-E3F7B979A1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B5C0-5880-468D-8A9C-6B55E84111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EA8C-3611-45A5-A744-46AC46AD15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5709-CF8C-40BD-8966-BB50AED9D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51EA-9383-4039-9F15-86E926B22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FDC4-5399-4C86-A93C-01671EAAD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DE37-F1BC-4CAB-93B2-A6D2EEC48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4546-2098-4CEF-B165-5C3D3787B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69356-7982-4FD1-BF30-6C9F0DB3AEE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cap="sq"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889360"/>
            <a:ext cx="8602560" cy="193680"/>
            <a:chOff x="228600" y="2889360"/>
            <a:chExt cx="8602560" cy="193680"/>
          </a:xfrm>
        </p:grpSpPr>
        <p:sp>
          <p:nvSpPr>
            <p:cNvPr id="46" name=""/>
            <p:cNvSpPr/>
            <p:nvPr/>
          </p:nvSpPr>
          <p:spPr>
            <a:xfrm>
              <a:off x="228600" y="2889360"/>
              <a:ext cx="2862360" cy="19368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98880" y="2889360"/>
              <a:ext cx="2862360" cy="193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69160" y="2889360"/>
              <a:ext cx="2862000" cy="19368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376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16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019748-A678-47BF-8045-B42FD897F5ED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45920" y="1937880"/>
            <a:ext cx="76294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0600" y="431640"/>
            <a:ext cx="81057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́верный Кавка́з (осет. Цæгат Кавказ, чеч. Къилбаседан Кавказ, карач. -балк. Шымал Кавказ, абх. Нхыҵ[) — регион в Восточной Европе, находится в Европейской части Российской Федерации, включающий Предкавказье, северную часть склона Большого Кавказского хребта (исключая его восточную часть, относящуюся к Азербайджану) , западную часть южного склона до реки Псоу (по которой проходит граница между Россией и Абхазией) . Самый многонациональный район Росс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верный Кавказ — крупнейшая сельскохозяйственная база России, в которой сельскохозяйственные угодья занимают более 70 % территории. Регион — место расположения лучших морских и горных курортов России, среди них курорты Краснодарского края, кавказские Минеральные Воды, Домбай, перспективное Каспийское побережьеЗначительны природные ресурсы региона: имеются запасы нефти и газа, высокий гидроэнергетический и геотермальный потенциал, запасы руд промышленных металлов, урановых руд, строительного сырья, ценных пород древесины, запасы водных биологических ресурсов (рыба и морепродукты)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бережья Северного Кавказа обладают особым торговым значением для страны, здесь расположены важные пор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4280" y="23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Актуальность исследования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1640" y="1152360"/>
            <a:ext cx="813600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дьба народов Северного Кавказа, их история в последние несколько столетий тесно связана с судьбой народов Российской империи, Советского Союза и Российской Федерации. И все социальные, экономические и политические процессы происходили в рамках развития общероссийской цивилизации. В полной мере это относится и к процессу формирования, становления и развития светской системы образования на Северном Кавказе. Сложность строительства системы образования в этом регионе определяется уже тем, что здесь испокон веков проживают сорок пять автохтонных народов, говорящих на языках кавказской, алтайской и индоевропейской языковых семей. Они пришли к анализируемому нами периоду с различным экономическим и социальным уровнем развития, а также политическим опытом. Уже на основании этого можно говорить об уникальности Северного Кавказа по национальному составу, социально-политическому и историческому положению. Именно поэтому опыт строительства цивилизованного общества в этом сложном регионе является бесценны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31640" y="647640"/>
            <a:ext cx="82807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верный Кавказ служил неким мостом, который связывал культуры южных степных районов с культурными традициями Древнего Востока через Закавказье. В связи с чем, история племен Северного Кавказа оказала тесно переплетенной с историей других племен и народов древнего ми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конца II и почти до самой серединки I тысячелетия до н.э. весь северо-восточный Кавказ (Дагестан и восточную часть Чечни и Ингушетии) занимала изученная только в советские годы каякентско-хорочоевская археологическая культура. Установлено, что в ее становлении сказалась известная роль культур Закавказья и именно так называемой культуры ходжалы-кедабекс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границах Кавказа в северо-западной части и в Прикубанье, на основе местной, культуры медно-бронзового века, возникает прикубанская культура. Позднее, на ее основе и в тесном взаимодействии с культурами киммерийцев и скифов, формируются культурно-политические союзы синдов, меотов и прочих народностей Кавказа в северо-западной его части, связавших свою судьбу с историей Боспорского ца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Teymur</dc:creator>
  <dc:description/>
  <dc:language>en-US</dc:language>
  <cp:lastModifiedBy>эв</cp:lastModifiedBy>
  <dcterms:modified xsi:type="dcterms:W3CDTF">2012-02-20T09:30:27Z</dcterms:modified>
  <cp:revision>61</cp:revision>
  <dc:subject/>
  <dc:title>Азербайджа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10000000000010250300207f7000400038000</vt:lpwstr>
  </property>
</Properties>
</file>