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593-D6FA-40A3-9444-FBBBB496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68B-0E8D-489B-A352-9F23EE1C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364-D4EA-44E9-AB5E-FB266FF2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387-D83B-4DF4-BCA7-8B9B74C7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27C-92D2-4758-9882-817425DA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7D6-CB3B-4FA0-8EE2-469F4F4D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E53-111D-4E64-9B06-09A5EF5D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318-FBCE-40D5-95C8-4F3E8FED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D15-97F5-4D0F-8A9B-E4D641E1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330-C0E8-40FD-857A-479BBB2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1A1-C042-4C61-A75B-D430FDE5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1A8-C75C-408B-91B5-9B6E86B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ADF8-A02E-4EEC-A506-4940D7490D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380880"/>
            <a:ext cx="60962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урока: «Северная Амер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752480"/>
            <a:ext cx="35053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124080"/>
            <a:ext cx="5943600" cy="3429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Географическое положение и истор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я матер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Рельеф и полезные ископаем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лимат и внутренние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Природные зоны Северной Амер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23888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120" y="5257800"/>
            <a:ext cx="807696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омную водную систему образуют Великие озера и река Свят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ентия, которая соединяет их с Атлантическим океаном. Р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гара соединила озера Эри и Онтарио. Срываясь с крутого уступа, 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ет Ниагарский водоп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26744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504960" cy="233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2971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Верхн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Мичиг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572000" cy="2438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095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Онтари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58128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62720" y="6316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60320" y="60958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228600"/>
            <a:ext cx="6095880" cy="990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одные зоны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324480" cy="4216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4480" y="1295280"/>
            <a:ext cx="281952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ие  природ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ктических пустын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ндры , лесотун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йги  подчиняется  з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у широт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а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362320"/>
            <a:ext cx="914400" cy="457200"/>
          </a:xfrm>
          <a:custGeom>
            <a:avLst/>
            <a:gdLst>
              <a:gd name="textAreaLeft" fmla="*/ 0 w 914400"/>
              <a:gd name="textAreaRight" fmla="*/ 91476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809880"/>
            <a:ext cx="2895480" cy="274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ие природ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 умеренного пояса см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анных широколиств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сов, степей, лесостепе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ынь и полупустынь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яется 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диональном направл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и с востока на запа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35268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562720"/>
            <a:ext cx="4876920" cy="12952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орах ярко выражена высотная пояс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657600"/>
            <a:ext cx="533520" cy="304920"/>
          </a:xfrm>
          <a:custGeom>
            <a:avLst/>
            <a:gdLst>
              <a:gd name="textAreaLeft" fmla="*/ 71280 w 533520"/>
              <a:gd name="textAreaRight" fmla="*/ 462240 w 5335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733920"/>
            <a:ext cx="228600" cy="152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6640 h 152280"/>
              <a:gd name="textAreaBottom" fmla="*/ 1105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0"/>
            <a:ext cx="6400800" cy="685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9160" y="800280"/>
            <a:ext cx="2734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Относительно эква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ая Ам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а  с северн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шари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тносительно нуле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диана в западн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ша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На север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ым Ледовит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еан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На запад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хим океан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 восток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лантическим океа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4724280"/>
            <a:ext cx="3504960" cy="3812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йние точки мат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4120"/>
            <a:ext cx="4267080" cy="380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верная-мыс Мерчи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1219320"/>
            <a:ext cx="228600" cy="759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4267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жная- мыс Марья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62520"/>
            <a:ext cx="152280" cy="2286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5334120"/>
            <a:ext cx="4496040" cy="3808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адная-мыс Принца Уэль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00200" y="1066680"/>
            <a:ext cx="7632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6019920"/>
            <a:ext cx="449604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точная-мыс Сент-Чарль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30456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715000" cy="406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304920"/>
            <a:ext cx="731520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я исследования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8380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185400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8600" y="116208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5029200"/>
            <a:ext cx="6858000" cy="685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истофор Колумб-Багамские и Антильские о-в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ссейн Карибского мор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791320"/>
            <a:ext cx="6858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аль Амундсен- северное побережье матер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248520"/>
            <a:ext cx="838188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ус Беринг-1741г. Открытие морского пути от Алеутских  о-в к Аляс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81080" y="380880"/>
            <a:ext cx="5943600" cy="381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63240" y="852480"/>
            <a:ext cx="4245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ении поверхности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ют равнины, горы занимаю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тью ча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ьеф восточной части мат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формировался на платформ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рхность которой длитель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емя разрушалась и выравнивала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ельефе северной части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ют низменные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вышенные равнины, сложе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евними кристаллическими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дам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" y="4568760"/>
            <a:ext cx="865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востоке материка расположены невысокие горы древней складчат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ппалачи. Склоны гор пологие, вершины округлые, высота немногим бо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00 м. Вдоль западного побережья протянулись Кордильеры и Скалистые го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относятся к области новой (кайнозойской) и средней (мезозойской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ладчатости. Такое строение поверхности связано с расположением мат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еверо-Американской литосферной плите, которая на западе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ничит с Тихоокеанской литосферной плитой. В зоне столкновения пли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блюдаются землетрясения и извержения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87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5638680"/>
            <a:ext cx="36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88200" y="14400"/>
            <a:ext cx="28843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верной  ч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ин преоблад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рождения ру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аллов: желез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, никеля и др.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адочных пород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тральных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их равнин, а так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ессисип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менности м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фти, природного газ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енного угля.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палачах и 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горьях залег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лезные руды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енный уго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дильеры богаты ка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адочными, так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матическими полез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ыми  ископаемы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257800"/>
            <a:ext cx="457200" cy="152280"/>
          </a:xfrm>
          <a:custGeom>
            <a:avLst/>
            <a:gdLst>
              <a:gd name="textAreaLeft" fmla="*/ 79920 w 457200"/>
              <a:gd name="textAreaRight" fmla="*/ 331560 w 4572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495680"/>
            <a:ext cx="304920" cy="376200"/>
          </a:xfrm>
          <a:custGeom>
            <a:avLst/>
            <a:gdLst>
              <a:gd name="textAreaLeft" fmla="*/ 40680 w 304920"/>
              <a:gd name="textAreaRight" fmla="*/ 264240 w 30492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419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819520" cy="179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943600" cy="3606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267080"/>
            <a:ext cx="820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верная Америка находится во всех климатических поясах, кром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ваториального. На климат материка оказывают существенное в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ющие факторы: океанические течения, рельеф, подстилающ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ь и движение воздушных масс. Летом температура зависит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роты местности и увеличивается при движении с севера на ю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943600"/>
            <a:ext cx="792504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ание: определить среднюю температуру июля для все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иматических поя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0"/>
            <a:ext cx="60199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5105520"/>
            <a:ext cx="7848720" cy="14475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карту распределения зимних температур 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ь климат полуостровов Аляска и Лабрадо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343400"/>
            <a:ext cx="289548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ь 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25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0"/>
            <a:ext cx="2971800" cy="17524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вами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514600"/>
            <a:ext cx="2514600" cy="2209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йте и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ьте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" y="4762440"/>
            <a:ext cx="81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аком городе наблюдаются самые высокие летние температуры и почем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960" y="5067360"/>
            <a:ext cx="79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 В каком городе наблюдаются самые низкие зимние температуры и почем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6720" y="5372280"/>
            <a:ext cx="83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  В каком городе выпадает наибольшее количество осадков и в какое время го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5753160"/>
            <a:ext cx="84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 В каких климатических поясах  и климатических областях находятся эти горо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380880"/>
            <a:ext cx="5181480" cy="45720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е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00800" cy="4013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9880" y="1676520"/>
            <a:ext cx="152640" cy="75960"/>
          </a:xfrm>
          <a:prstGeom prst="irregularSeal2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327320" y="5029200"/>
            <a:ext cx="27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200400" y="1523880"/>
            <a:ext cx="7632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99880" y="358128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886200"/>
            <a:ext cx="152280" cy="763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flipH="1" rot="10800000">
            <a:off x="685800" y="3429000"/>
            <a:ext cx="2209680" cy="1473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3276720"/>
            <a:ext cx="1066680" cy="304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240" y="496728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большая река Северной Америки-</a:t>
            </a:r>
            <a:r>
              <a:rPr b="0" lang="ru-RU" sz="2000" spc="-1" strike="noStrike">
                <a:solidFill>
                  <a:srgbClr val="6600ff"/>
                </a:solidFill>
                <a:latin typeface="Times New Roman"/>
              </a:rPr>
              <a:t>Миссисип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920" y="5181480"/>
            <a:ext cx="79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евере материка течет река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Маккенз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ая впадает в Север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довитый о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4840" y="5805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Юкон и Колорад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адают в Тихий о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400800"/>
            <a:ext cx="175248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6248520"/>
            <a:ext cx="67816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реки используются для судоходства и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реки богаты гидроэнергией и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Загацкая Елена Васильевна</dc:description>
  <dc:language>en-US</dc:language>
  <cp:lastModifiedBy>Alexey Krylov</cp:lastModifiedBy>
  <dcterms:modified xsi:type="dcterms:W3CDTF">2005-05-16T08:20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90000000000010243100207f6000400038000</vt:lpwstr>
  </property>
</Properties>
</file>