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552A8-A131-4D1E-8EE1-6EEB744D7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4497A-7F13-474B-AB2D-0DFFA68DC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5361A-5EE1-4098-9E08-37A6787CE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FCE1B-7308-4F1C-A946-DFB46FBE3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4415D-AB7C-4E2D-86D8-79CCA4871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627BD-A43A-4086-BCBB-164D1502B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5252A-6714-479A-A4E9-5E710CBAA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ED9C3-2364-483C-A833-785A12194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943AF-88EA-46DF-9B85-37B7B832D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003BA-5314-446C-87B0-CED6C9A9A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7499B-BEEC-461A-A182-88529FE66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1EC1A-4536-4AE4-AFD8-D0A736CAF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44C46-D1C8-4BF9-B8CF-BE397023513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380880"/>
            <a:ext cx="6096240" cy="838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ема урока: «Северная Америка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200400" y="1752480"/>
            <a:ext cx="3505320" cy="9907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лан  уро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057400" y="3124080"/>
            <a:ext cx="5943600" cy="3429000"/>
          </a:xfrm>
          <a:prstGeom prst="rect">
            <a:avLst/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.Географическое положение и истори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сследования материк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.Рельеф и полезные ископаемы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. Климат и внутренние вод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4.Природные зоны Северной Америк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3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" dur="3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762120" y="228600"/>
            <a:ext cx="7238880" cy="47242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762120" y="5257800"/>
            <a:ext cx="8076960" cy="121932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громную водную систему образуют Великие озера и река Святог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Лаврентия, которая соединяет их с Атлантическим океаном. Река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иагара соединила озера Эри и Онтарио. Срываясь с крутого уступа, он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бразует Ниагарский водопад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0" dur="3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80880" y="685800"/>
            <a:ext cx="4267440" cy="23623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5105520" y="762120"/>
            <a:ext cx="3504960" cy="233676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990720" y="297180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зеро Верхне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867280" y="31240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зеро Мичига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304920" y="3581280"/>
            <a:ext cx="4572000" cy="243864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1371600" y="609588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зеро Онтари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4"/>
          <a:stretch/>
        </p:blipFill>
        <p:spPr>
          <a:xfrm>
            <a:off x="5105520" y="3581280"/>
            <a:ext cx="3581280" cy="24386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5562720" y="63165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260320" y="6095880"/>
            <a:ext cx="285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иагарский водопа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6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7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8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0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371600" y="228600"/>
            <a:ext cx="6095880" cy="9907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755e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иродные зоны Северной Америк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1295280"/>
            <a:ext cx="6324480" cy="421668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6324480" y="1295280"/>
            <a:ext cx="2819520" cy="22100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асположение  природны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зо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рктических пустынь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Тундры , лесотундр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тайги  подчиняется  за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ону широтно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зональност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066680" y="2362320"/>
            <a:ext cx="914400" cy="457200"/>
          </a:xfrm>
          <a:custGeom>
            <a:avLst/>
            <a:gdLst>
              <a:gd name="textAreaLeft" fmla="*/ 0 w 914400"/>
              <a:gd name="textAreaRight" fmla="*/ 914760 w 9144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248520" y="3809880"/>
            <a:ext cx="2895480" cy="2743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асположение природных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зон умеренного пояса сме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шанных широколиственных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лесов, степей, лесостепей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устынь и полупустынь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зменяется  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еридиональном направле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ии с востока на запад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352680"/>
            <a:ext cx="1523880" cy="228600"/>
          </a:xfrm>
          <a:prstGeom prst="leftArrow">
            <a:avLst>
              <a:gd name="adj1" fmla="val 50000"/>
              <a:gd name="adj2" fmla="val 166654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562720"/>
            <a:ext cx="4876920" cy="1295280"/>
          </a:xfrm>
          <a:prstGeom prst="ellipse">
            <a:avLst/>
          </a:prstGeom>
          <a:gradFill rotWithShape="0">
            <a:gsLst>
              <a:gs pos="0">
                <a:srgbClr val="cccc00"/>
              </a:gs>
              <a:gs pos="100000">
                <a:srgbClr val="5e5e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горах ярко выражена высотная поясност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066680" y="3657600"/>
            <a:ext cx="533520" cy="304920"/>
          </a:xfrm>
          <a:custGeom>
            <a:avLst/>
            <a:gdLst>
              <a:gd name="textAreaLeft" fmla="*/ 71280 w 533520"/>
              <a:gd name="textAreaRight" fmla="*/ 462240 w 533520"/>
              <a:gd name="textAreaTop" fmla="*/ 53280 h 304920"/>
              <a:gd name="textAreaBottom" fmla="*/ 2210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666880" y="3733920"/>
            <a:ext cx="228600" cy="152280"/>
          </a:xfrm>
          <a:custGeom>
            <a:avLst/>
            <a:gdLst>
              <a:gd name="textAreaLeft" fmla="*/ 30600 w 228600"/>
              <a:gd name="textAreaRight" fmla="*/ 198000 w 228600"/>
              <a:gd name="textAreaTop" fmla="*/ 26640 h 152280"/>
              <a:gd name="textAreaBottom" fmla="*/ 11052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080" bIns="37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1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523880" y="0"/>
            <a:ext cx="6400800" cy="68580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100000">
                <a:srgbClr val="75752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еографическое положе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685800"/>
            <a:ext cx="5562720" cy="37083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699160" y="800280"/>
            <a:ext cx="2734920" cy="43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.Относительно экватор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еверная Америка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асположена  с северном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лушарии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2. Относительно нулевог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еридиана в западном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лушари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3.На севере омывается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еверным Ледовитым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кеаном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4.На западе омывается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Тихим океаном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5. На востоке омывается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тлантическим океано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905120" y="4724280"/>
            <a:ext cx="3504960" cy="381240"/>
          </a:xfrm>
          <a:prstGeom prst="rect">
            <a:avLst/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райние точки матери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5334120"/>
            <a:ext cx="4267080" cy="380880"/>
          </a:xfrm>
          <a:prstGeom prst="rect">
            <a:avLst/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еверная-мыс Мерчисо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666880" y="1219320"/>
            <a:ext cx="228600" cy="75960"/>
          </a:xfrm>
          <a:prstGeom prst="irregularSeal1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6019920"/>
            <a:ext cx="4267080" cy="3808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Южная- мыс Марьят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76720" y="3962520"/>
            <a:ext cx="152280" cy="228600"/>
          </a:xfrm>
          <a:prstGeom prst="irregularSeal1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495680" y="5334120"/>
            <a:ext cx="4496040" cy="380880"/>
          </a:xfrm>
          <a:prstGeom prst="rect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падная-мыс Принца Уэльског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H="1" flipV="1">
            <a:off x="1600200" y="1066680"/>
            <a:ext cx="76320" cy="76320"/>
          </a:xfrm>
          <a:prstGeom prst="irregularSeal1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95680" y="6019920"/>
            <a:ext cx="4496040" cy="38088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осточная-мыс Сент-Чарль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733920" y="1828800"/>
            <a:ext cx="304560" cy="76320"/>
          </a:xfrm>
          <a:prstGeom prst="irregularSeal1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0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" dur="3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7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905120" y="914400"/>
            <a:ext cx="5715000" cy="40640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1143000" y="304920"/>
            <a:ext cx="7315200" cy="459720"/>
          </a:xfrm>
          <a:prstGeom prst="rect">
            <a:avLst/>
          </a:prstGeom>
          <a:gradFill rotWithShape="0">
            <a:gsLst>
              <a:gs pos="0">
                <a:srgbClr val="5e5e75"/>
              </a:gs>
              <a:gs pos="100000">
                <a:srgbClr val="cccc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стория исследования Северной Америк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7315200" y="838080"/>
            <a:ext cx="1600200" cy="14097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6934320" y="3276720"/>
            <a:ext cx="1854000" cy="13906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4"/>
          <a:stretch/>
        </p:blipFill>
        <p:spPr>
          <a:xfrm>
            <a:off x="228600" y="1162080"/>
            <a:ext cx="2057400" cy="154296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838080" y="5029200"/>
            <a:ext cx="6858000" cy="68580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Христофор Колумб-Багамские и Антильские о-ва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бассейн Карибского мор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838080" y="5791320"/>
            <a:ext cx="6858000" cy="38088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уаль Амундсен- северное побережье материк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04920" y="6248520"/>
            <a:ext cx="8381880" cy="45720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итус Беринг-1741г. Открытие морского пути от Алеутских  о-в к Аляск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1" dur="3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3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33" dur="3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981080" y="380880"/>
            <a:ext cx="5943600" cy="38124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755e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ельеф и полезные ископаемы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63240" y="852480"/>
            <a:ext cx="4245120" cy="36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троении поверхности материк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реобладают равнины, горы занимаю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третью часть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Рельеф восточной части материка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формировался на платформе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оверхность которой длительное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ремя разрушалась и выравнивалась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 рельефе северной части материк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реобладают низменные и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озвышенные равнины, сложенные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древними кристаллическими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ородами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80" y="4568760"/>
            <a:ext cx="8654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На востоке материка расположены невысокие горы древней складчатост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Аппалачи. Склоны гор пологие, вершины округлые, высота немногим боле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2000 м. Вдоль западного побережья протянулись Кордильеры и Скалистые горы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оторые относятся к области новой (кайнозойской) и средней (мезозойской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кладчатости. Такое строение поверхности связано с расположением материка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на Северо-Американской литосферной плите, которая на западе материк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граничит с Тихоокеанской литосферной плитой. В зоне столкновения плит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Наблюдаются землетрясения и извержения вулканов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838080"/>
            <a:ext cx="487692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75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75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75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75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5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2209680"/>
            <a:ext cx="6095880" cy="46483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762120" y="5638680"/>
            <a:ext cx="36352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838080" y="646128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388200" y="14400"/>
            <a:ext cx="2884320" cy="68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северной  части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авнин преобладают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есторождения руд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еталлов: железа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еди, никеля и др. В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садочных породах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Центральных и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еликих равнин, а такж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 Мессисипской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изменности много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ефти, природного газа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аменного угля. В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Аппалачах и их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едгорьях залегают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железные руды и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аменный уголь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ордильеры богаты как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садочными, так и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агматическими полез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ыми  ископаемыми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752480" y="5257800"/>
            <a:ext cx="457200" cy="152280"/>
          </a:xfrm>
          <a:custGeom>
            <a:avLst/>
            <a:gdLst>
              <a:gd name="textAreaLeft" fmla="*/ 79920 w 457200"/>
              <a:gd name="textAreaRight" fmla="*/ 331560 w 457200"/>
              <a:gd name="textAreaTop" fmla="*/ 20160 h 152280"/>
              <a:gd name="textAreaBottom" fmla="*/ 132120 h 152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514600" y="4495680"/>
            <a:ext cx="304920" cy="376200"/>
          </a:xfrm>
          <a:custGeom>
            <a:avLst/>
            <a:gdLst>
              <a:gd name="textAreaLeft" fmla="*/ 40680 w 304920"/>
              <a:gd name="textAreaRight" fmla="*/ 264240 w 304920"/>
              <a:gd name="textAreaTop" fmla="*/ 65880 h 376200"/>
              <a:gd name="textAreaBottom" fmla="*/ 272880 h 376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066680" y="4419720"/>
            <a:ext cx="228600" cy="228600"/>
          </a:xfrm>
          <a:custGeom>
            <a:avLst/>
            <a:gdLst>
              <a:gd name="textAreaLeft" fmla="*/ 0 w 228600"/>
              <a:gd name="textAreaRight" fmla="*/ 228960 w 22860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1828800" y="152280"/>
            <a:ext cx="2819520" cy="17910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352680"/>
            <a:ext cx="9144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523880" y="609480"/>
            <a:ext cx="5943600" cy="360684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09480" y="4267080"/>
            <a:ext cx="82058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еверная Америка находится во всех климатических поясах, кроме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экваториального. На климат материка оказывают существенное влия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ледующие факторы: океанические течения, рельеф, подстилающая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верхность и движение воздушных масс. Летом температура зависит от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широты местности и увеличивается при движении с севера на юг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09480" y="5943600"/>
            <a:ext cx="7925040" cy="76212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755e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З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адание: определить среднюю температуру июля для всех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лиматических поясов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523880" y="0"/>
            <a:ext cx="6019920" cy="45720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лимат Северной Америк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676520" y="304920"/>
            <a:ext cx="5715000" cy="380988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685800" y="5105520"/>
            <a:ext cx="7848720" cy="144756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ссмотреть карту распределения зимних температур  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равнить климат полуостровов Аляска и Лабрадор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8120" y="4343400"/>
            <a:ext cx="2895480" cy="5335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ыполнить зада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0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7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895480" cy="22543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6095880" y="0"/>
            <a:ext cx="2819520" cy="21859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0" y="2362320"/>
            <a:ext cx="2971800" cy="243828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4"/>
          <a:stretch/>
        </p:blipFill>
        <p:spPr>
          <a:xfrm>
            <a:off x="5943600" y="2514600"/>
            <a:ext cx="3200400" cy="213372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2971800" y="0"/>
            <a:ext cx="2971800" cy="1752480"/>
          </a:xfrm>
          <a:prstGeom prst="rect">
            <a:avLst/>
          </a:prstGeom>
          <a:gradFill rotWithShape="0">
            <a:gsLst>
              <a:gs pos="0">
                <a:srgbClr val="5e7575"/>
              </a:gs>
              <a:gs pos="100000">
                <a:srgbClr val="ccff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еред вами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лиматограммы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ород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еверной Америк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200400" y="2514600"/>
            <a:ext cx="2514600" cy="220968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5e75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читайте их 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тветьте н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ледующи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опросы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3640" y="4762440"/>
            <a:ext cx="816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каком городе наблюдаются самые высокие летние температуры и почему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29960" y="5067360"/>
            <a:ext cx="794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2.   В каком городе наблюдаются самые низкие зимние температуры и почему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26720" y="5372280"/>
            <a:ext cx="838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3.   В каком городе выпадает наибольшее количество осадков и в какое время года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04840" y="5753160"/>
            <a:ext cx="843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4.  В каких климатических поясах  и климатических областях находятся эти города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7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057400" y="380880"/>
            <a:ext cx="5181480" cy="457200"/>
          </a:xfrm>
          <a:prstGeom prst="rect">
            <a:avLst/>
          </a:prstGeom>
          <a:gradFill rotWithShape="0">
            <a:gsLst>
              <a:gs pos="0">
                <a:srgbClr val="2f7575"/>
              </a:gs>
              <a:gs pos="50000">
                <a:srgbClr val="66ffff"/>
              </a:gs>
              <a:gs pos="100000">
                <a:srgbClr val="2f75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нутренние вод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47920" y="914400"/>
            <a:ext cx="6400800" cy="4013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3809880" y="1676520"/>
            <a:ext cx="152640" cy="75960"/>
          </a:xfrm>
          <a:prstGeom prst="irregularSeal2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840" bIns="-15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1327320" y="5029200"/>
            <a:ext cx="27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 flipV="1">
            <a:off x="3200400" y="1523880"/>
            <a:ext cx="76320" cy="76320"/>
          </a:xfrm>
          <a:prstGeom prst="irregularSeal1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4799880" y="3581280"/>
            <a:ext cx="152280" cy="228600"/>
          </a:xfrm>
          <a:prstGeom prst="irregularSeal2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19720" y="3886200"/>
            <a:ext cx="152280" cy="76320"/>
          </a:xfrm>
          <a:prstGeom prst="irregularSeal2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840" bIns="-15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 flipH="1" rot="10800000">
            <a:off x="685800" y="3429000"/>
            <a:ext cx="2209680" cy="147312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2819520" y="3276720"/>
            <a:ext cx="1066680" cy="30456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22240" y="4967280"/>
            <a:ext cx="592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амая большая река Северной Америки-</a:t>
            </a:r>
            <a:r>
              <a:rPr b="0" lang="ru-RU" sz="2000" spc="-1" strike="noStrike">
                <a:solidFill>
                  <a:srgbClr val="6600ff"/>
                </a:solidFill>
                <a:latin typeface="Times New Roman"/>
              </a:rPr>
              <a:t>Миссисип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82920" y="5181480"/>
            <a:ext cx="795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 севере материка течет река </a:t>
            </a:r>
            <a:r>
              <a:rPr b="0" lang="ru-RU" sz="2000" spc="-1" strike="noStrike">
                <a:solidFill>
                  <a:srgbClr val="009900"/>
                </a:solidFill>
                <a:latin typeface="Times New Roman"/>
              </a:rPr>
              <a:t> Маккенз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которая впадает в Северный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Ледовитый океан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44840" y="5805360"/>
            <a:ext cx="544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еки 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</a:rPr>
              <a:t> Юкон и Колорадо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падают в Тихий океан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" y="6400800"/>
            <a:ext cx="1752480" cy="4572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опрос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057400" y="6248520"/>
            <a:ext cx="67816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акие реки используются для судоходства и почему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акие реки богаты гидроэнергией и почему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8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0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2" dur="3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>Загацкая Елена Васильевна</dc:description>
  <dc:language>en-US</dc:language>
  <cp:lastModifiedBy>Alexey Krylov</cp:lastModifiedBy>
  <dcterms:modified xsi:type="dcterms:W3CDTF">2005-05-16T08:20:27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2c090000000000010243100207f6000400038000</vt:lpwstr>
  </property>
</Properties>
</file>