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49B-7D4B-40BD-B757-9860AE8A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DA7-E21B-446D-AEB0-961ADBC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A7E-6123-4B6B-8930-50547A4D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63E-4185-443F-BB4E-FECA7840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93C-EB39-45B5-8CAF-B9227BD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4A2-B8C5-4AF2-8836-6B87E41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BD1-E209-4F93-83B5-BA98D0B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7BA-66A0-4E5D-8BAA-CA0CBBB6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AFF-6DB6-451B-ADFF-E771ED9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AAA-3661-49C4-9076-5714FC5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AA1-AD6F-47F3-9EB3-82463778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C2E-B79F-4C15-9990-6642258F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B53B-40FC-40A9-B146-D5AD6FB16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80880"/>
            <a:ext cx="60962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«Северная Амер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752480"/>
            <a:ext cx="35053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124080"/>
            <a:ext cx="5943600" cy="3429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Географическое положение и ис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я матер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Рельеф и полезные ископаем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лимат и внутренние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Природные зоны Северной Аме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888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5257800"/>
            <a:ext cx="807696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омную водную систему образуют Великие озера и река Свят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ентия, которая соединяет их с Атлантическим океаном. Р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гара соединила озера Эри и Онтарио. Срываясь с крутого уступа, 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ет Ниагарский водоп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2674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504960" cy="233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2971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Верхн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Мичиг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57200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095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Онтари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58128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6316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60320" y="60958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28600"/>
            <a:ext cx="6095880" cy="990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ные зоны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324480" cy="421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1295280"/>
            <a:ext cx="281952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 природ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ктических пустын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ндры , лесотун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йги  подчиняется  з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у широт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а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36232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809880"/>
            <a:ext cx="289548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природ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 умеренного пояса см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нных широколиств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сов, степей, лесостепе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ынь и полупустынь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яется 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ональном направл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и с востока на запа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3526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562720"/>
            <a:ext cx="4876920" cy="12952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рах ярко выражена высотная поя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657600"/>
            <a:ext cx="533520" cy="304920"/>
          </a:xfrm>
          <a:custGeom>
            <a:avLst/>
            <a:gdLst>
              <a:gd name="textAreaLeft" fmla="*/ 71280 w 533520"/>
              <a:gd name="textAreaRight" fmla="*/ 462240 w 5335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733920"/>
            <a:ext cx="228600" cy="152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6640 h 152280"/>
              <a:gd name="textAreaBottom" fmla="*/ 1105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0"/>
            <a:ext cx="64008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9160" y="800280"/>
            <a:ext cx="2734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тносительно эква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ая Ам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а  с север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тносительно нуле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ана в запад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На север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ым Ледовит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 запад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хим 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 восток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лантическим океа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4724280"/>
            <a:ext cx="3504960" cy="381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йние точки мат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4120"/>
            <a:ext cx="4267080" cy="380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ая-мыс Мерчи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1219320"/>
            <a:ext cx="228600" cy="759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4267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жная- мыс Марья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62520"/>
            <a:ext cx="152280" cy="2286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5334120"/>
            <a:ext cx="4496040" cy="3808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дная-мыс Принца Уэль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00200" y="10666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019920"/>
            <a:ext cx="449604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точная-мыс Сент-Чарль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30456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04920"/>
            <a:ext cx="731520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я исследования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185400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116208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5029200"/>
            <a:ext cx="685800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истофор Колумб-Багамские и Антильские о-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ссейн Карибского мор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791320"/>
            <a:ext cx="6858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аль Амундсен- северное побережье матер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248520"/>
            <a:ext cx="838188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ус Беринг-1741г. Открытие морского пути от Алеутских  о-в к Аляс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80880"/>
            <a:ext cx="5943600" cy="38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3240" y="852480"/>
            <a:ext cx="4245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ении поверхно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равнины, горы заним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ью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ьеф восточной части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формировался на платформ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которой длите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емя разрушалась и выравнивала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льефе северной ча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низменные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ышенные равнины, сложе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евними кристаллическим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да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" y="4568760"/>
            <a:ext cx="865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остоке материка расположены невысокие горы древней складчат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палачи. Склоны гор пологие, вершины округлые, высота немногим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00 м. Вдоль западного побережья протянулись Кордильеры и Скалистые го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относятся к области новой (кайнозойской) и средней (мезозойской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ладчатости. Такое строение поверхности связано с расположением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еверо-Американской литосферной плите, которая на западе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ичит с Тихоокеанской литосферной плитой. В зоне столкновения пли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аются землетрясения и извержения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87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638680"/>
            <a:ext cx="36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8200" y="14400"/>
            <a:ext cx="28843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верной  ч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ин пре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рождения ру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аллов: желез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, никеля и др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х пород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ых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их равнин, а так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ессисип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менности м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фти, природного га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ого угля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палачах и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горьях залег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езные руды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ый уго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дильеры богаты ка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ми, так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матическими полез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ыми  ископаем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457200" cy="152280"/>
          </a:xfrm>
          <a:custGeom>
            <a:avLst/>
            <a:gdLst>
              <a:gd name="textAreaLeft" fmla="*/ 79920 w 457200"/>
              <a:gd name="textAreaRight" fmla="*/ 331560 w 4572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495680"/>
            <a:ext cx="304920" cy="376200"/>
          </a:xfrm>
          <a:custGeom>
            <a:avLst/>
            <a:gdLst>
              <a:gd name="textAreaLeft" fmla="*/ 40680 w 304920"/>
              <a:gd name="textAreaRight" fmla="*/ 264240 w 30492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419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819520" cy="179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943600" cy="3606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26708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Америка находится во всех климатических поясах, кро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ваториального. На климат материка оказывают существенное в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ющие факторы: океанические течения, рельеф, подстилаю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ь и движение воздушных масс. Летом температура зависит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ты местности и увеличивается при движении с севера на ю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943600"/>
            <a:ext cx="792504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ние: определить среднюю температуру июля для все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матических поя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0"/>
            <a:ext cx="60199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5105520"/>
            <a:ext cx="7848720" cy="14475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карту распределения зимних температур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ь климат полуостровов Аляска и Лабрад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343400"/>
            <a:ext cx="28954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25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0"/>
            <a:ext cx="2971800" cy="17524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вам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514600"/>
            <a:ext cx="2514600" cy="2209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йте и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ьте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" y="476244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ком городе наблюдаются самые высокие лет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960" y="5067360"/>
            <a:ext cx="79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 В каком городе наблюдаются самые низкие зим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720" y="5372280"/>
            <a:ext cx="83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  В каком городе выпадает наибольшее количество осадков и в какое время г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5753160"/>
            <a:ext cx="84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 В каких климатических поясах  и климатических областях находятся эти гор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380880"/>
            <a:ext cx="5181480" cy="4572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е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00800" cy="401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9880" y="1676520"/>
            <a:ext cx="152640" cy="75960"/>
          </a:xfrm>
          <a:prstGeom prst="irregularSeal2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27320" y="5029200"/>
            <a:ext cx="27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00400" y="15238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99880" y="358128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886200"/>
            <a:ext cx="152280" cy="763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flipH="1" rot="10800000">
            <a:off x="685800" y="342900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3276720"/>
            <a:ext cx="1066680" cy="304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496728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большая река Северной Америки-</a:t>
            </a:r>
            <a:r>
              <a:rPr b="0" lang="ru-RU" sz="2000" spc="-1" strike="noStrike">
                <a:solidFill>
                  <a:srgbClr val="6600ff"/>
                </a:solidFill>
                <a:latin typeface="Times New Roman"/>
              </a:rPr>
              <a:t>Миссисип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920" y="5181480"/>
            <a:ext cx="79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евере материка течет река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Маккенз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ая впадает в Север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овиты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4840" y="5805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Юкон и Колорад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адают в Тихи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400800"/>
            <a:ext cx="175248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6248520"/>
            <a:ext cx="6781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используются для судоходства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богаты гидроэнергией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Загацкая Елена Васильевна</dc:description>
  <dc:language>en-US</dc:language>
  <cp:lastModifiedBy>Alexey Krylov</cp:lastModifiedBy>
  <dcterms:modified xsi:type="dcterms:W3CDTF">2005-05-16T08:20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3100207f6000400038000</vt:lpwstr>
  </property>
</Properties>
</file>