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FC5-B037-4230-8DE6-2873D872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AE4-626F-4945-8022-CBE415EC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831-D898-44D1-9148-8FF8A983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873-A165-4292-A4D8-F2E365E8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FBC5-0114-4FFF-9B44-047B4A3C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908-D082-46FB-BE70-9D4074A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2915-5C22-495C-94E7-1B83407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062-A839-4620-A2F1-C6832D78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515-74BA-4E9B-AABC-93FBC9E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4951-55D7-45E1-A2CA-86E03F7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5B4C-9DDB-43A9-8E49-7C9E28DD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421-4D70-4E61-BE6A-5FFF8EE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C84-D0B3-4685-94E8-3A52397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752-8F72-431D-A67C-B90C5E2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024-F258-44B0-931E-D084D370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9A19-45CA-4643-BEB6-DFEE119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8252-782C-4624-A769-D302EADA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3AA-862B-493C-A5F4-03DF4C66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4F5-127C-4E7B-9219-8C8105C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D8B-DB04-4240-B571-19347F6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7EA-D1C3-4772-B802-90A91A7A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A3C-A933-4467-8515-2DC83331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2A4-5DED-427A-8EFF-240FCE2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333-3230-4A3A-AA7A-91CF6DA1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710-FD77-4773-81EB-FD6A40CD7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07F-E4DE-4E14-AC02-A550E447FC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peredsp.ru/www/2011/news/141211city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9;&#1091;&#1076;&#1072;&#1088;&#1089;&#1090;&#1074;&#1077;&#1085;&#1085;&#1099;&#1081;_&#1075;&#1077;&#1088;&#1072;&#1083;&#1100;&#1076;&#1080;&#1095;&#1077;&#1089;&#1082;&#1080;&#1081;_&#1088;&#1077;&#1075;&#1080;&#1089;&#1090;&#1088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://ru.wikipedia.org/wiki/&#1052;&#1091;&#1085;&#1080;&#1094;&#1080;&#1087;&#1072;&#1083;&#1100;&#1085;&#1072;&#1103;_&#1088;&#1077;&#1092;&#1086;&#1088;&#1084;&#1072;_&#1074;_&#1056;&#1086;&#1089;&#1089;&#1080;&#1080;_(2006)" TargetMode="External"/><Relationship Id="rId3" Type="http://schemas.openxmlformats.org/officeDocument/2006/relationships/hyperlink" Target="http://www.megabook.ru/MObjects2/data/pict2006/new/06s1398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u.wikipedia.org/wiki/&#1060;&#1072;&#1081;&#1083;:Flag_of_Sergiev_Posad_(Moscow_oblast).pn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17.fotki.com/v284/photos/1/1362891/6517513/IMG_1141-v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gcatalogphotos.ru/photos/countries-photos/europe-photos/russia-photos/sergiev-posad-photos/photo-3-sergiev-posad-russi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s.lifeisphoto.ru/11/0/11635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lomniki.su/assets/images/countries/ru/sergiev-posad/STS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orum.exler.ru/arc/uploads/52/post-123011181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014/26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utotravel.ru/otklik.php/128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utotravel.ru/phalbum.php/90059/00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 из 1494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готовила Кускова Анастас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920" y="404640"/>
            <a:ext cx="6335640" cy="24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ргиев Посад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Фото Художественно - педагогический музей игрушки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Художественно - педагогический музей игрушк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динственный в стране музей такого профиля, основой которого стали игрушки детей царской семьи, позднее дополненный коллекцией и ныне существующего в городе Научно - исследовательского института игруш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Фото Сергиево-Посадский государственный историко-художественный музей-заповедник Сергиев Посад (Московская область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Сергиево-Посадский государственный историко-художественный музей-заповедник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в 1920г. В основе коллекции сокровища Троице-Сергиевой Лавры. В настоящее время в музее насчитывается порядка 110 тыс. экспонатов: иконы, средневековые рукописи и старопечатные книги, памятники лицевого и орнаментального шитья, золотого и серебряного дела, произведения живописи, графики, народного и современного декоративно-прикладного искусств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музея входят следующие выставочные площадки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изница, Музейный комплекс "Конный дво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 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корпу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еведческий отде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2133720"/>
            <a:ext cx="828180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4" name="" descr="Картинка 59 из 158624"/>
          <p:cNvPicPr/>
          <p:nvPr/>
        </p:nvPicPr>
        <p:blipFill>
          <a:blip r:embed="rId1"/>
          <a:stretch/>
        </p:blipFill>
        <p:spPr>
          <a:xfrm>
            <a:off x="2771640" y="2924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лаг и гер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55640" y="2017800"/>
            <a:ext cx="45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лаг утверждён 29 апреля 1998 года как флаг Сергиево-Посадского района и внесён в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Государственный геральдический регистр Российской Федер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под номером 311. После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муниципальной реформы 2006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Сергиево-Посадский район и Сергиев Посад административно разделились, и флаг, разработанный на основе исторического герба Сергиева Посада, остался за городом. 15 ноября 2006 года официально утверждён флагом городского поселения Сергиев Поса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Картинка 2 из 3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3933720"/>
            <a:ext cx="2640240" cy="272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Flag of Sergiev Posad (Moscow oblast)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2133720"/>
            <a:ext cx="23814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6 из 34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Городское поселение Сергиев Посад - крупный научно-промышленный и транспортный узел общенационального и международного значения, научно-образовательный и духовный центр русского Православия, историко-культурный центр формирования и развития русского этноса. Здесь же расположен административный центр Сергиево-Посадского муниципального района. </a:t>
            </a:r>
            <a:br>
              <a:rPr sz="2400"/>
            </a:b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Население-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110 000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56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68000" cy="7068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олотое кольцо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Сергиев Посад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– город, входящий в Золотое кольцо России, одна из главных его достопримечательностей. Сергиев Посад находится примерно в 70 км к северо-востоку от Москвы, это ближайший к столице город Золотого кольца, что делает его легко доступной целью для самостоятельного однодневного путешествия, либо первой остановкой в многодневном автомобильном путешествии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рия г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рия города тесно связана с Троице-Сергиевым монастырем, основанным Сергием Радонежским в 14 веке. По летописной легенде, два брата Стефан и Варфоломей (в иночестве принявший имя Сергия) ушли из городка Радонеж и на невысоком холме Маковец при слиянии рек Кончуры и Вондюги построили хижину-келью и небольшую деревянную церковь, освященную во имя Троицы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временем вокруг церкви образовался монастырь. По легенде его игумен Сергий в 1380 году благословил на Куликовскую битву московского князя Дмитрия Донского. Среди участников Куликовской битвы были и двое легендарных богатырей-монахов Троицкой обители Александр Пересвет (боярин Бронский) и Родион (Андриан) Ослябя. После канонизации Сергия Радонежского в 1422 году значение монастыря возросло. На протяжении столетий монастырь являлся религиозным и культурным центром Росс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79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мышленность, образование и куль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территории поселения осуществляют деятельность крупнейшие предприятия научно-промышленного комплекса, в том числе: ФГУП ФНПЦ НИИ прикладной химии, ОАО Загорский оптико-механический завод, ФГУП Электромеханический завод Звезда, ОАО Сергиево-Посадский мясокомбинат, ОАО Сергиево-Посадский хлебокомбинат, ЗАО Экспериментальный завод ДСП, ОАО НИИРП. В городе расположены крупные строительные, торговые, сельскохозяйственные предприят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йствуют Сергиево-Посадский Государственный историко-художественный музей-заповедник, художественно-педагогический Музей Игрушки Российской Академии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ском поселении Сергиев Посад расположены высшие учебные заведения - филиал Московского государственного университета приборостроения и информатики, Сергиево-Посадский филиал Московского государственного гуманитарного университета им. М.А.Шолохова, Сергиево-Посадское представительство Московской государственной академии коммунального хозяйстваи строительства, 3 учебных заведения начального профессионального образов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годня Сергиев Посад - один из крупнейших промышленных и культурных центров Подмосковь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85 из 149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3080" y="-41400"/>
            <a:ext cx="9217080" cy="689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1187280" y="549360"/>
            <a:ext cx="65739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стопримечатель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Фото Троице-Сергиев монастырь (Лавра) Сергиев Посад (Московская облас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Троице-Сергиев монастырь (Лавр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ан в первой половине 40-х гг. XVI в. сыном ростовского боярина Сергием Радонежским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архитектурные памятники Лавры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ицкий собор (1422), Крепостные стены (1540 - 50), Успенский собор (1585 г), Церковь Преподобного Сергия со зданием трапезной (1692), Пятиярусная колокольня высотой 88 метров (1770) и др. На колокольне установлен самый большой колокол в православном мире (около 70 тонн весом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ефсиманский Черниговский ски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Гефсиманский Черниговский скит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щерный монастырь. Основан в 1844 г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здесь действующий мужской монастырь. Проводятся экскурссии в пещеры. Есть святой источник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4:25:31Z</dcterms:created>
  <dc:creator>пк</dc:creator>
  <dc:description/>
  <dc:language>en-US</dc:language>
  <cp:lastModifiedBy>пк</cp:lastModifiedBy>
  <dcterms:modified xsi:type="dcterms:W3CDTF">2012-05-21T05:35:5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80000000000010250300207f7000400038000</vt:lpwstr>
  </property>
</Properties>
</file>