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D67-C64F-4586-B480-C60220AE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94A-3448-4907-BC7F-557DE41A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BE7A-8C63-4865-BC38-373721B2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367D-0AF8-48FC-ADF2-1C0FE7EA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8071-812D-4924-957F-9251045C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44B0-DF9F-42C9-B03A-4F697065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4EFD-92F1-4D02-91C7-923418C7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A746-35A0-4785-BAA1-03E24EF1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9E39-C19F-430B-BA0C-250A95B4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55C3-770C-4BBE-B550-DE1DC3E4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D5A6-0B07-44D1-9D8A-EB459CF6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03B-3C96-4F50-8E8E-36258A49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AD4C-F265-413A-B091-30ECCCE2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7CF4-0385-441C-8EC5-CFE34CF4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06DB-E5DD-4273-AEB2-991CC282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87F2-0E93-4392-BA2A-5F35C410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C87D-DBF6-4936-B68B-37B56040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9EC-5E20-4EC3-A399-CC7A486F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E68A-212C-449E-80F8-48C579F0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BB1-BE15-455D-A503-0A2DA81C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1C4-349E-4E95-860F-6003C697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CB2-FC6A-4BDF-B462-01D5A599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F5F-01C2-4934-8802-F863CEC7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C2D-86AE-4D0B-B4FA-E42F414E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7D5E-4CBE-480E-A7B0-2F51EAED79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B855-27FC-4658-B446-9A933D5711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peredsp.ru/www/2011/news/141211city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9;&#1091;&#1076;&#1072;&#1088;&#1089;&#1090;&#1074;&#1077;&#1085;&#1085;&#1099;&#1081;_&#1075;&#1077;&#1088;&#1072;&#1083;&#1100;&#1076;&#1080;&#1095;&#1077;&#1089;&#1082;&#1080;&#1081;_&#1088;&#1077;&#1075;&#1080;&#1089;&#1090;&#1088;_&#1056;&#1086;&#1089;&#1089;&#1080;&#1081;&#1089;&#1082;&#1086;&#1081;_&#1060;&#1077;&#1076;&#1077;&#1088;&#1072;&#1094;&#1080;&#1080;" TargetMode="External"/><Relationship Id="rId2" Type="http://schemas.openxmlformats.org/officeDocument/2006/relationships/hyperlink" Target="http://ru.wikipedia.org/wiki/&#1052;&#1091;&#1085;&#1080;&#1094;&#1080;&#1087;&#1072;&#1083;&#1100;&#1085;&#1072;&#1103;_&#1088;&#1077;&#1092;&#1086;&#1088;&#1084;&#1072;_&#1074;_&#1056;&#1086;&#1089;&#1089;&#1080;&#1080;_(2006)" TargetMode="External"/><Relationship Id="rId3" Type="http://schemas.openxmlformats.org/officeDocument/2006/relationships/hyperlink" Target="http://www.megabook.ru/MObjects2/data/pict2006/new/06s1398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ru.wikipedia.org/wiki/&#1060;&#1072;&#1081;&#1083;:Flag_of_Sergiev_Posad_(Moscow_oblast).pn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17.fotki.com/v284/photos/1/1362891/6517513/IMG_1141-vi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igcatalogphotos.ru/photos/countries-photos/europe-photos/russia-photos/sergiev-posad-photos/photo-3-sergiev-posad-russia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hotos.lifeisphoto.ru/11/0/116359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alomniki.su/assets/images/countries/ru/sergiev-posad/STSL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orum.exler.ru/arc/uploads/52/post-1230111817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utotravel.ru/phalbum.php/014/26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autotravel.ru/otklik.php/128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utotravel.ru/phalbum.php/90059/008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Картинка 1 из 1494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готовила Кускова Анастас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42920" y="404640"/>
            <a:ext cx="6335640" cy="240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ергиев Посад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Фото Художественно - педагогический музей игрушки Сергиев Посад (Московская область)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Художественно - педагогический музей игрушки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динственный в стране музей такого профиля, основой которого стали игрушки детей царской семьи, позднее дополненный коллекцией и ныне существующего в городе Научно - исследовательского института игрушк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Фото Сергиево-Посадский государственный историко-художественный музей-заповедник Сергиев Посад (Московская область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Сергиево-Посадский государственный историко-художественный музей-заповедник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ан в 1920г. В основе коллекции сокровища Троице-Сергиевой Лавры. В настоящее время в музее насчитывается порядка 110 тыс. экспонатов: иконы, средневековые рукописи и старопечатные книги, памятники лицевого и орнаментального шитья, золотого и серебряного дела, произведения живописи, графики, народного и современного декоративно-прикладного искусств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остав музея входят следующие выставочные площадки: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изница, Музейный комплекс "Конный двор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” 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лавный корпус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раеведческий отде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11280" y="2133720"/>
            <a:ext cx="8281800" cy="22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4" name="" descr="Картинка 59 из 158624"/>
          <p:cNvPicPr/>
          <p:nvPr/>
        </p:nvPicPr>
        <p:blipFill>
          <a:blip r:embed="rId1"/>
          <a:stretch/>
        </p:blipFill>
        <p:spPr>
          <a:xfrm>
            <a:off x="2771640" y="2924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Флаг и гер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55640" y="2017800"/>
            <a:ext cx="459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лаг утверждён 29 апреля 1998 года как флаг Сергиево-Посадского района и внесён в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Государственный геральдический регистр Российской Федераци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под номером 311. После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муниципальной реформы 2006 год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Сергиево-Посадский район и Сергиев Посад административно разделились, и флаг, разработанный на основе исторического герба Сергиева Посада, остался за городом. 15 ноября 2006 года официально утверждён флагом городского поселения Сергиев Посад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Картинка 2 из 30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3933720"/>
            <a:ext cx="2640240" cy="2729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Flag of Sergiev Posad (Moscow oblast)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42920" y="2133720"/>
            <a:ext cx="23814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Картинка 16 из 34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се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Городское поселение Сергиев Посад - крупный научно-промышленный и транспортный узел общенационального и международного значения, научно-образовательный и духовный центр русского Православия, историко-культурный центр формирования и развития русского этноса. Здесь же расположен административный центр Сергиево-Посадского муниципального района. </a:t>
            </a:r>
            <a:br>
              <a:rPr sz="2400"/>
            </a:b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Население-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110 000 челове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Картинка 56 из 1494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468000" cy="7068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олотое кольцо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Сергиев Посад</a:t>
            </a: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 – город, входящий в Золотое кольцо России, одна из главных его достопримечательностей. Сергиев Посад находится примерно в 70 км к северо-востоку от Москвы, это ближайший к столице город Золотого кольца, что делает его легко доступной целью для самостоятельного однодневного путешествия, либо первой остановкой в многодневном автомобильном путешествии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стория город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рия города тесно связана с Троице-Сергиевым монастырем, основанным Сергием Радонежским в 14 веке. По летописной легенде, два брата Стефан и Варфоломей (в иночестве принявший имя Сергия) ушли из городка Радонеж и на невысоком холме Маковец при слиянии рек Кончуры и Вондюги построили хижину-келью и небольшую деревянную церковь, освященную во имя Троицы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 временем вокруг церкви образовался монастырь. По легенде его игумен Сергий в 1380 году благословил на Куликовскую битву московского князя Дмитрия Донского. Среди участников Куликовской битвы были и двое легендарных богатырей-монахов Троицкой обители Александр Пересвет (боярин Бронский) и Родион (Андриан) Ослябя. После канонизации Сергия Радонежского в 1422 году значение монастыря возросло. На протяжении столетий монастырь являлся религиозным и культурным центром России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Картинка 79 из 1494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мышленность, образование и куль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территории поселения осуществляют деятельность крупнейшие предприятия научно-промышленного комплекса, в том числе: ФГУП ФНПЦ НИИ прикладной химии, ОАО Загорский оптико-механический завод, ФГУП Электромеханический завод Звезда, ОАО Сергиево-Посадский мясокомбинат, ОАО Сергиево-Посадский хлебокомбинат, ЗАО Экспериментальный завод ДСП, ОАО НИИРП. В городе расположены крупные строительные, торговые, сельскохозяйственные предприят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йствуют Сергиево-Посадский Государственный историко-художественный музей-заповедник, художественно-педагогический Музей Игрушки Российской Академии образова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городском поселении Сергиев Посад расположены высшие учебные заведения - филиал Московского государственного университета приборостроения и информатики, Сергиево-Посадский филиал Московского государственного гуманитарного университета им. М.А.Шолохова, Сергиево-Посадское представительство Московской государственной академии коммунального хозяйстваи строительства, 3 учебных заведения начального профессионального образова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годня Сергиев Посад - один из крупнейших промышленных и культурных центров Подмосковь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Картинка 85 из 1494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73080" y="-41400"/>
            <a:ext cx="9217080" cy="6899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0" name=""/>
          <p:cNvSpPr txBox="1"/>
          <p:nvPr/>
        </p:nvSpPr>
        <p:spPr>
          <a:xfrm>
            <a:off x="1187280" y="549360"/>
            <a:ext cx="65739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стопримечательност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Фото Троице-Сергиев монастырь (Лавра) Сергиев Посад (Московская область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Троице-Сергиев монастырь (Лавра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ан в первой половине 40-х гг. XVI в. сыном ростовского боярина Сергием Радонежским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ные архитектурные памятники Лавры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роицкий собор (1422), Крепостные стены (1540 - 50), Успенский собор (1585 г), Церковь Преподобного Сергия со зданием трапезной (1692), Пятиярусная колокольня высотой 88 метров (1770) и др. На колокольне установлен самый большой колокол в православном мире (около 70 тонн весом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Гефсиманский Черниговский ски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Гефсиманский Черниговский скит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щерный монастырь. Основан в 1844 г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йчас здесь действующий мужской монастырь. Проводятся экскурссии в пещеры. Есть святой источник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04:25:31Z</dcterms:created>
  <dc:creator>пк</dc:creator>
  <dc:description/>
  <dc:language>en-US</dc:language>
  <cp:lastModifiedBy>пк</cp:lastModifiedBy>
  <dcterms:modified xsi:type="dcterms:W3CDTF">2012-05-21T05:35:50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80000000000010250300207f7000400038000</vt:lpwstr>
  </property>
</Properties>
</file>