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BE4-3673-48F8-9E10-D1100C80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E6C-B850-4A96-B12F-5A647DEB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C5B-6C84-4E84-85AA-CAB8AA2F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92F-51C8-4A65-831D-1A0BB17E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3E49-205D-4E6A-9E1C-EB192577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718A-E539-42B1-9650-41E4B73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D21A-DAF0-43CC-8BB4-8913D93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3375-EF1C-464A-91DE-8781CF8A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C666-9076-4629-8221-A9B97D5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92F5-3F96-4FAE-A5C9-C46F715C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2F1B-3690-4F4E-A5EF-A2BE7144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300-39BE-4F00-B705-0DFC433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505C-0C19-4594-93F7-A94589B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6D1F-2566-4915-8159-A80FBA1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A57F-86BF-4927-B1E7-28A38E1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F862-75F1-45BD-91C2-D4F2AB91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7911-FE63-4888-B0D7-30CC0873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36A-8E62-4738-8D18-5F6F9D7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931-9A76-4637-BDB0-0B4B113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D26-771A-4662-B9F7-49CC7126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18C-D89A-437E-B0C1-FB642680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2EE-5AAD-4D6E-8127-E53DDD9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D41-36AE-408E-8B6D-212147A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648-D88D-469F-AE44-C658003F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E37-5618-486B-875E-16124ED1A320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17DD-60BA-4D1B-9195-615CFAD15112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article/854/305c00937e689e2a14aff7a16410b18a_big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2002-01.photosight.ru/25/4520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rambler.ru/home/images/images/article/2008/05/28/1211961658_39096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vobodalip.ru/admin/uploads/news/Zern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4360" y="2349360"/>
            <a:ext cx="694836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льское хозяйство 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ратовской области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6 из 1455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6 из 1455"/>
          <p:cNvPicPr/>
          <p:nvPr/>
        </p:nvPicPr>
        <p:blipFill>
          <a:blip r:embed="rId2"/>
          <a:stretch/>
        </p:blipFill>
        <p:spPr>
          <a:xfrm>
            <a:off x="0" y="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55640" y="1989000"/>
            <a:ext cx="532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7. Центральная левобережная микрозона самая крупная по размеру пашни (21,1%). Хозяйства ее в основном специализированы на производстве зерна, а также говядины и молока. В отдельных хозяйствах хорошо развито овощеводство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10" name="" descr="Картинка 16 из 1455"/>
          <p:cNvPicPr/>
          <p:nvPr/>
        </p:nvPicPr>
        <p:blipFill>
          <a:blip r:embed="rId3"/>
          <a:stretch/>
        </p:blipFill>
        <p:spPr>
          <a:xfrm>
            <a:off x="543564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2 из 254"/>
          <p:cNvPicPr/>
          <p:nvPr/>
        </p:nvPicPr>
        <p:blipFill>
          <a:blip r:embed="rId4"/>
          <a:stretch/>
        </p:blipFill>
        <p:spPr>
          <a:xfrm>
            <a:off x="179280" y="3186000"/>
            <a:ext cx="2524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Валовой сбор сельскохозяйственных культур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в хозяйствах всех категорий; тыс. т)</a:t>
            </a:r>
            <a:endParaRPr b="0" lang="en-US" sz="1600" spc="-1" strike="noStrike">
              <a:solidFill>
                <a:srgbClr val="996633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279360"/>
          <a:ext cx="9144000" cy="6578640"/>
        </p:xfrm>
        <a:graphic>
          <a:graphicData uri="http://schemas.openxmlformats.org/drawingml/2006/table">
            <a:tbl>
              <a:tblPr/>
              <a:tblGrid>
                <a:gridCol w="3903840"/>
                <a:gridCol w="1096920"/>
                <a:gridCol w="1031760"/>
                <a:gridCol w="1031760"/>
                <a:gridCol w="1046160"/>
                <a:gridCol w="1033560"/>
              </a:tblGrid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 (в весе после доработ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5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1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5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7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ози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3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яр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 ози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1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чмен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3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о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речих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боб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ахарная свекла (фабричная) в весе после дорабо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одсолнечник на зерно (в весе после доработк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5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1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2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0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ощи открытого и закрытого гру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6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а на силос, зеленый корм и сена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2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вые корнеплоды (включая сахарную свеклу    на корм скоту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многолетних тр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однолетних тра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естественных и улучшенных  сенокосов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ключая заготовленное насе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3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4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5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4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Поголовье скота и птицы по категориям хозяйств 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(на 1 января, тыс. голов)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76280"/>
          <a:ext cx="9143640" cy="6381360"/>
        </p:xfrm>
        <a:graphic>
          <a:graphicData uri="http://schemas.openxmlformats.org/drawingml/2006/table">
            <a:tbl>
              <a:tblPr/>
              <a:tblGrid>
                <a:gridCol w="3712320"/>
                <a:gridCol w="1085760"/>
                <a:gridCol w="1087200"/>
                <a:gridCol w="1085760"/>
                <a:gridCol w="1087560"/>
                <a:gridCol w="1085040"/>
              </a:tblGrid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Хозяйства всех категор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4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8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5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04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2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льскохозяйствен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5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3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3711960"/>
                <a:gridCol w="1086480"/>
                <a:gridCol w="1086120"/>
                <a:gridCol w="1086480"/>
                <a:gridCol w="1086120"/>
                <a:gridCol w="1086480"/>
              </a:tblGrid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Хозяйства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7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2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7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8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8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9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естьянские (фермерские) хозяйства 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рупный рогатый ско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ро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ов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Лошад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тиц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Урожайность сельскохозяйственных культур</a:t>
            </a:r>
            <a:br>
              <a:rPr sz="1400"/>
            </a:br>
            <a:r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(в хозяйствах всех категорий; ц с 1 га убранной площади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-1045440"/>
            <a:ext cx="2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76280"/>
          <a:ext cx="9144000" cy="6100560"/>
        </p:xfrm>
        <a:graphic>
          <a:graphicData uri="http://schemas.openxmlformats.org/drawingml/2006/table">
            <a:tbl>
              <a:tblPr/>
              <a:tblGrid>
                <a:gridCol w="4124160"/>
                <a:gridCol w="1003320"/>
                <a:gridCol w="1005120"/>
                <a:gridCol w="1003320"/>
                <a:gridCol w="1006200"/>
                <a:gridCol w="1001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вые культуры (в весе после доработ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ози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шеница яр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ожь ози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ячмен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о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гречи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боб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ахарная свекла (фабрич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вощи открытого  гру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а на силос, зеленый корм и се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вые корнеплоды (включая сахарную свеклу   на корм скот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2,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многолетних т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однолетних тр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ено естественных сенокосов (включая улучшен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067400" y="7580160"/>
            <a:ext cx="2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baseline="30000">
                <a:solidFill>
                  <a:srgbClr val="000000"/>
                </a:solidFill>
                <a:latin typeface="Verdan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Парк основных видов техники в сельскохозяйственных организациях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</a:rPr>
              <a:t>(на конец года, шт.)</a:t>
            </a:r>
            <a:endParaRPr b="0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5257800"/>
                <a:gridCol w="1865160"/>
                <a:gridCol w="20210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рак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7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луг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льтиваторы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8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комбин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агрег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для посева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 том числе посевные комплек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мбайн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зерн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укуруз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рмо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артофелеубороч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веклоуборочные маш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(без ботвоуборочных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Косил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Пресс-подборщ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тки валк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ождевальные и полив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и устан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6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Разбрасыватели твердых минераль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удобр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Машины для внесения в поч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ганических удобрений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верд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  </a:t>
                      </a: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идк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прыскиватели и опылива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ракто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оильные установки и агрег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99000" y="6651000"/>
            <a:ext cx="19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baseline="30000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6785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аратовская область традиционно является сельскохозяйственным регионом. По объёму произведённой сельскохозяйственной продукции область занимает 10 место среди российских регионов. Особенностью Саратовской области является высокая доля крестьянских (фермерских) хозяйств в общем объёме производства и посевных площадей. Так, в 2009 году удельный вес фермерских хозяйств в посевных площадях области составил 45%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6" name="" descr="Картинка 1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07920"/>
            <a:ext cx="4200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8920" y="3257280"/>
            <a:ext cx="8209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Саратовская область –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одна из крупнейших в Российской                          Федерации, где сложилась система                            производства зерна, подсолнечника,                     продуктов животноводства.                                             Земельный фонд области (в административных границах) составляет 10123,5 тыс. га, из них земель сельскохозяйственного назначения - 8417,6 тыс. га, или 83%. Сельскохозяйственных угодий всего - 7998,4 тыс. га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8" name="" descr="Картинка 3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3960720" cy="279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2 из 22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76280"/>
            <a:ext cx="3187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47280" y="0"/>
            <a:ext cx="6551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труктура сельскохозяйственных угодий (по данным земельного отчета на 1.01.2004 года) в %: 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9647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оотношение типов почв в земельных ресурсах области следующее (в %): </a:t>
            </a:r>
            <a:br>
              <a:rPr sz="2000"/>
            </a:b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6636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000" y="907920"/>
            <a:ext cx="7343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реобладают почвы                     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глинистые и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тяжелосуглинистые -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86%, на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среднесуглинистые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почвы приходится 9%,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на легкосуглинистые и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песчаные - 5%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Величина почвенно-климатически обеспеченной урожайности культур снижается с северо-запада на юго-восток пропорционально уменьшению влагообеспеченности и плодородия почв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5" name="" descr="Картинка 90 из 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4783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34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пыт многих хозяйств свидетельствует об имеющихся больших резервах роста продуктивности зерновых и других культур в области, и особенно, в ее правобережных районах, за счет более рационального использования почвенно-климатических ресурсов, применения рациональной агротехники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иродные и                             экономические                                             особенности обусловили                           различную                                               специализацию                                      сельского хозяйства в                             отдельных районах и                                 микрозонах области.                                              В целом оно имеет                                     зерново-скотоводческую                    специализацию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7" name="" descr="Картинка 2 из 3983"/>
          <p:cNvPicPr/>
          <p:nvPr/>
        </p:nvPicPr>
        <p:blipFill>
          <a:blip r:embed="rId1"/>
          <a:stretch/>
        </p:blipFill>
        <p:spPr>
          <a:xfrm>
            <a:off x="4067280" y="2349360"/>
            <a:ext cx="487044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пециализация микрозон:</a:t>
            </a:r>
            <a:r>
              <a:rPr b="0" lang="ru-RU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53262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1. Западная микрозона включает 13% сельхозугодий и 14,4% пашни области. В растениеводстве микрозона специализирована на производстве зерна, подсолнечника и сахарной свеклы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100" name="" descr="Картинка 5 из 91863"/>
          <p:cNvPicPr/>
          <p:nvPr/>
        </p:nvPicPr>
        <p:blipFill>
          <a:blip r:embed="rId1"/>
          <a:stretch/>
        </p:blipFill>
        <p:spPr>
          <a:xfrm>
            <a:off x="5435640" y="404640"/>
            <a:ext cx="3492360" cy="2621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88000" y="3429000"/>
            <a:ext cx="41511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entury"/>
              </a:rPr>
              <a:t>2. Центральная правобережная зона располагает 11,8% сельхозугодий и 13,1% пашни области. Микрозона специализирована на выращивании зерновых и подсолнечника.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2" name="" descr="Картинка 6 из 4465"/>
          <p:cNvPicPr/>
          <p:nvPr/>
        </p:nvPicPr>
        <p:blipFill>
          <a:blip r:embed="rId2"/>
          <a:stretch/>
        </p:blipFill>
        <p:spPr>
          <a:xfrm>
            <a:off x="826920" y="3213000"/>
            <a:ext cx="3318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1 из 809"/>
          <p:cNvPicPr/>
          <p:nvPr/>
        </p:nvPicPr>
        <p:blipFill>
          <a:blip r:embed="rId1"/>
          <a:stretch/>
        </p:blipFill>
        <p:spPr>
          <a:xfrm>
            <a:off x="5076720" y="3946680"/>
            <a:ext cx="3889440" cy="291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252360" y="3041280"/>
            <a:ext cx="5038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5. Северная правобережная микрозона имеет 9,8% сельхозугодий и 9,5% пашни области. Специализация микрозоны - скотоводческо- зерновая, с развитым производством подсолнечника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6. Северная левобережная микрозона занимает 14,4% сельхозугодий и 14,9% пашни области. Специализация - зерново- скотоводческая.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46080"/>
            <a:ext cx="47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3. Южная правобережная микрозона, на которую приходится 7,7% сельхозугодий и 7,5% пашни области специализирована на производстве зерна и животноводстве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4. Юго-восточная микрозона располагает 24,2% сельхозугодий и 19,5% пашни области. Специализация - зерново-скотоводческая с развитым овцеводством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6" name="" descr="Картинка 2 из 1701"/>
          <p:cNvPicPr/>
          <p:nvPr/>
        </p:nvPicPr>
        <p:blipFill>
          <a:blip r:embed="rId2"/>
          <a:stretch/>
        </p:blipFill>
        <p:spPr>
          <a:xfrm>
            <a:off x="179280" y="260280"/>
            <a:ext cx="41990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1:59Z</dcterms:created>
  <dc:creator>*</dc:creator>
  <dc:description/>
  <cp:keywords/>
  <dc:language>en-US</dc:language>
  <cp:lastModifiedBy>*</cp:lastModifiedBy>
  <dcterms:modified xsi:type="dcterms:W3CDTF">2010-04-12T17:31:57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90000000000010250300207f7000400038000</vt:lpwstr>
  </property>
  <property fmtid="{D5CDD505-2E9C-101B-9397-08002B2CF9AE}" pid="3" name="_TemplateID">
    <vt:lpwstr>TC102499511049</vt:lpwstr>
  </property>
</Properties>
</file>