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936-4E71-42B6-8E49-55E816EA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A1F-E24F-45CF-954F-23B759E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733-DE47-40FE-A901-95CB6060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A22-F85C-4EAE-B604-6EA6F753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FC41-25F3-4ED9-9F56-1784CC16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79B-C48E-4A3F-B30D-EE5856AB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269-F5DF-4DAB-AAF9-EF91A4C5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9A7-E3A4-4E13-90BF-B28670B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369A-EDB8-4E22-9316-7F2DB56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6C78-32FF-46EF-AAA8-64A5B7D3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B5FF-BF86-4BFA-90EF-90AD778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EA6-3E28-4667-8841-0B4FC2B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257-58E9-4368-8BEC-8D1808D2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E5F-CEDE-4515-AD6D-F993ABE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7BB1-59A8-4B77-B946-EB85F39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4015-5D2E-4B53-91CC-37B6A888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354A-391D-433F-B53F-49DA1EAB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EAA-4949-4D73-BD8A-4CA5B65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3C3-D800-4BB0-9F93-B5BD906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4E9-7EC5-4427-AE89-C952083C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71F-5AF5-4334-8B30-645F10BC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F88-E3EE-4781-BEC4-4EF0A4B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42E-544A-4747-9A03-5BCE0F3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97B-82DC-4225-A546-635CF1A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9B1-68FA-4C72-B243-148D6C9CD2BD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352-FBCE-4919-A53F-045F8DFFDB98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article/854/305c00937e689e2a14aff7a16410b18a_big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2002-01.photosight.ru/25/4520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rambler.ru/home/images/images/article/2008/05/28/1211961658_39096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vobodalip.ru/admin/uploads/news/Zern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4360" y="2349360"/>
            <a:ext cx="694836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льское хозяйство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ратовской област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1455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6 из 1455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55640" y="1989000"/>
            <a:ext cx="532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7. Центральная левобережная микрозона самая крупная по размеру пашни (21,1%). Хозяйства ее в основном специализированы на производстве зерна, а также говядины и молока. В отдельных хозяйствах хорошо развито овощеводство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10" name="" descr="Картинка 16 из 1455"/>
          <p:cNvPicPr/>
          <p:nvPr/>
        </p:nvPicPr>
        <p:blipFill>
          <a:blip r:embed="rId3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2 из 254"/>
          <p:cNvPicPr/>
          <p:nvPr/>
        </p:nvPicPr>
        <p:blipFill>
          <a:blip r:embed="rId4"/>
          <a:stretch/>
        </p:blipFill>
        <p:spPr>
          <a:xfrm>
            <a:off x="179280" y="3186000"/>
            <a:ext cx="2524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Валовой сбор сельскохозяйственных культур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тыс. т)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279360"/>
          <a:ext cx="9144000" cy="6578640"/>
        </p:xfrm>
        <a:graphic>
          <a:graphicData uri="http://schemas.openxmlformats.org/drawingml/2006/table">
            <a:tbl>
              <a:tblPr/>
              <a:tblGrid>
                <a:gridCol w="3903840"/>
                <a:gridCol w="1096920"/>
                <a:gridCol w="1031760"/>
                <a:gridCol w="1031760"/>
                <a:gridCol w="1046160"/>
                <a:gridCol w="1033560"/>
              </a:tblGrid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5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7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 в весе после дорабо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одсолнечник на 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 и закрытого гру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6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 на корм скот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и улучшенных  сенокосов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ключая заготовленное насе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4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4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оголовье скота и птицы по категориям хозяйств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на 1 января, тыс. голов)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76280"/>
          <a:ext cx="9143640" cy="6381360"/>
        </p:xfrm>
        <a:graphic>
          <a:graphicData uri="http://schemas.openxmlformats.org/drawingml/2006/table">
            <a:tbl>
              <a:tblPr/>
              <a:tblGrid>
                <a:gridCol w="3712320"/>
                <a:gridCol w="1085760"/>
                <a:gridCol w="1087200"/>
                <a:gridCol w="1085760"/>
                <a:gridCol w="1087560"/>
                <a:gridCol w="108504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всех катего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4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льскохозяйствен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3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3711960"/>
                <a:gridCol w="1086480"/>
                <a:gridCol w="1086120"/>
                <a:gridCol w="1086480"/>
                <a:gridCol w="1086120"/>
                <a:gridCol w="1086480"/>
              </a:tblGrid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8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9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естьянские (фермерские) хозяйства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Урожайность сельскохозяйственных культур</a:t>
            </a:r>
            <a:br>
              <a:rPr sz="1400"/>
            </a:b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ц с 1 га убранной площади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-1045440"/>
            <a:ext cx="2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76280"/>
          <a:ext cx="9144000" cy="6100560"/>
        </p:xfrm>
        <a:graphic>
          <a:graphicData uri="http://schemas.openxmlformats.org/drawingml/2006/table">
            <a:tbl>
              <a:tblPr/>
              <a:tblGrid>
                <a:gridCol w="4124160"/>
                <a:gridCol w="1003320"/>
                <a:gridCol w="1005120"/>
                <a:gridCol w="1003320"/>
                <a:gridCol w="1006200"/>
                <a:gridCol w="1001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вые культуры (в весе после доработ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  гру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на корм ско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,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сенокосов (включая улучш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067400" y="7580160"/>
            <a:ext cx="2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Парк основных видов техники в сельскохозяйственных организациях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на конец года, шт.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5257800"/>
                <a:gridCol w="1865160"/>
                <a:gridCol w="2021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луг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льтиваторы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мбин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посева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посевные комплек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мбай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е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еклоуборочные маш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(без ботвоуборочных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сил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есс-подборщ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ки валк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ждевальные и полив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и устан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збрасыватели твердых минераль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добр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внесения в поч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ганических удобрен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верд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идк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прыскиватели и опылива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ильные установки и 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99000" y="6651000"/>
            <a:ext cx="19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6785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традиционно является сельскохозяйственным регионом. По объёму произведённой сельскохозяйственной продукции область занимает 10 место среди российских регионов. Особенностью Саратовской области является высокая доля крестьянских (фермерских) хозяйств в общем объёме производства и посевных площадей. Так, в 2009 году удельный вес фермерских хозяйств в посевных площадях области составил 4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6" name="" descr="Картинка 1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07920"/>
            <a:ext cx="4200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3257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–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одна из крупнейших в Российской                          Федерации, где сложилась система                            производства зерна, подсолнечника,                     продуктов животноводства.                                             Земельный фонд области (в административных границах) составляет 10123,5 тыс. га, из них земель сельскохозяйственного назначения - 8417,6 тыс. га, или 83%. Сельскохозяйственных угодий всего - 7998,4 тыс. г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8" name="" descr="Картинка 3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3960720" cy="279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2 из 22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76280"/>
            <a:ext cx="3187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47280" y="0"/>
            <a:ext cx="6551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труктура сельскохозяйственных угодий (по данным земельного отчета на 1.01.2004 года) в %: 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оотношение типов почв в земельных ресурсах области следующее (в %): </a:t>
            </a:r>
            <a:br>
              <a:rPr sz="2000"/>
            </a:b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636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000" y="907920"/>
            <a:ext cx="7343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реобладают почвы                     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тяжелосуглинистые -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86%, на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среднесуглинистые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очвы приходится 9%,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на легкосу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есчаные - 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еличина почвенно-климатически обеспеченной урожайности культур снижается с северо-запада на юго-восток пропорционально уменьшению влагообеспеченности и плодородия почв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5" name="" descr="Картинка 90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4783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34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пыт многих хозяйств свидетельствует об имеющихся больших резервах роста продуктивности зерновых и других культур в области, и особенно, в ее правобережных районах, за счет более рационального использования почвенно-климатических ресурсов, применения рациональной агротехники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иродные и                             экономические                                             особенности обусловили                           различную                                               специализацию                                      сельского хозяйства в                             отдельных районах и                                 микрозонах области.                                              В целом оно имеет                                     зерново-скотоводческую                    специализацию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7" name="" descr="Картинка 2 из 3983"/>
          <p:cNvPicPr/>
          <p:nvPr/>
        </p:nvPicPr>
        <p:blipFill>
          <a:blip r:embed="rId1"/>
          <a:stretch/>
        </p:blipFill>
        <p:spPr>
          <a:xfrm>
            <a:off x="4067280" y="2349360"/>
            <a:ext cx="487044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пециализация микрозон:</a:t>
            </a:r>
            <a:r>
              <a:rPr b="0" lang="ru-RU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5326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1. Западная микрозона включает 13% сельхозугодий и 14,4% пашни области. В растениеводстве микрозона специализирована на производстве зерна, подсолнечника и сахарной свеклы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00" name="" descr="Картинка 5 из 91863"/>
          <p:cNvPicPr/>
          <p:nvPr/>
        </p:nvPicPr>
        <p:blipFill>
          <a:blip r:embed="rId1"/>
          <a:stretch/>
        </p:blipFill>
        <p:spPr>
          <a:xfrm>
            <a:off x="5435640" y="404640"/>
            <a:ext cx="3492360" cy="2621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88000" y="3429000"/>
            <a:ext cx="41511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entury"/>
              </a:rPr>
              <a:t>2. Центральная правобережная зона располагает 11,8% сельхозугодий и 13,1% пашни области. Микрозона специализирована на выращивании зерновых и подсолнечника.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2" name="" descr="Картинка 6 из 4465"/>
          <p:cNvPicPr/>
          <p:nvPr/>
        </p:nvPicPr>
        <p:blipFill>
          <a:blip r:embed="rId2"/>
          <a:stretch/>
        </p:blipFill>
        <p:spPr>
          <a:xfrm>
            <a:off x="826920" y="3213000"/>
            <a:ext cx="331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1 из 809"/>
          <p:cNvPicPr/>
          <p:nvPr/>
        </p:nvPicPr>
        <p:blipFill>
          <a:blip r:embed="rId1"/>
          <a:stretch/>
        </p:blipFill>
        <p:spPr>
          <a:xfrm>
            <a:off x="5076720" y="3946680"/>
            <a:ext cx="3889440" cy="291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52360" y="3041280"/>
            <a:ext cx="5038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5. Северная правобережная микрозона имеет 9,8% сельхозугодий и 9,5% пашни области. Специализация микрозоны - скотоводческо- зерновая, с развитым производством подсолнечник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6. Северная левобережная микрозона занимает 14,4% сельхозугодий и 14,9% пашни области. Специализация - зерново- скотоводческая.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6080"/>
            <a:ext cx="47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3. Южная правобережная микрозона, на которую приходится 7,7% сельхозугодий и 7,5% пашни области специализирована на производстве зерна и животноводстве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4. Юго-восточная микрозона располагает 24,2% сельхозугодий и 19,5% пашни области. Специализация - зерново-скотоводческая с развитым овцеводством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6" name="" descr="Картинка 2 из 1701"/>
          <p:cNvPicPr/>
          <p:nvPr/>
        </p:nvPicPr>
        <p:blipFill>
          <a:blip r:embed="rId2"/>
          <a:stretch/>
        </p:blipFill>
        <p:spPr>
          <a:xfrm>
            <a:off x="179280" y="260280"/>
            <a:ext cx="41990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1:59Z</dcterms:created>
  <dc:creator>*</dc:creator>
  <dc:description/>
  <cp:keywords/>
  <dc:language>en-US</dc:language>
  <cp:lastModifiedBy>*</cp:lastModifiedBy>
  <dcterms:modified xsi:type="dcterms:W3CDTF">2010-04-12T17:31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90000000000010250300207f7000400038000</vt:lpwstr>
  </property>
  <property fmtid="{D5CDD505-2E9C-101B-9397-08002B2CF9AE}" pid="3" name="_TemplateID">
    <vt:lpwstr>TC102499511049</vt:lpwstr>
  </property>
</Properties>
</file>