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BEB-9127-4F89-8D55-3E2B9D11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550-CCA9-4803-85A7-3290928A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937-F063-49A6-BB40-55B2BF25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76F6-6D5A-41D6-B968-F33CF633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A6D8-B1E3-4650-B04F-CF51AED6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AC47-BD3B-449D-9E30-C611AD95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829D-3D76-4A57-823A-33B19BA2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8658-7960-4AFD-AE94-AADBDA2F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B1B9-C77A-4D29-99B3-05A266B9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ED70-0EAA-4FEF-A216-BE6E9B75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1C75-4C02-477E-BF03-5D91B283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F1B-B022-4311-A86C-8C30D959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B67F-F898-4FCB-B0EF-EE904AB4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52C3-0160-407D-8D08-1769610D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7E9F-5E4D-41CA-8B7E-B584D383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7111-E4D7-45A9-BFE5-E7C60565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1202-0485-482F-933B-F2CDAC36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A2C-DFD4-4760-9810-1B138D7B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A70-F23F-4CFC-BE29-080A3000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658-A85A-4D64-9240-AC426061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515E-2D22-442F-838A-F22CA509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24A2-DBA0-4288-9E53-45521ADF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4EDF-F7BD-4ECB-9237-CC140FDB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1A3-F112-46E9-A764-B49E4502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E6D9-F39C-4A30-9C72-9764BA019104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7ACF-E053-43A3-A64D-B6C1C6F6C871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f.ru/application/public/article/854/305c00937e689e2a14aff7a16410b18a_big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2002-01.photosight.ru/25/4520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rambler.ru/home/images/images/article/2008/05/28/1211961658_39096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vobodalip.ru/admin/uploads/news/Zerno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4360" y="2349360"/>
            <a:ext cx="6948360" cy="21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ельское хозяйство 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аратовской области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Картинка 16 из 1455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Картинка 16 из 1455"/>
          <p:cNvPicPr/>
          <p:nvPr/>
        </p:nvPicPr>
        <p:blipFill>
          <a:blip r:embed="rId2"/>
          <a:stretch/>
        </p:blipFill>
        <p:spPr>
          <a:xfrm>
            <a:off x="0" y="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555640" y="1989000"/>
            <a:ext cx="53276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7. Центральная левобережная микрозона самая крупная по размеру пашни (21,1%). Хозяйства ее в основном специализированы на производстве зерна, а также говядины и молока. В отдельных хозяйствах хорошо развито овощеводство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110" name="" descr="Картинка 16 из 1455"/>
          <p:cNvPicPr/>
          <p:nvPr/>
        </p:nvPicPr>
        <p:blipFill>
          <a:blip r:embed="rId3"/>
          <a:stretch/>
        </p:blipFill>
        <p:spPr>
          <a:xfrm>
            <a:off x="5435640" y="40766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Картинка 2 из 254"/>
          <p:cNvPicPr/>
          <p:nvPr/>
        </p:nvPicPr>
        <p:blipFill>
          <a:blip r:embed="rId4"/>
          <a:stretch/>
        </p:blipFill>
        <p:spPr>
          <a:xfrm>
            <a:off x="179280" y="3186000"/>
            <a:ext cx="2524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640" y="-360"/>
            <a:ext cx="835344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Валовой сбор сельскохозяйственных культур </a:t>
            </a: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(в хозяйствах всех категорий; тыс. т)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279360"/>
          <a:ext cx="9144000" cy="6578640"/>
        </p:xfrm>
        <a:graphic>
          <a:graphicData uri="http://schemas.openxmlformats.org/drawingml/2006/table">
            <a:tbl>
              <a:tblPr/>
              <a:tblGrid>
                <a:gridCol w="3903840"/>
                <a:gridCol w="1096920"/>
                <a:gridCol w="1031760"/>
                <a:gridCol w="1031760"/>
                <a:gridCol w="1046160"/>
                <a:gridCol w="1033560"/>
              </a:tblGrid>
              <a:tr h="29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ерно (в весе после доработк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45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41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315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85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77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шеница озим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55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3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4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5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0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шеница яр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5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0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5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8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рожь озим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39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1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ячмен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9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3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0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1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1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е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рос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9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гречих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8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8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8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ернобоб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ахарная свекла (фабричная) в весе после дорабо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4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одсолнечник на зерно (в весе после доработк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27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2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0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5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1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артоф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9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5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7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2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0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ощи открытого и закрытого гру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6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7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9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6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5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укуруза на силос, зеленый корм и сена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9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2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6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73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2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ормовые корнеплоды (включая сахарную свеклу    на корм скоту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ено многолетних тра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6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5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9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ено однолетних тра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4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ено естественных и улучшенных  сенокосов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ключая заготовленное населе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9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3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4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5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4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Поголовье скота и птицы по категориям хозяйств </a:t>
            </a: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(на 1 января, тыс. голов)</a:t>
            </a:r>
            <a:endParaRPr b="0" lang="en-US" sz="16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476280"/>
          <a:ext cx="9143640" cy="6381360"/>
        </p:xfrm>
        <a:graphic>
          <a:graphicData uri="http://schemas.openxmlformats.org/drawingml/2006/table">
            <a:tbl>
              <a:tblPr/>
              <a:tblGrid>
                <a:gridCol w="3712320"/>
                <a:gridCol w="1085760"/>
                <a:gridCol w="1087200"/>
                <a:gridCol w="1085760"/>
                <a:gridCol w="1087560"/>
                <a:gridCol w="1085040"/>
              </a:tblGrid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Хозяйства всех категор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рупный рогатый ско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9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0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1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2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3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коров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1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винь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2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8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9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1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цы и ко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9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4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1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4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7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ов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7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1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8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1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4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Лошад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тиц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45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58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56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04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22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ельскохозяйственны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рупный рогатый ско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коров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винь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цы и ко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ов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Лошад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тиц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48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55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39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33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5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3711960"/>
                <a:gridCol w="1086480"/>
                <a:gridCol w="1086120"/>
                <a:gridCol w="1086480"/>
                <a:gridCol w="1086120"/>
                <a:gridCol w="1086480"/>
              </a:tblGrid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Хозяйства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рупный рогатый ско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1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5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7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8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коров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винь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5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8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2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цы и ко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7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9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ов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4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5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7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Лошад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тиц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8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5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8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4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49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рестьянские (фермерские) хозяйства 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рупный рогатый ско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коров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винь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цы и ко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ов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Лошад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тиц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Урожайность сельскохозяйственных культур</a:t>
            </a:r>
            <a:br>
              <a:rPr sz="1400"/>
            </a:br>
            <a:r>
              <a:rPr b="0" lang="ru-RU" sz="1400" spc="-1" strike="noStrike">
                <a:solidFill>
                  <a:srgbClr val="cc0000"/>
                </a:solidFill>
                <a:latin typeface="Times New Roman"/>
              </a:rPr>
              <a:t>(в хозяйствах всех категорий; ц с 1 га убранной площади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3120" y="-1045440"/>
            <a:ext cx="21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76280"/>
          <a:ext cx="9144000" cy="6100560"/>
        </p:xfrm>
        <a:graphic>
          <a:graphicData uri="http://schemas.openxmlformats.org/drawingml/2006/table">
            <a:tbl>
              <a:tblPr/>
              <a:tblGrid>
                <a:gridCol w="4124160"/>
                <a:gridCol w="1003320"/>
                <a:gridCol w="1005120"/>
                <a:gridCol w="1003320"/>
                <a:gridCol w="1006200"/>
                <a:gridCol w="10018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ерновые культуры (в весе после доработк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шеница озим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шеница яр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рожь озим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ячмен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ро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гречи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ернобоб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ахарная свекла (фабричн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артоф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ощи открытого  гру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8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1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1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укуруза на силос, зеленый корм и сен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ормовые корнеплоды (включая сахарную свеклу   на корм скот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9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52,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ено многолетних тр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ено однолетних тр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ено естественных сенокосов (включая улучшенны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067400" y="7580160"/>
            <a:ext cx="217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baseline="30000">
                <a:solidFill>
                  <a:srgbClr val="000000"/>
                </a:solidFill>
                <a:latin typeface="Verdan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Парк основных видов техники в сельскохозяйственных организациях </a:t>
            </a:r>
            <a:r>
              <a:rPr b="0" lang="ru-RU" sz="1400" spc="-1" strike="noStrike">
                <a:solidFill>
                  <a:srgbClr val="cc0000"/>
                </a:solidFill>
                <a:latin typeface="Times New Roman"/>
              </a:rPr>
              <a:t>(на конец года, шт.)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357120"/>
          <a:ext cx="9144000" cy="6500880"/>
        </p:xfrm>
        <a:graphic>
          <a:graphicData uri="http://schemas.openxmlformats.org/drawingml/2006/table">
            <a:tbl>
              <a:tblPr/>
              <a:tblGrid>
                <a:gridCol w="5257800"/>
                <a:gridCol w="1865160"/>
                <a:gridCol w="20210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</a:t>
                      </a: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рак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луг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ультиваторы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8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9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комбинирован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агрег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Машины для посева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1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посевные комплек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омбайны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ерноубороч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укурузоубороч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ормоубороч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артофелеубороч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веклоуборочные маши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(без ботвоуборочных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осил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ресс-подборщ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тки валк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Дождевальные и полив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машины и установ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Разбрасыватели твердых минераль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удобр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Машины для внесения в почв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рганических удобрений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верд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идк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прыскиватели и опылива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рактор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Доильные установки и агрег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999000" y="6651000"/>
            <a:ext cx="19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Verdana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46785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Саратовская область традиционно является сельскохозяйственным регионом. По объёму произведённой сельскохозяйственной продукции область занимает 10 место среди российских регионов. Особенностью Саратовской области является высокая доля крестьянских (фермерских) хозяйств в общем объёме производства и посевных площадей. Так, в 2009 году удельный вес фермерских хозяйств в посевных площадях области составил 45%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86" name="" descr="Картинка 1 из 4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907920"/>
            <a:ext cx="42004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8920" y="3257280"/>
            <a:ext cx="8209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Саратовская область –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одна из крупнейших в Российской                          Федерации, где сложилась система                            производства зерна, подсолнечника,                     продуктов животноводства.                                             Земельный фонд области (в административных границах) составляет 10123,5 тыс. га, из них земель сельскохозяйственного назначения - 8417,6 тыс. га, или 83%. Сельскохозяйственных угодий всего - 7998,4 тыс. га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88" name="" descr="Картинка 3 из 4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33360"/>
            <a:ext cx="3960720" cy="2793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Картинка 2 из 2265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476280"/>
            <a:ext cx="3187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47280" y="0"/>
            <a:ext cx="65516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Структура сельскохозяйственных угодий (по данным земельного отчета на 1.01.2004 года) в %: 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96472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Соотношение типов почв в земельных ресурсах области следующее (в %): </a:t>
            </a:r>
            <a:br>
              <a:rPr sz="2000"/>
            </a:b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6636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476000" y="907920"/>
            <a:ext cx="73436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Преобладают почвы                                                                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глинистые и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тяжелосуглинистые -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86%, на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среднесуглинистые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почвы приходится 9%,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на легкосуглинистые и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песчаные - 5%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Величина почвенно-климатически обеспеченной урожайности культур снижается с северо-запада на юго-восток пропорционально уменьшению влагообеспеченности и плодородия почв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95" name="" descr="Картинка 90 из 4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47833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7345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Опыт многих хозяйств свидетельствует об имеющихся больших резервах роста продуктивности зерновых и других культур в области, и особенно, в ее правобережных районах, за счет более рационального использования почвенно-климатических ресурсов, применения рациональной агротехники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риродные и                             экономические                                             особенности обусловили                           различную                                               специализацию                                      сельского хозяйства в                             отдельных районах и                                 микрозонах области.                                              В целом оно имеет                                     зерново-скотоводческую                    специализацию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97" name="" descr="Картинка 2 из 3983"/>
          <p:cNvPicPr/>
          <p:nvPr/>
        </p:nvPicPr>
        <p:blipFill>
          <a:blip r:embed="rId1"/>
          <a:stretch/>
        </p:blipFill>
        <p:spPr>
          <a:xfrm>
            <a:off x="4067280" y="2349360"/>
            <a:ext cx="487044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1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Специализация микрозон:</a:t>
            </a:r>
            <a:r>
              <a:rPr b="0" lang="ru-RU" sz="20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764640"/>
            <a:ext cx="53262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1. Западная микрозона включает 13% сельхозугодий и 14,4% пашни области. В растениеводстве микрозона специализирована на производстве зерна, подсолнечника и сахарной свеклы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100" name="" descr="Картинка 5 из 91863"/>
          <p:cNvPicPr/>
          <p:nvPr/>
        </p:nvPicPr>
        <p:blipFill>
          <a:blip r:embed="rId1"/>
          <a:stretch/>
        </p:blipFill>
        <p:spPr>
          <a:xfrm>
            <a:off x="5435640" y="404640"/>
            <a:ext cx="3492360" cy="2621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788000" y="3429000"/>
            <a:ext cx="415116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entury"/>
              </a:rPr>
              <a:t>2. Центральная правобережная зона располагает 11,8% сельхозугодий и 13,1% пашни области. Микрозона специализирована на выращивании зерновых и подсолнечника.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02" name="" descr="Картинка 6 из 4465"/>
          <p:cNvPicPr/>
          <p:nvPr/>
        </p:nvPicPr>
        <p:blipFill>
          <a:blip r:embed="rId2"/>
          <a:stretch/>
        </p:blipFill>
        <p:spPr>
          <a:xfrm>
            <a:off x="826920" y="3213000"/>
            <a:ext cx="3318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Картинка 1 из 809"/>
          <p:cNvPicPr/>
          <p:nvPr/>
        </p:nvPicPr>
        <p:blipFill>
          <a:blip r:embed="rId1"/>
          <a:stretch/>
        </p:blipFill>
        <p:spPr>
          <a:xfrm>
            <a:off x="5076720" y="3946680"/>
            <a:ext cx="3889440" cy="2911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252360" y="3041280"/>
            <a:ext cx="50385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5. Северная правобережная микрозона имеет 9,8% сельхозугодий и 9,5% пашни области. Специализация микрозоны - скотоводческо- зерновая, с развитым производством подсолнечника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6. Северная левобережная микрозона занимает 14,4% сельхозугодий и 14,9% пашни области. Специализация - зерново- скотоводческая.</a:t>
            </a: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56000" y="46080"/>
            <a:ext cx="47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3. Южная правобережная микрозона, на которую приходится 7,7% сельхозугодий и 7,5% пашни области специализирована на производстве зерна и животноводстве.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4. Юго-восточная микрозона располагает 24,2% сельхозугодий и 19,5% пашни области. Специализация - зерново-скотоводческая с развитым овцеводством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06" name="" descr="Картинка 2 из 1701"/>
          <p:cNvPicPr/>
          <p:nvPr/>
        </p:nvPicPr>
        <p:blipFill>
          <a:blip r:embed="rId2"/>
          <a:stretch/>
        </p:blipFill>
        <p:spPr>
          <a:xfrm>
            <a:off x="179280" y="260280"/>
            <a:ext cx="419904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4:51:59Z</dcterms:created>
  <dc:creator>*</dc:creator>
  <dc:description/>
  <cp:keywords/>
  <dc:language>en-US</dc:language>
  <cp:lastModifiedBy>*</cp:lastModifiedBy>
  <dcterms:modified xsi:type="dcterms:W3CDTF">2010-04-12T17:31:57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90000000000010250300207f7000400038000</vt:lpwstr>
  </property>
  <property fmtid="{D5CDD505-2E9C-101B-9397-08002B2CF9AE}" pid="3" name="_TemplateID">
    <vt:lpwstr>TC102499511049</vt:lpwstr>
  </property>
</Properties>
</file>