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B788-9DB7-4DCF-AD0D-37E035531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EAAB-D454-4142-A054-F1AE85442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B9FB-6B2B-4781-B8E3-C18B37EEF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8475-A60D-4898-BDE4-9CC57DA7F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00F3-1AE9-4420-9DF7-5F65DEC31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F58D-97F8-467D-80BB-85A69C16D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0EDB-C513-4533-8374-439A18D8E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C4B3-04BD-4249-903C-1A01E20CA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CC3E-C33B-48E4-BA46-ED372BCB3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CDF8-0444-4BC1-92D2-421D92875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3BCA-B64C-4E34-9B10-57970F7F9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D47A-36CB-4671-B800-FA4E1671E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img6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A8287-B6ED-42D7-88B1-36899C2CCBE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image" Target="../media/image34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800" spc="-1" strike="noStrike">
                <a:solidFill>
                  <a:srgbClr val="000000"/>
                </a:solidFill>
                <a:latin typeface="Calibri"/>
              </a:rPr>
              <a:t>Саяны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Прямоугольник 3"/>
          <p:cNvSpPr/>
          <p:nvPr/>
        </p:nvSpPr>
        <p:spPr>
          <a:xfrm>
            <a:off x="0" y="578628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полнила: ученица 8 a класса Щербакова Александр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715000" cy="40006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ельеф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Прямоугольник 3"/>
          <p:cNvSpPr/>
          <p:nvPr/>
        </p:nvSpPr>
        <p:spPr>
          <a:xfrm>
            <a:off x="0" y="3071880"/>
            <a:ext cx="66438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Хребты западной части Восточного Саяна образуют плосковершинные белогорья (Манское Белогорье, Канское Белогорье, Кутурчинское Белогорье и т. д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центральной и восточной части этой горной системы расположены высокогорные массивы Большой Саян, Тункинские Гольцы, Китойские Гольцы и т. д., характеризующиеся альпийскими формами рельеф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ля Восточного Саяна также присущи обширные участки древнего выровненного рельефа и вулканические плато, отличающиеся пологим наклоном. В пределах горной системы существуют молодые вулканические образования (вулканы Кропоткина, Перетолчина и др.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5643720" y="857160"/>
            <a:ext cx="3262320" cy="2178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"/>
          <p:cNvPicPr/>
          <p:nvPr/>
        </p:nvPicPr>
        <p:blipFill>
          <a:blip r:embed="rId2"/>
          <a:stretch/>
        </p:blipFill>
        <p:spPr>
          <a:xfrm>
            <a:off x="2928960" y="1285920"/>
            <a:ext cx="2281320" cy="15159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"/>
          <p:cNvPicPr/>
          <p:nvPr/>
        </p:nvPicPr>
        <p:blipFill>
          <a:blip r:embed="rId3"/>
          <a:stretch/>
        </p:blipFill>
        <p:spPr>
          <a:xfrm>
            <a:off x="6357960" y="3643200"/>
            <a:ext cx="2244600" cy="15717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"/>
          <p:cNvPicPr/>
          <p:nvPr/>
        </p:nvPicPr>
        <p:blipFill>
          <a:blip r:embed="rId4"/>
          <a:stretch/>
        </p:blipFill>
        <p:spPr>
          <a:xfrm>
            <a:off x="357120" y="1285920"/>
            <a:ext cx="2189160" cy="14954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"/>
          <p:cNvPicPr/>
          <p:nvPr/>
        </p:nvPicPr>
        <p:blipFill>
          <a:blip r:embed="rId5"/>
          <a:stretch/>
        </p:blipFill>
        <p:spPr>
          <a:xfrm>
            <a:off x="6572160" y="5429160"/>
            <a:ext cx="2071800" cy="10494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олезные ископаемы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Прямоугольник 3"/>
          <p:cNvSpPr/>
          <p:nvPr/>
        </p:nvSpPr>
        <p:spPr>
          <a:xfrm>
            <a:off x="2286000" y="3995640"/>
            <a:ext cx="45720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ложена данная горная страна главным образом гнейсами, слюдисто-карбонатными и кристаллическими сланцами, мраморами, кварцитами, амфиболитами. Межгорные впадины заполнены терригенно-угленосными толщами. Среди наиболее заметных полезных ископаемых — золото, графит, бокситы, асбест, фосфориты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214200" y="4929120"/>
            <a:ext cx="1857600" cy="1562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"/>
          <p:cNvPicPr/>
          <p:nvPr/>
        </p:nvPicPr>
        <p:blipFill>
          <a:blip r:embed="rId2"/>
          <a:stretch/>
        </p:blipFill>
        <p:spPr>
          <a:xfrm>
            <a:off x="7072200" y="5072040"/>
            <a:ext cx="1770120" cy="15526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"/>
          <p:cNvPicPr/>
          <p:nvPr/>
        </p:nvPicPr>
        <p:blipFill>
          <a:blip r:embed="rId3"/>
          <a:stretch/>
        </p:blipFill>
        <p:spPr>
          <a:xfrm>
            <a:off x="2500200" y="2000160"/>
            <a:ext cx="2000520" cy="1506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"/>
          <p:cNvPicPr/>
          <p:nvPr/>
        </p:nvPicPr>
        <p:blipFill>
          <a:blip r:embed="rId4"/>
          <a:stretch/>
        </p:blipFill>
        <p:spPr>
          <a:xfrm>
            <a:off x="7143840" y="3214800"/>
            <a:ext cx="1581120" cy="15476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"/>
          <p:cNvPicPr/>
          <p:nvPr/>
        </p:nvPicPr>
        <p:blipFill>
          <a:blip r:embed="rId5"/>
          <a:stretch/>
        </p:blipFill>
        <p:spPr>
          <a:xfrm>
            <a:off x="214200" y="3143160"/>
            <a:ext cx="2127240" cy="12859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"/>
          <p:cNvPicPr/>
          <p:nvPr/>
        </p:nvPicPr>
        <p:blipFill>
          <a:blip r:embed="rId6"/>
          <a:stretch/>
        </p:blipFill>
        <p:spPr>
          <a:xfrm>
            <a:off x="4929120" y="2071800"/>
            <a:ext cx="1928880" cy="14461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лима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Прямоугольник 3"/>
          <p:cNvSpPr/>
          <p:nvPr/>
        </p:nvSpPr>
        <p:spPr>
          <a:xfrm>
            <a:off x="928800" y="3995640"/>
            <a:ext cx="72151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лимат Восточного Саяна резко континентальный, зима продолжительная и суровая, лето короткое и прохладное. На высотах 900—1300 м средние температуры января колеблются от −17 до −25 °C, средние температуры июля колеблются от 12 до 14 °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оличество осадков зависит от расположения склонов. В восточных и юго-восточных районах около 300 мм в год; в западных и юго-западных районах до 800 мм в год; в северных предгорьях около 400 мм в год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1357200" y="928800"/>
            <a:ext cx="6500880" cy="27097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Ледни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Прямоугольник 3"/>
          <p:cNvSpPr/>
          <p:nvPr/>
        </p:nvSpPr>
        <p:spPr>
          <a:xfrm>
            <a:off x="1285920" y="1000080"/>
            <a:ext cx="6286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Восточном Саяне существует около 100 ледников общей площадью около 30 км². В основном это каровые и висячие ледни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1143000" y="2857680"/>
            <a:ext cx="2714760" cy="36194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" descr=""/>
          <p:cNvPicPr/>
          <p:nvPr/>
        </p:nvPicPr>
        <p:blipFill>
          <a:blip r:embed="rId2"/>
          <a:stretch/>
        </p:blipFill>
        <p:spPr>
          <a:xfrm>
            <a:off x="5429160" y="2786040"/>
            <a:ext cx="2608200" cy="34765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42960" y="-21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е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57120" y="5000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ечная сеть горной страны относится к бассейну Енисея. Крупнейшие реки — Туба, Сыда, Сисим, Мана, Кан, Агул, Бирюса. Озёра в Восточном Саяне главным образом ледникового происхождения (например, Агульское). Имеются известные минеральные источники Аршан и Нилова Пустын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857160" y="1285920"/>
            <a:ext cx="2381400" cy="14954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"/>
          <p:cNvPicPr/>
          <p:nvPr/>
        </p:nvPicPr>
        <p:blipFill>
          <a:blip r:embed="rId2"/>
          <a:stretch/>
        </p:blipFill>
        <p:spPr>
          <a:xfrm>
            <a:off x="6072120" y="1285920"/>
            <a:ext cx="2381400" cy="17906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"/>
          <p:cNvPicPr/>
          <p:nvPr/>
        </p:nvPicPr>
        <p:blipFill>
          <a:blip r:embed="rId3"/>
          <a:stretch/>
        </p:blipFill>
        <p:spPr>
          <a:xfrm>
            <a:off x="3214800" y="3214800"/>
            <a:ext cx="2381040" cy="15904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Благодарю за внимание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1500120" y="1928880"/>
            <a:ext cx="6459480" cy="44290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аян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214200" y="2643120"/>
            <a:ext cx="4143600" cy="3319560"/>
          </a:xfrm>
          <a:prstGeom prst="rect">
            <a:avLst/>
          </a:prstGeom>
          <a:ln w="0">
            <a:noFill/>
          </a:ln>
        </p:spPr>
      </p:pic>
      <p:sp>
        <p:nvSpPr>
          <p:cNvPr id="47" name="Прямоугольник 4"/>
          <p:cNvSpPr/>
          <p:nvPr/>
        </p:nvSpPr>
        <p:spPr>
          <a:xfrm>
            <a:off x="661680" y="1785960"/>
            <a:ext cx="3481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Западный Сая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3" descr=""/>
          <p:cNvPicPr/>
          <p:nvPr/>
        </p:nvPicPr>
        <p:blipFill>
          <a:blip r:embed="rId2"/>
          <a:stretch/>
        </p:blipFill>
        <p:spPr>
          <a:xfrm>
            <a:off x="4643280" y="2643120"/>
            <a:ext cx="4318200" cy="328608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6"/>
          <p:cNvSpPr/>
          <p:nvPr/>
        </p:nvSpPr>
        <p:spPr>
          <a:xfrm>
            <a:off x="4874040" y="1785960"/>
            <a:ext cx="366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осточный Сая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падный Сая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Прямоугольник 3"/>
          <p:cNvSpPr/>
          <p:nvPr/>
        </p:nvSpPr>
        <p:spPr>
          <a:xfrm>
            <a:off x="285840" y="3811680"/>
            <a:ext cx="8501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́падный Сая́н ограничивается с запада Шапшальским хребтом Восточного Алтая и Абаканским хребтом Кузнецкого Алатау. Он тянется в широтном направлении полосой, постепенно сужающейся с 200 до 80 км, от верховьев реки Абакан до стыка с хребтами Восточного Саяна в верховьях рек Казыр, Уда и Кижи-Хем. С севера к Западному Саяну примыкает Минусинская котловина, а с юга — Тувинская котловин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щая длина системы 650 к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714240" y="1143000"/>
            <a:ext cx="3500640" cy="2384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"/>
          <p:cNvPicPr/>
          <p:nvPr/>
        </p:nvPicPr>
        <p:blipFill>
          <a:blip r:embed="rId2"/>
          <a:stretch/>
        </p:blipFill>
        <p:spPr>
          <a:xfrm>
            <a:off x="5000760" y="1214280"/>
            <a:ext cx="3262320" cy="23576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1680" y="-286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ельеф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Прямоугольник 3"/>
          <p:cNvSpPr/>
          <p:nvPr/>
        </p:nvSpPr>
        <p:spPr>
          <a:xfrm>
            <a:off x="285840" y="2571840"/>
            <a:ext cx="85723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знообразный рельеф гор Западного Саяна отчетливо связан с высотой над уровнем моря. В самом верхнем ярусе, над верхней границей леса, — типичный высокогорный альпийский рельеф. Он свойственен хребтам осевой линии Западного Саяна (Шонхыр, Хансын, Хузук, Саянский, Борус, Араданский, Ергаки). Для этого типа рельефа характерны узкие гребни с крутопадающими склонами, острые труднодоступные пики, глубокие кары с многолетними снежникам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 югу и северу от осевой линии наиболее распространённым является среднегорный рельеф. Хребты более пологие, сильно изрезанные речными долинами, поросшие горной тайго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ля северной и южной границ Западного Саяна характерен низкогорный рельеф с плоскими, невысокими холмами—сопками, с редкими смешанными лесами и большими остепнёнными участкам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1143000" y="642960"/>
            <a:ext cx="2857680" cy="18334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"/>
          <p:cNvPicPr/>
          <p:nvPr/>
        </p:nvPicPr>
        <p:blipFill>
          <a:blip r:embed="rId2"/>
          <a:stretch/>
        </p:blipFill>
        <p:spPr>
          <a:xfrm>
            <a:off x="5643720" y="642960"/>
            <a:ext cx="2643120" cy="18572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лима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Прямоугольник 3"/>
          <p:cNvSpPr/>
          <p:nvPr/>
        </p:nvSpPr>
        <p:spPr>
          <a:xfrm flipV="1" rot="10800000">
            <a:off x="4142880" y="1213200"/>
            <a:ext cx="4643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лимат района континентальный с выраженной высотной поясностью. Температура здесь опускается на 1° на каждые 150 м подъёма. Разница в длине тёплого периода года между осевыми хребтами и предгорьями около 40 дне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500040" y="677880"/>
            <a:ext cx="2548080" cy="19112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"/>
          <p:cNvPicPr/>
          <p:nvPr/>
        </p:nvPicPr>
        <p:blipFill>
          <a:blip r:embed="rId2"/>
          <a:stretch/>
        </p:blipFill>
        <p:spPr>
          <a:xfrm>
            <a:off x="4071960" y="4572000"/>
            <a:ext cx="4572000" cy="20541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"/>
          <p:cNvPicPr/>
          <p:nvPr/>
        </p:nvPicPr>
        <p:blipFill>
          <a:blip r:embed="rId3"/>
          <a:stretch/>
        </p:blipFill>
        <p:spPr>
          <a:xfrm>
            <a:off x="714240" y="3143160"/>
            <a:ext cx="2286000" cy="33861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од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Прямоугольник 3"/>
          <p:cNvSpPr/>
          <p:nvPr/>
        </p:nvSpPr>
        <p:spPr>
          <a:xfrm>
            <a:off x="4000680" y="1000080"/>
            <a:ext cx="111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Ре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Прямоугольник 4"/>
          <p:cNvSpPr/>
          <p:nvPr/>
        </p:nvSpPr>
        <p:spPr>
          <a:xfrm>
            <a:off x="0" y="2357280"/>
            <a:ext cx="4572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се реки Западного Саяна имеют ярко выраженный горный характер. Реки принадлежат бассейну Енисея. Наиболее крупные притоки его: слева — Хемчик, Большие Уры, Голая, Пашкина, Головань, Кантегир, Джой, Абакан, справа — Ус, Казырсуг, Березовая, Шушь, Оя, Тыва с Амылом и Казыро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6500880" y="1285920"/>
            <a:ext cx="2381040" cy="17906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"/>
          <p:cNvPicPr/>
          <p:nvPr/>
        </p:nvPicPr>
        <p:blipFill>
          <a:blip r:embed="rId2"/>
          <a:stretch/>
        </p:blipFill>
        <p:spPr>
          <a:xfrm>
            <a:off x="4143240" y="3143160"/>
            <a:ext cx="2381400" cy="17906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"/>
          <p:cNvPicPr/>
          <p:nvPr/>
        </p:nvPicPr>
        <p:blipFill>
          <a:blip r:embed="rId3"/>
          <a:stretch/>
        </p:blipFill>
        <p:spPr>
          <a:xfrm>
            <a:off x="6572160" y="4857840"/>
            <a:ext cx="2381400" cy="17906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зёр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Прямоугольник 3"/>
          <p:cNvSpPr/>
          <p:nvPr/>
        </p:nvSpPr>
        <p:spPr>
          <a:xfrm>
            <a:off x="571680" y="4919760"/>
            <a:ext cx="8072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иболее крупные: Кара-Холь—в бассейне Алаша, Бедуй (Тайменное) — в бассейне Большого Абакана, Пазырым—на реке Каратош, Аргаданские и Буйбинские — на притоках Уса, Чёрное — в истоках Уса, Ойское — на Ое, Кара-Холь, Тульбер-Холь—в истоках Чаваша и други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3" descr=""/>
          <p:cNvPicPr/>
          <p:nvPr/>
        </p:nvPicPr>
        <p:blipFill>
          <a:blip r:embed="rId1"/>
          <a:stretch/>
        </p:blipFill>
        <p:spPr>
          <a:xfrm>
            <a:off x="357120" y="928800"/>
            <a:ext cx="2428920" cy="19288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"/>
          <p:cNvPicPr/>
          <p:nvPr/>
        </p:nvPicPr>
        <p:blipFill>
          <a:blip r:embed="rId2"/>
          <a:stretch/>
        </p:blipFill>
        <p:spPr>
          <a:xfrm>
            <a:off x="6072120" y="928800"/>
            <a:ext cx="2667240" cy="20001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" descr=""/>
          <p:cNvPicPr/>
          <p:nvPr/>
        </p:nvPicPr>
        <p:blipFill>
          <a:blip r:embed="rId3"/>
          <a:stretch/>
        </p:blipFill>
        <p:spPr>
          <a:xfrm>
            <a:off x="2928960" y="2681280"/>
            <a:ext cx="2847960" cy="21718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28760" y="-21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Животный ми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Прямоугольник 3"/>
          <p:cNvSpPr/>
          <p:nvPr/>
        </p:nvSpPr>
        <p:spPr>
          <a:xfrm>
            <a:off x="214200" y="928800"/>
            <a:ext cx="66438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лекопитающие: можно встреретить   марала, лося,кабаргу, бурундука, зайца-беляка, белку, волка, лису, реже росомаху, соболя, горностая, колонка, рысь, выдру, норку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Прямоугольник 4"/>
          <p:cNvSpPr/>
          <p:nvPr/>
        </p:nvSpPr>
        <p:spPr>
          <a:xfrm>
            <a:off x="292320" y="2071800"/>
            <a:ext cx="261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Более 150 видов птиц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Прямоугольник 5"/>
          <p:cNvSpPr/>
          <p:nvPr/>
        </p:nvSpPr>
        <p:spPr>
          <a:xfrm>
            <a:off x="214200" y="2428920"/>
            <a:ext cx="6286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озёрах и реках много рыбы, но разнообразие видов невелико. Наиболее распространён в горных озёрах и реках хариус сибирский, в более крупных реках по ямам и перекатам есть ленок, таймень, налим; бывают елец, сорога, пескар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Прямоугольник 6"/>
          <p:cNvSpPr/>
          <p:nvPr/>
        </p:nvSpPr>
        <p:spPr>
          <a:xfrm>
            <a:off x="285840" y="40719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ровососущие насекомые- комары, мошка, мокрецы, овод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428760" y="4857840"/>
            <a:ext cx="2307960" cy="17334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"/>
          <p:cNvPicPr/>
          <p:nvPr/>
        </p:nvPicPr>
        <p:blipFill>
          <a:blip r:embed="rId2"/>
          <a:stretch/>
        </p:blipFill>
        <p:spPr>
          <a:xfrm>
            <a:off x="7143840" y="1428840"/>
            <a:ext cx="1643040" cy="13557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"/>
          <p:cNvPicPr/>
          <p:nvPr/>
        </p:nvPicPr>
        <p:blipFill>
          <a:blip r:embed="rId3"/>
          <a:stretch/>
        </p:blipFill>
        <p:spPr>
          <a:xfrm>
            <a:off x="3286080" y="4857840"/>
            <a:ext cx="2500200" cy="17002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"/>
          <p:cNvPicPr/>
          <p:nvPr/>
        </p:nvPicPr>
        <p:blipFill>
          <a:blip r:embed="rId4"/>
          <a:stretch/>
        </p:blipFill>
        <p:spPr>
          <a:xfrm>
            <a:off x="6286680" y="485784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"/>
          <p:cNvPicPr/>
          <p:nvPr/>
        </p:nvPicPr>
        <p:blipFill>
          <a:blip r:embed="rId5"/>
          <a:stretch/>
        </p:blipFill>
        <p:spPr>
          <a:xfrm>
            <a:off x="6988320" y="3286080"/>
            <a:ext cx="1917720" cy="13669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осточный Сая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Прямоугольник 3"/>
          <p:cNvSpPr/>
          <p:nvPr/>
        </p:nvSpPr>
        <p:spPr>
          <a:xfrm>
            <a:off x="428760" y="4357800"/>
            <a:ext cx="80010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осто́чный Сая́н — горная система протяженностью свыше 1000 км в южной части Сибири на территории юга Красноярского края, запада Бурятии, Иркутской области и северо-востока Тывы от левобережья Енисея до побережья Байкала. Примыкает к юго-западному краю Сибирской платформы. Имеет складчатую структуру северо-западного и субширотного направления. Основные направления главных хребтов и цепей совпадают с простиранием тектонических структур и разлом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1285920" y="1214280"/>
            <a:ext cx="6215040" cy="30830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8T05:57:15Z</dcterms:created>
  <dc:creator>Admin</dc:creator>
  <dc:description/>
  <cp:keywords/>
  <dc:language>en-US</dc:language>
  <cp:lastModifiedBy>Admin</cp:lastModifiedBy>
  <dcterms:modified xsi:type="dcterms:W3CDTF">2012-03-28T08:48:24Z</dcterms:modified>
  <cp:revision>18</cp:revision>
  <dc:subject/>
  <dc:title>Саян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c0c0000000000010250300207f7000400038000</vt:lpwstr>
  </property>
  <property fmtid="{D5CDD505-2E9C-101B-9397-08002B2CF9AE}" pid="3" name="_TemplateID">
    <vt:lpwstr>TC300009809990</vt:lpwstr>
  </property>
</Properties>
</file>