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B4CE-5F23-4E04-A742-8ACC046F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6241-D171-4B82-9F69-53EB0904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AA7D-AE82-4D0B-AB48-C9F4F51CD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64DB-87F6-49A7-ACAD-71EBBC8BD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7B73-0D12-44A2-BFEC-3687F052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5BE0-D000-4E27-81B1-39F00F3F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1ED8-CC5E-4A36-A073-125FB191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6E2E-F68F-4F85-A6C9-3DFB13B9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8429-DB2F-41E7-BCF2-67999842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D9F1-5E29-453B-9CA2-DA232605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D9A6-AD1D-4A14-8FB6-5442E1EA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88D5-880D-4801-85A8-6AA8839C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img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9C18-4B55-4507-BF5E-AA0DEC39D3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>
                <a:solidFill>
                  <a:srgbClr val="000000"/>
                </a:solidFill>
                <a:latin typeface="Calibri"/>
              </a:rPr>
              <a:t>Саяны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0" y="57862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полнила: ученица 8 a класса Щербакова Александ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715000" cy="40006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лье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0" y="3071880"/>
            <a:ext cx="6643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ребты западной части Восточного Саяна образуют плосковершинные белогорья (Манское Белогорье, Канское Белогорье, Кутурчинское Белогорье и т. д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центральной и восточной части этой горной системы расположены высокогорные массивы Большой Саян, Тункинские Гольцы, Китойские Гольцы и т. д., характеризующиеся альпийскими формами рельеф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Восточного Саяна также присущи обширные участки древнего выровненного рельефа и вулканические плато, отличающиеся пологим наклоном. В пределах горной системы существуют молодые вулканические образования (вулканы Кропоткина, Перетолчина и др.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5643720" y="857160"/>
            <a:ext cx="3262320" cy="217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2928960" y="1285920"/>
            <a:ext cx="2281320" cy="1515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3"/>
          <a:stretch/>
        </p:blipFill>
        <p:spPr>
          <a:xfrm>
            <a:off x="6357960" y="3643200"/>
            <a:ext cx="2244600" cy="1571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4"/>
          <a:stretch/>
        </p:blipFill>
        <p:spPr>
          <a:xfrm>
            <a:off x="357120" y="1285920"/>
            <a:ext cx="2189160" cy="1495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5"/>
          <a:stretch/>
        </p:blipFill>
        <p:spPr>
          <a:xfrm>
            <a:off x="6572160" y="5429160"/>
            <a:ext cx="2071800" cy="1049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лезные ископаем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2286000" y="399564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ожена данная горная страна главным образом гнейсами, слюдисто-карбонатными и кристаллическими сланцами, мраморами, кварцитами, амфиболитами. Межгорные впадины заполнены терригенно-угленосными толщами. Среди наиболее заметных полезных ископаемых — золото, графит, бокситы, асбест, фосфорит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214200" y="4929120"/>
            <a:ext cx="1857600" cy="1562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7072200" y="5072040"/>
            <a:ext cx="1770120" cy="1552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3"/>
          <a:stretch/>
        </p:blipFill>
        <p:spPr>
          <a:xfrm>
            <a:off x="2500200" y="2000160"/>
            <a:ext cx="2000520" cy="1506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4"/>
          <a:stretch/>
        </p:blipFill>
        <p:spPr>
          <a:xfrm>
            <a:off x="7143840" y="3214800"/>
            <a:ext cx="1581120" cy="1547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5"/>
          <a:stretch/>
        </p:blipFill>
        <p:spPr>
          <a:xfrm>
            <a:off x="214200" y="3143160"/>
            <a:ext cx="2127240" cy="1285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6"/>
          <a:stretch/>
        </p:blipFill>
        <p:spPr>
          <a:xfrm>
            <a:off x="4929120" y="2071800"/>
            <a:ext cx="1928880" cy="1446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им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928800" y="3995640"/>
            <a:ext cx="7215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лимат Восточного Саяна резко континентальный, зима продолжительная и суровая, лето короткое и прохладное. На высотах 900—1300 м средние температуры января колеблются от −17 до −25 °C, средние температуры июля колеблются от 12 до 14 °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личество осадков зависит от расположения склонов. В восточных и юго-восточных районах около 300 мм в год; в западных и юго-западных районах до 800 мм в год; в северных предгорьях около 400 мм в го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357200" y="928800"/>
            <a:ext cx="6500880" cy="2709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ед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3"/>
          <p:cNvSpPr/>
          <p:nvPr/>
        </p:nvSpPr>
        <p:spPr>
          <a:xfrm>
            <a:off x="1285920" y="1000080"/>
            <a:ext cx="628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Восточном Саяне существует около 100 ледников общей площадью около 30 км². В основном это каровые и висячие ледн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143000" y="2857680"/>
            <a:ext cx="2714760" cy="3619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5429160" y="2786040"/>
            <a:ext cx="2608200" cy="34765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296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7120" y="5000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чная сеть горной страны относится к бассейну Енисея. Крупнейшие реки — Туба, Сыда, Сисим, Мана, Кан, Агул, Бирюса. Озёра в Восточном Саяне главным образом ледникового происхождения (например, Агульское). Имеются известные минеральные источники Аршан и Нилова Пустын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857160" y="1285920"/>
            <a:ext cx="2381400" cy="1495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6072120" y="1285920"/>
            <a:ext cx="2381400" cy="1790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3"/>
          <a:stretch/>
        </p:blipFill>
        <p:spPr>
          <a:xfrm>
            <a:off x="3214800" y="3214800"/>
            <a:ext cx="2381040" cy="1590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лагодарю за внима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500120" y="1928880"/>
            <a:ext cx="6459480" cy="4429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я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14200" y="2643120"/>
            <a:ext cx="4143600" cy="331956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4"/>
          <p:cNvSpPr/>
          <p:nvPr/>
        </p:nvSpPr>
        <p:spPr>
          <a:xfrm>
            <a:off x="661680" y="1785960"/>
            <a:ext cx="348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падный Сая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4643280" y="2643120"/>
            <a:ext cx="4318200" cy="32860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6"/>
          <p:cNvSpPr/>
          <p:nvPr/>
        </p:nvSpPr>
        <p:spPr>
          <a:xfrm>
            <a:off x="4874040" y="1785960"/>
            <a:ext cx="366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сточный Сая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падный Сая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285840" y="3811680"/>
            <a:ext cx="8501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́падный Сая́н ограничивается с запада Шапшальским хребтом Восточного Алтая и Абаканским хребтом Кузнецкого Алатау. Он тянется в широтном направлении полосой, постепенно сужающейся с 200 до 80 км, от верховьев реки Абакан до стыка с хребтами Восточного Саяна в верховьях рек Казыр, Уда и Кижи-Хем. С севера к Западному Саяну примыкает Минусинская котловина, а с юга — Тувинская котлови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ая длина системы 650 к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714240" y="1143000"/>
            <a:ext cx="3500640" cy="2384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5000760" y="1214280"/>
            <a:ext cx="3262320" cy="2357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680" y="-286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лье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285840" y="2571840"/>
            <a:ext cx="85723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нообразный рельеф гор Западного Саяна отчетливо связан с высотой над уровнем моря. В самом верхнем ярусе, над верхней границей леса, — типичный высокогорный альпийский рельеф. Он свойственен хребтам осевой линии Западного Саяна (Шонхыр, Хансын, Хузук, Саянский, Борус, Араданский, Ергаки). Для этого типа рельефа характерны узкие гребни с крутопадающими склонами, острые труднодоступные пики, глубокие кары с многолетними снежник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югу и северу от осевой линии наиболее распространённым является среднегорный рельеф. Хребты более пологие, сильно изрезанные речными долинами, поросшие горной тайг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северной и южной границ Западного Саяна характерен низкогорный рельеф с плоскими, невысокими холмами—сопками, с редкими смешанными лесами и большими остепнёнными участк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143000" y="642960"/>
            <a:ext cx="2857680" cy="1833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5643720" y="642960"/>
            <a:ext cx="2643120" cy="1857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им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3"/>
          <p:cNvSpPr/>
          <p:nvPr/>
        </p:nvSpPr>
        <p:spPr>
          <a:xfrm flipV="1" rot="10800000">
            <a:off x="4142880" y="1213200"/>
            <a:ext cx="464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имат района континентальный с выраженной высотной поясностью. Температура здесь опускается на 1° на каждые 150 м подъёма. Разница в длине тёплого периода года между осевыми хребтами и предгорьями около 40 дн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500040" y="677880"/>
            <a:ext cx="2548080" cy="1911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4071960" y="4572000"/>
            <a:ext cx="4572000" cy="2054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714240" y="3143160"/>
            <a:ext cx="2286000" cy="3386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4000680" y="1000080"/>
            <a:ext cx="111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Ре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4"/>
          <p:cNvSpPr/>
          <p:nvPr/>
        </p:nvSpPr>
        <p:spPr>
          <a:xfrm>
            <a:off x="0" y="235728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реки Западного Саяна имеют ярко выраженный горный характер. Реки принадлежат бассейну Енисея. Наиболее крупные притоки его: слева — Хемчик, Большие Уры, Голая, Пашкина, Головань, Кантегир, Джой, Абакан, справа — Ус, Казырсуг, Березовая, Шушь, Оя, Тыва с Амылом и Казыр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500880" y="1285920"/>
            <a:ext cx="2381040" cy="1790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4143240" y="3143160"/>
            <a:ext cx="2381400" cy="1790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6572160" y="4857840"/>
            <a:ext cx="2381400" cy="1790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зё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571680" y="4919760"/>
            <a:ext cx="807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иболее крупные: Кара-Холь—в бассейне Алаша, Бедуй (Тайменное) — в бассейне Большого Абакана, Пазырым—на реке Каратош, Аргаданские и Буйбинские — на притоках Уса, Чёрное — в истоках Уса, Ойское — на Ое, Кара-Холь, Тульбер-Холь—в истоках Чаваша и друг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357120" y="928800"/>
            <a:ext cx="2428920" cy="1928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6072120" y="92880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3"/>
          <a:stretch/>
        </p:blipFill>
        <p:spPr>
          <a:xfrm>
            <a:off x="2928960" y="2681280"/>
            <a:ext cx="2847960" cy="2171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ивотный ми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214200" y="928800"/>
            <a:ext cx="664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лекопитающие: можно встреретить   марала, лося,кабаргу, бурундука, зайца-беляка, белку, волка, лису, реже росомаху, соболя, горностая, колонка, рысь, выдру, норк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4"/>
          <p:cNvSpPr/>
          <p:nvPr/>
        </p:nvSpPr>
        <p:spPr>
          <a:xfrm>
            <a:off x="292320" y="2071800"/>
            <a:ext cx="261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олее 150 видов птиц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5"/>
          <p:cNvSpPr/>
          <p:nvPr/>
        </p:nvSpPr>
        <p:spPr>
          <a:xfrm>
            <a:off x="214200" y="2428920"/>
            <a:ext cx="6286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озёрах и реках много рыбы, но разнообразие видов невелико. Наиболее распространён в горных озёрах и реках хариус сибирский, в более крупных реках по ямам и перекатам есть ленок, таймень, налим; бывают елец, сорога, пескар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6"/>
          <p:cNvSpPr/>
          <p:nvPr/>
        </p:nvSpPr>
        <p:spPr>
          <a:xfrm>
            <a:off x="285840" y="40719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ровососущие насекомые- комары, мошка, мокрецы, овод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428760" y="4857840"/>
            <a:ext cx="2307960" cy="1733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7143840" y="1428840"/>
            <a:ext cx="1643040" cy="1355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3286080" y="4857840"/>
            <a:ext cx="2500200" cy="1700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4"/>
          <a:stretch/>
        </p:blipFill>
        <p:spPr>
          <a:xfrm>
            <a:off x="6286680" y="485784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5"/>
          <a:stretch/>
        </p:blipFill>
        <p:spPr>
          <a:xfrm>
            <a:off x="6988320" y="3286080"/>
            <a:ext cx="1917720" cy="1366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сточный Сая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3"/>
          <p:cNvSpPr/>
          <p:nvPr/>
        </p:nvSpPr>
        <p:spPr>
          <a:xfrm>
            <a:off x="428760" y="4357800"/>
            <a:ext cx="8001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сто́чный Сая́н — горная система протяженностью свыше 1000 км в южной части Сибири на территории юга Красноярского края, запада Бурятии, Иркутской области и северо-востока Тывы от левобережья Енисея до побережья Байкала. Примыкает к юго-западному краю Сибирской платформы. Имеет складчатую структуру северо-западного и субширотного направления. Основные направления главных хребтов и цепей совпадают с простиранием тектонических структур и разлом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285920" y="1214280"/>
            <a:ext cx="6215040" cy="30830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05:57:15Z</dcterms:created>
  <dc:creator>Admin</dc:creator>
  <dc:description/>
  <cp:keywords/>
  <dc:language>en-US</dc:language>
  <cp:lastModifiedBy>Admin</cp:lastModifiedBy>
  <dcterms:modified xsi:type="dcterms:W3CDTF">2012-03-28T08:48:24Z</dcterms:modified>
  <cp:revision>18</cp:revision>
  <dc:subject/>
  <dc:title>Саян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0c0000000000010250300207f7000400038000</vt:lpwstr>
  </property>
  <property fmtid="{D5CDD505-2E9C-101B-9397-08002B2CF9AE}" pid="3" name="_TemplateID">
    <vt:lpwstr>TC300009809990</vt:lpwstr>
  </property>
</Properties>
</file>