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0E0-F904-4FD7-83FD-0B7706E3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D6D-0EB5-4E0C-9F2C-EDFFF8F0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A77-F41F-4C1C-8DFD-DA8FDA3C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435-C71A-4FF3-B34C-F83C08A0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C0D-3B08-43E0-B15F-6591AB9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5AC-8B70-4BE7-B769-10BE1D1B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1DB-ACE8-4933-B156-38565AF7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DBB-0EB8-4985-85B8-D84320A7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790-C6A6-41D9-9C81-B76FB11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3EF-5B92-44FA-A306-D3266691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F3B-6943-4660-8B8D-E18CD60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FB6-9238-41FC-98F9-8F6E52A3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8960-F6D5-4BC7-BF33-4DE342A01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0000"/>
                </a:solidFill>
                <a:latin typeface="Calibri"/>
              </a:rPr>
              <a:t>Саян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0" y="5786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: ученица 8 a класса Щербакова Александ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3071880"/>
            <a:ext cx="6643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ебты западной части Восточного Саяна образуют плосковершинные белогорья (Манское Белогорье, Канское Белогорье, Кутурчинское Белогорье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нтральной и восточной части этой горной системы расположены высокогорные массивы Большой Саян, Тункинские Гольцы, Китойские Гольцы и т. д., характеризующиеся альпийскими формами рельеф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Восточного Саяна также присущи обширные участки древнего выровненного рельефа и вулканические плато, отличающиеся пологим наклоном. В пределах горной системы существуют молодые вулканические образования (вулканы Кропоткина, Перетолчина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643720" y="857160"/>
            <a:ext cx="3262320" cy="217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928960" y="1285920"/>
            <a:ext cx="2281320" cy="1515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357960" y="3643200"/>
            <a:ext cx="2244600" cy="15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357120" y="1285920"/>
            <a:ext cx="2189160" cy="1495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6572160" y="5429160"/>
            <a:ext cx="2071800" cy="1049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286000" y="39956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ена данная горная страна главным образом гнейсами, слюдисто-карбонатными и кристаллическими сланцами, мраморами, кварцитами, амфиболитами. Межгорные впадины заполнены терригенно-угленосными толщами. Среди наиболее заметных полезных ископаемых — золото, графит, бокситы, асбест, фосфори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200" y="4929120"/>
            <a:ext cx="1857600" cy="156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7072200" y="5072040"/>
            <a:ext cx="1770120" cy="155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2500200" y="2000160"/>
            <a:ext cx="2000520" cy="1506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7143840" y="3214800"/>
            <a:ext cx="1581120" cy="154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214200" y="3143160"/>
            <a:ext cx="212724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4929120" y="2071800"/>
            <a:ext cx="1928880" cy="1446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928800" y="3995640"/>
            <a:ext cx="721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имат Восточного Саяна резко континентальный, зима продолжительная и суровая, лето короткое и прохладное. На высотах 900—1300 м средние температуры января колеблются от −17 до −25 °C, средние температуры июля колеблются от 12 до 14 °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осадков зависит от расположения склонов. В восточных и юго-восточных районах около 300 мм в год; в западных и юго-западных районах до 800 мм в год; в северных предгорьях около 400 мм в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500880" cy="270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1285920" y="100008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осточном Саяне существует около 100 ледников общей площадью около 30 км². В основном это каровые и висячие лед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429160" y="2786040"/>
            <a:ext cx="2608200" cy="3476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5000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чная сеть горной страны относится к бассейну Енисея. Крупнейшие реки — Туба, Сыда, Сисим, Мана, Кан, Агул, Бирюса. Озёра в Восточном Саяне главным образом ледникового происхождения (например, Агульское). Имеются известные минеральные источники Аршан и Нилова Пусты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2381400" cy="149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072120" y="128592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3214800" y="3214800"/>
            <a:ext cx="2381040" cy="1590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64594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я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4200" y="2643120"/>
            <a:ext cx="4143600" cy="3319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661680" y="1785960"/>
            <a:ext cx="34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адный Сая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4643280" y="2643120"/>
            <a:ext cx="4318200" cy="3286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4874040" y="178596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сточный Сая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адный Са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85840" y="38116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́падный Сая́н ограничивается с запада Шапшальским хребтом Восточного Алтая и Абаканским хребтом Кузнецкого Алатау. Он тянется в широтном направлении полосой, постепенно сужающейся с 200 до 80 км, от верховьев реки Абакан до стыка с хребтами Восточного Саяна в верховьях рек Казыр, Уда и Кижи-Хем. С севера к Западному Саяну примыкает Минусинская котловина, а с юга — Тувинская котлов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длина системы 650 к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3500640" cy="238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00760" y="1214280"/>
            <a:ext cx="326232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85840" y="2571840"/>
            <a:ext cx="857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нообразный рельеф гор Западного Саяна отчетливо связан с высотой над уровнем моря. В самом верхнем ярусе, над верхней границей леса, — типичный высокогорный альпийский рельеф. Он свойственен хребтам осевой линии Западного Саяна (Шонхыр, Хансын, Хузук, Саянский, Борус, Араданский, Ергаки). Для этого типа рельефа характерны узкие гребни с крутопадающими склонами, острые труднодоступные пики, глубокие кары с многолетними снеж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югу и северу от осевой линии наиболее распространённым является среднегорный рельеф. Хребты более пологие, сильно изрезанные речными долинами, поросшие горной тай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еверной и южной границ Западного Саяна характерен низкогорный рельеф с плоскими, невысокими холмами—сопками, с редкими смешанными лесами и большими остепнёнными участ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285768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643720" y="642960"/>
            <a:ext cx="264312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 flipV="1" rot="10800000">
            <a:off x="4142880" y="1213200"/>
            <a:ext cx="46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имат района континентальный с выраженной высотной поясностью. Температура здесь опускается на 1° на каждые 150 м подъёма. Разница в длине тёплого периода года между осевыми хребтами и предгорьями около 40 д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00040" y="67788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071960" y="4572000"/>
            <a:ext cx="4572000" cy="205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14240" y="3143160"/>
            <a:ext cx="22860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000680" y="1000080"/>
            <a:ext cx="11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2357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реки Западного Саяна имеют ярко выраженный горный характер. Реки принадлежат бассейну Енисея. Наиболее крупные притоки его: слева — Хемчик, Большие Уры, Голая, Пашкина, Головань, Кантегир, Джой, Абакан, справа — Ус, Казырсуг, Березовая, Шушь, Оя, Тыва с Амылом и Казы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0880" y="1285920"/>
            <a:ext cx="2381040" cy="179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143240" y="314316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572160" y="485784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зё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571680" y="491976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более крупные: Кара-Холь—в бассейне Алаша, Бедуй (Тайменное) — в бассейне Большого Абакана, Пазырым—на реке Каратош, Аргаданские и Буйбинские — на притоках Уса, Чёрное — в истоках Уса, Ойское — на Ое, Кара-Холь, Тульбер-Холь—в истоках Чаваша и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6072120" y="928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2928960" y="2681280"/>
            <a:ext cx="284796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214200" y="928800"/>
            <a:ext cx="66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екопитающие: можно встреретить   марала, лося,кабаргу, бурундука, зайца-беляка, белку, волка, лису, реже росомаху, соболя, горностая, колонка, рысь, выдру, нор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92320" y="207180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ее 150 видов пти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14200" y="2428920"/>
            <a:ext cx="628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зёрах и реках много рыбы, но разнообразие видов невелико. Наиболее распространён в горных озёрах и реках хариус сибирский, в более крупных реках по ямам и перекатам есть ленок, таймень, налим; бывают елец, сорога, пескар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285840" y="4071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вососущие насекомые- комары, мошка, мокрецы, ов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28760" y="4857840"/>
            <a:ext cx="2307960" cy="173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7143840" y="1428840"/>
            <a:ext cx="1643040" cy="1355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286080" y="4857840"/>
            <a:ext cx="2500200" cy="1700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286680" y="48578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6988320" y="3286080"/>
            <a:ext cx="191772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точный Са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428760" y="435780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то́чный Сая́н — горная система протяженностью свыше 1000 км в южной части Сибири на территории юга Красноярского края, запада Бурятии, Иркутской области и северо-востока Тывы от левобережья Енисея до побережья Байкала. Примыкает к юго-западному краю Сибирской платформы. Имеет складчатую структуру северо-западного и субширотного направления. Основные направления главных хребтов и цепей совпадают с простиранием тектонических структур и разло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285920" y="1214280"/>
            <a:ext cx="6215040" cy="308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5:57:15Z</dcterms:created>
  <dc:creator>Admin</dc:creator>
  <dc:description/>
  <cp:keywords/>
  <dc:language>en-US</dc:language>
  <cp:lastModifiedBy>Admin</cp:lastModifiedBy>
  <dcterms:modified xsi:type="dcterms:W3CDTF">2012-03-28T08:48:24Z</dcterms:modified>
  <cp:revision>18</cp:revision>
  <dc:subject/>
  <dc:title>Сая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c0000000000010250300207f7000400038000</vt:lpwstr>
  </property>
  <property fmtid="{D5CDD505-2E9C-101B-9397-08002B2CF9AE}" pid="3" name="_TemplateID">
    <vt:lpwstr>TC300009809990</vt:lpwstr>
  </property>
</Properties>
</file>