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759-632C-4A15-81C8-4B415C3F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918-1A94-4306-A561-444E46EB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6AD-F56C-440A-8EC9-7F766674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870-D297-470C-B9F8-E6C1E320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CF9-5C9C-4EAE-AD5D-60A84CDB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550-F917-41C2-AA45-D9AC767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07F-9484-487C-A6C7-D4EA18DD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614-2489-4CD0-B055-790AA334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DC2-64FC-4C38-850D-E335FEFE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420-B135-4A73-8F09-6765676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7DF-F92C-44E9-8B76-AA286079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200-F0AA-4795-B248-FBC92EE3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55E743-F0F9-4F12-901A-1B98387F6EF8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95400" y="208080"/>
            <a:ext cx="9802800" cy="7202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279000"/>
            <a:ext cx="8607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0" lang="en-GB" sz="4900" spc="-1" strike="noStrike">
                <a:solidFill>
                  <a:srgbClr val="0000ff"/>
                </a:solidFill>
                <a:latin typeface="Calibri"/>
              </a:rPr>
              <a:t>аратовская область.</a:t>
            </a:r>
            <a:r>
              <a:rPr b="0" lang="ru-RU" sz="49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4900" spc="-1" strike="noStrike">
                <a:solidFill>
                  <a:srgbClr val="0000ff"/>
                </a:solidFill>
                <a:latin typeface="Calibri"/>
              </a:rPr>
              <a:t>Саратов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4360" y="1767960"/>
            <a:ext cx="921384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77920" y="208080"/>
            <a:ext cx="9524880" cy="71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4160" y="185076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Газо- и нефтедобывающая, машиностроение,</a:t>
            </a:r>
            <a:r>
              <a:rPr b="0" lang="ru-RU" sz="35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 авиастроение, станкостроение, электротехническая, пр</a:t>
            </a:r>
            <a:r>
              <a:rPr b="0" lang="ru-RU" sz="3500" spc="-1" strike="noStrike">
                <a:solidFill>
                  <a:srgbClr val="7030a0"/>
                </a:solidFill>
                <a:latin typeface="Calibri"/>
              </a:rPr>
              <a:t>и</a:t>
            </a:r>
            <a:r>
              <a:rPr b="0" lang="en-GB" sz="3500" spc="-1" strike="noStrike">
                <a:solidFill>
                  <a:srgbClr val="7030a0"/>
                </a:solidFill>
                <a:latin typeface="Calibri"/>
              </a:rPr>
              <a:t>боростроение, черная металлургия, нефтеперерабатывающая и химическая, деревообрабатывающая, пищевая и предприятия лёгкой промышленности</a:t>
            </a:r>
            <a:r>
              <a:rPr b="0" lang="en-GB" sz="35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200" y="626760"/>
            <a:ext cx="8929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Основные отрасли промышлен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Культурные учреждения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3800" y="1279080"/>
            <a:ext cx="4429080" cy="61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Театры — оперы и балета, драматический, юного зрителя, кукольный. Филармония. Цирк. Планетарий. Музеи: художественный им. А. Н. Радищева, краеведческий (основан в 1886 г.), дом-музей Н. Г. Чернышевского, музей-квартира  семьи Ульяновых, музей писателя К. А. Фед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5468760" y="185112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325600" y="192240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Филармония им. Собинов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240" y="1850760"/>
            <a:ext cx="7572600" cy="490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12400" y="539280"/>
            <a:ext cx="8967960" cy="648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Главными символами современного Саратова являются крупнейший в Евр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пе автодорожный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мост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, соединяющий правый и левый берега Волги и мемориальный комплекс «Журавли», установленный на Соколовой г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325600" y="3565440"/>
            <a:ext cx="523872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«Журавл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182680" y="1994040"/>
            <a:ext cx="6429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504036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Флаг Саратовской обла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3800" y="1779120"/>
            <a:ext cx="4786200" cy="500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423000" indent="-317160">
              <a:spcBef>
                <a:spcPts val="799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Б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ыл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принят 5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ентября 1996 года. В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центре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белой полосы герб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Саратовской области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окружении золотого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декоративного венка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из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дубовых, лавровых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ветвей и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к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олосьев,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оединённых золотой лен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111640" y="2779560"/>
            <a:ext cx="4703760" cy="31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Герб Саратовской области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97280" y="1422360"/>
            <a:ext cx="6643440" cy="6021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был принят  23 мая 2001 года. На французском геральдическом щите лазоревого цвета — три серебряные стерляди.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Над щитом расположена историческая земельная корона золотого цвета с пятью зубцами,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стилизованными под купола церкв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39640" y="1779480"/>
            <a:ext cx="2171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26240" y="1208160"/>
            <a:ext cx="3751200" cy="1643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Река Волг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2520" y="422280"/>
            <a:ext cx="5572080" cy="692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-323640">
              <a:spcBef>
                <a:spcPts val="700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Саратовская область находится в Российской Федерации. 100,2 тыс. км2. Население 2690 тыс. человек. 38 районов , 18 городов, 30 посёлков городского типа. Административный центр — Саратов. Другие крупные города: Балаково, Энгельс, Балашов, Вольс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700"/>
              </a:spcBef>
              <a:spcAft>
                <a:spcPts val="1412"/>
              </a:spcAft>
              <a:buClr>
                <a:srgbClr val="00ffff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Главная река — Волга с притоками Терешка, Большой Иргиз. На западе — реки Хопер, Медведица (притоки Дон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683320" y="3208320"/>
            <a:ext cx="4114800" cy="30891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3972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Географическое положение. Рельеф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6360" y="1779120"/>
            <a:ext cx="92869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Располжена на юго-востоке Восточно-Европейской равнины, в Нижнем Поволжье. Делится Волгой на 2 части: западную (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равобережье) и восточную (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Л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евобережье — Заволжье). В южной части Заволжья — Прикаспийская низменность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На западе Окско-Донская низменность. В Правобережье Приволжская возвыш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Месторождения природн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го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газ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, нефти,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меются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горючие сланцы, стройматериал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ы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39720"/>
            <a:ext cx="8607600" cy="123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Климат.</a:t>
            </a: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 Природные зоны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</a:rPr>
              <a:t>Климат континентальный. Средняя температура января -12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° с , а июля +22° с. Осадков в год от 250 мм на юго-востоке и до 450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мм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на северо-запад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Расположена в лесостепной, степной и полупустынной зона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Почвы преимущественно черноземные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-50,4%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, темно-каштановые, каштановые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- 30 %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7030a0"/>
                </a:solidFill>
                <a:latin typeface="Calibri"/>
                <a:ea typeface="Times New Roman"/>
              </a:rPr>
              <a:t>Растительность разнотравно-злаковых, типчаково-ковыльных и полынно-злаковых степей (большей частью распаханы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504036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0" y="0"/>
            <a:ext cx="504036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279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51760"/>
                <a:tab algn="l" pos="9058320"/>
                <a:tab algn="l" pos="10064880"/>
              </a:tabLst>
            </a:pPr>
            <a:r>
              <a:rPr b="0" lang="en-GB" sz="5400" spc="-1" strike="noStrike">
                <a:solidFill>
                  <a:srgbClr val="7030a0"/>
                </a:solidFill>
                <a:latin typeface="Calibri"/>
              </a:rPr>
              <a:t>Герб</a:t>
            </a: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Саратов</a:t>
            </a:r>
            <a:r>
              <a:rPr b="0" lang="ru-RU" sz="4900" spc="-1" strike="noStrike">
                <a:solidFill>
                  <a:srgbClr val="7030a0"/>
                </a:solidFill>
                <a:latin typeface="Calibri"/>
              </a:rPr>
              <a:t>а</a:t>
            </a:r>
            <a:r>
              <a:rPr b="0" lang="en-GB" sz="49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11600" y="1717200"/>
            <a:ext cx="4748400" cy="476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Герб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Саратова также был принят 18 ноября 1997 года и полностью повторяет исторический герб города, утверждённый 23 августа 1781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468360" y="2101680"/>
            <a:ext cx="392904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4280" y="5351400"/>
            <a:ext cx="6270480" cy="56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Флаг Саратов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132" b="0"/>
          <a:stretch/>
        </p:blipFill>
        <p:spPr>
          <a:xfrm>
            <a:off x="1944720" y="684360"/>
            <a:ext cx="6048360" cy="4176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720" y="5916240"/>
            <a:ext cx="9072720" cy="887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 algn="ctr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был принят 18 ноября 1997 года. В центре белой полосы — герб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г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ор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0" algn="ctr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2560" y="2565360"/>
            <a:ext cx="3786120" cy="3700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279000"/>
            <a:ext cx="41086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58320"/>
                <a:tab algn="l" pos="1006488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тарый Сар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3680" y="1944360"/>
            <a:ext cx="4343400" cy="549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68720" y="564840"/>
            <a:ext cx="4786560" cy="6878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Саратов расположен на правом берегу р. Волги. Речной порт. Крупный узел железнодорожных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линий и автомобильных дорог. Аэропор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Население 866,6 тыс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яч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человек (2001 г.). Основан в 1590г.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7030a0"/>
                </a:solidFill>
                <a:latin typeface="Calibri"/>
              </a:rPr>
              <a:t>Город с 178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Васильевна </cp:lastModifiedBy>
  <dcterms:modified xsi:type="dcterms:W3CDTF">2011-04-08T09:44:25Z</dcterms:modified>
  <cp:revision>9</cp:revision>
  <dc:subject/>
  <dc:title>Саратовская область. Сара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00000000000010250600207f7000400038000</vt:lpwstr>
  </property>
</Properties>
</file>