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62D-0E70-47CC-AAEF-F1F804F5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83D-CF5E-4383-8AE4-4322A7A0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7ED-1180-4F83-8839-5DC3C539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63C-6043-4945-A8F8-697C281E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81AD-3A67-417D-9BFC-D550B9CC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95EC-E9D1-412C-8A48-5CD0EBBB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DAD-229A-4A1B-8C6B-24C4F44C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97C8-4905-4D3F-A4D4-E1DB4154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F4E-65A0-4618-85C1-83AC1CF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9E92-5E64-4462-8AFA-06BA3FA0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5E68-3DD3-4877-A1FF-9218FD7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A58-1C94-4428-8EA1-F9F2BEEE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B880-9826-499E-B488-25BC7CA5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9949-0FD2-4C4D-A026-AD76B2E8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1C88-01D4-4847-A54D-4EB49079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BCCA-CFCF-40BB-BFB1-AF2429E6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C306-8B57-4E81-A43F-42C369C0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F8D-E5A1-49C8-B78E-8CC1492E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8B1-FEE5-4757-B15C-6953D505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C4D-83B6-4645-956B-04D8E250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543-AC3E-4D96-8348-1EC3D442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253-8B97-493E-82F5-1430AC25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59D-04D7-45AA-A8F5-AA334A1A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8A2-86C1-4E0B-B274-F31D269D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2D86-11A8-48A1-9C7D-356692BF94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1EFE-CC97-497C-AD73-26FC789B95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pb-guide.ru/foto_8792.ht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fenst.narod.ru/photo/school/sp/06.16/files/p0000032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eterburg.biz/images/hotel/nevskii_mayak1B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660/2780660/f_1637440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pb-guide.ru/foto_165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pb-guide.ru/foto_62726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alkspb.ru/zd/petrop_kr.html" TargetMode="External"/><Relationship Id="rId2" Type="http://schemas.openxmlformats.org/officeDocument/2006/relationships/hyperlink" Target="http://walkspb.ru/zd/petrop_sobor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at16.privet.ru/lr/0b0869805aa7c620a6524b347ba49bb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b-guide.ru/foto_9539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анкт-Петербург «вторая столица» Росс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унсткам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унсткамера в Санкт-Петербург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это один из старейших музеев Северной столицы и всей России. Он был создан по указу Петра Первого с целью собирания и исследования раритетов, рожденных как природой, так и руками человека. В настоящее время собрание Музея антропологии и этнографии им. Петра Великого - Кунсткамера Российской академии наук является одним из наиболее полных и интересных музеев в мире. В нем собрано более миллиона экспонатов. Более ста лет они служили исследователям в области археологии, анатомии и медиц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Кунсткамера, 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4640"/>
            <a:ext cx="4573440" cy="347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34 из 30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357720"/>
            <a:ext cx="42847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евский проспек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вский проспект в Санкт-Петербурге – одна из самых первых и самая известная улица в Северной столице. Ее протяженность составляет 4,5 км. Наибольшая ширина – 60 м у Гостиного Двора, наименьшая – 25 м у Мойки. Это одна из 3-х улиц-лучей, расходящихся от Адмиралтейств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Картинка 1 из 961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42960"/>
            <a:ext cx="5076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етний са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етний сад в Санкт-Петербурге увековечен во многих произведениях искусства, созданных художниками и поэтами. Многие из нас представляют его, читая поэму любимого поэта А.С.Пушкина «Евгений Онегин»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чил его всему шутя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 докучал моралью строго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легка за шалости брани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 Летний сад гулять води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 все, кто впервые приехал в Петербург, несомненно, захотят увидеть этот зеленый островок, чтоб лучше понять воспетый поэтом прекрасный город и его истор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Картинка 1 из 1415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04640"/>
            <a:ext cx="6516720" cy="459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27320" y="515700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тний сад закрыт на реставрацию и реконструкцию до 2012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етропавловская крепость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начале 18 века после победы над шведами в Северной войне необходимо было защитить завоеванные земли и построить крепость. 27 мая 1703 года, в день Святой Троицы, по чертежу Петра Первого на небольшом острове, в устье Невы, закладывается крепость. Остров назывался Заячий (в переводе с финского) или Веселый (со шведского) и по форме представлял собой вытянутый шестиугольник. Руководил строительством князь Александр Меншиков. Первоначально сооружения были земляными и деревянными. В октябре 1903 года строительство было завершен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Подсветка на Петропавловской крепости"/>
          <p:cNvPicPr/>
          <p:nvPr/>
        </p:nvPicPr>
        <p:blipFill>
          <a:blip r:embed="rId1"/>
          <a:stretch/>
        </p:blipFill>
        <p:spPr>
          <a:xfrm>
            <a:off x="1692360" y="620640"/>
            <a:ext cx="5715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занский собо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занский собор в Санкт-Петербурге – провославный кафедральный храм, расположенный в самом центре города. Фасады храма выходят на Невский проспект и канал Грибоедова. Это одно из самых больших сооружений в Северной столице. Его&amp; высота достигает 71,5 метра. По его имени названы остров в дельте Невы, мост на пересечении Невского проспекта и канала Грибоедова и улица, которая отходит храм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Вид на Казанский собор и Казанский мос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125360"/>
            <a:ext cx="5616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тербург по праву считается одним из красивейших городов мира. Сотни туристов съезжаются сюда со всех концов света, чтобы своими глазами увидеть знаменитые памятники скульптуры и архитектуры, пройтись по улицам Северной столицы России и прикоснуться к ее истор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елые ноч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учшее время для отдыха в Петербурге – это лето, а еще лучше конец июня – начало июля. Ибо именно в это время Вы сможете наблюдать «белые ночи». Среди обывателей бытует мнение, что белые ночи – это период времени, когда солнце вовсе не садится. В действительности, Белые ночи - это ночи, в течение которых естественная освещённость так и не становится слишком низкой, т.е. вся ночь состоит лишь из сумерек. В Петербурге пик белых ночей приходится на 22 июня, а официально белые ночи длятся с 11 июня по 2 июля. В действительности же, все лето продолжительность дня в Санкт-Петербурге значительно больше чем, например, в Москв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Белые ночи, Аничков мост и река Фонта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593720"/>
            <a:ext cx="5688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Картинка 6 из 28254"/>
          <p:cNvPicPr/>
          <p:nvPr/>
        </p:nvPicPr>
        <p:blipFill>
          <a:blip r:embed="rId1"/>
          <a:stretch/>
        </p:blipFill>
        <p:spPr>
          <a:xfrm>
            <a:off x="2143080" y="1523880"/>
            <a:ext cx="4857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Картинка 17 из 28254"/>
          <p:cNvPicPr/>
          <p:nvPr/>
        </p:nvPicPr>
        <p:blipFill>
          <a:blip r:embed="rId1"/>
          <a:stretch/>
        </p:blipFill>
        <p:spPr>
          <a:xfrm>
            <a:off x="2033640" y="1538280"/>
            <a:ext cx="507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Картинка 27 из 28253"/>
          <p:cNvPicPr/>
          <p:nvPr/>
        </p:nvPicPr>
        <p:blipFill>
          <a:blip r:embed="rId1"/>
          <a:stretch/>
        </p:blipFill>
        <p:spPr>
          <a:xfrm>
            <a:off x="1258920" y="692280"/>
            <a:ext cx="6265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Картинка 25 из 28253"/>
          <p:cNvPicPr/>
          <p:nvPr/>
        </p:nvPicPr>
        <p:blipFill>
          <a:blip r:embed="rId1"/>
          <a:stretch/>
        </p:blipFill>
        <p:spPr>
          <a:xfrm>
            <a:off x="1332000" y="836640"/>
            <a:ext cx="60753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5400000">
            <a:off x="1438560" y="1161000"/>
            <a:ext cx="5832720" cy="475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Санкт-Петербург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1700 по 1721 годы Россия вела войну со Швецией, отвоёвывала приневские земли. Для утверждения на берегах Невы 27 мая 1703 года и был основан Санкт-Петербург. Отсюда русский царь Пётр I "прорубил окно в Европу", страна получила выход в Балтийское море. Начался город с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крепости "Санкт-Петербург"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называемой сейчас Петропавловской, по находящемуся при ней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собор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округ этой крепости и начал строиться город. С 1712 года Санкт-Петербург стал столицей Русского государства, сюда были переведены все органы государственной вл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стория Санкт-Петербург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914 году Санкт-Петербург переименовали в Петроград. С 1918 года Санкт-Петербург лишился столичного статуса, с 1924 года город стал называться Ленинградом. Самый тяжёлый период за всё время существования города - блокада Ленинграда. С июня 1941 по 1944 год велась битва за город. Только благодаря огромным жертвам защитников города, их мужеству и отваге, Ленинград продолжил своё существование, не сдался фашистким войскам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694548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остопримечательности Санкт-Петербурга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вый Эрмитаж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дание Нового Эрмитажа построено в 1839 – 1852 годах специально для коллекций художественного музея. К этому времени коллекции Эрмитажа сильно разрослись, и это потребовало создание нового здания, для перемещения туда экспонатов из Малого и Старого Эрмитажа. Планировка Нового Эрмитажа осуществлялась с учетом создания благоприятных условий для экспозиции картин и других произведений искусств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Картинка 10 из 227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25360"/>
            <a:ext cx="64090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рейсер Авр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рейсер Аврора в Санкт-Петербурге – легендарный военный корабль, пришвартованный у Петроградской набережной северной столицы. На корабле постоянно несут боевую службу моряки Военно-Морского флота. Крейсер Аврора в Санкт-Петербурге является одним из символов северной столиц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Крейсер Аврора в Санкт-Петербург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125360"/>
            <a:ext cx="4392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05:50:51Z</dcterms:created>
  <dc:creator>пк</dc:creator>
  <dc:description/>
  <dc:language>en-US</dc:language>
  <cp:lastModifiedBy>пк</cp:lastModifiedBy>
  <dcterms:modified xsi:type="dcterms:W3CDTF">2012-01-17T07:23:00Z</dcterms:modified>
  <cp:revision>4</cp:revision>
  <dc:subject/>
  <dc:title>Санкт-Петербург «вторая столица»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070000000000010250300207f7000400038000</vt:lpwstr>
  </property>
</Properties>
</file>