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498-3DC2-4567-AA8F-EB6E0A70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547-3AFA-4AC2-8BF5-EEA583ED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7CB-4C7B-4746-882F-FC836126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F50-6D5F-4289-82E6-DAD8FC09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AA3D-4953-40AC-AF51-583AFC4C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59D1-0005-4F01-AAAD-63A1E37C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0B44-E19F-4A8B-86E4-883C2E21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518A-B73B-48D5-B2DB-7512F6D8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1EFF-2EA5-4BD6-B52D-88E81621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1C4E-57CD-4681-AEEB-CFDBA231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17DC-EE4F-4468-BED4-FA476B20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574C-9109-4ED5-8E10-A65518BB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0E6D-3CA0-4F23-9CE8-24745331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70EC-B7F6-43A8-9F6D-411DFF12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D0F0-F7D7-4117-ABBD-85702C5A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05E2-7F85-4B76-956F-F9B2B1B6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615B-9BE6-4C85-971A-AF0A7136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F64-94D3-4D68-B103-868C0BC0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EAD-6920-460A-B8E9-1B317E9E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20D-FC91-4F13-8DA9-4EA8F29E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A2C-D9B7-40A1-9736-068A1190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29D-5BDD-4B1E-99BE-95482FB5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F2B-D182-4638-87A3-BAFBAF20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A8A-C398-4348-A4B1-1A82620B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C822-7F72-43EB-A64B-5C7D7349AE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6CE9-8513-43B3-857C-FF41E5D6C6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pb-guide.ru/foto_8792.htm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fenst.narod.ru/photo/school/sp/06.16/files/p0000032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eterburg.biz/images/hotel/nevskii_mayak1B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660/2780660/f_1637440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pb-guide.ru/foto_165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pb-guide.ru/foto_62726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alkspb.ru/zd/petrop_kr.html" TargetMode="External"/><Relationship Id="rId2" Type="http://schemas.openxmlformats.org/officeDocument/2006/relationships/hyperlink" Target="http://walkspb.ru/zd/petrop_sobor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tat16.privet.ru/lr/0b0869805aa7c620a6524b347ba49bb5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b-guide.ru/foto_9539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анкт-Петербург «вторая столица» Росси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унсткам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унсткамера в Санкт-Петербург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это один из старейших музеев Северной столицы и всей России. Он был создан по указу Петра Первого с целью собирания и исследования раритетов, рожденных как природой, так и руками человека. В настоящее время собрание Музея антропологии и этнографии им. Петра Великого - Кунсткамера Российской академии наук является одним из наиболее полных и интересных музеев в мире. В нем собрано более миллиона экспонатов. Более ста лет они служили исследователям в области археологии, анатомии и медиц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Кунсткамера, 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4573440" cy="3476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Картинка 34 из 30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357720"/>
            <a:ext cx="42847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евский проспек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вский проспект в Санкт-Петербурге – одна из самых первых и самая известная улица в Северной столице. Ее протяженность составляет 4,5 км. Наибольшая ширина – 60 м у Гостиного Двора, наименьшая – 25 м у Мойки. Это одна из 3-х улиц-лучей, расходящихся от Адмиралтейств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Картинка 1 из 961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42960"/>
            <a:ext cx="50767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Летний са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етний сад в Санкт-Петербурге увековечен во многих произведениях искусства, созданных художниками и поэтами. Многие из нас представляют его, читая поэму любимого поэта А.С.Пушкина «Евгений Онегин»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чил его всему шутя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докучал моралью строгой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легка за шалости брани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в Летний сад гулять води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все, кто впервые приехал в Петербург, несомненно, захотят увидеть этот зеленый островок, чтоб лучше понять воспетый поэтом прекрасный город и его истор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Картинка 1 из 1415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04640"/>
            <a:ext cx="6516720" cy="459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27320" y="515700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етний сад закрыт на реставрацию и реконструкцию до 2012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етропавловская крепость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начале 18 века после победы над шведами в Северной войне необходимо было защитить завоеванные земли и построить крепость. 27 мая 1703 года, в день Святой Троицы, по чертежу Петра Первого на небольшом острове, в устье Невы, закладывается крепость. Остров назывался Заячий (в переводе с финского) или Веселый (со шведского) и по форме представлял собой вытянутый шестиугольник. Руководил строительством князь Александр Меншиков. Первоначально сооружения были земляными и деревянными. В октябре 1903 года строительство было завершено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Подсветка на Петропавловской крепости"/>
          <p:cNvPicPr/>
          <p:nvPr/>
        </p:nvPicPr>
        <p:blipFill>
          <a:blip r:embed="rId1"/>
          <a:stretch/>
        </p:blipFill>
        <p:spPr>
          <a:xfrm>
            <a:off x="1692360" y="620640"/>
            <a:ext cx="5715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занский собо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занский собор в Санкт-Петербурге – провославный кафедральный храм, расположенный в самом центре города. Фасады храма выходят на Невский проспект и канал Грибоедова. Это одно из самых больших сооружений в Северной столице. Его&amp; высота достигает 71,5 метра. По его имени названы остров в дельте Невы, мост на пересечении Невского проспекта и канала Грибоедова и улица, которая отходит храм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Вид на Казанский собор и Казанский мос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1125360"/>
            <a:ext cx="56167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тербург по праву считается одним из красивейших городов мира. Сотни туристов съезжаются сюда со всех концов света, чтобы своими глазами увидеть знаменитые памятники скульптуры и архитектуры, пройтись по улицам Северной столицы России и прикоснуться к ее истори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Белые ноч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учшее время для отдыха в Петербурге – это лето, а еще лучше конец июня – начало июля. Ибо именно в это время Вы сможете наблюдать «белые ночи». Среди обывателей бытует мнение, что белые ночи – это период времени, когда солнце вовсе не садится. В действительности, Белые ночи - это ночи, в течение которых естественная освещённость так и не становится слишком низкой, т.е. вся ночь состоит лишь из сумерек. В Петербурге пик белых ночей приходится на 22 июня, а официально белые ночи длятся с 11 июня по 2 июля. В действительности же, все лето продолжительность дня в Санкт-Петербурге значительно больше чем, например, в Москв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Белые ночи, Аничков мост и река Фонтан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593720"/>
            <a:ext cx="5688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Картинка 6 из 28254"/>
          <p:cNvPicPr/>
          <p:nvPr/>
        </p:nvPicPr>
        <p:blipFill>
          <a:blip r:embed="rId1"/>
          <a:stretch/>
        </p:blipFill>
        <p:spPr>
          <a:xfrm>
            <a:off x="2143080" y="1523880"/>
            <a:ext cx="4857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Картинка 17 из 28254"/>
          <p:cNvPicPr/>
          <p:nvPr/>
        </p:nvPicPr>
        <p:blipFill>
          <a:blip r:embed="rId1"/>
          <a:stretch/>
        </p:blipFill>
        <p:spPr>
          <a:xfrm>
            <a:off x="2033640" y="1538280"/>
            <a:ext cx="507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Картинка 27 из 28253"/>
          <p:cNvPicPr/>
          <p:nvPr/>
        </p:nvPicPr>
        <p:blipFill>
          <a:blip r:embed="rId1"/>
          <a:stretch/>
        </p:blipFill>
        <p:spPr>
          <a:xfrm>
            <a:off x="1258920" y="692280"/>
            <a:ext cx="6265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Картинка 25 из 28253"/>
          <p:cNvPicPr/>
          <p:nvPr/>
        </p:nvPicPr>
        <p:blipFill>
          <a:blip r:embed="rId1"/>
          <a:stretch/>
        </p:blipFill>
        <p:spPr>
          <a:xfrm>
            <a:off x="1332000" y="836640"/>
            <a:ext cx="60753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 rot="5400000">
            <a:off x="1438560" y="1161000"/>
            <a:ext cx="5832720" cy="4751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тория Санкт-Петербург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1700 по 1721 годы Россия вела войну со Швецией, отвоёвывала приневские земли. Для утверждения на берегах Невы 27 мая 1703 года и был основан Санкт-Петербург. Отсюда русский царь Пётр I "прорубил окно в Европу", страна получила выход в Балтийское море. Начался город с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крепости "Санкт-Петербург"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называемой сейчас Петропавловской, по находящемуся при ней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собор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Вокруг этой крепости и начал строиться город. С 1712 года Санкт-Петербург стал столицей Русского государства, сюда были переведены все органы государственной власт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тория Санкт-Петербург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914 году Санкт-Петербург переименовали в Петроград. С 1918 года Санкт-Петербург лишился столичного статуса, с 1924 года город стал называться Ленинградом. Самый тяжёлый период за всё время существования города - блокада Ленинграда. С июня 1941 по 1944 год велась битва за город. Только благодаря огромным жертвам защитников города, их мужеству и отваге, Ленинград продолжил своё существование, не сдался фашистким войскам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1510920"/>
            <a:ext cx="694548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остопримечательности Санкт-Петербурга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овый Эрмитаж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дание Нового Эрмитажа построено в 1839 – 1852 годах специально для коллекций художественного музея. К этому времени коллекции Эрмитажа сильно разрослись, и это потребовало создание нового здания, для перемещения туда экспонатов из Малого и Старого Эрмитажа. Планировка Нового Эрмитажа осуществлялась с учетом создания благоприятных условий для экспозиции картин и других произведений искусств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Картинка 10 из 227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125360"/>
            <a:ext cx="64090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рейсер Авр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рейсер Аврора в Санкт-Петербурге – легендарный военный корабль, пришвартованный у Петроградской набережной северной столицы. На корабле постоянно несут боевую службу моряки Военно-Морского флота. Крейсер Аврора в Санкт-Петербурге является одним из символов северной столиц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Крейсер Аврора в Санкт-Петербург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125360"/>
            <a:ext cx="4392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05:50:51Z</dcterms:created>
  <dc:creator>пк</dc:creator>
  <dc:description/>
  <dc:language>en-US</dc:language>
  <cp:lastModifiedBy>пк</cp:lastModifiedBy>
  <dcterms:modified xsi:type="dcterms:W3CDTF">2012-01-17T07:23:00Z</dcterms:modified>
  <cp:revision>4</cp:revision>
  <dc:subject/>
  <dc:title>Санкт-Петербург «вторая столица»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070000000000010250300207f7000400038000</vt:lpwstr>
  </property>
</Properties>
</file>