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D0AD-6D3B-4B7A-866E-5538A265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B81F-2FC2-4AC4-99B9-8BFCEF99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A09D-19EA-4EFD-A98A-A59CA164F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7263-5EC8-4DC7-A658-916AD01C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4681-7F09-4DE6-91E2-7C3388241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9571-3C37-420A-84DE-EE51B507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E7AA-C484-469C-AF28-50F34DBF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EDAB-C9DF-4159-A74E-92713CEB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F823-4976-43E0-B730-7BC8FDA4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563E-73E2-412F-A45E-2156D644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AA5E-29CC-4CC1-848D-4863A469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7239-D7D9-456C-B059-56ACB856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A6C3-383D-4A0D-84D8-66364284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575E-4B99-4371-9ACA-E66F5E3E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F7D5-16A0-4E08-BF77-B3D71C5F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293D-68CB-4040-A37E-80D3356AE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ABA7-4D06-4B84-AD15-25827C54B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7321-0133-4DAE-98C9-1FEE7C92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0ADC-27C0-438B-9408-3AAEA4C4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FD26-CC09-4AD3-BA03-E5F651D8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49AD-38CB-47B8-9906-92208B20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97C3-C8E4-4CB5-AC21-DE08E131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8AE3-78B8-4D51-AE80-8F81E0CE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DADF-6DA3-468D-A533-9FAEC449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8BBA-1D91-454E-B74F-4BA2DF41705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6938-CF3C-44EE-AAD6-F3858F07ED0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pb-guide.ru/foto_8792.htm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fenst.narod.ru/photo/school/sp/06.16/files/p0000032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eterburg.biz/images/hotel/nevskii_mayak1B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660/2780660/f_16374408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spb-guide.ru/foto_165.htm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pb-guide.ru/foto_62726.htm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alkspb.ru/zd/petrop_kr.html" TargetMode="External"/><Relationship Id="rId2" Type="http://schemas.openxmlformats.org/officeDocument/2006/relationships/hyperlink" Target="http://walkspb.ru/zd/petrop_sobor.html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tat16.privet.ru/lr/0b0869805aa7c620a6524b347ba49bb5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pb-guide.ru/foto_9539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Санкт-Петербург «вторая столица» России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полнила Кускова Анастас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Кунсткаме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Кунсткамера в Санкт-Петербурге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это один из старейших музеев Северной столицы и всей России. Он был создан по указу Петра Первого с целью собирания и исследования раритетов, рожденных как природой, так и руками человека. В настоящее время собрание Музея антропологии и этнографии им. Петра Великого - Кунсткамера Российской академии наук является одним из наиболее полных и интересных музеев в мире. В нем собрано более миллиона экспонатов. Более ста лет они служили исследователям в области археологии, анатомии и медицин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Кунсткамера, фот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404640"/>
            <a:ext cx="4573440" cy="3476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Картинка 34 из 304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3357720"/>
            <a:ext cx="428472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евский проспек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евский проспект в Санкт-Петербурге – одна из самых первых и самая известная улица в Северной столице. Ее протяженность составляет 4,5 км. Наибольшая ширина – 60 м у Гостиного Двора, наименьшая – 25 м у Мойки. Это одна из 3-х улиц-лучей, расходящихся от Адмиралтейств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Картинка 1 из 961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33640" y="1542960"/>
            <a:ext cx="507672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Летний сад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Летний сад в Санкт-Петербурге увековечен во многих произведениях искусства, созданных художниками и поэтами. Многие из нас представляют его, читая поэму любимого поэта А.С.Пушкина «Евгений Онегин»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чил его всему шутя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е докучал моралью строгой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легка за шалости бранил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 в Летний сад гулять води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 все, кто впервые приехал в Петербург, несомненно, захотят увидеть этот зеленый островок, чтоб лучше понять воспетый поэтом прекрасный город и его историю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Картинка 1 из 1415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04640"/>
            <a:ext cx="6516720" cy="4597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27320" y="5157000"/>
            <a:ext cx="779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Летний сад закрыт на реставрацию и реконструкцию до 2012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етропавловская крепость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начале 18 века после победы над шведами в Северной войне необходимо было защитить завоеванные земли и построить крепость. 27 мая 1703 года, в день Святой Троицы, по чертежу Петра Первого на небольшом острове, в устье Невы, закладывается крепость. Остров назывался Заячий (в переводе с финского) или Веселый (со шведского) и по форме представлял собой вытянутый шестиугольник. Руководил строительством князь Александр Меншиков. Первоначально сооружения были земляными и деревянными. В октябре 1903 года строительство было завершено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Подсветка на Петропавловской крепости"/>
          <p:cNvPicPr/>
          <p:nvPr/>
        </p:nvPicPr>
        <p:blipFill>
          <a:blip r:embed="rId1"/>
          <a:stretch/>
        </p:blipFill>
        <p:spPr>
          <a:xfrm>
            <a:off x="1692360" y="620640"/>
            <a:ext cx="5715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азанский собо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занский собор в Санкт-Петербурге – провославный кафедральный храм, расположенный в самом центре города. Фасады храма выходят на Невский проспект и канал Грибоедова. Это одно из самых больших сооружений в Северной столице. Его&amp; высота достигает 71,5 метра. По его имени названы остров в дельте Невы, мост на пересечении Невского проспекта и канала Грибоедова и улица, которая отходит храм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Вид на Казанский собор и Казанский мост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1125360"/>
            <a:ext cx="561672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етербург по праву считается одним из красивейших городов мира. Сотни туристов съезжаются сюда со всех концов света, чтобы своими глазами увидеть знаменитые памятники скульптуры и архитектуры, пройтись по улицам Северной столицы России и прикоснуться к ее истории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Белые ночи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Лучшее время для отдыха в Петербурге – это лето, а еще лучше конец июня – начало июля. Ибо именно в это время Вы сможете наблюдать «белые ночи». Среди обывателей бытует мнение, что белые ночи – это период времени, когда солнце вовсе не садится. В действительности, Белые ночи - это ночи, в течение которых естественная освещённость так и не становится слишком низкой, т.е. вся ночь состоит лишь из сумерек. В Петербурге пик белых ночей приходится на 22 июня, а официально белые ночи длятся с 11 июня по 2 июля. В действительности же, все лето продолжительность дня в Санкт-Петербурге значительно больше чем, например, в Москв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Белые ночи, Аничков мост и река Фонтанк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1593720"/>
            <a:ext cx="56880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Картинка 6 из 28254"/>
          <p:cNvPicPr/>
          <p:nvPr/>
        </p:nvPicPr>
        <p:blipFill>
          <a:blip r:embed="rId1"/>
          <a:stretch/>
        </p:blipFill>
        <p:spPr>
          <a:xfrm>
            <a:off x="2143080" y="1523880"/>
            <a:ext cx="48578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Картинка 17 из 28254"/>
          <p:cNvPicPr/>
          <p:nvPr/>
        </p:nvPicPr>
        <p:blipFill>
          <a:blip r:embed="rId1"/>
          <a:stretch/>
        </p:blipFill>
        <p:spPr>
          <a:xfrm>
            <a:off x="2033640" y="1538280"/>
            <a:ext cx="50767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Картинка 27 из 28253"/>
          <p:cNvPicPr/>
          <p:nvPr/>
        </p:nvPicPr>
        <p:blipFill>
          <a:blip r:embed="rId1"/>
          <a:stretch/>
        </p:blipFill>
        <p:spPr>
          <a:xfrm>
            <a:off x="1258920" y="692280"/>
            <a:ext cx="6265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Картинка 25 из 28253"/>
          <p:cNvPicPr/>
          <p:nvPr/>
        </p:nvPicPr>
        <p:blipFill>
          <a:blip r:embed="rId1"/>
          <a:stretch/>
        </p:blipFill>
        <p:spPr>
          <a:xfrm>
            <a:off x="1332000" y="836640"/>
            <a:ext cx="60753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 rot="5400000">
            <a:off x="1438560" y="1161000"/>
            <a:ext cx="5832720" cy="4751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конец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стория Санкт-Петербурга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 1700 по 1721 годы Россия вела войну со Швецией, отвоёвывала приневские земли. Для утверждения на берегах Невы 27 мая 1703 года и был основан Санкт-Петербург. Отсюда русский царь Пётр I "прорубил окно в Европу", страна получила выход в Балтийское море. Начался город с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крепости "Санкт-Петербург"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называемой сейчас Петропавловской, по находящемуся при ней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собору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Вокруг этой крепости и начал строиться город. С 1712 года Санкт-Петербург стал столицей Русского государства, сюда были переведены все органы государственной власт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стория Санкт-Петербург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1914 году Санкт-Петербург переименовали в Петроград. С 1918 года Санкт-Петербург лишился столичного статуса, с 1924 года город стал называться Ленинградом. Самый тяжёлый период за всё время существования города - блокада Ленинграда. С июня 1941 по 1944 год велась битва за город. Только благодаря огромным жертвам защитников города, их мужеству и отваге, Ленинград продолжил своё существование, не сдался фашистким войскам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1510920"/>
            <a:ext cx="694548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Достопримечательности Санкт-Петербурга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овый Эрмитаж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дание Нового Эрмитажа построено в 1839 – 1852 годах специально для коллекций художественного музея. К этому времени коллекции Эрмитажа сильно разрослись, и это потребовало создание нового здания, для перемещения туда экспонатов из Малого и Старого Эрмитажа. Планировка Нового Эрмитажа осуществлялась с учетом создания благоприятных условий для экспозиции картин и других произведений искусства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Картинка 10 из 227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125360"/>
            <a:ext cx="640908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рейсер Авро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рейсер Аврора в Санкт-Петербурге – легендарный военный корабль, пришвартованный у Петроградской набережной северной столицы. На корабле постоянно несут боевую службу моряки Военно-Морского флота. Крейсер Аврора в Санкт-Петербурге является одним из символов северной столицы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Крейсер Аврора в Санкт-Петербург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1125360"/>
            <a:ext cx="43927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6T05:50:51Z</dcterms:created>
  <dc:creator>пк</dc:creator>
  <dc:description/>
  <dc:language>en-US</dc:language>
  <cp:lastModifiedBy>пк</cp:lastModifiedBy>
  <dcterms:modified xsi:type="dcterms:W3CDTF">2012-01-17T07:23:00Z</dcterms:modified>
  <cp:revision>4</cp:revision>
  <dc:subject/>
  <dc:title>Санкт-Петербург «вторая столица»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2070000000000010250300207f7000400038000</vt:lpwstr>
  </property>
</Properties>
</file>