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2E06-0EC1-497E-B3CE-2BFD3EFB2F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BAC8-6A01-4F68-9A44-35CA4581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9916-17BE-4464-A6DD-B26C69F2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76EE-CFB3-44B7-8CC2-C429D8A4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4DB8-209B-44C8-BEA8-5DCC7335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57A3-FE4A-4739-8B6F-0BD7690F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DCAD-34C1-4E8F-98E9-47416560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3C6F-BD6A-440C-894F-9FFD4EFB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BEB-3265-49E2-9A52-85F49A2E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C584-043B-4403-803C-6ACEFEA8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AA0F-DCA7-49EA-B111-0F8BF8AA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6BA6-8B59-447F-A16F-5ED1B15E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D23E-155B-4606-BA29-FFD155BB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5C21-BA50-49E2-9971-0BBE27854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39640" y="1052640"/>
            <a:ext cx="8136000" cy="288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968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С юбилеем, горо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11280" y="2781360"/>
            <a:ext cx="792144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оветский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0" t="0" r="0" b="88"/>
          <a:stretch/>
        </p:blipFill>
        <p:spPr>
          <a:xfrm>
            <a:off x="0" y="0"/>
            <a:ext cx="9144000" cy="5838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3450960" y="595008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Бассейн «Сад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7740360" cy="5811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3291480" y="587700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Кинотеатр «Луч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42440" y="5950080"/>
            <a:ext cx="41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наменитый Советский бродв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7848360" cy="588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comb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136000" cy="610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2524320" y="6165720"/>
            <a:ext cx="41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портивный комплекс «Олимп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0" t="0" r="48" b="31"/>
          <a:stretch/>
        </p:blipFill>
        <p:spPr>
          <a:xfrm>
            <a:off x="250920" y="0"/>
            <a:ext cx="8604000" cy="585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-684360" y="5950080"/>
            <a:ext cx="10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Реабилитационный центр для детей и подростков с ограниченными возможностями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«Солныш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172360" cy="6129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910520" y="6237360"/>
            <a:ext cx="47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Освещённая трасса городского п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rcRect l="0" t="0" r="0" b="-28"/>
          <a:stretch/>
        </p:blipFill>
        <p:spPr>
          <a:xfrm>
            <a:off x="0" y="0"/>
            <a:ext cx="9144000" cy="6178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83720" y="623736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очной клуб «Современ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79280" y="189000"/>
            <a:ext cx="8713800" cy="64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С юбилеем,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любимый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Советский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comb dir="horz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5580000" cy="4437000"/>
          </a:xfrm>
          <a:prstGeom prst="cloudCallout">
            <a:avLst>
              <a:gd name="adj1" fmla="val -44453"/>
              <a:gd name="adj2" fmla="val 96152"/>
            </a:avLst>
          </a:prstGeom>
          <a:solidFill>
            <a:srgbClr val="99ffcc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54936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ове́тский — город в Ханты-Мансийском автономном округе — Югре Тюмен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селение — 26 тыс. человек (200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1963 году при строительстве железной дороги Ивдель—Обь был основан посёлок Советский, создан леспромхоз. В 1996 году посёлок получил статус города районного зна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4105440" cy="263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5738760" y="6021360"/>
            <a:ext cx="25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Флаг г. Совет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012000" y="981000"/>
            <a:ext cx="2546280" cy="14083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4284720" cy="2936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2492280"/>
            <a:ext cx="4068720" cy="2978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 flipH="1">
            <a:off x="5508000" y="404640"/>
            <a:ext cx="3058920" cy="2519640"/>
          </a:xfrm>
          <a:prstGeom prst="cloudCallout">
            <a:avLst>
              <a:gd name="adj1" fmla="val -63597"/>
              <a:gd name="adj2" fmla="val 58379"/>
            </a:avLst>
          </a:prstGeom>
          <a:solidFill>
            <a:srgbClr val="99ffcc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84720" y="112536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До 90-х годов наш любимый Советский выглядел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763640" y="4292640"/>
            <a:ext cx="3600360" cy="2384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076720" y="3284640"/>
            <a:ext cx="3889440" cy="3038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435640" y="3141720"/>
            <a:ext cx="3313080" cy="2482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0" y="0"/>
            <a:ext cx="5867280" cy="5445000"/>
          </a:xfrm>
          <a:prstGeom prst="cloudCallout">
            <a:avLst>
              <a:gd name="adj1" fmla="val -44722"/>
              <a:gd name="adj2" fmla="val 69097"/>
            </a:avLst>
          </a:prstGeom>
          <a:solidFill>
            <a:srgbClr val="99ffcc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364000" y="260280"/>
            <a:ext cx="3618000" cy="2712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4"/>
          <a:srcRect l="0" t="0" r="0" b="228"/>
          <a:stretch/>
        </p:blipFill>
        <p:spPr>
          <a:xfrm>
            <a:off x="1979640" y="4519440"/>
            <a:ext cx="3637080" cy="2005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539640" y="981000"/>
            <a:ext cx="504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сновными отраслями промышленности являются лесозаготовка. В Советском находятся предприятия по выпуску мебели, столярных изделий, клеёных деревянных щитов, мебельного шпона, комплектов для деревянного домостроения, таких как: ЗАО «Строймонтаж», ООО «Лесопильные заводы Югры», ООО «Карсикко лес», «Югра-Плит»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же потом на территории Советского района нашли нефть и г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>
            <a:off x="5650920" y="260280"/>
            <a:ext cx="3492360" cy="2881440"/>
          </a:xfrm>
          <a:prstGeom prst="cloudCallout">
            <a:avLst>
              <a:gd name="adj1" fmla="val -41004"/>
              <a:gd name="adj2" fmla="val 171101"/>
            </a:avLst>
          </a:prstGeom>
          <a:solidFill>
            <a:srgbClr val="99ffcc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30800" y="765000"/>
            <a:ext cx="301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 городе работают газеты («Первая советская», «Северный Вариант»), телеканал «Первый советск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121" b="-100"/>
          <a:stretch/>
        </p:blipFill>
        <p:spPr>
          <a:xfrm>
            <a:off x="611280" y="692280"/>
            <a:ext cx="4862520" cy="5256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16360" y="3608280"/>
            <a:ext cx="4100760" cy="306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0" y="0"/>
            <a:ext cx="5867280" cy="5445000"/>
          </a:xfrm>
          <a:prstGeom prst="cloudCallout">
            <a:avLst>
              <a:gd name="adj1" fmla="val -44722"/>
              <a:gd name="adj2" fmla="val 69097"/>
            </a:avLst>
          </a:prstGeom>
          <a:solidFill>
            <a:srgbClr val="99ffcc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765000"/>
            <a:ext cx="439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 Советском функционирует аэропорт, основным родом деятельности которого является вертолётное сообщение с северными посёлками, не имеющим автомобильной дороги. Также регулярно выполняются авиарейсы Советский — Москва (Внуково). В летний период осуществляются рейсы на южное направление, которое включает в себя авиарейсы на Краснода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очи и Анап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148360" y="549360"/>
            <a:ext cx="3720960" cy="2481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692360" y="4508640"/>
            <a:ext cx="2808360" cy="210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6480000" cy="486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 flipH="1">
            <a:off x="5650920" y="260280"/>
            <a:ext cx="3492360" cy="2016360"/>
          </a:xfrm>
          <a:prstGeom prst="cloudCallout">
            <a:avLst>
              <a:gd name="adj1" fmla="val -41004"/>
              <a:gd name="adj2" fmla="val 251495"/>
            </a:avLst>
          </a:prstGeom>
          <a:solidFill>
            <a:srgbClr val="99ffcc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620640"/>
            <a:ext cx="27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 Советском много интересных мест, которые можно посетить на досу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54760" y="566100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Городской парк. Чёртово коле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7885080" cy="5913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80400" y="5950080"/>
            <a:ext cx="58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амятник «Наказ Матери» (4 ноября, 2000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rcRect l="0" t="0" r="0" b="42"/>
          <a:stretch/>
        </p:blipFill>
        <p:spPr>
          <a:xfrm>
            <a:off x="0" y="0"/>
            <a:ext cx="50706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5559480" y="1941480"/>
            <a:ext cx="311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амятник-бюст Александру Сергеевичу Буз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7:23:10Z</dcterms:created>
  <dc:creator>Admin</dc:creator>
  <dc:description/>
  <dc:language>en-US</dc:language>
  <cp:lastModifiedBy>Admin</cp:lastModifiedBy>
  <dcterms:modified xsi:type="dcterms:W3CDTF">2013-04-30T21:17:38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100000000000010250300207f7000400038000</vt:lpwstr>
  </property>
</Properties>
</file>