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4A68-06C9-4343-A1BE-B1C625B97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4D4-A560-4AE2-A77F-1CB340A7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04B-94FB-45D6-A6AF-E30314E4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041-8075-427B-A9EC-4AC14D9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50D-F505-4CB6-8000-94CCA342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7D4-05AD-4753-B948-CBD5E6E6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BB0-8A5C-4654-A4AF-EF6D99C4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F5F-581C-40D2-A5A2-70561209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2F8-CD7E-41E3-8471-EC44058E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A8F-2FF9-4768-B266-FB1C9A4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76E-F9E0-4DCC-BCAC-EB4AEFC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20F-4DEB-4A77-8619-72C67C3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FA3-2C10-4322-9DD9-ADE9B5A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883-B20C-4AA8-BDEB-DAAA61CA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052640"/>
            <a:ext cx="8136000" cy="28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68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С юбилеем, го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2781360"/>
            <a:ext cx="79214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ветски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0" r="0" b="88"/>
          <a:stretch/>
        </p:blipFill>
        <p:spPr>
          <a:xfrm>
            <a:off x="0" y="0"/>
            <a:ext cx="9144000" cy="58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450960" y="5950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ассейн «Сад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40360" cy="581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91480" y="587700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инотеатр «Лу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2440" y="5950080"/>
            <a:ext cx="41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менитый Советский брод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8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524320" y="6165720"/>
            <a:ext cx="41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портивный комплекс «Олим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0" r="48" b="31"/>
          <a:stretch/>
        </p:blipFill>
        <p:spPr>
          <a:xfrm>
            <a:off x="250920" y="0"/>
            <a:ext cx="8604000" cy="585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-684360" y="5950080"/>
            <a:ext cx="10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еабилитационный центр для детей и подростков с ограниченными возможностями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«Солныш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172360" cy="6129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10520" y="62373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свещённая трасса городского 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0" b="-28"/>
          <a:stretch/>
        </p:blipFill>
        <p:spPr>
          <a:xfrm>
            <a:off x="0" y="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83720" y="62373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очной клуб «Совреме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189000"/>
            <a:ext cx="871380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 юбилеем,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любим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оветский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5580000" cy="4437000"/>
          </a:xfrm>
          <a:prstGeom prst="cloudCallout">
            <a:avLst>
              <a:gd name="adj1" fmla="val -44453"/>
              <a:gd name="adj2" fmla="val 96152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5493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ве́тский — город в Ханты-Мансийском автономном округе — Югре Тюме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селение — 26 тыс. человек (20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1963 году при строительстве железной дороги Ивдель—Обь был основан посёлок Советский, создан леспромхоз. В 1996 году посёлок получил статус города районно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4105440" cy="263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738760" y="602136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Флаг г. Сов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2546280" cy="14083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4284720" cy="293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492280"/>
            <a:ext cx="4068720" cy="297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 flipH="1">
            <a:off x="5508000" y="404640"/>
            <a:ext cx="3058920" cy="2519640"/>
          </a:xfrm>
          <a:prstGeom prst="cloudCallout">
            <a:avLst>
              <a:gd name="adj1" fmla="val -63597"/>
              <a:gd name="adj2" fmla="val 58379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1125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о 90-х годов наш любимый Советский выглядел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3600360" cy="238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3889440" cy="303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3141720"/>
            <a:ext cx="3313080" cy="248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618000" cy="271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0" r="0" b="228"/>
          <a:stretch/>
        </p:blipFill>
        <p:spPr>
          <a:xfrm>
            <a:off x="1979640" y="4519440"/>
            <a:ext cx="3637080" cy="200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50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ными отраслями промышленности являются лесозаготовка. В Советском находятся предприятия по выпуску мебели, столярных изделий, клеёных деревянных щитов, мебельного шпона, комплектов для деревянного домостроения, таких как: ЗАО «Строймонтаж», ООО «Лесопильные заводы Югры», ООО «Карсикко лес», «Югра-Плит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же потом на территории Советского района нашли нефть и г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5650920" y="260280"/>
            <a:ext cx="3492360" cy="2881440"/>
          </a:xfrm>
          <a:prstGeom prst="cloudCallout">
            <a:avLst>
              <a:gd name="adj1" fmla="val -41004"/>
              <a:gd name="adj2" fmla="val 171101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30800" y="765000"/>
            <a:ext cx="301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городе работают газеты («Первая советская», «Северный Вариант»), телеканал «Первый совет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121" b="-100"/>
          <a:stretch/>
        </p:blipFill>
        <p:spPr>
          <a:xfrm>
            <a:off x="611280" y="692280"/>
            <a:ext cx="4862520" cy="525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3608280"/>
            <a:ext cx="410076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0" y="0"/>
            <a:ext cx="5867280" cy="5445000"/>
          </a:xfrm>
          <a:prstGeom prst="cloudCallout">
            <a:avLst>
              <a:gd name="adj1" fmla="val -44722"/>
              <a:gd name="adj2" fmla="val 69097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76500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функционирует аэропорт, основным родом деятельности которого является вертолётное сообщение с северными посёлками, не имеющим автомобильной дороги. Также регулярно выполняются авиарейсы Советский — Москва (Внуково). В летний период осуществляются рейсы на южное направление, которое включает в себя авиарейсы на Краснод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очи и Ана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720960" cy="248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692360" y="4508640"/>
            <a:ext cx="2808360" cy="210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6480000" cy="48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 flipH="1">
            <a:off x="5650920" y="260280"/>
            <a:ext cx="3492360" cy="2016360"/>
          </a:xfrm>
          <a:prstGeom prst="cloudCallout">
            <a:avLst>
              <a:gd name="adj1" fmla="val -41004"/>
              <a:gd name="adj2" fmla="val 251495"/>
            </a:avLst>
          </a:prstGeom>
          <a:solidFill>
            <a:srgbClr val="99ffcc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20640"/>
            <a:ext cx="27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Советском много интересных мест, которые можно посетить на дос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54760" y="56610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ородской парк. Чёртово кол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80400" y="595008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 «Наказ Матери» (4 ноября, 2000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0" t="0" r="0" b="42"/>
          <a:stretch/>
        </p:blipFill>
        <p:spPr>
          <a:xfrm>
            <a:off x="0" y="0"/>
            <a:ext cx="50706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559480" y="1941480"/>
            <a:ext cx="31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мятник-бюст Александру Сергеевичу Буз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7:23:10Z</dcterms:created>
  <dc:creator>Admin</dc:creator>
  <dc:description/>
  <dc:language>en-US</dc:language>
  <cp:lastModifiedBy>Admin</cp:lastModifiedBy>
  <dcterms:modified xsi:type="dcterms:W3CDTF">2013-04-30T21:17:3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100000000000010250300207f7000400038000</vt:lpwstr>
  </property>
</Properties>
</file>