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CA4D-2ECE-4196-8E78-C0AC85E18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2C3-9D47-4329-BC58-3CEC63D0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AF5-D51B-4B73-BE14-4C6434E0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396-A865-442D-ADAA-C8B3444D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AE5-91B2-4F0B-8C59-B2074382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859-2FC1-455B-BA9F-CC3E8FEC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61B-FF69-4F23-93AC-28D9B868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D02-9C62-4F05-86F4-9BAF1923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B3E-4EFD-4D77-AD67-1D5827B0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E27-41F8-4748-973B-269140F0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898-DB88-480C-806F-CCA32CC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849-03D8-46BE-A8CD-E41273FD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887-6D0D-4311-BC15-4F29E99A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F28-8261-4857-9E5C-A6352295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1052640"/>
            <a:ext cx="8136000" cy="28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968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С юбилеем, гор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2781360"/>
            <a:ext cx="79214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оветски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0" r="0" b="88"/>
          <a:stretch/>
        </p:blipFill>
        <p:spPr>
          <a:xfrm>
            <a:off x="0" y="0"/>
            <a:ext cx="9144000" cy="583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450960" y="595008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ассейн «Сад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40360" cy="581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3291480" y="587700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инотеатр «Лу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2440" y="595008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менитый Советский брод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48360" cy="58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36000" cy="610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524320" y="616572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портивный комплекс «Олим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0" t="0" r="48" b="31"/>
          <a:stretch/>
        </p:blipFill>
        <p:spPr>
          <a:xfrm>
            <a:off x="250920" y="0"/>
            <a:ext cx="8604000" cy="585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-684360" y="5950080"/>
            <a:ext cx="10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еабилитационный центр для детей и подростков с ограниченными возможностями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72360" cy="612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10520" y="623736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свещённая трасса городского 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0" t="0" r="0" b="-28"/>
          <a:stretch/>
        </p:blipFill>
        <p:spPr>
          <a:xfrm>
            <a:off x="0" y="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83720" y="623736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очной клуб «Совреме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189000"/>
            <a:ext cx="871380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 юбилеем,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любимы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оветский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5580000" cy="4437000"/>
          </a:xfrm>
          <a:prstGeom prst="cloudCallout">
            <a:avLst>
              <a:gd name="adj1" fmla="val -44453"/>
              <a:gd name="adj2" fmla="val 96152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5493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ве́тский — город в Ханты-Мансийском автономном округе — Югре Тюмен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селение — 26 тыс. человек (20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1963 году при строительстве железной дороги Ивдель—Обь был основан посёлок Советский, создан леспромхоз. В 1996 году посёлок получил статус города районного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4105440" cy="263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738760" y="602136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Флаг г. Совет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12000" y="981000"/>
            <a:ext cx="2546280" cy="14083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4284720" cy="2936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492280"/>
            <a:ext cx="4068720" cy="297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 flipH="1">
            <a:off x="5508000" y="404640"/>
            <a:ext cx="3058920" cy="2519640"/>
          </a:xfrm>
          <a:prstGeom prst="cloudCallout">
            <a:avLst>
              <a:gd name="adj1" fmla="val -63597"/>
              <a:gd name="adj2" fmla="val 58379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1125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о 90-х годов наш любимый Советский выглядел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63640" y="4292640"/>
            <a:ext cx="3600360" cy="238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076720" y="3284640"/>
            <a:ext cx="3889440" cy="303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35640" y="3141720"/>
            <a:ext cx="3313080" cy="248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5867280" cy="5445000"/>
          </a:xfrm>
          <a:prstGeom prst="cloudCallout">
            <a:avLst>
              <a:gd name="adj1" fmla="val -44722"/>
              <a:gd name="adj2" fmla="val 69097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64000" y="260280"/>
            <a:ext cx="3618000" cy="2712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rcRect l="0" t="0" r="0" b="228"/>
          <a:stretch/>
        </p:blipFill>
        <p:spPr>
          <a:xfrm>
            <a:off x="1979640" y="4519440"/>
            <a:ext cx="3637080" cy="200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39640" y="981000"/>
            <a:ext cx="50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новными отраслями промышленности являются лесозаготовка. В Советском находятся предприятия по выпуску мебели, столярных изделий, клеёных деревянных щитов, мебельного шпона, комплектов для деревянного домостроения, таких как: ЗАО «Строймонтаж», ООО «Лесопильные заводы Югры», ООО «Карсикко лес», «Югра-Плит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же потом на территории Советского района нашли нефть и г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5650920" y="260280"/>
            <a:ext cx="3492360" cy="2881440"/>
          </a:xfrm>
          <a:prstGeom prst="cloudCallout">
            <a:avLst>
              <a:gd name="adj1" fmla="val -41004"/>
              <a:gd name="adj2" fmla="val 171101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30800" y="765000"/>
            <a:ext cx="301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городе работают газеты («Первая советская», «Северный Вариант»), телеканал «Первый советс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121" b="-100"/>
          <a:stretch/>
        </p:blipFill>
        <p:spPr>
          <a:xfrm>
            <a:off x="611280" y="692280"/>
            <a:ext cx="4862520" cy="525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16360" y="3608280"/>
            <a:ext cx="410076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0" y="0"/>
            <a:ext cx="5867280" cy="5445000"/>
          </a:xfrm>
          <a:prstGeom prst="cloudCallout">
            <a:avLst>
              <a:gd name="adj1" fmla="val -44722"/>
              <a:gd name="adj2" fmla="val 69097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765000"/>
            <a:ext cx="43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Советском функционирует аэропорт, основным родом деятельности которого является вертолётное сообщение с северными посёлками, не имеющим автомобильной дороги. Также регулярно выполняются авиарейсы Советский — Москва (Внуково). В летний период осуществляются рейсы на южное направление, которое включает в себя авиарейсы на Краснода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очи и Ана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3720960" cy="2481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692360" y="4508640"/>
            <a:ext cx="2808360" cy="210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6480000" cy="486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 flipH="1">
            <a:off x="5650920" y="260280"/>
            <a:ext cx="3492360" cy="2016360"/>
          </a:xfrm>
          <a:prstGeom prst="cloudCallout">
            <a:avLst>
              <a:gd name="adj1" fmla="val -41004"/>
              <a:gd name="adj2" fmla="val 251495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620640"/>
            <a:ext cx="27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Советском много интересных мест, которые можно посетить на досу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54760" y="566100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Городской парк. Чёртово коле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80400" y="595008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мятник «Наказ Матери» (4 ноября, 2000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rcRect l="0" t="0" r="0" b="42"/>
          <a:stretch/>
        </p:blipFill>
        <p:spPr>
          <a:xfrm>
            <a:off x="0" y="0"/>
            <a:ext cx="50706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559480" y="194148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мятник-бюст Александру Сергеевичу Буз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7:23:10Z</dcterms:created>
  <dc:creator>Admin</dc:creator>
  <dc:description/>
  <dc:language>en-US</dc:language>
  <cp:lastModifiedBy>Admin</cp:lastModifiedBy>
  <dcterms:modified xsi:type="dcterms:W3CDTF">2013-04-30T21:17:3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50300207f7000400038000</vt:lpwstr>
  </property>
</Properties>
</file>