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CCB-7EE0-4494-A606-2D20E9BC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CEE-E7BA-4703-A599-EC2AC4FF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ACD-FB44-4797-B0A8-8443CB4A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9B3-C669-4130-BF98-8BAB370F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C0D-3ED4-406A-84CA-9B575172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0A7-7CB2-4FCE-B440-08E184D8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6C3-37FD-4F86-8A3C-C822D4FE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58A-28BB-4623-9F1C-B092D1A9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CBC-BD2D-46D9-B064-6498A4D5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8D4-453B-46DF-A063-77FDE3A3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8F8-A60A-424C-B726-DE2A03EB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9DB-D014-43E7-82A1-00377E2E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74D9-FF83-46EE-8E22-8B6F1D356E1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26EB-B8AC-4D92-8B9B-4259E9EDC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оссияне на рынк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«Будущее рождается сегодн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137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исло безработных в России достигло почти 2,5 млн. челове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47AB-D1F2-4960-AC80-A4BC3EA3DD8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Картинка 20 из 5354"/>
          <p:cNvPicPr/>
          <p:nvPr/>
        </p:nvPicPr>
        <p:blipFill>
          <a:blip r:embed="rId3"/>
          <a:stretch/>
        </p:blipFill>
        <p:spPr>
          <a:xfrm>
            <a:off x="6012000" y="1341360"/>
            <a:ext cx="2982600" cy="29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Картинка 31 из 5354"/>
          <p:cNvPicPr/>
          <p:nvPr/>
        </p:nvPicPr>
        <p:blipFill>
          <a:blip r:embed="rId4"/>
          <a:stretch/>
        </p:blipFill>
        <p:spPr>
          <a:xfrm>
            <a:off x="2411280" y="3860640"/>
            <a:ext cx="3733920" cy="285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Картинка 40 из 5354"/>
          <p:cNvPicPr/>
          <p:nvPr/>
        </p:nvPicPr>
        <p:blipFill>
          <a:blip r:embed="rId5"/>
          <a:stretch/>
        </p:blipFill>
        <p:spPr>
          <a:xfrm>
            <a:off x="5516640" y="4149720"/>
            <a:ext cx="3627360" cy="241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http://im3-tub.yandex.net/i?id=74600432-11"/>
          <p:cNvPicPr/>
          <p:nvPr/>
        </p:nvPicPr>
        <p:blipFill>
          <a:blip r:embed="rId6"/>
          <a:stretch/>
        </p:blipFill>
        <p:spPr>
          <a:xfrm>
            <a:off x="324000" y="1557360"/>
            <a:ext cx="1873080" cy="2332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Картинка 46 из 968"/>
          <p:cNvPicPr/>
          <p:nvPr/>
        </p:nvPicPr>
        <p:blipFill>
          <a:blip r:embed="rId7"/>
          <a:stretch/>
        </p:blipFill>
        <p:spPr>
          <a:xfrm>
            <a:off x="108000" y="4157640"/>
            <a:ext cx="2232000" cy="2138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ртинка 184 из 968"/>
          <p:cNvPicPr/>
          <p:nvPr/>
        </p:nvPicPr>
        <p:blipFill>
          <a:blip r:embed="rId8"/>
          <a:stretch/>
        </p:blipFill>
        <p:spPr>
          <a:xfrm>
            <a:off x="2484360" y="1557360"/>
            <a:ext cx="333864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C85D-9F37-4EA6-9F0E-62BE2416213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Картинка 48 из 5354"/>
          <p:cNvPicPr/>
          <p:nvPr/>
        </p:nvPicPr>
        <p:blipFill>
          <a:blip r:embed="rId1"/>
          <a:stretch/>
        </p:blipFill>
        <p:spPr>
          <a:xfrm>
            <a:off x="312840" y="260280"/>
            <a:ext cx="84358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Выписать в тетрадь: причины и следстви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езрабо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D0FE-C77D-4F39-B02D-B277121BAD5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Картинка 56 из 5354"/>
          <p:cNvPicPr/>
          <p:nvPr/>
        </p:nvPicPr>
        <p:blipFill>
          <a:blip r:embed="rId1"/>
          <a:stretch/>
        </p:blipFill>
        <p:spPr>
          <a:xfrm>
            <a:off x="468360" y="1220760"/>
            <a:ext cx="8351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E855-CF06-4F53-ADEE-A76E7B377E5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74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Какие профессии вы считаете самыми престижными? Перечислите их по ранжиру с 1-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Какую профессию вы бы хотели получить? Какие качества для этого необход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Картинка 48 из 8243"/>
          <p:cNvPicPr/>
          <p:nvPr/>
        </p:nvPicPr>
        <p:blipFill>
          <a:blip r:embed="rId3"/>
          <a:stretch/>
        </p:blipFill>
        <p:spPr>
          <a:xfrm>
            <a:off x="388800" y="1700280"/>
            <a:ext cx="47358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Заполн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915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личности, нужные для выбранной проф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качества, помогающие овладеть выбранной професс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качества, препятствующие овладению выбранной професс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6793-4369-47C7-99F5-EF59CF6B1A8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итать §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Отвечать на вопросы стр.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исьменно задание №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5B3C-A175-4CEA-B7D7-79CCBDB43B3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Картинка 149 из 968"/>
          <p:cNvPicPr/>
          <p:nvPr/>
        </p:nvPicPr>
        <p:blipFill>
          <a:blip r:embed="rId1"/>
          <a:stretch/>
        </p:blipFill>
        <p:spPr>
          <a:xfrm>
            <a:off x="1116000" y="3068640"/>
            <a:ext cx="3381480" cy="3009960"/>
          </a:xfrm>
          <a:prstGeom prst="rect">
            <a:avLst/>
          </a:prstGeom>
          <a:ln w="0">
            <a:noFill/>
          </a:ln>
        </p:spPr>
      </p:pic>
      <p:sp>
        <p:nvSpPr>
          <p:cNvPr id="117" name="Облако 5"/>
          <p:cNvSpPr/>
          <p:nvPr/>
        </p:nvSpPr>
        <p:spPr>
          <a:xfrm>
            <a:off x="468360" y="1341360"/>
            <a:ext cx="3382920" cy="12733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«Свое будущее, ты делаешь са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E256-390A-4D52-8503-2D62CF9C446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5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1.Раскрыть особенности понятия «трудовые ресурс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2.Вскрыть причины и следствия безработ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3.Сформировать представления о требованиях к современному работнику в условиях рынка и профессиях, востребованных на сегодняшни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ртинка 53 из 46053"/>
          <p:cNvPicPr/>
          <p:nvPr/>
        </p:nvPicPr>
        <p:blipFill>
          <a:blip r:embed="rId3"/>
          <a:stretch/>
        </p:blipFill>
        <p:spPr>
          <a:xfrm>
            <a:off x="468360" y="285264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D519-F8AD-426B-8986-ED2F4BAE200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Трудов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08720" y="981000"/>
            <a:ext cx="352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асть населения страны, обладающая физическим развитием, умственными способностями и знаниями, необходимыми для занятия общественно-полезным тру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а 11 из 8243"/>
          <p:cNvPicPr/>
          <p:nvPr/>
        </p:nvPicPr>
        <p:blipFill>
          <a:blip r:embed="rId3"/>
          <a:stretch/>
        </p:blipFill>
        <p:spPr>
          <a:xfrm>
            <a:off x="250920" y="1413000"/>
            <a:ext cx="5568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F2BB-4EF0-41A1-B684-551A7C0931D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Учебник стр. 44 рис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56764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трудовых ресурсов зависят от численности населения, режима его воспроизводства, состава по полу и возрасту. Основную часть трудовых ресурсов страны составляет ее население в трудоспособном возрасте, а также подростки и лица пенсионного возраста, способные труд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Картинка 22 из 8243"/>
          <p:cNvPicPr/>
          <p:nvPr/>
        </p:nvPicPr>
        <p:blipFill>
          <a:blip r:embed="rId3"/>
          <a:stretch/>
        </p:blipFill>
        <p:spPr>
          <a:xfrm>
            <a:off x="395280" y="3284640"/>
            <a:ext cx="8569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B44F-EF95-4759-B600-4384A2752C2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49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 еще другую категорию - людей, реально участвующих в материальном производстве или непроизводственной сфере,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 активное 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Картинка 14 из 8243"/>
          <p:cNvPicPr/>
          <p:nvPr/>
        </p:nvPicPr>
        <p:blipFill>
          <a:blip r:embed="rId3"/>
          <a:stretch/>
        </p:blipFill>
        <p:spPr>
          <a:xfrm>
            <a:off x="971640" y="2565360"/>
            <a:ext cx="72723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35FC-A9F3-4007-A384-6C7AD2F9E8C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трудоспособного населения согласно законодательству РФ включаются граждане в возрасте 16-54 (включительно) - женщины, 16-59 (включительно) - мужчины. В группу нетрудоспособных включаются: неработающие инвалиды I и II групп рабочего возраста, неработающие пенсионеры трудоспособного возраста, получающие пенсию на льгот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Картинка 12 из 8243"/>
          <p:cNvPicPr/>
          <p:nvPr/>
        </p:nvPicPr>
        <p:blipFill>
          <a:blip r:embed="rId3"/>
          <a:stretch/>
        </p:blipFill>
        <p:spPr>
          <a:xfrm>
            <a:off x="324000" y="3448080"/>
            <a:ext cx="8496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07F5-B4A5-447F-A2C8-86C58DA2ADE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00000" y="980640"/>
            <a:ext cx="633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представляет собой систему общественных отношений в согласовании интересов работодателей и наемной рабочей силы. В функционировании рынка труда можно отметить несколько принципиальных положений: 1. Рынок труда – это совокупность экономических отношений между спросом и предложением рабочей силы на рынке труда. 2. Рынок труда – это место пересечения различных экономических и социальных и интересов и функ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Картинка 43 из 8243"/>
          <p:cNvPicPr/>
          <p:nvPr/>
        </p:nvPicPr>
        <p:blipFill>
          <a:blip r:embed="rId3"/>
          <a:stretch/>
        </p:blipFill>
        <p:spPr>
          <a:xfrm>
            <a:off x="250920" y="3860640"/>
            <a:ext cx="2827080" cy="214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Картинка 19 из 46053"/>
          <p:cNvPicPr/>
          <p:nvPr/>
        </p:nvPicPr>
        <p:blipFill>
          <a:blip r:embed="rId4"/>
          <a:stretch/>
        </p:blipFill>
        <p:spPr>
          <a:xfrm>
            <a:off x="611280" y="1413000"/>
            <a:ext cx="22255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203C-9207-486D-A873-45647A0C747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Картинка 15 из 46053"/>
          <p:cNvPicPr/>
          <p:nvPr/>
        </p:nvPicPr>
        <p:blipFill>
          <a:blip r:embed="rId1"/>
          <a:stretch/>
        </p:blipFill>
        <p:spPr>
          <a:xfrm>
            <a:off x="108000" y="115920"/>
            <a:ext cx="88977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Arial"/>
              </a:rPr>
              <a:t>С чем выходить на рынок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AD4A-23BA-44C2-A84B-92C2DC2828F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2 из 46053"/>
          <p:cNvPicPr/>
          <p:nvPr/>
        </p:nvPicPr>
        <p:blipFill>
          <a:blip r:embed="rId1"/>
          <a:stretch/>
        </p:blipFill>
        <p:spPr>
          <a:xfrm>
            <a:off x="108000" y="4282920"/>
            <a:ext cx="3432240" cy="257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артинка 23 из 46053"/>
          <p:cNvPicPr/>
          <p:nvPr/>
        </p:nvPicPr>
        <p:blipFill>
          <a:blip r:embed="rId2"/>
          <a:stretch/>
        </p:blipFill>
        <p:spPr>
          <a:xfrm>
            <a:off x="1332000" y="2349360"/>
            <a:ext cx="28573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артинка 42 из 46053"/>
          <p:cNvPicPr/>
          <p:nvPr/>
        </p:nvPicPr>
        <p:blipFill>
          <a:blip r:embed="rId3"/>
          <a:stretch/>
        </p:blipFill>
        <p:spPr>
          <a:xfrm>
            <a:off x="4038480" y="3429000"/>
            <a:ext cx="510552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Картинка 69 из 46053"/>
          <p:cNvPicPr/>
          <p:nvPr/>
        </p:nvPicPr>
        <p:blipFill>
          <a:blip r:embed="rId4"/>
          <a:stretch/>
        </p:blipFill>
        <p:spPr>
          <a:xfrm>
            <a:off x="5796000" y="1125360"/>
            <a:ext cx="3224160" cy="217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артинка 82 из 46053"/>
          <p:cNvPicPr/>
          <p:nvPr/>
        </p:nvPicPr>
        <p:blipFill>
          <a:blip r:embed="rId5"/>
          <a:stretch/>
        </p:blipFill>
        <p:spPr>
          <a:xfrm>
            <a:off x="0" y="876240"/>
            <a:ext cx="2556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8:09:11Z</dcterms:created>
  <dc:creator>татьяна</dc:creator>
  <dc:description/>
  <dc:language>en-US</dc:language>
  <cp:lastModifiedBy>татьяна</cp:lastModifiedBy>
  <dcterms:modified xsi:type="dcterms:W3CDTF">2010-10-09T04:15:31Z</dcterms:modified>
  <cp:revision>16</cp:revision>
  <dc:subject/>
  <dc:title>Россияне на рынке тру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80000000000010250300207f7000400038000</vt:lpwstr>
  </property>
</Properties>
</file>