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BE6-E187-4958-ADDF-C7FC7A36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A76-FB8A-4347-8FF7-9BFC7704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88FC-19B5-4DA9-BB1E-FB07320D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EA2-D7E9-4FAA-BCE4-F0A24E52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7CB4-FF03-4AD0-877C-B6C6FA73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9FE-72EC-4820-B94D-707446E6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F91-308E-4ADA-9A78-C6D9EF03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D0D-CE9E-4585-8839-54980B45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C241-83B5-4DD0-A35C-2E7E140A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A829-DB26-4085-BC26-8001C74E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0E9F-7767-42AC-94C5-85D9E5AA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CC30-6D33-491C-BFA1-63CA8FF0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DBB9-D1CB-4CC3-BFFC-DFEA26B5FB7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CBED-39A0-43DF-A1CE-B4E4BA7D42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57720"/>
            <a:ext cx="77724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35b40"/>
                </a:solidFill>
                <a:latin typeface="Arial Black"/>
              </a:rPr>
              <a:t>Россияне на рынке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4797000"/>
            <a:ext cx="64008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«Будущее рождается сегодн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1374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исло безработных в России достигло почти 2,5 млн. человек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2632-DDF2-43B5-8DC8-A612D609BC3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Картинка 20 из 5354"/>
          <p:cNvPicPr/>
          <p:nvPr/>
        </p:nvPicPr>
        <p:blipFill>
          <a:blip r:embed="rId3"/>
          <a:stretch/>
        </p:blipFill>
        <p:spPr>
          <a:xfrm>
            <a:off x="6012000" y="1341360"/>
            <a:ext cx="2982600" cy="29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Картинка 31 из 5354"/>
          <p:cNvPicPr/>
          <p:nvPr/>
        </p:nvPicPr>
        <p:blipFill>
          <a:blip r:embed="rId4"/>
          <a:stretch/>
        </p:blipFill>
        <p:spPr>
          <a:xfrm>
            <a:off x="2411280" y="3860640"/>
            <a:ext cx="3733920" cy="2857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Картинка 40 из 5354"/>
          <p:cNvPicPr/>
          <p:nvPr/>
        </p:nvPicPr>
        <p:blipFill>
          <a:blip r:embed="rId5"/>
          <a:stretch/>
        </p:blipFill>
        <p:spPr>
          <a:xfrm>
            <a:off x="5516640" y="4149720"/>
            <a:ext cx="3627360" cy="2417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http://im3-tub.yandex.net/i?id=74600432-11"/>
          <p:cNvPicPr/>
          <p:nvPr/>
        </p:nvPicPr>
        <p:blipFill>
          <a:blip r:embed="rId6"/>
          <a:stretch/>
        </p:blipFill>
        <p:spPr>
          <a:xfrm>
            <a:off x="324000" y="1557360"/>
            <a:ext cx="1873080" cy="2332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Картинка 46 из 968"/>
          <p:cNvPicPr/>
          <p:nvPr/>
        </p:nvPicPr>
        <p:blipFill>
          <a:blip r:embed="rId7"/>
          <a:stretch/>
        </p:blipFill>
        <p:spPr>
          <a:xfrm>
            <a:off x="108000" y="4157640"/>
            <a:ext cx="2232000" cy="2138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Картинка 184 из 968"/>
          <p:cNvPicPr/>
          <p:nvPr/>
        </p:nvPicPr>
        <p:blipFill>
          <a:blip r:embed="rId8"/>
          <a:stretch/>
        </p:blipFill>
        <p:spPr>
          <a:xfrm>
            <a:off x="2484360" y="1557360"/>
            <a:ext cx="333864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5495-4006-41E1-94E9-D965E97C6C8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Картинка 48 из 5354"/>
          <p:cNvPicPr/>
          <p:nvPr/>
        </p:nvPicPr>
        <p:blipFill>
          <a:blip r:embed="rId1"/>
          <a:stretch/>
        </p:blipFill>
        <p:spPr>
          <a:xfrm>
            <a:off x="312840" y="260280"/>
            <a:ext cx="84358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07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Arial"/>
              </a:rPr>
              <a:t>Выписать в тетрадь: причины и следстви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езрабо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850B-6873-4D6B-BBB2-1A35A321F76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Картинка 56 из 5354"/>
          <p:cNvPicPr/>
          <p:nvPr/>
        </p:nvPicPr>
        <p:blipFill>
          <a:blip r:embed="rId1"/>
          <a:stretch/>
        </p:blipFill>
        <p:spPr>
          <a:xfrm>
            <a:off x="468360" y="1220760"/>
            <a:ext cx="835164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583F-B6AF-4D53-A455-6EB0740E314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Закреп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92720" y="1196640"/>
            <a:ext cx="3743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235b4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Какие профессии вы считаете самыми престижными? Перечислите их по ранжиру с 1-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235b4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Какую профессию вы бы хотели получить? Какие качества для этого необходи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Картинка 48 из 8243"/>
          <p:cNvPicPr/>
          <p:nvPr/>
        </p:nvPicPr>
        <p:blipFill>
          <a:blip r:embed="rId3"/>
          <a:stretch/>
        </p:blipFill>
        <p:spPr>
          <a:xfrm>
            <a:off x="388800" y="1700280"/>
            <a:ext cx="47358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Arial"/>
              </a:rPr>
              <a:t>Заполнить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4915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личности, нужные для выбранной профе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и качества, помогающие овладеть выбранной професс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и качества, препятствующие овладению выбранной професс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76D3-C9BC-48AF-9DA0-823B99674EF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Читать §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Отвечать на вопросы стр. 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Письменно задание №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8673-0EA5-46C2-9CED-93D4435A095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Картинка 149 из 968"/>
          <p:cNvPicPr/>
          <p:nvPr/>
        </p:nvPicPr>
        <p:blipFill>
          <a:blip r:embed="rId1"/>
          <a:stretch/>
        </p:blipFill>
        <p:spPr>
          <a:xfrm>
            <a:off x="1116000" y="3068640"/>
            <a:ext cx="3381480" cy="3009960"/>
          </a:xfrm>
          <a:prstGeom prst="rect">
            <a:avLst/>
          </a:prstGeom>
          <a:ln w="0">
            <a:noFill/>
          </a:ln>
        </p:spPr>
      </p:pic>
      <p:sp>
        <p:nvSpPr>
          <p:cNvPr id="117" name="Облако 5"/>
          <p:cNvSpPr/>
          <p:nvPr/>
        </p:nvSpPr>
        <p:spPr>
          <a:xfrm>
            <a:off x="468360" y="1341360"/>
            <a:ext cx="3382920" cy="12733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«Свое будущее, ты делаешь сам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8B06-6F6A-4A52-9498-E4D477BE042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19280" y="1196640"/>
            <a:ext cx="554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1.Раскрыть особенности понятия «трудовые ресурсы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2.Вскрыть причины и следствия безработиц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3.Сформировать представления о требованиях к современному работнику в условиях рынка и профессиях, востребованных на сегодняшний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Картинка 53 из 46053"/>
          <p:cNvPicPr/>
          <p:nvPr/>
        </p:nvPicPr>
        <p:blipFill>
          <a:blip r:embed="rId3"/>
          <a:stretch/>
        </p:blipFill>
        <p:spPr>
          <a:xfrm>
            <a:off x="468360" y="2852640"/>
            <a:ext cx="302400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B132-55D6-4469-A2A1-1801EEBD153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Трудов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508720" y="981000"/>
            <a:ext cx="3527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часть населения страны, обладающая физическим развитием, умственными способностями и знаниями, необходимыми для занятия общественно-полезным тру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а 11 из 8243"/>
          <p:cNvPicPr/>
          <p:nvPr/>
        </p:nvPicPr>
        <p:blipFill>
          <a:blip r:embed="rId3"/>
          <a:stretch/>
        </p:blipFill>
        <p:spPr>
          <a:xfrm>
            <a:off x="250920" y="1413000"/>
            <a:ext cx="5568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3184-0004-47EF-81EF-EB6639B1030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Учебник стр. 44 рис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56764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ы трудовых ресурсов зависят от численности населения, режима его воспроизводства, состава по полу и возрасту. Основную часть трудовых ресурсов страны составляет ее население в трудоспособном возрасте, а также подростки и лица пенсионного возраста, способные труд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Картинка 22 из 8243"/>
          <p:cNvPicPr/>
          <p:nvPr/>
        </p:nvPicPr>
        <p:blipFill>
          <a:blip r:embed="rId3"/>
          <a:stretch/>
        </p:blipFill>
        <p:spPr>
          <a:xfrm>
            <a:off x="395280" y="3284640"/>
            <a:ext cx="85694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4856-AFBD-40DD-9546-DFD3D5CFB82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496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ют еще другую категорию - людей, реально участвующих в материальном производстве или непроизводственной сфере,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и активное 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Картинка 14 из 8243"/>
          <p:cNvPicPr/>
          <p:nvPr/>
        </p:nvPicPr>
        <p:blipFill>
          <a:blip r:embed="rId3"/>
          <a:stretch/>
        </p:blipFill>
        <p:spPr>
          <a:xfrm>
            <a:off x="971640" y="2565360"/>
            <a:ext cx="727236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90BA-EF8B-4488-8980-D75C2B943EF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8567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став трудоспособного населения согласно законодательству РФ включаются граждане в возрасте 16-54 (включительно) - женщины, 16-59 (включительно) - мужчины. В группу нетрудоспособных включаются: неработающие инвалиды I и II групп рабочего возраста, неработающие пенсионеры трудоспособного возраста, получающие пенсию на льгот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Картинка 12 из 8243"/>
          <p:cNvPicPr/>
          <p:nvPr/>
        </p:nvPicPr>
        <p:blipFill>
          <a:blip r:embed="rId3"/>
          <a:stretch/>
        </p:blipFill>
        <p:spPr>
          <a:xfrm>
            <a:off x="324000" y="3448080"/>
            <a:ext cx="8496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05B2-1078-4FE6-B121-F64B0A18966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00000" y="980640"/>
            <a:ext cx="6335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представляет собой систему общественных отношений в согласовании интересов работодателей и наемной рабочей силы. В функционировании рынка труда можно отметить несколько принципиальных положений: 1. Рынок труда – это совокупность экономических отношений между спросом и предложением рабочей силы на рынке труда. 2. Рынок труда – это место пересечения различных экономических и социальных и интересов и функ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Картинка 43 из 8243"/>
          <p:cNvPicPr/>
          <p:nvPr/>
        </p:nvPicPr>
        <p:blipFill>
          <a:blip r:embed="rId3"/>
          <a:stretch/>
        </p:blipFill>
        <p:spPr>
          <a:xfrm>
            <a:off x="250920" y="3860640"/>
            <a:ext cx="2827080" cy="2143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Картинка 19 из 46053"/>
          <p:cNvPicPr/>
          <p:nvPr/>
        </p:nvPicPr>
        <p:blipFill>
          <a:blip r:embed="rId4"/>
          <a:stretch/>
        </p:blipFill>
        <p:spPr>
          <a:xfrm>
            <a:off x="611280" y="1413000"/>
            <a:ext cx="222552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51E9-11E9-4A75-AE4D-F73FB386C49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Картинка 15 из 46053"/>
          <p:cNvPicPr/>
          <p:nvPr/>
        </p:nvPicPr>
        <p:blipFill>
          <a:blip r:embed="rId1"/>
          <a:stretch/>
        </p:blipFill>
        <p:spPr>
          <a:xfrm>
            <a:off x="108000" y="115920"/>
            <a:ext cx="88977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07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d050"/>
                </a:solidFill>
                <a:latin typeface="Arial"/>
              </a:rPr>
              <a:t>С чем выходить на рынок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9681-2D12-4FB7-A9A9-7EE865C42FB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Картинка 2 из 46053"/>
          <p:cNvPicPr/>
          <p:nvPr/>
        </p:nvPicPr>
        <p:blipFill>
          <a:blip r:embed="rId1"/>
          <a:stretch/>
        </p:blipFill>
        <p:spPr>
          <a:xfrm>
            <a:off x="108000" y="4282920"/>
            <a:ext cx="3432240" cy="2575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артинка 23 из 46053"/>
          <p:cNvPicPr/>
          <p:nvPr/>
        </p:nvPicPr>
        <p:blipFill>
          <a:blip r:embed="rId2"/>
          <a:stretch/>
        </p:blipFill>
        <p:spPr>
          <a:xfrm>
            <a:off x="1332000" y="2349360"/>
            <a:ext cx="2857320" cy="2033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Картинка 42 из 46053"/>
          <p:cNvPicPr/>
          <p:nvPr/>
        </p:nvPicPr>
        <p:blipFill>
          <a:blip r:embed="rId3"/>
          <a:stretch/>
        </p:blipFill>
        <p:spPr>
          <a:xfrm>
            <a:off x="4038480" y="3429000"/>
            <a:ext cx="5105520" cy="311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Картинка 69 из 46053"/>
          <p:cNvPicPr/>
          <p:nvPr/>
        </p:nvPicPr>
        <p:blipFill>
          <a:blip r:embed="rId4"/>
          <a:stretch/>
        </p:blipFill>
        <p:spPr>
          <a:xfrm>
            <a:off x="5796000" y="1125360"/>
            <a:ext cx="3224160" cy="2173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Картинка 82 из 46053"/>
          <p:cNvPicPr/>
          <p:nvPr/>
        </p:nvPicPr>
        <p:blipFill>
          <a:blip r:embed="rId5"/>
          <a:stretch/>
        </p:blipFill>
        <p:spPr>
          <a:xfrm>
            <a:off x="0" y="876240"/>
            <a:ext cx="25560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8:09:11Z</dcterms:created>
  <dc:creator>татьяна</dc:creator>
  <dc:description/>
  <dc:language>en-US</dc:language>
  <cp:lastModifiedBy>татьяна</cp:lastModifiedBy>
  <dcterms:modified xsi:type="dcterms:W3CDTF">2010-10-09T04:15:31Z</dcterms:modified>
  <cp:revision>16</cp:revision>
  <dc:subject/>
  <dc:title>Россияне на рынке тру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80000000000010250300207f7000400038000</vt:lpwstr>
  </property>
</Properties>
</file>