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513-428D-43B5-A98F-33E44B69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A42-0305-41B8-96B5-AC87BD6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3E4-C0AD-4627-AA0C-6FA9C1A5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5D4-F2D0-4EFD-8577-920A6A9D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A90-19A5-40A2-8A74-63B9CC4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360-EA0A-4060-96D6-2EC9915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BEB-7144-46C4-8CA4-FB4C14F9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393-89CB-4CA0-A2A2-66703F08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A36-952F-4836-9F45-DF079C6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F26-A5C8-4819-850E-208CB94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960-17D5-4DA3-9713-165AA99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8C7-3071-422D-8EFF-0704388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409-2698-41B8-9F83-131A030C45A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836B-58C6-4F78-93B0-3C8F412BF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оссияне на рынк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«Будущее рождается сегод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безработных в России достигло почти 2,5 млн.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890-10A4-4869-9B40-E853FF1E44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20 из 5354"/>
          <p:cNvPicPr/>
          <p:nvPr/>
        </p:nvPicPr>
        <p:blipFill>
          <a:blip r:embed="rId3"/>
          <a:stretch/>
        </p:blipFill>
        <p:spPr>
          <a:xfrm>
            <a:off x="6012000" y="1341360"/>
            <a:ext cx="29826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Картинка 31 из 5354"/>
          <p:cNvPicPr/>
          <p:nvPr/>
        </p:nvPicPr>
        <p:blipFill>
          <a:blip r:embed="rId4"/>
          <a:stretch/>
        </p:blipFill>
        <p:spPr>
          <a:xfrm>
            <a:off x="2411280" y="386064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40 из 5354"/>
          <p:cNvPicPr/>
          <p:nvPr/>
        </p:nvPicPr>
        <p:blipFill>
          <a:blip r:embed="rId5"/>
          <a:stretch/>
        </p:blipFill>
        <p:spPr>
          <a:xfrm>
            <a:off x="5516640" y="4149720"/>
            <a:ext cx="3627360" cy="241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3-tub.yandex.net/i?id=74600432-11"/>
          <p:cNvPicPr/>
          <p:nvPr/>
        </p:nvPicPr>
        <p:blipFill>
          <a:blip r:embed="rId6"/>
          <a:stretch/>
        </p:blipFill>
        <p:spPr>
          <a:xfrm>
            <a:off x="324000" y="1557360"/>
            <a:ext cx="1873080" cy="233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46 из 968"/>
          <p:cNvPicPr/>
          <p:nvPr/>
        </p:nvPicPr>
        <p:blipFill>
          <a:blip r:embed="rId7"/>
          <a:stretch/>
        </p:blipFill>
        <p:spPr>
          <a:xfrm>
            <a:off x="108000" y="415764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84 из 968"/>
          <p:cNvPicPr/>
          <p:nvPr/>
        </p:nvPicPr>
        <p:blipFill>
          <a:blip r:embed="rId8"/>
          <a:stretch/>
        </p:blipFill>
        <p:spPr>
          <a:xfrm>
            <a:off x="2484360" y="1557360"/>
            <a:ext cx="3338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9FD2-D2E3-4B5B-9399-E1DAD701CE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Картинка 48 из 5354"/>
          <p:cNvPicPr/>
          <p:nvPr/>
        </p:nvPicPr>
        <p:blipFill>
          <a:blip r:embed="rId1"/>
          <a:stretch/>
        </p:blipFill>
        <p:spPr>
          <a:xfrm>
            <a:off x="312840" y="260280"/>
            <a:ext cx="8435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Выписать в тетрадь: причины и следств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471-1AF0-49A9-9D1D-B94075002F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56 из 5354"/>
          <p:cNvPicPr/>
          <p:nvPr/>
        </p:nvPicPr>
        <p:blipFill>
          <a:blip r:embed="rId1"/>
          <a:stretch/>
        </p:blipFill>
        <p:spPr>
          <a:xfrm>
            <a:off x="468360" y="1220760"/>
            <a:ext cx="8351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BFCB-9FD5-4AAE-AE26-DDA26C0D4C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74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ие профессии вы считаете самыми престижными? Перечислите их по ранжиру с 1-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ую профессию вы бы хотели получить? Какие качества для этого необход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48 из 8243"/>
          <p:cNvPicPr/>
          <p:nvPr/>
        </p:nvPicPr>
        <p:blipFill>
          <a:blip r:embed="rId3"/>
          <a:stretch/>
        </p:blipFill>
        <p:spPr>
          <a:xfrm>
            <a:off x="388800" y="1700280"/>
            <a:ext cx="473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личности, нужные для выбранной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омогающие овладеть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репятствующие овладению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E775-F4B3-4F97-ACA4-D6E870B1063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итать §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вечать на вопросы стр.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исьменно задание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DA93-61BC-4932-ADA9-D16D4C80519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149 из 968"/>
          <p:cNvPicPr/>
          <p:nvPr/>
        </p:nvPicPr>
        <p:blipFill>
          <a:blip r:embed="rId1"/>
          <a:stretch/>
        </p:blipFill>
        <p:spPr>
          <a:xfrm>
            <a:off x="1116000" y="3068640"/>
            <a:ext cx="3381480" cy="30099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468360" y="1341360"/>
            <a:ext cx="3382920" cy="12733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«Свое будущее, ты делаешь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3F8-4D23-41C8-B1D8-D5F02D23554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1.Раскрыть особенности понятия «трудовые ресур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2.Вскрыть причины и следствия безрабо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3.Сформировать представления о требованиях к современному работнику в условиях рынка и профессиях, востребованных на сегодняшни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3 из 46053"/>
          <p:cNvPicPr/>
          <p:nvPr/>
        </p:nvPicPr>
        <p:blipFill>
          <a:blip r:embed="rId3"/>
          <a:stretch/>
        </p:blipFill>
        <p:spPr>
          <a:xfrm>
            <a:off x="468360" y="2852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214-D018-4EC9-91A8-1F87DBAEA8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52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населения страны, обладающая физическим развитием, умственными способностями и знаниями, необходимыми для занятия общественно-полезным тр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1 из 8243"/>
          <p:cNvPicPr/>
          <p:nvPr/>
        </p:nvPicPr>
        <p:blipFill>
          <a:blip r:embed="rId3"/>
          <a:stretch/>
        </p:blipFill>
        <p:spPr>
          <a:xfrm>
            <a:off x="250920" y="1413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F0C-1BC5-49E1-B48E-FC95DCBB50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Учебник стр. 44 рис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676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рудовых ресурсов зависят от численности населения, режима его воспроизводства, состава по полу и возрасту. Основную часть трудовых ресурсов страны составляет ее население в трудоспособном возрасте, а также подростки и лица пенсионного возраста, способны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артинка 22 из 8243"/>
          <p:cNvPicPr/>
          <p:nvPr/>
        </p:nvPicPr>
        <p:blipFill>
          <a:blip r:embed="rId3"/>
          <a:stretch/>
        </p:blipFill>
        <p:spPr>
          <a:xfrm>
            <a:off x="395280" y="3284640"/>
            <a:ext cx="8569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B20-21C1-4B07-A111-803349A9E99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еще другую категорию - людей, реально участвующих в материальном производстве или непроизводственной сфере,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 актив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ртинка 14 из 8243"/>
          <p:cNvPicPr/>
          <p:nvPr/>
        </p:nvPicPr>
        <p:blipFill>
          <a:blip r:embed="rId3"/>
          <a:stretch/>
        </p:blipFill>
        <p:spPr>
          <a:xfrm>
            <a:off x="971640" y="2565360"/>
            <a:ext cx="7272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8717-D202-4D1C-9068-C7A32DC4DF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трудоспособного населения согласно законодательству РФ включаются граждане в возрасте 16-54 (включительно) - женщины, 16-59 (включительно) - мужчины. В группу нетрудоспособных включаются: неработающие инвалиды I и II групп рабочего возраста, неработающие пенсионеры трудоспособного возраста, получающие пенсию на льгот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Картинка 12 из 8243"/>
          <p:cNvPicPr/>
          <p:nvPr/>
        </p:nvPicPr>
        <p:blipFill>
          <a:blip r:embed="rId3"/>
          <a:stretch/>
        </p:blipFill>
        <p:spPr>
          <a:xfrm>
            <a:off x="324000" y="3448080"/>
            <a:ext cx="8496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1AC-551B-41F5-BB67-3508672044C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980640"/>
            <a:ext cx="633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представляет собой систему общественных отношений в согласовании интересов работодателей и наемной рабочей силы. В функционировании рынка труда можно отметить несколько принципиальных положений: 1. Рынок труда – это совокупность экономических отношений между спросом и предложением рабочей силы на рынке труда. 2. Рынок труда – это место пересечения различных экономических и социальных и интересов и фун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43 из 8243"/>
          <p:cNvPicPr/>
          <p:nvPr/>
        </p:nvPicPr>
        <p:blipFill>
          <a:blip r:embed="rId3"/>
          <a:stretch/>
        </p:blipFill>
        <p:spPr>
          <a:xfrm>
            <a:off x="250920" y="3860640"/>
            <a:ext cx="282708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19 из 46053"/>
          <p:cNvPicPr/>
          <p:nvPr/>
        </p:nvPicPr>
        <p:blipFill>
          <a:blip r:embed="rId4"/>
          <a:stretch/>
        </p:blipFill>
        <p:spPr>
          <a:xfrm>
            <a:off x="611280" y="1413000"/>
            <a:ext cx="22255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086C-140A-464D-BBED-15651B502EA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Картинка 15 из 46053"/>
          <p:cNvPicPr/>
          <p:nvPr/>
        </p:nvPicPr>
        <p:blipFill>
          <a:blip r:embed="rId1"/>
          <a:stretch/>
        </p:blipFill>
        <p:spPr>
          <a:xfrm>
            <a:off x="108000" y="115920"/>
            <a:ext cx="88977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Arial"/>
              </a:rPr>
              <a:t>С чем выходить на рынок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ACE-ECDC-4977-AD48-1CFD7239AC5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46053"/>
          <p:cNvPicPr/>
          <p:nvPr/>
        </p:nvPicPr>
        <p:blipFill>
          <a:blip r:embed="rId1"/>
          <a:stretch/>
        </p:blipFill>
        <p:spPr>
          <a:xfrm>
            <a:off x="108000" y="4282920"/>
            <a:ext cx="3432240" cy="257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23 из 46053"/>
          <p:cNvPicPr/>
          <p:nvPr/>
        </p:nvPicPr>
        <p:blipFill>
          <a:blip r:embed="rId2"/>
          <a:stretch/>
        </p:blipFill>
        <p:spPr>
          <a:xfrm>
            <a:off x="1332000" y="2349360"/>
            <a:ext cx="28573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42 из 46053"/>
          <p:cNvPicPr/>
          <p:nvPr/>
        </p:nvPicPr>
        <p:blipFill>
          <a:blip r:embed="rId3"/>
          <a:stretch/>
        </p:blipFill>
        <p:spPr>
          <a:xfrm>
            <a:off x="4038480" y="3429000"/>
            <a:ext cx="510552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9 из 46053"/>
          <p:cNvPicPr/>
          <p:nvPr/>
        </p:nvPicPr>
        <p:blipFill>
          <a:blip r:embed="rId4"/>
          <a:stretch/>
        </p:blipFill>
        <p:spPr>
          <a:xfrm>
            <a:off x="5796000" y="1125360"/>
            <a:ext cx="322416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82 из 46053"/>
          <p:cNvPicPr/>
          <p:nvPr/>
        </p:nvPicPr>
        <p:blipFill>
          <a:blip r:embed="rId5"/>
          <a:stretch/>
        </p:blipFill>
        <p:spPr>
          <a:xfrm>
            <a:off x="0" y="87624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8:09:11Z</dcterms:created>
  <dc:creator>татьяна</dc:creator>
  <dc:description/>
  <dc:language>en-US</dc:language>
  <cp:lastModifiedBy>татьяна</cp:lastModifiedBy>
  <dcterms:modified xsi:type="dcterms:W3CDTF">2010-10-09T04:15:31Z</dcterms:modified>
  <cp:revision>16</cp:revision>
  <dc:subject/>
  <dc:title>Россияне на рынке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80000000000010250300207f7000400038000</vt:lpwstr>
  </property>
</Properties>
</file>